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FBD-589F-4814-9D96-CB4A2CF88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B8D-F60D-4E8E-8BB4-3D72D21F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72A-AE32-4609-92C3-BC3EBA92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65A-116F-419E-805A-1E65D285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AFC-8044-49FB-A945-9EB4396E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5045-FC82-48A6-BB67-95B1A3C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5C0-7588-41BC-925E-FA2000DF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155-B2B1-4B52-9521-02633F2B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184-AF81-4457-9CD9-A7FA1317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F15-675A-4942-9218-668365D9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C84-FE3D-4742-8634-85D5CF22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2EA-90E0-4ED2-BD10-1D86201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C4056D-A532-4D4C-8316-69CA7BB27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56720" y="396000"/>
            <a:ext cx="230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AC Enhancement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itional Requirements Considerations</a:t>
            </a:r>
            <a:br>
              <a:rPr sz="4400"/>
            </a:b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ith Amann, SpectraLink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EF5-B67A-4BEC-B123-ABA1952B812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oS Functional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variations in packet rates/siz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X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Bit Rate Var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stream content(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990-4DE0-446C-A6E5-8C3858E2BC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oS Functional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f Latency Limitations among different STAs, as well as different streams for a 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less stream data consumes valuable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efulness of delayed stream data will vary from application to application and depend upon the size of the jitter buffer in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different QoS requirements from the same STA on a per stream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323 session concurrently with 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media Cli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C812-1CD2-4CD1-9B92-C907769A2F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oS Functional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tibility with Wireless Bridge/Repeater Environ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idges can be communicating with other STAs as well as remote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rs introduce additional complexity into the latency and loading eq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4F1-D451-4417-975E-281B42488FA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Functional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mpt to minimize the “Hidden Node”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apping BSSes intersect in the problem space with the “Hidden Node” problem, but it is not the same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81A-DE15-4A16-9193-6325180FB3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missing rates from 16-32 k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ce Maximum Delay requirements although admirable, seem un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 particular technique more efficient than ano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a particular solution scale well?  As required bandwidth increases does it help or hin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35D-0AE9-4CC9-A25D-1C9412519C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02.11 MAC Enhancemen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Consid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Re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etermined Usage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ailure occ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eith Amann, SpectraLink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32C-C156-4B15-82D6-661B457900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15:54:37Z</dcterms:created>
  <dc:creator>SpectraLink Corporation</dc:creator>
  <dc:description/>
  <dc:language>en-US</dc:language>
  <cp:lastModifiedBy>Engineering</cp:lastModifiedBy>
  <cp:lastPrinted>2000-03-02T21:11:48Z</cp:lastPrinted>
  <dcterms:modified xsi:type="dcterms:W3CDTF">2000-03-08T21:32:28Z</dcterms:modified>
  <cp:revision>7</cp:revision>
  <dc:subject/>
  <dc:title>802.11 MAC Enhancements: Additional Requirements</dc:title>
</cp:coreProperties>
</file>