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D00C-D309-40D9-ACC9-A7D4FE058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56D7-93BE-4BB7-8C82-69A0F719D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525D-859D-431D-9955-D183F4169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E382-B51A-49CF-B041-859556B69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BDAB-BE2C-4D30-B654-895DE6DB3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DD74-4A51-4C21-99FD-EB3300961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EDAA-8E79-47CB-9106-FC5289D66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6C53-FE6A-433C-84B2-789C9712E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BED3-CDF7-4ED9-AD4B-DE832E078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71DF-CFBE-4D79-9AA3-48ABD1DCC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B4B5-29E9-466B-9AB2-1B7A78AED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2E1A-76B1-488D-BB93-A93C440F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43920" y="6474960"/>
            <a:ext cx="466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E3A078A-80A3-484E-A7A9-9F87FFEEDB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67080" y="396000"/>
            <a:ext cx="239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04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lest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RF Letter to FC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1/9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RM Release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6/9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of Comment Perio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0/4/9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of Reply Comme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1/19/9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 parte Comme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-go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e Band Frequency Hopping (WBF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SSS Processing Gain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FA0F-B860-495F-838B-733083D5F62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cessing G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C Proposed Rule 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W Jammer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CC proposes to retain current CW jammer 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uld impose separate calculation for systems having less than 10 chips/b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EEE 802.11 has reviewed and indicated support for this 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 Jammer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CC proposes to use Gaussian noise test as an alternative to CW jammer 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EEE 802.11 has indicated that the proposal is uncl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ameters of test must be clarified or abuse will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9C7E-43A3-45C9-8BE3-01F8A6A9E7F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BFH 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85800" y="1371600"/>
          <a:ext cx="7753320" cy="5103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775332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CB67-CE66-4E64-9668-3C89880316A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odak “ETSI” Propos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685800" y="1523880"/>
          <a:ext cx="7753320" cy="5105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7533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EC60-3C34-4FF0-A1D6-73BA12092A0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ss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ittee for Unlicensed Broadband Enab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BE indicates flexibility on hop rate issue (10/19/9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BE explicitly opposes adoption of ETSI rules for non-overlapping channels (2/23/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it Kodak’s intention that ETSI rules would apply to FHSS systems only, or both FHSS and DS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ms to be different interpretations of Kodak sub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Kodak clarif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437E-4ABE-4FA1-A759-5CBC74AA5DD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7T13:50:57Z</dcterms:created>
  <dc:creator>James Zyren</dc:creator>
  <dc:description/>
  <dc:language>en-US</dc:language>
  <cp:lastModifiedBy>James Zyren</cp:lastModifiedBy>
  <cp:lastPrinted>1998-02-10T13:28:06Z</cp:lastPrinted>
  <dcterms:modified xsi:type="dcterms:W3CDTF">2000-03-09T06:21:16Z</dcterms:modified>
  <cp:revision>13</cp:revision>
  <dc:subject/>
  <dc:title>No Slide Title</dc:title>
</cp:coreProperties>
</file>