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56D-A2D0-4428-B9AE-A4602EF6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C029-066F-40E9-BE6A-9E4E2A81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03E-D16A-4655-B870-7F189EBF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A21-BD0D-4F86-BC59-1520CB62E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562-788F-44BC-9930-CA94A60E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208F-FDB3-4640-BE63-370DAC88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617-70E6-416D-8401-8F149B91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235-28F5-43FD-8D51-43286983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6FF2-B7B8-424A-B580-6EE5F17F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09E-B760-4F68-B3F0-8179BD7A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CED-2640-49CE-B5A2-EA6BCCD5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E22-2FBB-4E14-859F-3505362F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32B160D-AFA0-4792-A0D5-5719EB980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immoore@microsoft.com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Quality of Servi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un Ayyagari, Yoram Bernet, Tim Mo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una@microsoft.com, yoramb@microsoft.com, </a:t>
            </a:r>
            <a:r>
              <a:rPr b="0" lang="en-GB" sz="14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oore@microsof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Ayyagari, et. al., Microsoft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26AF-8DC2-4FA6-9F39-AB095ACC940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oS guarantees for real-time application data traffic is currently not available in IEEE 802.1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 guarantees at MAC level is not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 using prioritised data with resource based admission control as the means to provide QoS guarantee for IEEE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Ayyagari, et. al., Microsoft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3D74-0543-4CF3-B969-BBC2ABC284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p supports prioritization of traffic on 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 tag containing 0-7 levels of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queues at points of conges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queues is implementation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arantee bandwidth by using admission control to limit traffic sent on each priority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TF defines how to use SBM with 802.1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Ayyagari, et. al., Microsoft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BDC4-2EBC-4750-A430-6E5D9CAD3B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Based Ad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net bandwidth manager does admission control so priority levels not over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M extends RSVP to level 2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ated SBM (DSBM) acts as the admission contro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be located at the point that knows most about the resources avai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reservation protocol (RSVP) signalling goes end-to-end in case any part of the network is interes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BM and 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BM functionality should be co-located with the Access Point for optimal admission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ewal of request every 30 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allowed to send a renewal if it believes it is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192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Re-asso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m to an access point with no resources lef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ew of request fa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y of requests suppo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Ayyagari, et. al., Microsoft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DF41-15CB-4B49-B01C-83AB70A6BE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p and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point should support 802.1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ing onto the w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ing onto the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s should support 802.1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DCF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y the minimum and maximum values of the Contention Window parameter to ensure that higher priority frames have statistically a greater probability of transmission over lower priority fra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Ayyagari, et. al., Microsoft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6B13-31E3-46A1-8CCC-A0B2DD6F5E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-h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p priority works station to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tation needs to implement admission control for the wireless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Ayyagari, et. al., Microsoft Corp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1C5-676A-46E0-8444-9296AE5A7C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7:46:23Z</dcterms:created>
  <dc:creator>aruna</dc:creator>
  <dc:description/>
  <dc:language>en-US</dc:language>
  <cp:lastModifiedBy>Harry R. Worstell</cp:lastModifiedBy>
  <cp:lastPrinted>1998-02-10T13:28:06Z</cp:lastPrinted>
  <dcterms:modified xsi:type="dcterms:W3CDTF">2000-03-09T17:56:39Z</dcterms:modified>
  <cp:revision>40</cp:revision>
  <dc:subject/>
  <dc:title>PowerPoint Presentation</dc:title>
</cp:coreProperties>
</file>