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AF1-BF6B-4A0F-B09E-80954F15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B62-0013-4BF4-8724-B8BE22E0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31C-36E0-4221-B4EE-BA53983A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1C63-7546-412D-8B8F-EE780759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811-168D-48F2-8CAF-948FB332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9B3-D356-4619-9827-FD32ED71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EE0-C40B-48ED-90F4-FF1ABDF1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A00-CF4C-4019-A866-8CE714B7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80EB-3A4D-4C73-944C-E2775C3E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12B-4BE0-4C1F-91E3-213E9337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13F-262A-423C-BC73-8664E571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9D2-2EDF-4181-BF4D-B393039A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C366A4-16D0-41DB-89B2-E339DB213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uquerque,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FD3F-D944-48AC-968C-CD4A686274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737-3F35-402D-9571-0D11EB6D378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proposed text for the draft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revised draft for WG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4D05-E189-41A2-9DC8-D52FA42919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omment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25C-F6E3-4492-BED2-7B7E649B25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981-11D8-4CC5-BC0B-8C5E7C82BE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 of meeting in Koloa, HI (doc 99/2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 of meeting in Tel Aviv, Israel (doc 00/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7F1-BF93-456E-90A3-049349CF68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200-E369-4C69-9F53-F7A4948F3D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 resolutions are in 00/002r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comments appear to remain to be addressed in the text of the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item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opening plenary meeting: example usage added to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9A65-0D80-4A36-B2B4-67245DA2A7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afternoon, 1:00pm – 5:30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 morning, 10:30am - n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 morning, 10:30am – n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time for TGd activities: 7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3A92-2A14-45C1-859F-A621C4325D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040E-1C17-4BCC-AE85-E1DF38C2613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nto one or more small groups to draft text to complete comment reso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vene Wednesday morning at 10:3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A06-EF56-4E0C-B1E7-01FCEDF07D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dcterms:modified xsi:type="dcterms:W3CDTF">2000-03-09T18:25:25Z</dcterms:modified>
  <cp:revision>2</cp:revision>
  <dc:subject/>
  <dc:title>TGd Agenda, March 2000</dc:title>
</cp:coreProperties>
</file>