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3813-2F91-441A-B022-43984DC6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ECF4-C0F0-451A-A227-9C73D328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D98-B562-4451-BFD0-7C8C32696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064D-2A68-4A5F-8DCE-73F7D4FBF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0A0-EB8D-4470-9C07-C79BC5A5A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664-9F5A-488D-8DD5-22D30F01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5A28-D1CF-4711-B1EB-E610E6C8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EF5-1704-4C09-AB9C-60F281979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07BD-CE05-44FA-961F-2F797B81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A838-80B4-4381-86C6-9F913482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15D-AA42-4E45-AE48-F2AE1FC2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81D8-6EA2-4842-9C2F-686F6253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ch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Chair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4AB1B3B-71A6-46AC-941F-BFB90AEAB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000" y="644688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2000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buquerque, 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09B-6ED1-467A-AD71-0A3C17308D2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val of the Min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utes of meeting in Koloa, HI (doc 99/2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utes of meeting in Tel Aviv, Israel (doc 00/00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E8F-B863-43F1-89B4-DAE6B32141E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Comment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comments remain to be addressed in the text of the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jor item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opening plenary meeting: example usage to be added to draft (to be left as an editorial comment on the new dra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6C95-B6BA-400C-8DA8-86910DA9E5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FC7-22F6-459A-9F47-A0C707B70C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ion of proposed text for the draft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ext proposed by each subgroup was incorporated into Draft 1.6, unanim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ed the Draft 1.6, unanim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18BA-5A32-459C-BED8-BFB71451D1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ssue 802.11d/D1.6 to a 15-day working group recirculation ballot and to request conditional approval from 802 SEC for sponsor bal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ed unanimously in TG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CD4-5D56-4F9D-AB10-DD278509B5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 for Next Me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comments received from recirculation ballot, if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802.11d to sponsor b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9391-83A8-408A-82B5-CA81C02D499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Bob O'Hara</dc:creator>
  <dc:description/>
  <dc:language>en-US</dc:language>
  <cp:lastModifiedBy>Bob O'Hara</cp:lastModifiedBy>
  <cp:lastPrinted>1998-02-10T13:28:06Z</cp:lastPrinted>
  <dcterms:modified xsi:type="dcterms:W3CDTF">2000-03-09T18:25:51Z</dcterms:modified>
  <cp:revision>22</cp:revision>
  <dc:subject/>
  <dc:title>TGd Agenda, March 2000</dc:title>
</cp:coreProperties>
</file>