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3F67-9CBA-4C0F-A237-6BF1957C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CBD-6AEC-4B9D-8019-A565C4F9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3459-74ED-4A17-BF5E-27D493459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52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D49-1317-4DD2-987B-3DD94ADB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BBF-B0E2-474C-8080-F490CE1D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A2E9-AE64-483E-AC7B-7DD86E0C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3282-723E-41AF-90FC-9F306F04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6A1-75C3-4E53-AB02-423189E8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BEF-ACAB-453D-ACE8-FBB62459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A94F-4874-4D76-9A6A-6BB4583E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52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61C6-7BE5-48DB-A62C-1E0B22A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52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2E8-3C56-4D6A-984C-8642972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428840" indent="-2286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771560" indent="-22860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7715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7715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C8DE0F-1C44-4684-BC48-1CBF4049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1219320"/>
            <a:ext cx="7696080" cy="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2320" y="1680840"/>
            <a:ext cx="78393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lling-based PCF for Strong QoS Guarante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3047760"/>
            <a:ext cx="6384960" cy="174780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Jim Mollenau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Technical Strategy Associa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d Enrichnet In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Zvi Ganz and Bob Pisaca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Enrichnet In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IEEE 802.11e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May 200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57120" indent="0" algn="ctr"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150-1CDB-4D3F-9240-063412B065E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traffic cop, saying who can go wh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be implemented as a software shim lay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cepts transmission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remote file system intercepting disk ca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this case, independent of PHY or original M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reless, twisted pair, fiber, power lin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S delays, but some compensation poss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rt transmission early by amount of best-case OS del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bedded implementation: faster response possi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ASIC, but again above normal (DCF) MA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r in control microprocess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94FB-B919-4A34-8D99-1090F3AF73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84600" y="386568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oftware 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11360" y="2084400"/>
            <a:ext cx="2321280" cy="312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11360" y="2389320"/>
            <a:ext cx="2321280" cy="660240"/>
          </a:xfrm>
          <a:prstGeom prst="rect">
            <a:avLst/>
          </a:prstGeom>
          <a:solidFill>
            <a:srgbClr val="f6f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ERAT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11360" y="301788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 3 AND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3324240"/>
            <a:ext cx="232128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N QOS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11360" y="362916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1360" y="4494240"/>
            <a:ext cx="232128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40160" y="3429000"/>
            <a:ext cx="7254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C0F-FFEF-4CE9-9540-0FE98DB3D6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38800" y="3641760"/>
            <a:ext cx="0" cy="717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ardware/Firmware Implement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65560" y="2173320"/>
            <a:ext cx="2322360" cy="3128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65560" y="2479680"/>
            <a:ext cx="2322360" cy="660240"/>
          </a:xfrm>
          <a:prstGeom prst="rect">
            <a:avLst/>
          </a:prstGeom>
          <a:solidFill>
            <a:srgbClr val="f6f6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ERAT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65560" y="3108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YER 3 AND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5560" y="341316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5560" y="4494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95440" y="4324320"/>
            <a:ext cx="725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5560" y="4494240"/>
            <a:ext cx="2322360" cy="312840"/>
          </a:xfrm>
          <a:prstGeom prst="rect">
            <a:avLst/>
          </a:prstGeom>
          <a:solidFill>
            <a:srgbClr val="c6d0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5560" y="4189320"/>
            <a:ext cx="2322360" cy="312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OS COORD/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05360" y="4324320"/>
            <a:ext cx="1887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N NIC C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87920" y="4073400"/>
            <a:ext cx="3636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A123-4FD5-4DB7-AC66-17084E3DDB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-Poll O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1057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19000"/>
          </a:bodyPr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tacking the hidden-station probl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station appends remaining polls to its transmiss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D is the coordinator, A is blocked by terrain and cannot hear pol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hears poll from B, can transmit to B or 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65160" indent="-6516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 can’t transmit directly to D, E, or F, nor B to E and 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41120" indent="-540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e can’t repeal the laws of physics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141120" indent="-5400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lay via B or C could be an op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4400" y="2959200"/>
            <a:ext cx="14472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04920" y="3967200"/>
            <a:ext cx="14472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38640" y="4437000"/>
            <a:ext cx="14436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4560" y="4102200"/>
            <a:ext cx="14436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70480" y="2622600"/>
            <a:ext cx="144360" cy="133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9960" y="3495600"/>
            <a:ext cx="144360" cy="135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0160" y="2286000"/>
            <a:ext cx="1379520" cy="1747800"/>
          </a:xfrm>
          <a:custGeom>
            <a:avLst/>
            <a:gdLst/>
            <a:ahLst/>
            <a:rect l="l" t="t" r="r" b="b"/>
            <a:pathLst>
              <a:path w="912" h="1248">
                <a:moveTo>
                  <a:pt x="192" y="384"/>
                </a:moveTo>
                <a:lnTo>
                  <a:pt x="144" y="432"/>
                </a:lnTo>
                <a:lnTo>
                  <a:pt x="96" y="480"/>
                </a:lnTo>
                <a:lnTo>
                  <a:pt x="144" y="576"/>
                </a:lnTo>
                <a:lnTo>
                  <a:pt x="96" y="672"/>
                </a:lnTo>
                <a:lnTo>
                  <a:pt x="0" y="912"/>
                </a:lnTo>
                <a:lnTo>
                  <a:pt x="144" y="912"/>
                </a:lnTo>
                <a:lnTo>
                  <a:pt x="192" y="1056"/>
                </a:lnTo>
                <a:lnTo>
                  <a:pt x="342" y="1104"/>
                </a:lnTo>
                <a:lnTo>
                  <a:pt x="528" y="1248"/>
                </a:lnTo>
                <a:lnTo>
                  <a:pt x="624" y="1248"/>
                </a:lnTo>
                <a:lnTo>
                  <a:pt x="768" y="1152"/>
                </a:lnTo>
                <a:lnTo>
                  <a:pt x="912" y="1056"/>
                </a:lnTo>
                <a:lnTo>
                  <a:pt x="912" y="1008"/>
                </a:lnTo>
                <a:lnTo>
                  <a:pt x="810" y="906"/>
                </a:lnTo>
                <a:lnTo>
                  <a:pt x="816" y="816"/>
                </a:lnTo>
                <a:lnTo>
                  <a:pt x="912" y="768"/>
                </a:lnTo>
                <a:lnTo>
                  <a:pt x="912" y="720"/>
                </a:lnTo>
                <a:lnTo>
                  <a:pt x="786" y="570"/>
                </a:lnTo>
                <a:lnTo>
                  <a:pt x="864" y="480"/>
                </a:lnTo>
                <a:lnTo>
                  <a:pt x="864" y="432"/>
                </a:lnTo>
                <a:lnTo>
                  <a:pt x="768" y="336"/>
                </a:lnTo>
                <a:lnTo>
                  <a:pt x="768" y="288"/>
                </a:lnTo>
                <a:lnTo>
                  <a:pt x="720" y="192"/>
                </a:lnTo>
                <a:lnTo>
                  <a:pt x="768" y="48"/>
                </a:lnTo>
                <a:lnTo>
                  <a:pt x="720" y="0"/>
                </a:lnTo>
                <a:lnTo>
                  <a:pt x="624" y="0"/>
                </a:lnTo>
                <a:lnTo>
                  <a:pt x="408" y="18"/>
                </a:lnTo>
                <a:lnTo>
                  <a:pt x="384" y="144"/>
                </a:lnTo>
                <a:lnTo>
                  <a:pt x="366" y="252"/>
                </a:lnTo>
                <a:lnTo>
                  <a:pt x="288" y="288"/>
                </a:lnTo>
                <a:lnTo>
                  <a:pt x="240" y="336"/>
                </a:lnTo>
                <a:lnTo>
                  <a:pt x="96" y="480"/>
                </a:lnTo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3400" y="3160800"/>
            <a:ext cx="725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I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9520" y="28908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96960" y="38988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03400" y="4370400"/>
            <a:ext cx="43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033800"/>
            <a:ext cx="1814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 (coordinato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7920" y="2487600"/>
            <a:ext cx="434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97400" y="3429000"/>
            <a:ext cx="43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A2D-5399-4740-BE9A-0C2B4C89CF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-Poll Structur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9640" y="1546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87720" y="1546200"/>
            <a:ext cx="2239560" cy="276120"/>
            <a:chOff x="2187720" y="1546200"/>
            <a:chExt cx="2239560" cy="276120"/>
          </a:xfrm>
        </p:grpSpPr>
        <p:sp>
          <p:nvSpPr>
            <p:cNvPr id="130" name=""/>
            <p:cNvSpPr/>
            <p:nvPr/>
          </p:nvSpPr>
          <p:spPr>
            <a:xfrm>
              <a:off x="2187720" y="1546200"/>
              <a:ext cx="3207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848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27440" y="1546200"/>
              <a:ext cx="32004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9428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87560" y="1546200"/>
              <a:ext cx="3189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06520" y="1546200"/>
              <a:ext cx="32076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7480" y="1546200"/>
              <a:ext cx="31968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67520" y="1546200"/>
              <a:ext cx="320040" cy="2761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23760" bIns="237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913120" y="1949400"/>
            <a:ext cx="31208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lling list: station address, transmit interv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25560" y="2824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2824200"/>
            <a:ext cx="203184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235480" y="2824200"/>
            <a:ext cx="1523880" cy="279720"/>
            <a:chOff x="5235480" y="2824200"/>
            <a:chExt cx="1523880" cy="279720"/>
          </a:xfrm>
        </p:grpSpPr>
        <p:sp>
          <p:nvSpPr>
            <p:cNvPr id="142" name=""/>
            <p:cNvSpPr/>
            <p:nvPr/>
          </p:nvSpPr>
          <p:spPr>
            <a:xfrm>
              <a:off x="523548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928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798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514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0556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4344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97600" y="2824200"/>
              <a:ext cx="253800" cy="27972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1480" rIns="51480" tIns="25560" bIns="2556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624040" y="3967200"/>
            <a:ext cx="137808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3967200"/>
            <a:ext cx="268596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688080" y="3967200"/>
            <a:ext cx="1450800" cy="284760"/>
            <a:chOff x="6688080" y="3967200"/>
            <a:chExt cx="1450800" cy="284760"/>
          </a:xfrm>
        </p:grpSpPr>
        <p:sp>
          <p:nvSpPr>
            <p:cNvPr id="152" name=""/>
            <p:cNvSpPr/>
            <p:nvPr/>
          </p:nvSpPr>
          <p:spPr>
            <a:xfrm>
              <a:off x="6688080" y="3967200"/>
              <a:ext cx="28980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1964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5784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48720" y="3967200"/>
              <a:ext cx="29016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77880" y="3967200"/>
              <a:ext cx="29088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9120" y="3967200"/>
              <a:ext cx="288360" cy="28476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5800" rIns="55800" tIns="28080" bIns="2808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3494160" y="5110200"/>
            <a:ext cx="1379520" cy="31284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73680" y="5110200"/>
            <a:ext cx="2684520" cy="312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558200" y="5110200"/>
            <a:ext cx="871560" cy="289080"/>
            <a:chOff x="7558200" y="5110200"/>
            <a:chExt cx="871560" cy="289080"/>
          </a:xfrm>
        </p:grpSpPr>
        <p:sp>
          <p:nvSpPr>
            <p:cNvPr id="161" name=""/>
            <p:cNvSpPr/>
            <p:nvPr/>
          </p:nvSpPr>
          <p:spPr>
            <a:xfrm>
              <a:off x="758988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4520" y="5110200"/>
              <a:ext cx="21780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1268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558200" y="5110200"/>
              <a:ext cx="2170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5280" y="5110200"/>
              <a:ext cx="218880" cy="289080"/>
            </a:xfrm>
            <a:prstGeom prst="rect">
              <a:avLst/>
            </a:prstGeom>
            <a:solidFill>
              <a:srgbClr val="50b60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0480" rIns="60480" tIns="30240" bIns="3024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091120" y="3227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9494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Coordinator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7080" y="32940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5560" y="4505400"/>
            <a:ext cx="19591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95680" y="5648400"/>
            <a:ext cx="196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 send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5520" y="2421000"/>
            <a:ext cx="2178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 u="sng">
                <a:solidFill>
                  <a:srgbClr val="000099"/>
                </a:solidFill>
                <a:uFillTx/>
                <a:latin typeface="Arial"/>
              </a:rPr>
              <a:t>Stations Respond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16520" y="4370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80120" y="5513400"/>
            <a:ext cx="2467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aining polling 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5400" y="5826240"/>
            <a:ext cx="1960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1040" y="2946240"/>
            <a:ext cx="863640" cy="939960"/>
          </a:xfrm>
          <a:custGeom>
            <a:avLst/>
            <a:gdLst>
              <a:gd name="textAreaLeft" fmla="*/ 115560 w 863640"/>
              <a:gd name="textAreaRight" fmla="*/ 748080 w 863640"/>
              <a:gd name="textAreaTop" fmla="*/ 164520 h 939960"/>
              <a:gd name="textAreaBottom" fmla="*/ 68148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65360" y="3505320"/>
            <a:ext cx="4368960" cy="425160"/>
          </a:xfrm>
          <a:prstGeom prst="leftArrow">
            <a:avLst>
              <a:gd name="adj1" fmla="val 46509"/>
              <a:gd name="adj2" fmla="val 107518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8680" y="3683160"/>
            <a:ext cx="914400" cy="609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93960 h 609480"/>
              <a:gd name="textAreaBottom" fmla="*/ 4546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05920" y="4064040"/>
            <a:ext cx="558720" cy="965160"/>
          </a:xfrm>
          <a:custGeom>
            <a:avLst/>
            <a:gdLst>
              <a:gd name="textAreaLeft" fmla="*/ 74880 w 558720"/>
              <a:gd name="textAreaRight" fmla="*/ 483840 w 558720"/>
              <a:gd name="textAreaTop" fmla="*/ 168840 h 965160"/>
              <a:gd name="textAreaBottom" fmla="*/ 69984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54560" y="4699080"/>
            <a:ext cx="4647960" cy="272880"/>
          </a:xfrm>
          <a:prstGeom prst="leftArrow">
            <a:avLst>
              <a:gd name="adj1" fmla="val 65120"/>
              <a:gd name="adj2" fmla="val 116944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413080" y="4826160"/>
            <a:ext cx="914400" cy="609480"/>
          </a:xfrm>
          <a:custGeom>
            <a:avLst/>
            <a:gdLst>
              <a:gd name="textAreaLeft" fmla="*/ 122400 w 914400"/>
              <a:gd name="textAreaRight" fmla="*/ 792000 w 914400"/>
              <a:gd name="textAreaTop" fmla="*/ 93960 h 609480"/>
              <a:gd name="textAreaBottom" fmla="*/ 4546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2468308"/>
                <a:lnTo>
                  <a:pt x="7200" y="21218"/>
                </a:lnTo>
                <a:lnTo>
                  <a:pt x="0" y="16391"/>
                </a:lnTo>
                <a:lnTo>
                  <a:pt x="7200" y="10800"/>
                </a:lnTo>
                <a:lnTo>
                  <a:pt x="7200" y="12960"/>
                </a:lnTo>
                <a:arcTo wR="21600" hR="6671" stAng="2468308" swAng="-1927237"/>
                <a:lnTo>
                  <a:pt x="19212" y="9720"/>
                </a:lnTo>
                <a:arcTo wR="21600" hR="6671" stAng="-541071" swAng="-4858929"/>
                <a:close/>
              </a:path>
              <a:path fill="darkenLess" w="21600" h="21600">
                <a:moveTo>
                  <a:pt x="0" y="0"/>
                </a:moveTo>
                <a:arcTo wR="21600" hR="6671" stAng="-5400000" swAng="5400000"/>
                <a:lnTo>
                  <a:pt x="21600" y="12769"/>
                </a:lnTo>
                <a:arcTo wR="21600" hR="6671" stAng="0" swAng="-541071"/>
                <a:lnTo>
                  <a:pt x="19212" y="9720"/>
                </a:lnTo>
                <a:arcTo wR="21600" hR="6671" stAng="-541071" swAng="-4858929"/>
                <a:close/>
              </a:path>
            </a:pathLst>
          </a:cu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481-19B0-41D9-883A-AC8E7C32F6D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irn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later in list have more chances to receive the po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refore coordinator varies the list from one poll to the nex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andom, 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yclic: A,B,C,D then D,A,B,C…C,D,A,B…etc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a station repeats the poll, it removes itself and repeats the list in the same order as receiv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verage probability of receiving poll is the same for all stations with the same traffic cla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u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if coordinator recognizes that some stations are in hard-to-reach locations, it puts them late in the list to increase the probability of poll being receiv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584-2EDC-4A07-BE76-6BD7A8A5E8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roving the Polling Proce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With Super-Poll, probability of not receiving a poll goes down dramaticall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191880" indent="-191880"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mulation shown for various group sizes and values of the probability P, the probability that a single poll is not received due to nois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31800" y="2583000"/>
            <a:ext cx="5035680" cy="3830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994360" y="2768760"/>
            <a:ext cx="27432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Ganz, A. Phonphoem, Z. Ganz, "Robust SuperPoll with Chaining Protocol for IEEE 802.11 Wireless LANs in support of Multimedia Applications"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Wireless Networks Journ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o appear in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. Ganz, A. Phonphoem, Z. Ganz, ``Robust SuperPoll Protocol for IEEE802-11 Wireless LANs,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EEE Military Communications Conference, October 199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32F7-C580-460E-928C-53EA6F0156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et Efficiency Improve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8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hannel utilization  U = user transmission time / total tim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f poll is not received, channel is idle and utilization suff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fficiency gain  E = (U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uper-poll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-U 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ingle poll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)/U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Arial"/>
              </a:rPr>
              <a:t>single po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 as a function of G, the group size, for various values of P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16200" y="3070080"/>
            <a:ext cx="5181480" cy="33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0821-40D7-4F5D-8ABD-B6325F6D99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verlapping BS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895480"/>
            <a:ext cx="2286000" cy="228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00680" y="2882880"/>
            <a:ext cx="2286000" cy="22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962520"/>
            <a:ext cx="15264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962520"/>
            <a:ext cx="15228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967920" y="2900520"/>
            <a:ext cx="2387160" cy="231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62280" y="2900520"/>
            <a:ext cx="2387160" cy="231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may be in range of either or both B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 to avoid interference, allow both systems to oper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8240" y="34034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37591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59120" y="4216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45975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01920" y="43178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3400" y="3733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22596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64240" y="37591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267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775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4241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13280" y="3098880"/>
            <a:ext cx="7596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0E7-EE76-4949-907D-B1C2AFA1CD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ll Overl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stations are in range of both coordinato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27480" y="2108160"/>
            <a:ext cx="2286000" cy="2286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94160" y="3174840"/>
            <a:ext cx="152280" cy="15264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0240" y="4851360"/>
            <a:ext cx="777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1000"/>
          </a:bodyPr>
          <a:p>
            <a:pPr marL="140400" indent="-1404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haves like singl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coordinator is cho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stations work with this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2743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60640" y="3098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7080" y="35560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3936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9880" y="365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51360" y="3073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32240" y="3581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21240" y="2438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2260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78440" y="2793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3019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3809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5EEB-314A-4679-AC12-B6BD1B6F56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Polling Proposal for Qo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o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existing equip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 for dynamic bandwidth manag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erience with Ethernet and home phoneli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/firmware implemen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aling with hidden s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ail-saf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cket classification issu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A57-462C-498D-80AB-9F38BAE686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tial Overlap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e more general ca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me stations hear both coordinators, some hear only on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92768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lution: one coordinator takes over fu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ther coordinator relinquishes, sends registration list to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per-poll mechanism polls all stations from one 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19520" y="2362320"/>
            <a:ext cx="2286000" cy="2286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00680" y="2349360"/>
            <a:ext cx="2286000" cy="22860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3429000"/>
            <a:ext cx="15264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05520" y="3429000"/>
            <a:ext cx="152280" cy="15228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967920" y="2367360"/>
            <a:ext cx="2387160" cy="23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62280" y="2367360"/>
            <a:ext cx="2387160" cy="23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312" y="1513"/>
                </a:moveTo>
                <a:arcTo wR="10800" hR="10800" stAng="-3558582" swAng="7104718"/>
                <a:lnTo>
                  <a:pt x="10800" y="10800"/>
                </a:lnTo>
                <a:close/>
              </a:path>
              <a:path fill="none" w="21600" h="21600">
                <a:moveTo>
                  <a:pt x="16312" y="1513"/>
                </a:moveTo>
                <a:arcTo wR="10800" hR="10800" stAng="-3558582" swAng="7104718"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78240" y="28702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52680" y="32259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59120" y="36831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495680" y="406404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01920" y="37846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3400" y="32004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269244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64240" y="322596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43600" y="373392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4241880"/>
            <a:ext cx="7632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280" y="37083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13280" y="256536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393800" y="326340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4088880" y="2653920"/>
            <a:ext cx="3049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3428640" y="2908080"/>
            <a:ext cx="96516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377880" y="2908440"/>
            <a:ext cx="5076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835080" y="3289320"/>
            <a:ext cx="507960" cy="406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378240" y="3746520"/>
            <a:ext cx="35568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B6D-1AA3-4BA3-B818-92E655AF57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ail-Saf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QoS-enabled stations have coordinator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ivated only in current coordinato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 failure of coordinator, another station takes on the ro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ardware fail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munication fail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ckage by obsta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sistent interfer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 of ran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C31-2AF8-40DE-9382-E732B9039BA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cket Classific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n important topic but..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422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Not our iss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 is independent of allocation mechanism adopted to provide corresponding level of serv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aptive polling can operate with explicit or implicit (heuristic) classific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be applied end-to-e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LA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access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just backbone networ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IETF efforts for WAN is very importa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ordinator should have SBM (Subnet Bandwidth Mgr.) capa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ch easier with PCF than otherwis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CF9-8C38-43BD-A489-EC619124806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als of the Proposal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rong Q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terministic mechanism, not statistic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s don’t transmit until poll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tter effici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bandwidth loss or delays due to collis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thernet is 91% efficient in theory, 50% in practi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hanced reliabil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echanism to address hidden-station probl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atibility with existing equip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n-QoS equipment operates as befo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BA1-EA18-4F85-BBB0-EA294CEE9F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ckward Compatibilit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97544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isting 802.11 stations continue to function on best-efforts basi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 units respect PCF interval even if they don’t use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CF for remainder of the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n-QoS, lowest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oftware can be added to provide QoS for existing st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w devices can implement at software or firmware/hardware leve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051C-6468-48EE-A63C-AC105969F2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ynamic Bandwidth Managemen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int Coordination Function (PCF) is best way to provide strong Qo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ordinator sets PC interval, then polls stations, specifying xmit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ransmit only when polled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collisions (except during registration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aptive algorithm to set transmit interval and du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erval varies depending on recent history of st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cess polling avoid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statistical (weak) QoS based on priori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hance arrival of large amounts of high priority traffic causes problems in collision-based system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69D-65A7-404D-BDDD-71DB44BFC8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daptive Pol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ling specifies station’s transmission period based on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xplicit QoS reques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stant bit r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ariable bit rate, with minimum / maximu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lassification heuristic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ation need not report its own us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full period is not used, next station may start ear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 this case, polling frequency may be c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ernatively, if all is used, allocations may be increas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licy is not strictly an interoperability iss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ut other stations must be ready to pick up coordinator fun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B70-7D7B-48F9-A50F-BCDCB8A8F9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ime L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9000" y="2890800"/>
            <a:ext cx="74026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39680" y="2689200"/>
            <a:ext cx="0" cy="4032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9000" y="3462480"/>
            <a:ext cx="452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11680" y="3462480"/>
            <a:ext cx="288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0720" y="3686040"/>
            <a:ext cx="2998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CF-based, contention-fr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91080" y="3686040"/>
            <a:ext cx="3000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CF-based, contention perio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39680" y="2246400"/>
            <a:ext cx="460440" cy="644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00120" y="2246400"/>
            <a:ext cx="555840" cy="644400"/>
          </a:xfrm>
          <a:prstGeom prst="rect">
            <a:avLst/>
          </a:prstGeom>
          <a:solidFill>
            <a:srgbClr val="fe3a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52800" y="2890800"/>
            <a:ext cx="55692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2890800"/>
            <a:ext cx="55584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76680" y="2890800"/>
            <a:ext cx="94284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2890800"/>
            <a:ext cx="5572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35480" y="2890800"/>
            <a:ext cx="168120" cy="50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3800" y="2246400"/>
            <a:ext cx="412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50800" y="2392200"/>
            <a:ext cx="67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648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2752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1652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86280" y="2992320"/>
            <a:ext cx="241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9640" y="2890800"/>
            <a:ext cx="557280" cy="50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289560" y="2992320"/>
            <a:ext cx="241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800" y="4336920"/>
            <a:ext cx="4160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ordinator polls A, B, C, D, and 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, B, D, and E send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 has no data, so D starts ear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 registers in DCF contention 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 has best-efforts data, uses DC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05840" y="2890800"/>
            <a:ext cx="555480" cy="504720"/>
          </a:xfrm>
          <a:prstGeom prst="rect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75400" y="2992320"/>
            <a:ext cx="241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3440" y="2363760"/>
            <a:ext cx="11620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46320" y="3014640"/>
            <a:ext cx="11602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8301-C83E-4310-8A57-9744E59CB1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lling Efficienc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1960" y="1344600"/>
            <a:ext cx="7774200" cy="44560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fficiency of polling is much higher than collision-based system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al-life Ethernet systems have low useful throughpu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alculated asymptotic throughput for 802.3 is 91%, even better than “classical” CSMA/CD at 83%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ut…delays get lo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horter backoff for new entrants causes instabilit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In real life, Ethernet is seldom run above 50% average loa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97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rguments against polling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eed to choose coordinator to do pollin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Need to provide for failure of coordinato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veryone needs to hear pol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Overhead of pol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olutions: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ordinator chosen from MAC address or manually designated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ll pollable stations contain coordinator cod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uper-poll reaches all sta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Poll is ~20 bytes vs. average transmission of 500 bytes (inc. ACKs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Arial"/>
              </a:rPr>
              <a:t>Adaptive polling reduces excess poll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CC0-6C0B-4E7E-833B-7F153E595F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monstrated Capability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richNet protocol has been demonstrated over several network types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0base T Ethern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me phone line network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802.11 DCF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sult is as desired: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ideo runs smoothly in the presence of large file transf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usable without EnrichNet lay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rich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651-03F6-441A-A06A-C075588C7C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Jim Mollenauer</cp:lastModifiedBy>
  <cp:lastPrinted>1998-02-10T13:28:06Z</cp:lastPrinted>
  <dcterms:modified xsi:type="dcterms:W3CDTF">2000-05-08T13:28:52Z</dcterms:modified>
  <cp:revision>15</cp:revision>
  <dc:subject/>
  <dc:title>No Slide Title</dc:title>
</cp:coreProperties>
</file>