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CE5422-C13E-4D57-BCF2-BD4A14680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/05/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8580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85800" y="38088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000                                                                                           doc.: IEEE 802.11 00/0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172200"/>
            <a:ext cx="7772400" cy="67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                                              Slide </a:t>
            </a:r>
            <a:fld id="{143A9E01-80A6-4D53-A5B5-B5715F2D1798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L. E. Aguado - Supergold Comm. Lt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360" y="1755720"/>
            <a:ext cx="78040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um Cald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O'Farr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rique Ag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Communication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630360"/>
                <a:tab algn="l" pos="1400040"/>
                <a:tab algn="l" pos="2171520"/>
                <a:tab algn="l" pos="2943360"/>
                <a:tab algn="l" pos="3714840"/>
                <a:tab algn="l" pos="4486320"/>
                <a:tab algn="l" pos="5257800"/>
                <a:tab algn="l" pos="5816520"/>
                <a:tab algn="l" pos="6462720"/>
                <a:tab algn="l" pos="6531120"/>
                <a:tab algn="l" pos="7346880"/>
                <a:tab algn="l" pos="7775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gold Communication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1163520"/>
            <a:ext cx="8534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Encoding in WLAN Applicati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92680" y="852480"/>
            <a:ext cx="1860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155600" y="2019240"/>
            <a:ext cx="777240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j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t over a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from symbol to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ing power is a parameter of th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39760" y="822240"/>
            <a:ext cx="5019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20840" y="2228760"/>
            <a:ext cx="7518240" cy="27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8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1: 30.25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0: 27.50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7:  19.25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54240" y="2109960"/>
            <a:ext cx="502920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55680" y="2095560"/>
            <a:ext cx="50259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Rayleigh Channel for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152800" y="2109960"/>
            <a:ext cx="50277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Rayleigh Channel for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47760" y="2119320"/>
            <a:ext cx="503244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in Rayleigh Channel for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47760" y="2109960"/>
            <a:ext cx="503712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Family of Codes with MMSE Equalis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52800" y="2224080"/>
            <a:ext cx="50324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+Equaliser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8x k=7 Code with MMSE Equalis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149560" y="2224080"/>
            <a:ext cx="50385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+Equaliser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8x k=7 Code with MMSE Equalise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52800" y="2224080"/>
            <a:ext cx="50324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71520" y="2403360"/>
            <a:ext cx="5740560" cy="30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Experiments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81440" y="833400"/>
            <a:ext cx="4424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line of 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09680" y="189864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10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52800" y="2133720"/>
            <a:ext cx="50101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3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147760" y="2109960"/>
            <a:ext cx="50356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0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54240" y="2122560"/>
            <a:ext cx="5025960" cy="40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-3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51000" y="2114640"/>
            <a:ext cx="502920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+Jamming 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20968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Codes in AWGN Channel with J/S = -10dB Ja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47760" y="2124000"/>
            <a:ext cx="50324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74960" y="822240"/>
            <a:ext cx="334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87320" y="2076480"/>
            <a:ext cx="7518240" cy="27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12 codes (balan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11: 20.16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8:   14.70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4:   7.30  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28760" y="1913040"/>
            <a:ext cx="491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81240" y="2171520"/>
            <a:ext cx="50227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06800" y="187956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147760" y="2114640"/>
            <a:ext cx="5032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06800" y="1873080"/>
            <a:ext cx="491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47760" y="2124000"/>
            <a:ext cx="50385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06800" y="1863720"/>
            <a:ext cx="4905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Set of Codes 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147760" y="2109960"/>
            <a:ext cx="503244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46040" y="2921040"/>
            <a:ext cx="568944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ture sequenc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924280" y="808200"/>
            <a:ext cx="3930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gold Enco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MMSE Equalis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52800" y="2233440"/>
            <a:ext cx="503244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1940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MMSE Equalis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60720" y="2233440"/>
            <a:ext cx="503244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Channel + Equaliser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0968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MMSE Equalise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ayleigh Channel (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σ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0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52800" y="2238480"/>
            <a:ext cx="502920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Channel + Jamming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19400" y="1773360"/>
            <a:ext cx="49053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12M12 k=11 Code with Jamming Noise (J/S = 10dB)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WGN Chan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160720" y="2238480"/>
            <a:ext cx="50324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7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6200" y="3975120"/>
            <a:ext cx="37828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826160" y="1919160"/>
            <a:ext cx="0" cy="4062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496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4960" y="51879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2520" y="51753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47976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64240" y="52452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2252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64240" y="2692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05360" y="24843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915160" y="35323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838760" y="50371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8560" y="35607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23840" y="1843200"/>
            <a:ext cx="276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19.2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0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6200" y="3975120"/>
            <a:ext cx="37828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826160" y="1919160"/>
            <a:ext cx="0" cy="4062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496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4960" y="51879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22520" y="51753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7976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64240" y="52452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252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64240" y="2692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05360" y="24843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915160" y="35323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838760" y="503712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38560" y="3560760"/>
            <a:ext cx="514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78280" y="26352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27920" y="391788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81520" y="51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9276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1520" y="39117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1843200"/>
            <a:ext cx="276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27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8M64 k11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986200" y="3975120"/>
            <a:ext cx="37828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826160" y="1919160"/>
            <a:ext cx="0" cy="4062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1988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62640" y="23875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6264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74840" y="54421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99120" y="39099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64240" y="54831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74840" y="239724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54520" y="243540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971800" y="356544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6560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22720" y="39099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516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899320" y="39006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64240" y="294012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64240" y="345456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64240" y="448308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54520" y="4978440"/>
            <a:ext cx="144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15040" y="23781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15040" y="341640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362640" y="33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81320" y="33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38640" y="33973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48000" y="23875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1504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2640" y="543564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24400" y="543564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4800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81320" y="443556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57720" y="5425920"/>
            <a:ext cx="101520" cy="114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791240" y="527040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791240" y="225108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162840" y="3603600"/>
            <a:ext cx="514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791240" y="327024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95800" y="358452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048200" y="3603600"/>
            <a:ext cx="514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81520" y="4280040"/>
            <a:ext cx="533520" cy="385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3840" y="1843200"/>
            <a:ext cx="276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30.2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14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Adaptive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6668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ing channel coding at differen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constellation k={7,10,11}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correla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constellation, change number of bits per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54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40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28880" y="1873080"/>
            <a:ext cx="762012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energy efficiency as C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mit at almost three times the CCK rate for same bandwidth (30.3Mb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ses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anti-jam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52560" y="54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143000" y="1994040"/>
            <a:ext cx="58672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25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going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95360">
              <a:lnSpc>
                <a:spcPct val="125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Chain (Filter + P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95360">
              <a:lnSpc>
                <a:spcPct val="125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Transform 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95360">
              <a:lnSpc>
                <a:spcPct val="125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00440" y="811080"/>
            <a:ext cx="4395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Application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5680" y="2013120"/>
            <a:ext cx="4264200" cy="37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5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-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Radi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Symbol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5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-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95280" y="2209680"/>
            <a:ext cx="7277040" cy="32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ink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efficiencies up to 13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ff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modulation &amp; cod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05280" y="835200"/>
            <a:ext cx="40766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41560" y="849240"/>
            <a:ext cx="351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70080" y="2019240"/>
            <a:ext cx="711216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F-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of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system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tive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e the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925720" y="833400"/>
            <a:ext cx="3517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K</a:t>
            </a:r>
            <a:r>
              <a:rPr b="0" lang="en-US" sz="36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70080" y="1903320"/>
            <a:ext cx="7162920" cy="35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tive study of MBCK</a:t>
            </a:r>
            <a:r>
              <a:rPr b="0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s. C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 + Equa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975040" y="865080"/>
            <a:ext cx="3473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31920" y="2755800"/>
            <a:ext cx="685800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Exponential decay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Samples/s sampl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s used: 10, 20 and 50 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92520" y="833400"/>
            <a:ext cx="2470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70080" y="2273400"/>
            <a:ext cx="6629400" cy="27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E equali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ect channel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t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 coefficients updated per 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r L. E. Aguado</dc:creator>
  <dc:description/>
  <dc:language>en-US</dc:language>
  <cp:lastModifiedBy>Luke</cp:lastModifiedBy>
  <cp:revision>0</cp:revision>
  <dc:subject/>
  <dc:title>Tdoc IEEEE 00/62</dc:title>
</cp:coreProperties>
</file>