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4A59-5FD7-4659-B341-70B4E65B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8308-5D10-4DF2-A456-BABD2EE5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5DF-5730-4C44-BD41-810E55BF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FDC-2DE5-4066-A159-980DEC24E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F43-D8CC-4CE0-9A59-39D6C59D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04C8-859E-484C-BE80-6B2B0A5F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B986-A3E3-4131-90C2-C998A73F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ED6D-BE60-48F6-9138-678910EB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E1E-D2E9-4C18-BD3F-759DDC0A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C6C-ED55-40FD-B8B0-674BBC5B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12C8-4291-46D7-AFCA-7D03AF3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340-FCB1-46C5-9993-48F3FE6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A7B7CE-9207-4303-B563-56986CC27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398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in an IAP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 an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D4BA-1D29-48A6-924E-027934722E4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Submission o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4/17 – The Provisions Required for Handoff, Wim Diepstra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5/18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Far Should an ESS Exte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, Michael Fis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/108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 Inter Access Point Protocol (IAPP)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m Diepstraten and Mike Trom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EF5-AE3E-4477-B5F3-E67CDC23F2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4/17 – Provisions for Hando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old AP when a station reassoci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 must inform DS of the new location of the s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AP may forward buffered frames for reassociating station to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F3F-FA5D-44F8-86CE-3B2A0D4314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5/188 ESS Ex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s mostly with the definition of and 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an ESS comprise only layer 2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es “More Extended Service Set (MESS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s that this be used for any ESS including items above lay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s that an IAPP would be a fruitful area to standard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28C-92DE-4DC3-89C6-CAA1B4EB8B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wo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nounce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cation of active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announcement of capabilities and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d management and configuration of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protocol prov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ification of old AP that a station is reassociating with a new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of layer 2 DS devices to properly forward frames to reassociating 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8FB-D12B-4A51-98CA-A3956394FD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6/108 Draft IAPP Spec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and handover protocol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SS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statio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APP capabilities and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c announce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stale-ou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ov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con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58C-820C-4200-9B1F-6D0726759E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ndover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s association with old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s layer 2 DS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optional forwarding of buffer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2BD-F585-4D2A-BBEB-24EC5C3DD6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Might Be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day’s IAP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AP configuration/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of APs in an 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yer 2 on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of basic AP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of “no touch” out-of-box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configuration of one 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“heartbea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be useful if there is a way to integrate it with standard network management cons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EA3-C96F-4089-B923-682E7F23D1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Harry R. Worstell</cp:lastModifiedBy>
  <cp:lastPrinted>1998-02-10T13:28:06Z</cp:lastPrinted>
  <dcterms:modified xsi:type="dcterms:W3CDTF">2000-05-16T01:41:30Z</dcterms:modified>
  <cp:revision>48</cp:revision>
  <dc:subject/>
  <dc:title>00/064a What Should Be In An IAPP?</dc:title>
</cp:coreProperties>
</file>