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B8E-5EF5-41E8-8A81-E01539A0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ED3-B85E-45B7-AB96-E1E99E73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D18-0E96-4ECE-B0C5-459BD74D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61E-BE1E-4601-88D6-36FE0845F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71F-666B-419A-873D-0846C077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EAB-92C9-4C11-9D28-28924CD9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E12-86A4-4C47-A723-306B3235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73D-7A4E-4F98-8E9F-EC3B653B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848-0273-47B0-9E34-7BF3FE31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6CDE-3273-4C6A-A6F6-440E76C9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0AF0-6AA4-43FE-913E-F5079178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CEDD-7ACC-413F-BDB1-817BE670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904000-7118-4CF1-B56F-128DC0DC4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5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800" y="6446880"/>
            <a:ext cx="137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ndards.ieee.org/regauth/oui/index.shtml" TargetMode="External"/><Relationship Id="rId2" Type="http://schemas.openxmlformats.org/officeDocument/2006/relationships/hyperlink" Target="http://standards.ieee.org/regauth/ethertype/ind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FFB-735B-4898-8DFA-20608C10353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its of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can adapt quickly to changes in the security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does not need to be changed for this reason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can select the “correct”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both competition and interoperability within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236-0ADE-42D0-A14E-7B571FC5B18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Merits of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nly the Authentication Algorithm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s needed to the Authentication 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likelihood of interoperability problems with existing 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AP performs only a single test to differentiate between the two current allowabl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easily provide a mechanism for selecting privacy algorithm or key length, without overloading the definition of this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ED5-1B89-460F-A032-C3CF05342CD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Merits of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efining the authentication algorithm number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 is needed to the Authentication frame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s likelihood of interoperability problems with existing 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AP performs only a single test to differentiate between the two current allowabl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capability to select both privacy and authentication algorithms in the authentic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B9A-116D-4C15-8D2A-CC898EAEB7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Merits of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new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basic format of Authentication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new information element to first (or each) Authentication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lihood of interoperability problem is slightly greater than with previous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independence of choice for both authentication and privacy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ignificantly greater identifier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values are assigned independently to each O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for the possibility that half of each identifier space can be reserved for “experimental” values that need not be regi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8CBA-174A-4E27-8243-F7AF75871C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he Authentication and Privacy information element, its fields, and its u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registra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 must have an IEEE-assigned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algorithm and handshake protocol details must be provided, including external referenc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xchange for providing registration services, IEEE gets right to publish details (preferably on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a pointer to the registration web site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A712-C3DC-4C85-B516-643C7DB566B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posal to IEEE Registration Authority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o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it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pecial procedur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RAC meeting is at July 802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IEEE to implement th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4EC-41F1-4E99-8E23-95D9CC8BC1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oice of “best” security algorithms for authentication and privacy are not static over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fect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men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ly discovered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in mathe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ces in process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ly discovered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opinions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8D3-8424-4CF8-A231-EA83E08227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ation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solution(s) based on current conditions and best estimates of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is fixed and generally in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 group (like us) to meet and accomplish the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, will not take less than 18-24 months to complet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0F6-6997-4140-B9EE-ADE2D0E4DD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mechanism(s) that are not rig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negotiation, rather than fixed requirements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ongoing adaptability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rocesses that encourage/enforce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ne (or two) starting points using the new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636-1C33-4949-95B0-26F46B0C60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existing authentication algorithm numbe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efine the authentication algorithm number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 the authentication frame format to add an informatio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748-1E03-4EE7-A726-8C5661A100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the Authentication Algorithm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egistration process that allows anyone to petition the IEEE for a new value to be used in thi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the same as the process used for OUI and Ethertype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standards.ieee.org/regauth/oui/index.s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standards.ieee.org/regauth/ethertype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ull disclosure of information to enable multi-vend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399B-B8C0-4F59-BCF0-BAF8799F6E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efine the Authentication Algorithm Number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 the field to be the Security Algorithm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wo new sub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Algorithm Number, 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lgorithm Number, 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privacy algorithm to be 40-bit WEP only when authentication is not open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2133720"/>
            <a:ext cx="3352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cy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133720"/>
            <a:ext cx="34290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9DD-4457-4FF7-B233-848C27DC04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New Information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single new value for the Authentication Algorithm field (say 2) that indicates that the new element is present, following the challenge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irst Authentication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 every Authentication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 Information Element several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both the authentication algorithm and privacy algorithm, independ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key lengths for both privacy an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914-17DF-476D-BEF8-030D5CF061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and Privacy Information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05120"/>
          <a:ext cx="7772400" cy="4572000"/>
        </p:xfrm>
        <a:graphic>
          <a:graphicData uri="http://schemas.openxmlformats.org/drawingml/2006/table">
            <a:tbl>
              <a:tblPr/>
              <a:tblGrid>
                <a:gridCol w="4876920"/>
                <a:gridCol w="289548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e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 (oct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ment 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entication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thentication Key 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ing OUI-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cy Algorith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cy Key L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ering OUI-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C11-9AC8-4CF3-ACAB-2747F7C9C6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5-08T15:33:46Z</dcterms:modified>
  <cp:revision>39</cp:revision>
  <dc:subject/>
  <dc:title>00/065a Extensible Security</dc:title>
</cp:coreProperties>
</file>