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20BF-A0DF-49DA-9568-436AC013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572-D2A3-4C2E-8F78-1D3D1C79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A9F-9680-4AF2-814D-54778C53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2577-9E66-42D7-98AF-C9DFF556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3A0-B0D9-4FFB-AAF9-FAD91EEA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6A5-6A0F-48D0-A5AA-F000BD20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BFD5-D67A-43C1-8356-C8B29FE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28A-FE87-4412-94F5-21E6D802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C92-F3B8-456B-A3F4-787DCCE3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1D8-E12A-4AF0-A57C-8C442C93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F31-B7E7-4A1D-8162-446CA18C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86D6-7348-4364-966D-7B371EE1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et 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ED4C5F-5BFD-4FE4-9D05-94E5EC4A3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720" y="6446880"/>
            <a:ext cx="1555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izing for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izing for QoS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QoS Ques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ert Yo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n Ness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end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fu 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t_col" descr=""/>
          <p:cNvPicPr/>
          <p:nvPr/>
        </p:nvPicPr>
        <p:blipFill>
          <a:blip r:embed="rId1"/>
          <a:stretch/>
        </p:blipFill>
        <p:spPr>
          <a:xfrm>
            <a:off x="6705720" y="4572000"/>
            <a:ext cx="1773000" cy="184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1CD-8887-484D-943A-2C2E858FC0F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We Proc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there is a common understanding of just what “QoS” m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requirements against which alternatives may be judg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1D02-5F59-4FDA-BD63-268C9CCA7E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n action, behavior, or something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measu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t be mea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AP primitives are used to request/control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tocols are on the other side of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arameters that cross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current IETF developments work with this S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4A2A-95D5-4BE5-97C2-AA0562CF83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upper layer protocols support/require QoS from the Data Link/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802.1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supported by existing OS AP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S APIs are proposed to be added to support QoS at the 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we expecting to add these AP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vend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develop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129-21D4-4F87-A771-6D4028CA83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lternative proposals be evalu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mu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itive impact statement on existing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pparent demand for QoS in LAN space, let alon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FCs require/support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apping to upper layer protoco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ncrete benefits provided by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85A-C696-41FF-9818-D511C6594B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5-08T15:35:06Z</dcterms:modified>
  <cp:revision>42</cp:revision>
  <dc:subject/>
  <dc:title>00/066 QoS Questions</dc:title>
</cp:coreProperties>
</file>