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57A-6F6C-491D-BCA1-346580AF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4420-9207-4F00-8B47-78A1305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469-09C9-4159-9422-AE3B998F4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ED1-DE98-4CAF-A8A8-3DA17B20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636A-C814-42C1-8E56-04CFEEF2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73C-40C2-4812-B39B-EB1AB01E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9FD-B73B-42F5-BB29-AD98DC8C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F83-2765-451D-88EB-2C9C4A71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9A5D-FCE3-4495-9259-5FF3BC04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34F-36E5-4556-8642-9CB46A74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A60F-0D8D-4267-8E2D-B411E8F0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7C5-6CDC-410D-925F-DCBD1893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746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457680" y="6474960"/>
            <a:ext cx="2152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Kowalski, Sharp Labor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81E385-B557-46AD-868C-5F6D4CDBF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5C1-0081-43E9-9D04-0F1F50A91E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ltimedia Synchronization and 802.11 MAC Enhancement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ations for delay synchronization in SOHO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ed function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954-526D-4676-8A4C-C5D9156DC4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1 of 2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significant to user/cont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1.  Physical layer FEC coding dela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2. Any FEC added on at higher layers if significa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3. Retransmit delays through the network(s)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4. Delays to account for STA’s joining the net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E51-50F2-42AC-94DE-16E72D2504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iderations for delay (2 of 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6. Synchronization schemes, if possible, should enable new devices to join a network  in mid-transmission and during handoff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7. Control applications that exist concurrently and interact with AV streaming should have low delay perceptible to the user. (SOHO video remote?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EDD4-8A67-4AEC-A7FC-832601A010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Delay buffers can be assumed to  exist at terminal devices  in the network, and are  adjustable based on communication from the network .  For some kinds of traffic packets are timestamped.   Data need not be timestamped if synchronization is maintai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225-F77A-47EA-98C9-77A5B27605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communication of delays should be sent to a central point – for 802.11 applications we can assume this would be the  Point Coordinator- to determine the delay required for synchronizing all de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0A1-1BF3-4853-994A-49030D57522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stical prioritization based on 802.1q ta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WLAN related delays need to be communicated at higher lay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harewave, AT&amp;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ppears to support requirem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andoff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825-F1E0-4664-ACBB-6F22CE9064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marks on submitted propos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clear how streaming synch can be suppor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APP proposal doesn’t explicitly support communication of delay parameters.  (Consider source handing of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627-04ED-48E7-8A47-E4BFDB66B6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4:58:53Z</dcterms:created>
  <dc:creator>John Kowalski</dc:creator>
  <dc:description/>
  <dc:language>en-US</dc:language>
  <cp:lastModifiedBy>Harry R. Worstell</cp:lastModifiedBy>
  <cp:lastPrinted>1998-02-10T13:28:06Z</cp:lastPrinted>
  <dcterms:modified xsi:type="dcterms:W3CDTF">2000-05-08T18:34:10Z</dcterms:modified>
  <cp:revision>5</cp:revision>
  <dc:subject/>
  <dc:title>Multimedia Synchronization and 802.11 MAC Enhancements </dc:title>
</cp:coreProperties>
</file>