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211C-87F2-4C94-AB94-DBD1E179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D0D-C22D-40CD-8CAA-DA98DC04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D33-76F6-4D42-AFB3-C4091101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C8F3-AA4B-49AA-A59D-24338B1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5BD0-136B-40E1-950D-1E35B959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A55F-8AEF-4C2A-89CC-725152BC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D72C-5307-494F-A1CD-158968F63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399-8E10-4512-A87D-3F14998B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5AF7-3D63-454D-B9B5-6950F5E9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8F2-AEBC-4C16-8847-055F547F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724-6659-4DB8-9CAC-6D09EFE0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F181-31EC-4E61-A5D0-3AB984FF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85720" y="6474960"/>
            <a:ext cx="847800" cy="5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6F2CA8-D730-450A-85E7-57DBECCFB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0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828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echnical Feasibility of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preading Code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or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4267080"/>
            <a:ext cx="6400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Steve Half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F635-EEE5-4249-ABE2-29C275260E0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1560" y="1019880"/>
            <a:ext cx="63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802.11b 11 Mbps CCK vs. PB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3240" y="2180160"/>
            <a:ext cx="7332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BCC is FEC-code bas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-- Rate 1/2, K=7, Viterbi with QPSK signa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CK is spreading code b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benefit of spreading cod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the properties of CCK and FEC-Coded P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tend to 22 and 33 Mbps for HR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46F9-2361-4301-B589-554EDAB2D9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359720" y="731520"/>
            <a:ext cx="619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1 Mbps CCK vs. FEC-Coded QP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in Only Thermal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10080" y="2291400"/>
            <a:ext cx="3429000" cy="32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C QPSK is ~3 dB better tha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CK in thermal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C QPSK is ~1.5 dB bett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han 12 Mbps 802.11a OFDM 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hermal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thermal noise i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important, but multipath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multipath + noise are oth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dominate 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ath is almost alway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present in WLAN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4533840" cy="354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F3C-F5EB-4F17-A078-EAABEA4A7703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28800" y="2133720"/>
            <a:ext cx="71845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ath is a dominant WLAN impair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ath exists a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ignal-streng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band processor complexity driven by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h OFDM and CCK use transmit signal des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o help combat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DM uses guard intervals and narrowband multicarriers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o combat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K uses spreading codes to combat multi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 have optimized auto-and-cross correlation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 maintain large signal distance in multipa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-- Helps desensitize signal to multipath frequency not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C-coded PSK signal sequences can be sensitive to multipath fad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--  Short data patterns can be correlated with the multipat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to produce some pattern-dependent fading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--  Equalization can be used to counter this eff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93640" y="731520"/>
            <a:ext cx="412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ransmit Sign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for Multipath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8879-EF17-4BDF-B603-14DBBA004B3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724280" y="4724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251460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514600"/>
            <a:ext cx="2057400" cy="1295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4724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4600" y="266688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3048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2666880"/>
            <a:ext cx="8384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840" y="25135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56000" y="278784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2666880"/>
            <a:ext cx="762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7080" y="210276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4600" y="487692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257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876920"/>
            <a:ext cx="8384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5257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4997880"/>
            <a:ext cx="6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7621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6880" y="281952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ulti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2666880"/>
            <a:ext cx="9144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0440" y="278784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26668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02560" y="28944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99240" y="2666880"/>
            <a:ext cx="76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6386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05720" y="2666880"/>
            <a:ext cx="106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05720" y="2666880"/>
            <a:ext cx="9903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8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96080" y="3048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889400" y="245304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77080" y="4312440"/>
            <a:ext cx="70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6880" y="502920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ulti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876920"/>
            <a:ext cx="9144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0440" y="4997880"/>
            <a:ext cx="7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P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4876920"/>
            <a:ext cx="7617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02560" y="510444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99240" y="4876920"/>
            <a:ext cx="7617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6080" y="4876920"/>
            <a:ext cx="8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terb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48769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5257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89400" y="466272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840" y="4723200"/>
            <a:ext cx="64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74440" y="761040"/>
            <a:ext cx="716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CK vs. FEC QPSK w/CMF Receiver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 Eq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10440" y="344484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080" y="563868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21040" y="563868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342900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8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057400"/>
            <a:ext cx="7924680" cy="1981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4267080"/>
            <a:ext cx="7924680" cy="1905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7320" y="205632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CK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7320" y="4266000"/>
            <a:ext cx="27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EC-coded QP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00440" y="1279440"/>
            <a:ext cx="1002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tc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2500200">
            <a:off x="6705360" y="160020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3E67-93B6-49C9-B775-A02C4F0A3D0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76880" y="684720"/>
            <a:ext cx="73648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CK vs. FEC QPSK in Multipath-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CMF Receiver w/o Eq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Exponential Fading channel with 1 sample/chi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2212560"/>
            <a:ext cx="33526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CK is 40% better i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his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provide the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reading codes are no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just another form of FE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addition, CCK’s complexi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is less in this scen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ization ca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boost both CC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and FEC-coded P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4429080" cy="35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6C7-11FD-400D-80EE-D58FD882082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720" y="943920"/>
            <a:ext cx="66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CCK vs. FEC-Coded QPSK Complex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CMF Receiver w/o Equ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13800" y="1720800"/>
            <a:ext cx="6502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cal complexity except for decoders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CK decoder requi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Fast CCK Transform (efficient adds/subtrac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-- 60% reduction in correlator complex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Compute FCT once every 8 chips (1.375 MHz)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C-coded QPSK decoder requir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Soft-decision generator for 2 bits (11 MHz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Branch metric computation for 4 dibits (11 MHz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Add-compare-select logic for 64 states (11 MHz)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Trellis-updating every chip (11 MHz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Traceback memory require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*  Partial traceback output for PLL 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FE61-6CB8-4A62-A435-850B251E765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11360" y="943920"/>
            <a:ext cx="75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11 Mbps CCK vs. FEC-Coded PSK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60000" y="1857600"/>
            <a:ext cx="539856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CK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low-complexity op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for quick to mar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t, provides higher-performance o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when equalizer is ad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22 and 33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3560" y="4067280"/>
            <a:ext cx="70520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EC-Coded PSK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3 dB more performanc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in noise-only environ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izer can be used to boost multipath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bout 22 and 33 Mbp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F4C-3DAC-4BC7-8080-E705A3AD4D6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6320" y="2028600"/>
            <a:ext cx="74725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ing codes can provide advantage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-- Help combat multipath interferen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CK and FEC-coded PSK propert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tend to 22 and 33 Mbps is currentl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under investi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lization requisite for very high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b should examine multiple sign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97600" y="91368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, Intersi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E29-986D-4764-AC2D-E051153350F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rk Webster</cp:lastModifiedBy>
  <cp:lastPrinted>2000-05-05T13:49:50Z</cp:lastPrinted>
  <dcterms:modified xsi:type="dcterms:W3CDTF">2000-05-08T13:38:04Z</dcterms:modified>
  <cp:revision>75</cp:revision>
  <dc:subject/>
  <dc:title>No Slide Title</dc:title>
</cp:coreProperties>
</file>