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75A-1CE8-45D7-847B-B5C866BA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CB7E-78FF-4D12-8829-31E9AD96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C68-7DB3-43E3-BAC0-AADFEFB67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751-AC95-404B-8CD1-CE13480D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2C84-5C2F-41B1-B5AC-5F570B5C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F01E-475B-498A-91A2-FB4071C3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B90-1391-42C1-B21F-3E41A9F9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C1B7-0493-4101-89D9-B1336BE4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71F-5DB2-4C54-BE2D-68C010AF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820-5ADB-4E12-9DD5-56F45200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343F-0F60-41B3-BF33-798CC550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E69-AB47-48C8-9831-207FB642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85720" y="6474960"/>
            <a:ext cx="84780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D639A9-7847-467E-ABA2-07C05A88C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Feasibility of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CK Extensions for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0384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Carl And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B1A-22CD-4343-9BBC-244EA04562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76200" y="974160"/>
            <a:ext cx="64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orm to Current Regulatory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1658880"/>
            <a:ext cx="5762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’s FCC, Japan’s MPT and Europe’s ETSI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ze the time-to-market by conform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to the current FCC rule set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a lengthy FCC debate with a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uncertain outcom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 burdening 802.11 with the need 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lobby the FCC to assume a new posi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ifferent than the NPRM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opening the 2.4 GHz band up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detrimental, under-regulated sign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5AF-3362-4183-93CC-DD60C9FCDD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4760" y="913680"/>
            <a:ext cx="480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arget at Least 33 M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37960" y="1734120"/>
            <a:ext cx="65905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 Mbps HRb may not provide adequ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roughput rates for desired applica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3 Mbps appears to provid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ignificantly higher throughput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b standard should provide a path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ata rates higher than 22 Mbps, if feasibl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s a need to return the standard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process ye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AD1-0526-4A7F-AB34-DC06B5A563DA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41040" y="913680"/>
            <a:ext cx="49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CK Extensions for H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1809360"/>
            <a:ext cx="73688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data-rate extensions to the CCK wavefor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ist which are compatible with the FCC rul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preading cod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data-rate extensions to the CCK wavefor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ist which reach a minimum of 33 Mb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CK extensions perform well 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rmal noise (AWG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currently analyzing the performa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for multipath and multipath-plus-noi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5BD-6BF3-451D-A19B-BCB7D328DB7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Mark Webster</cp:lastModifiedBy>
  <cp:lastPrinted>2000-05-05T18:35:17Z</cp:lastPrinted>
  <dcterms:modified xsi:type="dcterms:W3CDTF">2000-05-08T13:35:08Z</dcterms:modified>
  <cp:revision>51</cp:revision>
  <dc:subject/>
  <dc:title>No Slide Title</dc:title>
</cp:coreProperties>
</file>