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020E94-802A-4181-A60D-BD12BDCC2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35AB6-EE0E-458C-B49A-257BA4514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9C167-A465-4D9B-AC86-D04CC6A14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4DD20-AD47-4902-9908-D3061834C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8C1CD-9874-4007-8C4F-CA5CD5744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2125-76D3-4BB7-9BAD-24E761FB3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C5C37-7540-4B6B-8D7E-B54CA4450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62BBD-C20C-4389-8358-0A637D427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C0A61-9A57-4AE9-AB2B-9A4D8DFD1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E9AA4-83B8-4613-98FB-7B3B6BFDA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A22D0-3CC6-4D8B-9508-F050F062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64B8-17F0-42B4-923B-DA52F86B2F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2DD9F7-3463-455D-8D30-BBACD3C58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07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 Regarding</a:t>
            </a:r>
            <a:br>
              <a:rPr sz="4400"/>
            </a:br>
            <a:r>
              <a:rPr b="0" lang="en-US" sz="4400" spc="-1" strike="noStrike">
                <a:solidFill>
                  <a:srgbClr val="000000"/>
                </a:solidFill>
                <a:latin typeface="Times New Roman"/>
              </a:rPr>
              <a:t>and Status of HRbSG </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SG Chairper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antro Communication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38C8F219-B044-4A7D-B0A7-36EE47807C58}"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tudy Group Informatio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ation on HRbS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ments of Study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Criteri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 from P802.11b (19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 schedule option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EB27825D-89A9-4EC6-91B1-6BF19516BA81}"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ion of HRbSG</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RbSG was formed at the March 2000 Plenary on the following motions:</a:t>
            </a:r>
            <a:endParaRPr b="0" lang="en-US" sz="20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ve to authorize IEEE 802.11 study group to investigate technical extension that are interoperable with 802.11b and that can lead to higher than 20Mbps data rates and other performance improvements to the existing 802.11b standard.  The group shall present any candidate PARs to 802.11WG in time for those PARs that are approved to appear on the November 00 SEC agenda. </a:t>
            </a:r>
            <a:r>
              <a:rPr b="1" i="1" lang="en-US" sz="1600" spc="-1" strike="noStrike">
                <a:solidFill>
                  <a:srgbClr val="000000"/>
                </a:solidFill>
                <a:latin typeface="Arial"/>
              </a:rPr>
              <a:t>Approved 30-0-0</a:t>
            </a:r>
            <a:endParaRPr b="0" lang="en-US" sz="1600" spc="-1" strike="noStrike">
              <a:solidFill>
                <a:srgbClr val="000000"/>
              </a:solidFill>
              <a:latin typeface="Times New Roman"/>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ove to give the assembly at the May 2000 conference authorization to submit the PAR(s) of the just established study group (SG-2.4GHz improvement) to the July 00 SEC meeting. </a:t>
            </a:r>
            <a:r>
              <a:rPr b="1" i="1" lang="en-US" sz="1600" spc="-1" strike="noStrike">
                <a:solidFill>
                  <a:srgbClr val="000000"/>
                </a:solidFill>
                <a:latin typeface="Arial"/>
              </a:rPr>
              <a:t>Approved 28-0-0</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A8F7C777-A6ED-4D92-944F-74FD1320AAD6}"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irements of the SG</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a Project Authorization Request (PAR)</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tandards.ieee.org/guides/par/index.ht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s of PAR are type of project, purpose, scope, ...</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te a document specifying how the new standard will satisfy the “5 Criteria”</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groups/802/11/fureq6-8.htm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 Market Potential, Compatibility, Distinct Identity, Technical Feasibility, and Economic Feasibilit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2F535244-594A-4B3F-8A80-B513D6203FA1}"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 for P802.11b (1998)</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number is P802.11-98/06</a:t>
            </a:r>
            <a:endParaRPr b="0" lang="en-US" sz="18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ope of Proposed Project: </a:t>
            </a:r>
            <a:r>
              <a:rPr b="0" lang="en-US" sz="1800" spc="-1" strike="noStrike">
                <a:solidFill>
                  <a:srgbClr val="000000"/>
                </a:solidFill>
                <a:latin typeface="Courier New"/>
              </a:rPr>
              <a:t>To develop a higher speed PHY extension to 802.11 operating in the 2.4 GHz band. </a:t>
            </a:r>
            <a:endParaRPr b="0" lang="en-US" sz="1800" spc="-1" strike="noStrike">
              <a:solidFill>
                <a:srgbClr val="000000"/>
              </a:solidFill>
              <a:latin typeface="Times New Roman"/>
            </a:endParaRPr>
          </a:p>
          <a:p>
            <a:pPr lvl="3" marL="14288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rpose of Proposed Project: </a:t>
            </a:r>
            <a:r>
              <a:rPr b="0" lang="en-US" sz="1800" spc="-1" strike="noStrike">
                <a:solidFill>
                  <a:srgbClr val="000000"/>
                </a:solidFill>
                <a:latin typeface="Courier New"/>
              </a:rPr>
              <a:t>To extend the performance and the range of applications of the 802.11 compatible networks in the 2.4 GHz band by increasing the data rate achievable by such devices. This technology will be beneficial for improved access to fixed network LAN and internetwork infrastructure (including access to other wireless LANs) via a network of accesspoints, as well as creation of high performance ad-hoc networks.</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2E472A1C-AABE-44D3-8705-B3AB1CA9F03D}"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Schedule Option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amp; 5 Criteria must be submitted to the SEC one month before the 802 Plenary at which approval is sought</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R and 5 criteria are completed at this meeting (May 2000), then they may be submitted to the SEC one month before the July 2000 Plenary meeting, and approval may be obtained at the July 2000 Plenary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R and 5 criteria are set at the July 2000 Plenary Meeting or September 2000 Interim Meeting, then they may be submitted to the SEC one month before the November 2000 Plenary, and approval may be obtained at the November 2000 Plenary</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Matthew Shoemake, Alantro</a:t>
            </a:r>
          </a:p>
        </p:txBody>
      </p:sp>
      <p:sp>
        <p:nvSpPr>
          <p:cNvPr id="5" name="PlaceHolder 4"/>
          <p:cNvSpPr>
            <a:spLocks noGrp="1"/>
          </p:cNvSpPr>
          <p:nvPr>
            <p:ph type="sldNum" idx="3"/>
          </p:nvPr>
        </p:nvSpPr>
        <p:spPr/>
        <p:txBody>
          <a:bodyPr/>
          <a:p>
            <a:fld id="{23C38B52-1F74-4646-B6D2-9F9416C4FCD3}"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1998-02-10T13:28:06Z</cp:lastPrinted>
  <dcterms:modified xsi:type="dcterms:W3CDTF">2000-05-08T20:37:21Z</dcterms:modified>
  <cp:revision>24</cp:revision>
  <dc:subject/>
  <dc:title>No Slide Title</dc:title>
</cp:coreProperties>
</file>