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1E5-2500-46FA-B135-219FA6B4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73D-9E43-477B-89D9-484156F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3B9-516F-4ACD-9F11-E769ADC6F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5F2A-2C2A-424E-8AFF-3986153C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183-DC8C-43EE-8A35-B4FCB5C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5E8-636A-4657-BBDB-2947FB6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F2AE-FC38-4A0C-A3E1-788ACB5C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315B-9426-46E5-A31E-7839F06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621-8693-496F-9A57-19C6D34F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15C-0956-4C56-999D-79682E95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5F9-6253-4981-8D22-C038A14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037-68D2-48F3-BCAD-B3138E85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0595F3-4709-4A6B-AC34-ACFEF9FD2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coordination of regulatory mat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Regulatory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09F-3F74-4BFB-ACF7-4CE27D9A6A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Executive Committee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budsman Regulatory Ma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 supposedly voted in this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races in the minutes, th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asks: to make Policy and Procedures for contacts to the External world in the LMSC Operating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D3C-B999-4E98-939A-9E44492204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matters have been executed by 802.11 for so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ct with ITU-R was unclear and needs 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3 wireless groups in LMSC, coordination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ion with a member of the EMC Society regarding our recent FCC filings revealed coordination within the Standards Association was required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547-40EE-4B88-8F13-251EB871E1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ion within IEEE Standards Assoc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Carlo started an ad-hoc group within the Standards Association (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s to make a Policy and Procedure for the 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on from LMSC, EMC, SCC28, Medical Devices, Nuclear Power Engineering Committee's (NP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98F-ED38-47E7-BF52-4D8B3F699A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0:53:09Z</dcterms:created>
  <dc:creator>vichayes</dc:creator>
  <dc:description/>
  <dc:language>en-US</dc:language>
  <cp:lastModifiedBy>vichayes</cp:lastModifiedBy>
  <cp:lastPrinted>1998-02-10T13:28:06Z</cp:lastPrinted>
  <dcterms:modified xsi:type="dcterms:W3CDTF">2000-05-08T15:29:37Z</dcterms:modified>
  <cp:revision>2</cp:revision>
  <dc:subject/>
  <dc:title>New Executive Committee function</dc:title>
</cp:coreProperties>
</file>