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13D-37DB-4D1D-81F5-249D12FF0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68D7-FB25-49E4-84B9-3846244A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0590-A7BF-487D-8C68-18E1C604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2A87-F507-4EB6-A371-855855F0D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0F2-47CA-4259-B8A0-EFB25C5E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053-8184-405F-A1A3-B60BC06B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175-845A-4B6A-94DE-F6922D2A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104-A2C0-46D1-B2BE-0E9A39EF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E61-5C2D-4986-951C-55A3F685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8CE-2465-4EBA-965B-E02A3247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35F-B4E5-469F-9C3A-10E81D25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1948-6768-47AB-B0F4-0F80586C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5150A8-0794-4AC8-9457-7AB9C018F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on Regulatory matter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 Hayes, Regulatory Ombud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D999-7392-46F9-ACE0-DE7C47F78CA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CC Docket 99-23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eding is in the final stages of the ex-parte vis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200 documents in this procee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CC asked industry to make a com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CA submitted a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70E-83BC-484F-BC99-0F3CF029C7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CA Compromise 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4 MHz wide, non-overlapping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Tx power 60 m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p rate for WBFH 2.5 - 100 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least 20 chann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receiver sensitivity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C512-2CC4-4B8F-80E6-1988720AFD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xim filed a Rebut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visits paid to the FCC by parties for and against the WBFH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CA is still talking to CUBE to reach a com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35D9-0BFE-4FB0-9791-8FE93EC557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-RA 5 GHz consul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r letter was 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-RA made a “Straw-man proposal” see doc.: 11-00/0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organised a conference to hear all pa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 (through me) invited to participate in con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5BE-7635-4296-8973-C96BB5B6EB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for this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actions required regarding FCC Docket ET 99-2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presentation for UK-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24D-79BD-4E99-BA5C-2209D47FA4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D4EE-3712-4F4A-ACA8-3A7C27BD7A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8T10:53:09Z</dcterms:created>
  <dc:creator>vichayes</dc:creator>
  <dc:description/>
  <dc:language>en-US</dc:language>
  <cp:lastModifiedBy>vichayes</cp:lastModifiedBy>
  <cp:lastPrinted>1998-02-10T13:28:06Z</cp:lastPrinted>
  <dcterms:modified xsi:type="dcterms:W3CDTF">2000-05-08T15:36:28Z</dcterms:modified>
  <cp:revision>3</cp:revision>
  <dc:subject/>
  <dc:title>New Executive Committee function</dc:title>
</cp:coreProperties>
</file>