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E94-E548-43AA-AB77-8C4623F36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7903-ADCF-4F5E-9486-4504E6FF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832F-3CD1-4933-B450-0B9EC68E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2A53-F037-485E-8752-8C5985C6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F21-CBF6-4BE7-9616-28743AB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7F9-B8AB-4517-83B2-87F80F8E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AAA-92AC-48D2-B695-86499B8F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1796-84E4-48C4-819E-617A9AF6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239D-087F-43C6-8F2B-D2474A11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0C09-DCB8-4E5E-8376-52AD793B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4F6-934E-4393-A37C-E29665E8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BD7-923C-411F-B174-D66C6B3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2B482B-A064-4591-B083-8D1F07F8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Marketing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9B9-063C-464E-8FD5-277EB412C76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Ad-Hoc Marketing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te a common marketing WG story for the WLA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ing Col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view and adop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802.15 marketing 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s rel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neral marketing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cessible on  the 802.11 web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ck and align meetings with other industry groups, and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lish lia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02.15 W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02.16 Wireless Broadban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Ethernet Compatibility Alliance (WEC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TSI – Br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ther Wireless Foru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87F-1EE9-46AC-ACA6-20596966D03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 – Hoc Marketing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 number documents and procedures used by IEEE 802.15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ing Requirement Document (M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(s) for 2000 - 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terals materi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 for Next Meeting In July-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joint meetings with 802.11/15 at the           July-00 Plenary and continue review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ion collateral material for the IEEE 802.11 web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F76-5772-425A-AC73-B9D0170C10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Wireless Packaging Consortium (IW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bers Only!!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ed by In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Impact"/>
              </a:rPr>
              <a:t>Future...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Bluetooth, Home RF, WLAN &amp;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Automotive Wireless Packaging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May 15-1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The OMNI Richardson Hotel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701 East Campbell Rd.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Richardson, TX  75081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TEL:  972-231-9600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FAX:  972-231-7384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IEEE 802.11 and IEEE 802.15 overview…..May 16</a:t>
            </a:r>
            <a:r>
              <a:rPr b="0" lang="en-US" sz="2000" spc="-1" strike="noStrike" baseline="30000">
                <a:solidFill>
                  <a:srgbClr val="3333cc"/>
                </a:solidFill>
                <a:latin typeface="Impact"/>
              </a:rPr>
              <a:t>th</a:t>
            </a:r>
            <a:r>
              <a:rPr b="0" lang="en-US" sz="2000" spc="-1" strike="noStrike">
                <a:solidFill>
                  <a:srgbClr val="3333cc"/>
                </a:solidFill>
                <a:latin typeface="Impact"/>
              </a:rPr>
              <a:t>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Impac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Impact"/>
              </a:rPr>
              <a:t>Representing WGs as  NON-member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5020-EBE1-41E6-ACC7-9FDAD6E7A3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Design’s Communications Workshop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Networking:                              Cutting The Umbilical C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6-28  Chicago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yndam Hotel Northwest 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dworkshop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nel Discussion…..June 27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meRF, Bluetooth, IEEE 802.11, IEEE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opic: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Co-existence of Wireless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7D4-55B1-4505-9F0E-47583D5746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reless Communications Association International (WCA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wca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focus: Fixed Point Wirel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CA2000 - New Orl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Morial Conven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New Orleans, LA, U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nlicensed Spectrum Panel Discu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July 9</a:t>
            </a:r>
            <a:r>
              <a:rPr b="1" lang="en-US" sz="1800" spc="-1" strike="noStrike" baseline="30000">
                <a:solidFill>
                  <a:srgbClr val="3333cc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…Mon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ireless PANs to LANs to WANs; How Far Can They G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FC7-10D2-4AFE-AA7F-F8AF0176E9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LAN standards and protocol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d 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on 802.11 and 802.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article published in September – 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 columnist: Bob H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host writers from the working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47D0-B6A8-4F1F-AA5F-C3D83D5A9F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s Rele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press release on the FCC-NP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DA84-68C2-463D-A454-8046970C1F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vice-chair of IEEE 802.11 to draft a press release in response to the NPRM doc 99-231, post the letter on the reflector for review, host a teleconference call with an ad-hoc group along with the chair of  IEEE 802 and SEC for approval, and release to the media for pr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8C2F-8DCA-4C2A-8863-9E4409E7BF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Jesse Russell</dc:creator>
  <dc:description/>
  <dc:language>en-US</dc:language>
  <cp:lastModifiedBy>Harry R. Worstell</cp:lastModifiedBy>
  <dcterms:modified xsi:type="dcterms:W3CDTF">2000-07-19T14:49:19Z</dcterms:modified>
  <cp:revision>17</cp:revision>
  <dc:subject/>
  <dc:title>No Slide Title</dc:title>
</cp:coreProperties>
</file>