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D176-FA49-4B92-8F31-E50FCF8B6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A1DD-54A5-4E91-9F1D-542C8776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C53E-0CE3-4804-8E64-10FABA6C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DFC5-B051-4654-9F4E-01E3ABC9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1C2-1412-4E3A-9F36-DE6D03DE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69D-066E-4451-AA88-F87F58A6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4DF3-EBE3-4C83-A193-F1EA5B27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4E56-3570-4DAA-AE17-84D1EB69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600A-7D10-4575-96CA-BE7954E6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54FE-1FBF-4913-8BC3-517DFA8D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8D9-6BA9-4AFC-B533-A42324A4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6257-DB56-4C9E-A3FB-EF687D14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509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/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s Kuwahara, Bo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879231E-06DB-466A-9588-C00589D01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83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GHz Worldwide Al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LAN DI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LAN 11Mbit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s Kuwah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25-957-53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D0F1-5550-4B33-A4C1-85C30F9E044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LAN 5GHz Al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 -- 189 Mem State,  600+ Sector M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R, ITU-T, ITU-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R;  JRG;  U.S. Del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trum Sh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ellite / Radar / WL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WLAN input -- ET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EE 802.11 meeting 8 - 11 May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C931-F180-4CF5-8937-5021468BF2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11680" y="1906560"/>
            <a:ext cx="1139760" cy="530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81080"/>
            <a:ext cx="91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4160" y="2897280"/>
            <a:ext cx="1139760" cy="530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38680" y="2895480"/>
            <a:ext cx="106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U-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11680" y="2897280"/>
            <a:ext cx="1139760" cy="530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2895480"/>
            <a:ext cx="1066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U-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5160" y="2897280"/>
            <a:ext cx="1139760" cy="5302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2895480"/>
            <a:ext cx="106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U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05320" y="380988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RG 8A-9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99320" y="4537080"/>
            <a:ext cx="726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2438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2438280"/>
            <a:ext cx="12956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895120" y="2438280"/>
            <a:ext cx="11430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4191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46520" y="1870200"/>
            <a:ext cx="141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133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0E7-700C-4904-8A2C-D5890EC31A9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851040" cy="9270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685800" y="838080"/>
            <a:ext cx="6686640" cy="1644840"/>
            <a:chOff x="685800" y="838080"/>
            <a:chExt cx="6686640" cy="1644840"/>
          </a:xfrm>
        </p:grpSpPr>
        <p:sp>
          <p:nvSpPr>
            <p:cNvPr id="66" name=""/>
            <p:cNvSpPr/>
            <p:nvPr/>
          </p:nvSpPr>
          <p:spPr>
            <a:xfrm>
              <a:off x="685800" y="838080"/>
              <a:ext cx="1217520" cy="164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03320" y="838080"/>
              <a:ext cx="32608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504720"/>
                  <a:tab algn="l" pos="755640"/>
                  <a:tab algn="l" pos="1008000"/>
                  <a:tab algn="l" pos="1260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TERNATIONAL TELECOMMUNICATION UN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04720"/>
                  <a:tab algn="l" pos="755640"/>
                  <a:tab algn="l" pos="1008000"/>
                  <a:tab algn="l" pos="1260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64200" y="838080"/>
              <a:ext cx="20718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504720"/>
                  <a:tab algn="l" pos="755640"/>
                  <a:tab algn="l" pos="1008000"/>
                  <a:tab algn="l" pos="1260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04720"/>
                  <a:tab algn="l" pos="755640"/>
                  <a:tab algn="l" pos="1008000"/>
                  <a:tab algn="l" pos="1260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39760" y="1477800"/>
              <a:ext cx="326088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504720"/>
                  <a:tab algn="l" pos="755640"/>
                  <a:tab algn="l" pos="1008000"/>
                  <a:tab algn="l" pos="1260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ADIOCOMMUNICATION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UDY GROU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04720"/>
                  <a:tab algn="l" pos="755640"/>
                  <a:tab algn="l" pos="1008000"/>
                  <a:tab algn="l" pos="1260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00640" y="1477800"/>
              <a:ext cx="207180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tabLst>
                  <a:tab algn="l" pos="0"/>
                  <a:tab algn="l" pos="504720"/>
                  <a:tab algn="l" pos="755640"/>
                  <a:tab algn="l" pos="1008000"/>
                  <a:tab algn="l" pos="1260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ocument 8A-9B/180-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04720"/>
                  <a:tab algn="l" pos="755640"/>
                  <a:tab algn="l" pos="1008000"/>
                  <a:tab algn="l" pos="1260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 February 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04720"/>
                  <a:tab algn="l" pos="755640"/>
                  <a:tab algn="l" pos="1008000"/>
                  <a:tab algn="l" pos="1260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riginal: English on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504720"/>
                  <a:tab algn="l" pos="755640"/>
                  <a:tab algn="l" pos="1008000"/>
                  <a:tab algn="l" pos="12603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914400" y="1981080"/>
            <a:ext cx="19051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4230720"/>
                <a:tab algn="l" pos="477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. 7C/TEMP/148(Rev.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230720"/>
                <a:tab algn="l" pos="4770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2666880"/>
            <a:ext cx="2057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ing Party 7C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3429000"/>
            <a:ext cx="754380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50472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STATEMENT TO Joint Rapporteurs Group 8A-9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0472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HARING IN THE BAND 5 250-5 350 MHz BETWEEN THE EARTH EXPLORATION-SATELLITE SERVICE (ACTIVE) ALLOCATED IN THI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ND AND THE RADIO LOCAL AREA NETWORKS (RLA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0472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0472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yran Hunnycutt J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0472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is is 01048R-JRG_8A-9B_Band_Sha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504720"/>
                <a:tab algn="l" pos="75564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CE00-BB94-46BE-AC43-03888E6241E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Denis Kuwahara</dc:creator>
  <dc:description/>
  <cp:keywords>JRG 8A-9B Spectrum Sharing</cp:keywords>
  <dc:language>en-US</dc:language>
  <cp:lastModifiedBy>Denis J. Kuwahara</cp:lastModifiedBy>
  <cp:lastPrinted>1998-02-10T13:28:06Z</cp:lastPrinted>
  <dcterms:modified xsi:type="dcterms:W3CDTF">2000-05-09T17:46:55Z</dcterms:modified>
  <cp:revision>8</cp:revision>
  <dc:subject>5GHz World Wide Spectrum Allocation</dc:subject>
  <dc:title>ITU Process</dc:title>
</cp:coreProperties>
</file>