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977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6C6D-1B3A-4286-B4C1-67B447EA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62895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49160" y="3943440"/>
            <a:ext cx="62895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288-FEFC-4F21-9962-46232828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49160" y="394344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71880" y="394344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FD0-7C9A-40E3-8992-3604F0C05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5680" y="142236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2560" y="142236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649160" y="394344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5680" y="394344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2560" y="3943440"/>
            <a:ext cx="2025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9ED0-D9C9-4019-8D9C-96CAA58D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649160" y="1422360"/>
            <a:ext cx="628956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29D-4A0D-44B4-B8B4-0630702C1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628956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3E5-985D-4412-8BE1-AFF7AC9B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08C-257C-4BD0-95F1-961804E5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F24-AD1E-4D91-8F0C-1B06A19D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0" y="6854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8B0F-B509-452D-8633-8312CD79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649160" y="394344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1D45-ABDA-4C68-93AA-E39A3449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71880" y="394344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73B-8B4C-45A9-909D-05340C43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4916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1880" y="1422360"/>
            <a:ext cx="306900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649160" y="3943440"/>
            <a:ext cx="6289560" cy="230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E27E-8353-42E4-BC99-12159EF0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9160" y="1422360"/>
            <a:ext cx="6289560" cy="482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6676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+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n1_CMYK" descr=""/>
          <p:cNvPicPr/>
          <p:nvPr/>
        </p:nvPicPr>
        <p:blipFill>
          <a:blip r:embed="rId2"/>
          <a:stretch/>
        </p:blipFill>
        <p:spPr>
          <a:xfrm>
            <a:off x="7731000" y="6197760"/>
            <a:ext cx="1235160" cy="20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905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71136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7286400" y="6474960"/>
            <a:ext cx="13237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ven Gray, NOK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454280" y="6474960"/>
            <a:ext cx="314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A Brief Summary of Codec Tests for IS-95A, IS-95B and IS-2000 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ven D. Gr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945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7077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Motivation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12880" y="1523520"/>
            <a:ext cx="7670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ussions in March meeting attempted to define performance requirements for voice lacency and err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primary methods exist for encoding speec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veform encoding (i.e., ADPCM)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rametric endoding (i.e., CELP)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ata summaring performance of contest is presente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new codecs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hanced Variable Rate Codec (EVRC)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cs Mean Opinion Score (MOS) are rated for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rame loss rate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verage rate of codec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419720" y="64692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59328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720" y="1282680"/>
            <a:ext cx="7454880" cy="317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 score can range from 1 -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sive tests were conducted by COMSAT Labs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September 1999 on new codecs for IS-95 based CD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ariable rate operation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6676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+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, 4, 2 and 1 kbps source encoder ra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6676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+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ms framing of dat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6676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+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ror detection of bad frames (i.e., CRC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results for all codecs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63560" y="4737240"/>
          <a:ext cx="6083280" cy="113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3560" y="4737240"/>
                    <a:ext cx="6083280" cy="113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58080" y="52182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97160" y="5397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84240" y="5952960"/>
            <a:ext cx="72979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Frank Corcoran, "SMV-Selection Test - Preliminary Test Results," 3GPP2-C11-20000425-023, Seat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hington, April 25 - 28, 200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560" y="64818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69480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onclusion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238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cs designed for wireless channels target a frame loss rate with error detection for bad frames at 1 %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0 ms frames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8 Kbps for full rate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decs not designed for wireless channels could suffer severe error propagation at 1% frame los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6481800"/>
            <a:ext cx="609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70776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Final Note </a:t>
            </a:r>
            <a:endParaRPr b="1" lang="en-US" sz="3200" spc="-1" strike="noStrike">
              <a:solidFill>
                <a:srgbClr val="fc012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2388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0440" indent="-19044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-to-end latency in IS-95A network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bile-to-fixed terminal is approximately 120 ms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bile-to-mobile terminal is approximately 180 ms 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4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0560" y="6523200"/>
            <a:ext cx="270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31T14:45:34Z</dcterms:created>
  <dc:creator/>
  <dc:description/>
  <dc:language>en-US</dc:language>
  <cp:lastModifiedBy>Harry R. Worstell</cp:lastModifiedBy>
  <cp:lastPrinted>2000-05-01T15:23:13Z</cp:lastPrinted>
  <dcterms:modified xsi:type="dcterms:W3CDTF">2000-05-09T21:14:20Z</dcterms:modified>
  <cp:revision>220</cp:revision>
  <dc:subject/>
  <dc:title>Brief Overview of Information Theory and Channel Coding </dc:title>
</cp:coreProperties>
</file>