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DC0-C664-44FF-A237-5984A3981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49160" y="394344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90B-67ED-4E1D-A68C-DB49A7CE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188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231-0C73-4189-B8D7-9B0F9B1F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568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256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4916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568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256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7B3A-7EDB-4D88-8E73-0010E2BD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DBC0-E968-4B6D-A673-A5F24379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B702-EC59-43D4-AE94-BDABBFC9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7D8-F36F-4AF3-9FA5-E8B19849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FCB1-BB99-4B6E-862A-EABD79C7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535-0183-425D-A070-7F6E5198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DF6-7947-4503-8783-FC0C6883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188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4C1-07CB-408C-8F7A-7308142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992-2B22-4033-842B-3C279A39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6680" indent="-384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05040" indent="-277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28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28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281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n1_CMYK" descr=""/>
          <p:cNvPicPr/>
          <p:nvPr/>
        </p:nvPicPr>
        <p:blipFill>
          <a:blip r:embed="rId2"/>
          <a:stretch/>
        </p:blipFill>
        <p:spPr>
          <a:xfrm>
            <a:off x="7731000" y="6197760"/>
            <a:ext cx="1235160" cy="20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905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71136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86400" y="6474960"/>
            <a:ext cx="13237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n Gray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454280" y="6474960"/>
            <a:ext cx="314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rame Sorting for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0440" indent="-190440"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ven D. Gr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kaël Deboil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roshi Tob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5716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68080" y="83772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mulation Example</a:t>
            </a:r>
            <a:br>
              <a:rPr sz="32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Delay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89200" y="1695600"/>
            <a:ext cx="5600520" cy="4622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94520" y="6469200"/>
            <a:ext cx="685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400" y="8125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mulation Example</a:t>
            </a:r>
            <a:br>
              <a:rPr sz="32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Discarded Packet Rate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86040" y="1636560"/>
          <a:ext cx="5724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6040" y="1636560"/>
                    <a:ext cx="5724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394520" y="6469200"/>
            <a:ext cx="685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68080" y="72360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clusions About Frame Sort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15520" y="1498320"/>
            <a:ext cx="837108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ncept that allows BSSs with a mixture of traffic to transmit with the most efficient rate 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increase in complexity over the existing PCF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traffic transmitted at a high rate can be scheduled at a more "robust" rate at the end of the CFP allowing "fast" re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4520" y="6469200"/>
            <a:ext cx="6850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68080" y="67284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bjectiv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15520" y="1498320"/>
            <a:ext cx="8371080" cy="482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aper does not present a complete solution to the all the QoS and Security Issues discussed in IEEE802.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of this pres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the use of the Point Coordination Function (PCF) as a means to deliver real-time traffic over the IEEE802.11 ai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19512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he throughput, delay and dropped packets of PCF for delivery of real-time traff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305240" y="1066680"/>
            <a:ext cx="4872240" cy="3660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8080" y="83772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xample Area Where PCF Can Be Improved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3924360"/>
            <a:ext cx="5484960" cy="244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4040" y="1603440"/>
            <a:ext cx="4152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xample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mple isolated BSS where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ons share the CFP using piggy-b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urrent Standar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or frames of typ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+CF-ACK, Data +CF-Poll+CF-ACK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 CF-Poll+CF-ACK, the rate chos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o transmit the frame must be suppo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y both addressed recipient STA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STA to which the ACK is int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76280" y="4876920"/>
            <a:ext cx="29804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t would be n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llow the AP to transm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STA2 at highest 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8080" y="67284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rame Sort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5520" y="1498680"/>
            <a:ext cx="8371080" cy="20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ncept       sort traffic from highest to lowest prior to scheduling by the Point Coordinator (P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5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using four PC stations in a BS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152388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743200" y="2666880"/>
          <a:ext cx="5375160" cy="125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666880"/>
                    <a:ext cx="537516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68080" y="69804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ithout Frame Sort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62120" y="1668600"/>
            <a:ext cx="7907040" cy="3456000"/>
            <a:chOff x="762120" y="1668600"/>
            <a:chExt cx="7907040" cy="3456000"/>
          </a:xfrm>
        </p:grpSpPr>
        <p:graphicFrame>
          <p:nvGraphicFramePr>
            <p:cNvPr id="66" name=""/>
            <p:cNvGraphicFramePr/>
            <p:nvPr/>
          </p:nvGraphicFramePr>
          <p:xfrm>
            <a:off x="762120" y="2057400"/>
            <a:ext cx="7907040" cy="306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2057400"/>
                      <a:ext cx="7907040" cy="306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" name=""/>
            <p:cNvSpPr/>
            <p:nvPr/>
          </p:nvSpPr>
          <p:spPr>
            <a:xfrm>
              <a:off x="2372760" y="1668600"/>
              <a:ext cx="4612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ossible Transmission Order Without Sort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63480" y="4651200"/>
              <a:ext cx="1500840" cy="44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x: Station to AP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x: AP to St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68080" y="73620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ith Frame Sorting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2080" y="5775480"/>
            <a:ext cx="747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e: With frame sorting HR STAs are not forced to transmit at a lower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96880" y="1668600"/>
            <a:ext cx="8089920" cy="3884400"/>
            <a:chOff x="596880" y="1668600"/>
            <a:chExt cx="8089920" cy="388440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596880" y="2438280"/>
              <a:ext cx="8089920" cy="311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751480" y="1668600"/>
              <a:ext cx="3408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mission Order With Sort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26040" y="5029200"/>
              <a:ext cx="1587600" cy="44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Ux: Station to AP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x: AP to St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68080" y="67284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solated BSS Simulation Example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7120" y="1495440"/>
          <a:ext cx="6667560" cy="486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95440"/>
                    <a:ext cx="6667560" cy="48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68080" y="748800"/>
            <a:ext cx="80391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mulation Example</a:t>
            </a:r>
            <a:br>
              <a:rPr sz="3200"/>
            </a:b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Discarded Packet Rate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pic>
        <p:nvPicPr>
          <p:cNvPr id="83" name="FSDPRLoad" descr=""/>
          <p:cNvPicPr/>
          <p:nvPr/>
        </p:nvPicPr>
        <p:blipFill>
          <a:blip r:embed="rId1"/>
          <a:stretch/>
        </p:blipFill>
        <p:spPr>
          <a:xfrm>
            <a:off x="1398600" y="1492200"/>
            <a:ext cx="6078600" cy="482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400" y="7869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solated BSS for 64 Kbps PCM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27120" y="1776240"/>
          <a:ext cx="6667560" cy="48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776240"/>
                    <a:ext cx="6667560" cy="48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3T15:32:34Z</dcterms:created>
  <dc:creator>Nokia</dc:creator>
  <dc:description/>
  <dc:language>en-US</dc:language>
  <cp:lastModifiedBy>Harry R. Worstell</cp:lastModifiedBy>
  <cp:lastPrinted>1997-08-27T07:44:37Z</cp:lastPrinted>
  <dcterms:modified xsi:type="dcterms:W3CDTF">2000-05-09T21:15:24Z</dcterms:modified>
  <cp:revision>39</cp:revision>
  <dc:subject>Slide Master</dc:subject>
  <dc:title>No Slide Title</dc:title>
</cp:coreProperties>
</file>