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41A0-917C-402E-B2CE-970221ED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3348-95EE-4201-A485-4ECF4B38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40D-085F-4909-A7B6-CF54B5A1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5437-46E9-4E0D-B166-23FCF9F3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EF1-FED5-4A03-9D12-11125A13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E90-6521-4DB3-8A95-36464CB5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E01F-0C47-4A12-89AA-38128D44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AA1-CC2F-4142-906B-8F91A1983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4C6-DBE3-414A-B288-E720486A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E87-227B-4F0B-8FEF-2533C3CC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393-36D5-4486-9F3B-01364A7E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B63-535C-425E-97E1-371F095B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B30289-B9B1-4A00-BFFF-A654C89B8B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er Rate 802.11b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the Data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 Heeg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thew Shoem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d Sch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antro 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1 Stony 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07) 521-30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y 8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D3A6-DCE8-4CA8-916E-6D45422D943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e the Data R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White Gaussian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BCC FEC has a “3db” coding gain advan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Dist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“joint equalizer/decoder” can process much more disto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trellis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24840" y="5479920"/>
            <a:ext cx="262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oise, Multipath Distor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3911760" y="3427560"/>
            <a:ext cx="156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ata Rate,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56280" y="2044800"/>
            <a:ext cx="3085920" cy="3238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60840" y="2044800"/>
            <a:ext cx="180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78360" y="2044800"/>
            <a:ext cx="180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88200" y="2044800"/>
            <a:ext cx="144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05720" y="2044800"/>
            <a:ext cx="144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5200" y="2044800"/>
            <a:ext cx="144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2044800"/>
            <a:ext cx="1440" cy="3238560"/>
          </a:xfrm>
          <a:custGeom>
            <a:avLst/>
            <a:gdLst/>
            <a:ahLst/>
            <a:rect l="l" t="t" r="r" b="b"/>
            <a:pathLst>
              <a:path w="0" h="2040">
                <a:moveTo>
                  <a:pt x="0" y="204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56280" y="5283360"/>
            <a:ext cx="308592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42200" y="5283360"/>
            <a:ext cx="180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56280" y="4635360"/>
            <a:ext cx="3085920" cy="18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242200" y="4635360"/>
            <a:ext cx="1800" cy="18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56280" y="3987720"/>
            <a:ext cx="3085920" cy="18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42200" y="3987720"/>
            <a:ext cx="1800" cy="180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56280" y="3340080"/>
            <a:ext cx="308592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242200" y="3340080"/>
            <a:ext cx="180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56280" y="2692440"/>
            <a:ext cx="308592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42200" y="2692440"/>
            <a:ext cx="180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56280" y="2044800"/>
            <a:ext cx="308592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42200" y="2044800"/>
            <a:ext cx="1800" cy="1440"/>
          </a:xfrm>
          <a:prstGeom prst="line">
            <a:avLst/>
          </a:prstGeom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56280" y="5283360"/>
            <a:ext cx="308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56280" y="2044800"/>
            <a:ext cx="308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8242200" y="2044800"/>
            <a:ext cx="1800" cy="32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156280" y="2044800"/>
            <a:ext cx="1440" cy="32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56280" y="5283360"/>
            <a:ext cx="308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156280" y="2044800"/>
            <a:ext cx="1440" cy="32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460840" y="52452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60840" y="2044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778360" y="52452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78360" y="2044800"/>
            <a:ext cx="180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88200" y="52452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88200" y="2044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6705720" y="52452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05720" y="2044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315200" y="52452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2044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7620120" y="52452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044800"/>
            <a:ext cx="144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56280" y="528336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8204040" y="528336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47920" y="5213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56280" y="4635360"/>
            <a:ext cx="38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204040" y="4635360"/>
            <a:ext cx="38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7920" y="45655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56280" y="3987720"/>
            <a:ext cx="38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8204040" y="3987720"/>
            <a:ext cx="38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71600" y="3917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56280" y="33400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04040" y="33400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71600" y="327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56280" y="269244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8204040" y="269244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71600" y="2622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56280" y="204480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8204040" y="204480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71600" y="1974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56280" y="2044800"/>
            <a:ext cx="308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56280" y="2044800"/>
            <a:ext cx="3085920" cy="3238560"/>
          </a:xfrm>
          <a:custGeom>
            <a:avLst/>
            <a:gdLst/>
            <a:ahLst/>
            <a:rect l="l" t="t" r="r" b="b"/>
            <a:pathLst>
              <a:path w="1944" h="2040">
                <a:moveTo>
                  <a:pt x="0" y="2040"/>
                </a:moveTo>
                <a:lnTo>
                  <a:pt x="1944" y="2040"/>
                </a:lnTo>
                <a:lnTo>
                  <a:pt x="194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5156280" y="2044800"/>
            <a:ext cx="1440" cy="323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860640"/>
            <a:ext cx="317520" cy="142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8560" y="2438280"/>
            <a:ext cx="304920" cy="2845080"/>
          </a:xfrm>
          <a:prstGeom prst="rect">
            <a:avLst/>
          </a:prstGeom>
          <a:solidFill>
            <a:srgbClr val="cc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77120" y="4572000"/>
            <a:ext cx="317520" cy="711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5029200"/>
            <a:ext cx="317520" cy="254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35560" y="3860640"/>
            <a:ext cx="304920" cy="1422720"/>
          </a:xfrm>
          <a:prstGeom prst="rect">
            <a:avLst/>
          </a:prstGeom>
          <a:solidFill>
            <a:srgbClr val="cc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162920" y="4572000"/>
            <a:ext cx="304560" cy="711360"/>
          </a:xfrm>
          <a:prstGeom prst="rect">
            <a:avLst/>
          </a:prstGeom>
          <a:solidFill>
            <a:srgbClr val="cccc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2057400"/>
            <a:ext cx="1218960" cy="380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ffany"/>
              </a:rPr>
              <a:t>CCK/Ba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24480" y="1752480"/>
            <a:ext cx="137160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ffany"/>
              </a:rPr>
              <a:t>PBCC/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638320" y="24382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0480" y="2309760"/>
            <a:ext cx="7948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ffany"/>
              </a:rPr>
              <a:t>2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35120" y="3763800"/>
            <a:ext cx="79488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ffany"/>
              </a:rPr>
              <a:t>11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3886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95800" y="4419720"/>
            <a:ext cx="83592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ffany"/>
              </a:rPr>
              <a:t>5.5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62760" y="4952880"/>
            <a:ext cx="708120" cy="276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ffany"/>
              </a:rPr>
              <a:t>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50292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5410080"/>
            <a:ext cx="18288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1C7B-96B9-4431-BBE9-5FF6D214A9A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 “double the data rate” in the sam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te with existing IEEE802.11b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Ra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FCC-A755-4DAF-B30D-8CFDD3A093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81280" y="180972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 Error Rate in AW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of standard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 vers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SN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315200" y="2666880"/>
            <a:ext cx="1358640" cy="838440"/>
            <a:chOff x="7315200" y="2666880"/>
            <a:chExt cx="1358640" cy="838440"/>
          </a:xfrm>
        </p:grpSpPr>
        <p:sp>
          <p:nvSpPr>
            <p:cNvPr id="132" name=""/>
            <p:cNvSpPr/>
            <p:nvPr/>
          </p:nvSpPr>
          <p:spPr>
            <a:xfrm flipH="1">
              <a:off x="7315200" y="2971800"/>
              <a:ext cx="9907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78760" y="2666880"/>
              <a:ext cx="595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2-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477120" y="2362320"/>
            <a:ext cx="1460520" cy="837720"/>
            <a:chOff x="6477120" y="2362320"/>
            <a:chExt cx="1460520" cy="837720"/>
          </a:xfrm>
        </p:grpSpPr>
        <p:sp>
          <p:nvSpPr>
            <p:cNvPr id="135" name=""/>
            <p:cNvSpPr/>
            <p:nvPr/>
          </p:nvSpPr>
          <p:spPr>
            <a:xfrm flipH="1">
              <a:off x="6477120" y="2666880"/>
              <a:ext cx="9907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40320" y="2362320"/>
              <a:ext cx="6973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-C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333760" y="2209680"/>
            <a:ext cx="1278720" cy="838440"/>
            <a:chOff x="5333760" y="2209680"/>
            <a:chExt cx="1278720" cy="838440"/>
          </a:xfrm>
        </p:grpSpPr>
        <p:sp>
          <p:nvSpPr>
            <p:cNvPr id="138" name=""/>
            <p:cNvSpPr/>
            <p:nvPr/>
          </p:nvSpPr>
          <p:spPr>
            <a:xfrm flipH="1">
              <a:off x="5333760" y="2514600"/>
              <a:ext cx="7045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77000" y="2209680"/>
              <a:ext cx="73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5-C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867280" y="2666880"/>
            <a:ext cx="1341720" cy="609840"/>
            <a:chOff x="5867280" y="2666880"/>
            <a:chExt cx="1341720" cy="609840"/>
          </a:xfrm>
        </p:grpSpPr>
        <p:sp>
          <p:nvSpPr>
            <p:cNvPr id="141" name=""/>
            <p:cNvSpPr/>
            <p:nvPr/>
          </p:nvSpPr>
          <p:spPr>
            <a:xfrm flipH="1">
              <a:off x="5867280" y="2888640"/>
              <a:ext cx="735840" cy="38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33920" y="2666880"/>
              <a:ext cx="775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1-P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05520" y="2666880"/>
            <a:ext cx="1261080" cy="685440"/>
            <a:chOff x="5105520" y="2666880"/>
            <a:chExt cx="1261080" cy="685440"/>
          </a:xfrm>
        </p:grpSpPr>
        <p:sp>
          <p:nvSpPr>
            <p:cNvPr id="144" name=""/>
            <p:cNvSpPr/>
            <p:nvPr/>
          </p:nvSpPr>
          <p:spPr>
            <a:xfrm flipH="1">
              <a:off x="5105520" y="2916000"/>
              <a:ext cx="58248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53360" y="2666880"/>
              <a:ext cx="81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5-P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343400" y="2286000"/>
            <a:ext cx="1014120" cy="685440"/>
            <a:chOff x="4343400" y="2286000"/>
            <a:chExt cx="1014120" cy="685440"/>
          </a:xfrm>
        </p:grpSpPr>
        <p:sp>
          <p:nvSpPr>
            <p:cNvPr id="147" name=""/>
            <p:cNvSpPr/>
            <p:nvPr/>
          </p:nvSpPr>
          <p:spPr>
            <a:xfrm flipH="1">
              <a:off x="4343400" y="2535120"/>
              <a:ext cx="37728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37160" y="2286000"/>
              <a:ext cx="720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-Bar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6620-A7B8-45D8-8DC3-7F2EA1C39E5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ing Gain in AW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76720" y="158112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of standard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 vers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d SN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486040" y="1981080"/>
            <a:ext cx="1492920" cy="685440"/>
            <a:chOff x="5486040" y="1981080"/>
            <a:chExt cx="1492920" cy="685440"/>
          </a:xfrm>
        </p:grpSpPr>
        <p:sp>
          <p:nvSpPr>
            <p:cNvPr id="153" name=""/>
            <p:cNvSpPr/>
            <p:nvPr/>
          </p:nvSpPr>
          <p:spPr>
            <a:xfrm flipH="1">
              <a:off x="5486040" y="2230200"/>
              <a:ext cx="1165320" cy="43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83880" y="1981080"/>
              <a:ext cx="5950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2-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705720" y="3048120"/>
            <a:ext cx="1257840" cy="837720"/>
            <a:chOff x="6705720" y="3048120"/>
            <a:chExt cx="1257840" cy="837720"/>
          </a:xfrm>
        </p:grpSpPr>
        <p:sp>
          <p:nvSpPr>
            <p:cNvPr id="156" name=""/>
            <p:cNvSpPr/>
            <p:nvPr/>
          </p:nvSpPr>
          <p:spPr>
            <a:xfrm flipH="1">
              <a:off x="6705720" y="3352680"/>
              <a:ext cx="99072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68920" y="3048120"/>
              <a:ext cx="494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343760" y="4038120"/>
            <a:ext cx="1031400" cy="581400"/>
            <a:chOff x="4343760" y="4038120"/>
            <a:chExt cx="1031400" cy="581400"/>
          </a:xfrm>
        </p:grpSpPr>
        <p:sp>
          <p:nvSpPr>
            <p:cNvPr id="159" name=""/>
            <p:cNvSpPr/>
            <p:nvPr/>
          </p:nvSpPr>
          <p:spPr>
            <a:xfrm flipV="1">
              <a:off x="4800600" y="4038120"/>
              <a:ext cx="5745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343760" y="4343040"/>
              <a:ext cx="572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B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0D37-CF66-4781-B241-2F5B82285E7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Error Rate in AW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0400" y="1809720"/>
            <a:ext cx="5334120" cy="40006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of standard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vers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SN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465-6C4E-4A61-ABCC-1BC28FA350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352680" y="16956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ing Gain in AW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of standard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 vers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d SN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. Heegard, et. al., Alantro Communicatio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719-EC0A-4332-ACE9-4696B268CE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Harry R. Worstell</cp:lastModifiedBy>
  <cp:lastPrinted>1998-02-10T13:28:06Z</cp:lastPrinted>
  <dcterms:modified xsi:type="dcterms:W3CDTF">2000-05-10T17:28:04Z</dcterms:modified>
  <cp:revision>20</cp:revision>
  <dc:subject/>
  <dc:title>No Slide Title</dc:title>
</cp:coreProperties>
</file>