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83E0-EC38-4584-AE38-D738094A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71A-936A-48E5-ADF6-8543B342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96F5-E049-4771-B715-26F6FD440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2B7-999B-45F6-A804-5D032C0A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AD2E-15E7-467A-B254-E6AD9245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413-EC72-427A-8512-1E922C2A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AE6-4E90-4817-BDF3-E7075A8F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BF84-2850-4735-8C57-6EA4B3B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2BA-C994-4200-BEA6-E92B0D1E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4F11-25C1-441C-A546-8727A382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02D-7939-4798-B037-E15072D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5906-AFED-4D2C-994B-0EAE8DB5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BD4C56-DD60-4CBA-A697-6DE8AEB7C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 Spectru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802.11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1 Stony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07) 521-3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6F5-B7A3-4D38-9A52-D246459C59C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b 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pread Spectrum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scientific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political (e.g., the FCC ru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locklength (8) of CCK does not relate to gain (6 dB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rambling period (256) of PBCC does not relate to gain (24 dB ?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24480" y="59212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for rates above 2M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5181-7BD4-4CE5-9C12-66FFF5BD7D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 - Bandwidth (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- Data Rate (bps = bits*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tral efficiency”                    (bi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s the # of dimensions used by a waveform set to the bandwidth occupancy of th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veform complexity              (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029200" y="3124080"/>
          <a:ext cx="990720" cy="84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124080"/>
                    <a:ext cx="99072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114800" y="3962520"/>
          <a:ext cx="946080" cy="35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3962520"/>
                    <a:ext cx="94608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105520" y="5562720"/>
          <a:ext cx="434880" cy="76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5562720"/>
                    <a:ext cx="434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CF79-CE2D-4E7C-B505-67A74763B9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802.11b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Barker                             2-B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-CCK                           11-C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-PBCC                         11-PB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-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81080" y="2133720"/>
          <a:ext cx="946440" cy="35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133720"/>
                    <a:ext cx="946440" cy="35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981080" y="2743200"/>
          <a:ext cx="1175040" cy="3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743200"/>
                    <a:ext cx="1175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971800" y="3733920"/>
          <a:ext cx="1552680" cy="590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3733920"/>
                    <a:ext cx="15526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pread Spectru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13720" y="3733920"/>
          <a:ext cx="1488960" cy="590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13720" y="3733920"/>
                    <a:ext cx="1488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419720" y="6019920"/>
            <a:ext cx="441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: The value of r assumes no excess bandwid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108240" y="4343400"/>
          <a:ext cx="1279440" cy="59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8240" y="4343400"/>
                    <a:ext cx="12794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670800" y="4491000"/>
          <a:ext cx="119520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70800" y="4491000"/>
                    <a:ext cx="1195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6705720" y="5105520"/>
          <a:ext cx="1195200" cy="295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05720" y="5105520"/>
                    <a:ext cx="11952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071880" y="4957920"/>
          <a:ext cx="1299960" cy="59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071880" y="4957920"/>
                    <a:ext cx="129996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722680" y="5715000"/>
          <a:ext cx="1236600" cy="29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22680" y="5715000"/>
                    <a:ext cx="12366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CB1-10C3-485E-8C97-BF7DEF9C5C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High Rate and Spread Spect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nnon Theory tells us why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819520" y="3276720"/>
          <a:ext cx="3327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276720"/>
                    <a:ext cx="3327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200400" y="4110120"/>
          <a:ext cx="2414520" cy="16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110120"/>
                    <a:ext cx="24145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985-57D4-4C1F-9654-B4DD5877FB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annon Theory with Sp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94080" y="3048120"/>
          <a:ext cx="3979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4080" y="3048120"/>
                    <a:ext cx="3979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3184560" y="4452840"/>
          <a:ext cx="2448000" cy="97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4452840"/>
                    <a:ext cx="2448000" cy="9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E481-B5CF-4618-BB31-AB8CCA9766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ing at Low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6476760" y="5334120"/>
            <a:ext cx="1219320" cy="304560"/>
            <a:chOff x="6476760" y="5334120"/>
            <a:chExt cx="1219320" cy="304560"/>
          </a:xfrm>
        </p:grpSpPr>
        <p:graphicFrame>
          <p:nvGraphicFramePr>
            <p:cNvPr id="94" name=""/>
            <p:cNvGraphicFramePr/>
            <p:nvPr/>
          </p:nvGraphicFramePr>
          <p:xfrm>
            <a:off x="7238880" y="5334120"/>
            <a:ext cx="457200" cy="17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5334120"/>
                      <a:ext cx="4572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" name=""/>
            <p:cNvSpPr/>
            <p:nvPr/>
          </p:nvSpPr>
          <p:spPr>
            <a:xfrm flipH="1">
              <a:off x="6476760" y="541008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7" name=""/>
          <p:cNvGraphicFramePr/>
          <p:nvPr/>
        </p:nvGraphicFramePr>
        <p:xfrm>
          <a:off x="7223040" y="5029200"/>
          <a:ext cx="488880" cy="1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23040" y="5029200"/>
                    <a:ext cx="48888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H="1">
            <a:off x="6476760" y="5105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238880" y="3801960"/>
          <a:ext cx="489240" cy="18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238880" y="3801960"/>
                    <a:ext cx="48924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 flipH="1" flipV="1">
            <a:off x="6553080" y="3733560"/>
            <a:ext cx="5493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010280" y="3124080"/>
          <a:ext cx="552600" cy="1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010280" y="3124080"/>
                    <a:ext cx="5526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H="1" flipV="1">
            <a:off x="6340320" y="2971440"/>
            <a:ext cx="594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64000" y="2362320"/>
          <a:ext cx="582840" cy="17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364000" y="2362320"/>
                    <a:ext cx="58284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H="1">
            <a:off x="4663800" y="243828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45BC-8F9B-4C32-ACBA-8E3113044BD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reading at High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6476760" y="5334120"/>
            <a:ext cx="1219320" cy="304560"/>
            <a:chOff x="6476760" y="5334120"/>
            <a:chExt cx="1219320" cy="304560"/>
          </a:xfrm>
        </p:grpSpPr>
        <p:graphicFrame>
          <p:nvGraphicFramePr>
            <p:cNvPr id="112" name=""/>
            <p:cNvGraphicFramePr/>
            <p:nvPr/>
          </p:nvGraphicFramePr>
          <p:xfrm>
            <a:off x="7238880" y="5334120"/>
            <a:ext cx="457200" cy="172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38880" y="5334120"/>
                      <a:ext cx="457200" cy="17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 flipH="1">
              <a:off x="6476760" y="5410080"/>
              <a:ext cx="6094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"/>
          <p:cNvGraphicFramePr/>
          <p:nvPr/>
        </p:nvGraphicFramePr>
        <p:xfrm>
          <a:off x="7223040" y="5029200"/>
          <a:ext cx="488880" cy="1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23040" y="5029200"/>
                    <a:ext cx="48888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flipH="1">
            <a:off x="6476760" y="5105520"/>
            <a:ext cx="6094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086600" y="3200400"/>
          <a:ext cx="488880" cy="189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86600" y="3200400"/>
                    <a:ext cx="488880" cy="1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 flipH="1" flipV="1">
            <a:off x="6476760" y="3047760"/>
            <a:ext cx="5490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095880" y="2286000"/>
          <a:ext cx="552600" cy="1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5880" y="2286000"/>
                    <a:ext cx="552600" cy="1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flipH="1">
            <a:off x="5638680" y="2514600"/>
            <a:ext cx="53352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48320" y="2362320"/>
          <a:ext cx="582480" cy="172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48320" y="2362320"/>
                    <a:ext cx="582480" cy="17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flipH="1">
            <a:off x="4038480" y="2438280"/>
            <a:ext cx="6098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ris Heegard,  Alantro Communicatio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F46-0DB0-4787-8DE2-604715EAFB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2000-05-10T17:30:05Z</dcterms:modified>
  <cp:revision>43</cp:revision>
  <dc:subject/>
  <dc:title>No Slide Title</dc:title>
</cp:coreProperties>
</file>