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7B74-1EFF-4B07-BCFA-5490C6B5C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98A0-0475-4069-B3BC-D0C0E1B0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8A1-29DA-48D5-8B4D-029B1606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CC89-BE2A-4AAD-B640-8B5A0BCD4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6E8-843C-49CA-BDC1-1B1CD9C5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7328-6555-4C8B-9992-E673C1DC0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9C0-EE05-4664-9C34-B3FA7A9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9FBC-DFD2-419A-9DB1-B79AE53C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0D5-96A5-420B-AFE8-206B64F15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CCAE-CF67-4742-AE5E-6401FF99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6F40-8E31-4389-A683-1AF98493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A08-A6F3-41FA-A454-3218E93F7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379800"/>
            <a:ext cx="160020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F9B1C1-85A3-4C3E-9F0D-EA1469138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:IEEE 802.11-00/0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6520" y="647712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Application for HRbSG Technology: Wireless Home Area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879560"/>
          <a:ext cx="7704360" cy="434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879560"/>
                    <a:ext cx="770436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10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PH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54080" y="1677960"/>
          <a:ext cx="7764480" cy="49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4080" y="1677960"/>
                    <a:ext cx="77644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: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84320" y="1914480"/>
          <a:ext cx="7696080" cy="42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4320" y="1914480"/>
                    <a:ext cx="7696080" cy="42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ingle, fat wireless pipe to service home connectivity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nd all gateway, computing, CE, and telephony devices share the pipe in har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robust, full featured and 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coexist with legacy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reless connectivity needs to be in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Pres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nect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5423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1523520"/>
            <a:ext cx="7589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r devices are now communicating with each other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Gateways to P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tainment Gateways to Set Top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PCs and periph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lectronics to TVs, VCRs and ST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Entertainment Units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d connections: USB, 1394, Ethernet, Analo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handycam0rmtr" descr=""/>
          <p:cNvPicPr/>
          <p:nvPr/>
        </p:nvPicPr>
        <p:blipFill>
          <a:blip r:embed="rId1"/>
          <a:stretch/>
        </p:blipFill>
        <p:spPr>
          <a:xfrm>
            <a:off x="3460680" y="5370480"/>
            <a:ext cx="1873440" cy="1106640"/>
          </a:xfrm>
          <a:prstGeom prst="rect">
            <a:avLst/>
          </a:prstGeom>
          <a:ln w="0">
            <a:noFill/>
          </a:ln>
        </p:spPr>
      </p:pic>
      <p:pic>
        <p:nvPicPr>
          <p:cNvPr id="51" name="laptop" descr=""/>
          <p:cNvPicPr/>
          <p:nvPr/>
        </p:nvPicPr>
        <p:blipFill>
          <a:blip r:embed="rId2"/>
          <a:stretch/>
        </p:blipFill>
        <p:spPr>
          <a:xfrm>
            <a:off x="76320" y="2362320"/>
            <a:ext cx="1434960" cy="1093680"/>
          </a:xfrm>
          <a:prstGeom prst="rect">
            <a:avLst/>
          </a:prstGeom>
          <a:ln w="0">
            <a:noFill/>
          </a:ln>
        </p:spPr>
      </p:pic>
      <p:pic>
        <p:nvPicPr>
          <p:cNvPr id="52" name="palm%20pilot" descr=""/>
          <p:cNvPicPr/>
          <p:nvPr/>
        </p:nvPicPr>
        <p:blipFill>
          <a:blip r:embed="rId3"/>
          <a:stretch/>
        </p:blipFill>
        <p:spPr>
          <a:xfrm>
            <a:off x="7199280" y="2057400"/>
            <a:ext cx="649440" cy="101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ions of the Fu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irelessly Networked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umer Device Connectivity Tom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and will communicate wireles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connection c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devices can be 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an talk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single network 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le, scalable and full featu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ces rema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wireless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477120" y="1599480"/>
            <a:ext cx="1981080" cy="1010520"/>
            <a:chOff x="6477120" y="1599480"/>
            <a:chExt cx="1981080" cy="1010520"/>
          </a:xfrm>
        </p:grpSpPr>
        <p:sp>
          <p:nvSpPr>
            <p:cNvPr id="58" name=""/>
            <p:cNvSpPr/>
            <p:nvPr/>
          </p:nvSpPr>
          <p:spPr>
            <a:xfrm>
              <a:off x="6772320" y="15994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DCT-2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DCT%202000%20w%20Remote" descr=""/>
            <p:cNvPicPr/>
            <p:nvPr/>
          </p:nvPicPr>
          <p:blipFill>
            <a:blip r:embed="rId1"/>
            <a:stretch/>
          </p:blipFill>
          <p:spPr>
            <a:xfrm>
              <a:off x="6477120" y="1925640"/>
              <a:ext cx="1981080" cy="684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KODAK%20CAMERA%20TEST" descr=""/>
          <p:cNvPicPr/>
          <p:nvPr/>
        </p:nvPicPr>
        <p:blipFill>
          <a:blip r:embed="rId2"/>
          <a:stretch/>
        </p:blipFill>
        <p:spPr>
          <a:xfrm>
            <a:off x="6858000" y="5208480"/>
            <a:ext cx="1152360" cy="96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7302600" y="3048120"/>
            <a:ext cx="1460520" cy="130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37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Wirelessly Home Area Network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589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the wireless interconnection of electronic devices within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nd high speed through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ime and non-real ti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prioritization and guaranteed bandwidth, la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imultaneous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coexistence, interoperability, coordination between all hom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xist and interoperate with “visiting” or legacy devices designed to other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Network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5898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0000"/>
          </a:bodyPr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mitigates the Train Wr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1b WLANs will enter the home this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.3  multimedia apps target the 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fore wireless VOIP phon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ve Bluetooth, HomeRF, 2.4 GHz cordless phone interfe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is the logical extens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device coexist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rable device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add much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Application Id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Wireless Network Coordinator” (WNC), acts as a home radio spectrum traffic c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controls transmissions from all 802.11b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02.15.3 devices in the home, assigning priorities and allocating bandwidth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s associate and communicate directly wit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ing may occur at data rates exceeding 40 Mbps, providing multiple simultaneous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bSG rate scales down to 802.11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NC is an 802.11 point coordin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686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697040"/>
          <a:ext cx="7704000" cy="418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97040"/>
                    <a:ext cx="7704000" cy="41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rlos Rios, 3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05:17:09Z</dcterms:created>
  <dc:creator>Jim Zyren</dc:creator>
  <dc:description>073r0</dc:description>
  <dc:language>en-US</dc:language>
  <cp:lastModifiedBy>Harry R. Worstell</cp:lastModifiedBy>
  <cp:lastPrinted>1998-02-10T13:28:06Z</cp:lastPrinted>
  <dcterms:modified xsi:type="dcterms:W3CDTF">2000-05-08T19:04:06Z</dcterms:modified>
  <cp:revision>15</cp:revision>
  <dc:subject>IEEE 802.15 Tutorial</dc:subject>
  <dc:title>Reliability of IEEE 802.11 WLANs in Presence of Bluetooth Radios</dc:title>
</cp:coreProperties>
</file>