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141E2A-7224-4193-A059-7DD2A22CD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AB4A88B-C8E7-4442-BBB3-21FCB7E21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492263-CDA1-4870-BC7C-2AE6CB259D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9D5D02-AF77-4F2B-8F21-BC6A9C58B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CEB4809-DFF7-400C-90F8-673F84C23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AF7408-CCBA-45ED-A0FE-C86FF7449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B70545-13BA-4EFD-97E2-4FF5306CF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E00B3F-888D-4DCA-BEAA-5909A0609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182-960D-4682-AC28-ABAE0067E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90D-93E5-44F4-9617-630165C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238B-1BFA-41A7-8156-12166C98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D6C-BED4-4643-85BF-B64E1902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BCB-917A-4AB8-AC63-1671F318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9363-CF5F-4497-8868-E89CDB6D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3ABD-15AF-4FF1-A8C5-5932FDB9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213-CBFD-42BD-9344-5BC63EC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EFF-55D1-42F6-AC04-632F6653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CF6A-5EAB-4B36-AAAE-C665EA6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34AC-C0E0-438C-813F-E87F1508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A97-F232-41D2-B4E8-2819BBB8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96A2C9-7388-43F3-ABAB-F2B2938CD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2000/0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IAPP R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Agenda 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&amp; Meeting Re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F516-3263-443B-983A-13CE950F88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000 Pap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/064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Be In An Inter-AP Protocol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/90 IAPP enhancements. Gary Spiess Interme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7694-A89B-45E9-93AB-53125A9338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 for next meeting (July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e Func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344-A5BC-46B4-87C9-C7E2B00BEE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to 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CE3-8665-4EC3-9FCA-B444AFCFC9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y 2000 802.11 F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pe of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level work plan &amp;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&amp;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9A3-DFC3-4DA8-B657-BB76A7E047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PAR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802.11F Proje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velop recommended practices for an Inter-Access Point Protocol (IAPP) which provides the necessary capabilities to achieve multi-vendor Access Point interoperability across a Distribution System supporting IEEE P802.11 Wireless LAN Lin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APP will be developed for the following environment(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istribution System consisting of IEEE 802 LAN components supporting an IETF IP environ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as deemed appropri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B73-B751-48D0-9C99-B9F8F320DD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802.11F Task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3880" y="1981080"/>
            <a:ext cx="6324840" cy="4191120"/>
            <a:chOff x="1523880" y="1981080"/>
            <a:chExt cx="6324840" cy="41911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2209680" y="2209680"/>
              <a:ext cx="487692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523880" y="1981080"/>
              <a:ext cx="6324840" cy="41911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flipH="1">
            <a:off x="4952880" y="1600200"/>
            <a:ext cx="45720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72F-E0FB-42D6-B99D-3BB45E9029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bor Poo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: David Bag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: 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ke Trompower agrees to take role for May mtg at lea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nutes are doc 2000/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305-5A5C-475C-AF9C-5E5A783D06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Mechan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 rules from 802.11 appl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 mtgs to be for work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for coordination, not the only time work is produced – or we’ll never meet schedule go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time between mtgs effectively, email reflect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d for mtgs basically 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ject to some adjustments by Chair for mtg effici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encourage Paper requests before mtgs and that papers be made available ASAP before mtgs so that mtg time can be more interaction than reading papers to an audienc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A9A8-987E-42E1-B228-0604461832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proposal for IP DS per 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DS environments s in parallel / after depending on contributions volunte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Draft RP to support 802.11-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Ballot  &amp; then determine next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 depends on 802.11E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choi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1E on track, update &amp; ballot changes to support 11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1F schedule mismatch, publish then update after 11E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7E0-CE26-4B8C-815D-CE4B3D807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Draft written, review starts – Sept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llots?, nah we can do this in one take – righ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4B8C-D4DE-4E91-9174-F881778875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 would entertain motion to approve top level sched as described thru Jan 200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Duncan Kitc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te: 6, 0, 0 (voting member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bjection from oth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2E0-DB9E-4221-8F02-5B57BDB410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12:22Z</dcterms:created>
  <dc:creator>David Bagby</dc:creator>
  <dc:description/>
  <dc:language>en-US</dc:language>
  <cp:lastModifiedBy>David Bagby</cp:lastModifiedBy>
  <cp:lastPrinted>1998-02-10T13:28:06Z</cp:lastPrinted>
  <dcterms:modified xsi:type="dcterms:W3CDTF">2000-05-09T18:29:46Z</dcterms:modified>
  <cp:revision>15</cp:revision>
  <dc:subject/>
  <dc:title>May 2000 802.11F  IAPP RP TG Agenda</dc:title>
</cp:coreProperties>
</file>