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2B6-27F1-4F4E-B26C-650424A4D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A9FF-5232-4CEE-9533-DCDD820D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4737-E387-43A8-B0C3-3245554F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CBF-2C81-4DCC-8912-AD3DE3D0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89C3-14BB-4EB1-8344-CFA3CEAD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6046-8F89-4B46-BE6C-C5D57A0C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6D1D-D9E8-427E-8FFE-82451370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2F52-CA15-4AAD-B0DD-F7AD24BD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E01-3FC4-47B0-91F3-F3683B0D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D6E4-52E5-4AE4-BF24-3DF15D2B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9AAC-A097-4C44-91C3-47C354A0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CF35-2830-4E21-9F5B-D2C2A04D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Chairman, TG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6CB4083-4D42-4476-9FB7-496A524A4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360" y="6446880"/>
            <a:ext cx="974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2000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ttle, 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CA0-D00D-4DB4-BD53-9248D4E4FBF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BAB4-1C39-4802-B02D-EA3E383FFF6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to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al of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f comments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C370-470A-48D0-A5C9-D2B21565732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Comments Recei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 comments were sub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item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information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tion of hopping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CE9E-1F61-45F8-BDD5-71B225EC25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08D2-72A9-4B8A-840C-8BF06403C3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through the comments in the order they appear in the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e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t updated draft for default WG recirculation ballot (since I believe technical changes will be m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6E24-33EF-40DA-9E23-A6ADBF5295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, 3:30-5:00 (1.5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esday, 8:30-10:00 (1.5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esday, 3:30-5:00 (1.5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rsday, 8:30-10:00 (1.5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: 6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EE6-D455-4665-B293-7B18C02536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Comment Re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FE8B-7CC3-4D42-8D78-8A49AA4CA2C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option of New D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69A4-444C-43C5-8AB8-75EB3DC1BE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n Japanese Regulations and Ro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C9D2-6CF5-46FB-A7A8-19A2833A22B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b O'Hara</dc:creator>
  <dc:description/>
  <dc:language>en-US</dc:language>
  <cp:lastModifiedBy>Harry R. Worstell</cp:lastModifiedBy>
  <dcterms:modified xsi:type="dcterms:W3CDTF">2000-05-10T03:50:25Z</dcterms:modified>
  <cp:revision>10</cp:revision>
  <dc:subject/>
  <dc:title>TGd Agenda, March 2000</dc:title>
</cp:coreProperties>
</file>