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2469-DA4D-4944-AE15-CDB8277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310-2605-41A0-A80E-8722E20A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35B2-8498-445A-9E2E-A567FD7B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E1B-BC1A-4AD4-BF6A-02DDD18E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975-7A54-415C-807A-24CAE1CB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341-65CD-4606-9AF5-6FC2535B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E3B-284A-4494-A0DA-7C2D054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A57C-A844-4E23-9842-FF104735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7C85-3DDB-4943-A5A9-06D56BA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81A-1AF4-4B69-9CA9-F231272D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6E0-7357-41A5-936A-7FE5BB8D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13F-E1B8-4E67-B844-8EDB924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b O’Hara, Chairman, TG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5F18E79-A36C-40F4-875C-C641E15B9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916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d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2000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ttle, 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BD3-7EC2-4B9B-9AEE-F8F263A65C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 of Comment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 resolutions are in 00/111r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mments res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ents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resoluions are different than that suggested by the comm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xt cited in the comment could not be f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AE56-6E54-46FF-B623-8ACBE801DB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 Res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FE8-63FF-4AD6-946E-70D56B53487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option of Draft 1.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dopt 802.11d/D1.8 and forward to the 802.11 WG for a default recirculation ball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Denn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d: P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ly: 11/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B7E-899D-4679-984E-6F0E2E1AB2F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n Japanese Regulations and Roa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C9F-1D90-407C-ACD7-91C90E5C47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DD05-C90A-4EDC-8422-C1D44FD2A86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o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al of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2D95-7226-4B56-8F76-61F5F9C7BE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5D87-BB1D-4CE6-BFD6-5CF16363A2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val of the Min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utes of meeting in Albuquerque, NM (doc 00/05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ved unanim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6145-7239-4A45-9BF5-D2EEF6D3E4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8A4-F415-446E-B00B-381C8FEC93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Comments Recei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mments were submit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item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y informatio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tion of hopping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D683-9871-418C-9616-019777A61D1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D31-6667-41DA-8CE5-F94D8F4303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hrough the comments in the order they appear in the doc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ish 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t updated draft for default WG recirculation ballot (since I believe technical changes will be ma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C04-E704-4D3A-BCDA-CB44A267A6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esday, 3:30-5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rsday, 8:30-10:00 (1.5 h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: 6 hou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F89-D072-4E99-BE0B-843F5847859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Bob O'Hara</cp:lastModifiedBy>
  <dcterms:modified xsi:type="dcterms:W3CDTF">2000-05-09T23:44:18Z</dcterms:modified>
  <cp:revision>9</cp:revision>
  <dc:subject/>
  <dc:title>TGd Agenda, March 2000</dc:title>
</cp:coreProperties>
</file>