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51D-33A6-43B2-8C32-CA0AE7DC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EF2-D8D4-4F65-8F73-81209241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6F9-B4B0-48CF-810F-50F4D479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2384-0291-456E-9B3E-B280C4C05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E23-9B02-4014-AF22-8EBB78C6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3EF-5FC8-4158-B545-5A186AA5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119-C959-4041-8DF2-1D8CA2B6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AEB-1D73-40C2-A7E1-6BCE0331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0ED-4C58-47DD-BC2F-E16A823A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FBB-5044-4425-828C-22FE3088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0B44-2018-4992-8F2C-92AD42DD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D4DC-81F1-4547-9B67-FEC72129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746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. Banchs, W. Pokorski, M. Radimirsch, N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D5F10CB-7958-4C6E-AE39-74463688F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1360" y="990720"/>
            <a:ext cx="8358120" cy="27000"/>
          </a:xfrm>
          <a:custGeom>
            <a:avLst/>
            <a:gdLst/>
            <a:ahLst/>
            <a:rect l="l" t="t" r="r" b="b"/>
            <a:pathLst>
              <a:path w="5265" h="17">
                <a:moveTo>
                  <a:pt x="10" y="0"/>
                </a:moveTo>
                <a:lnTo>
                  <a:pt x="0" y="2"/>
                </a:lnTo>
                <a:lnTo>
                  <a:pt x="5264" y="16"/>
                </a:lnTo>
              </a:path>
            </a:pathLst>
          </a:custGeom>
          <a:noFill/>
          <a:ln cap="rnd"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838080"/>
            <a:ext cx="8305920" cy="434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99"/>
                </a:solidFill>
                <a:latin typeface="Arial"/>
              </a:rPr>
              <a:t>Wireless MAC Multimedia Extensions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Arial"/>
              </a:rPr>
              <a:t>Albert Banchs, Witold Pokor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cc"/>
                </a:solidFill>
                <a:latin typeface="Arial"/>
              </a:rPr>
              <a:t>NEC Europe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cc"/>
                </a:solidFill>
                <a:latin typeface="Arial"/>
              </a:rPr>
              <a:t>Markus Radimirs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3333cc"/>
                </a:solidFill>
                <a:latin typeface="Arial"/>
              </a:rPr>
              <a:t>University of Han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C95-506E-4095-884F-C3868FFC3C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Assured Service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828800" y="1371600"/>
          <a:ext cx="571500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371600"/>
                    <a:ext cx="57150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90720" y="4952880"/>
            <a:ext cx="761976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ries 1 – simulation results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  CW_Best_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ries 2 – analytical model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iority = 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W_Assured_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AD1A-565B-42A2-B140-53B35D23EC2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Assured Service Bandwidth (in k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47920" y="1676520"/>
          <a:ext cx="6705360" cy="398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6705360" cy="39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6A6-F0F9-47A7-AC28-A8F7EF144CA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Total throughput (in k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057400" y="1752480"/>
          <a:ext cx="541008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54100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4871-26F6-469D-BADA-41D96E4C34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Protocol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5400" y="3575160"/>
            <a:ext cx="694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18360" y="3665520"/>
            <a:ext cx="5414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84240" y="3029040"/>
            <a:ext cx="733320" cy="546120"/>
          </a:xfrm>
          <a:custGeom>
            <a:avLst/>
            <a:gdLst>
              <a:gd name="textAreaLeft" fmla="*/ 0 w 733320"/>
              <a:gd name="textAreaRight" fmla="*/ 514440 w 73332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3657600"/>
            <a:ext cx="9014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. trans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7560" y="3033720"/>
            <a:ext cx="1622520" cy="54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17560" y="2854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17560" y="2854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87560" y="2854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17560" y="2944800"/>
            <a:ext cx="27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27200" y="2673360"/>
            <a:ext cx="450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7560" y="3033720"/>
            <a:ext cx="541440" cy="54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3124080"/>
            <a:ext cx="10828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bounded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168280" y="3575160"/>
            <a:ext cx="90360" cy="27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47920" y="3962520"/>
            <a:ext cx="18936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bounded service specific contention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1520" y="2583000"/>
            <a:ext cx="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1520" y="2944800"/>
            <a:ext cx="26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90800" y="2673360"/>
            <a:ext cx="451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51160" y="28544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32240" y="2583000"/>
            <a:ext cx="0" cy="10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1520" y="2673360"/>
            <a:ext cx="45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1520" y="2494080"/>
            <a:ext cx="5410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13320" y="34844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92600" y="34844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62240" y="3846600"/>
            <a:ext cx="10828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slots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421880" y="3601080"/>
            <a:ext cx="180720" cy="360360"/>
          </a:xfrm>
          <a:custGeom>
            <a:avLst/>
            <a:gdLst>
              <a:gd name="textAreaLeft" fmla="*/ 115560 w 180720"/>
              <a:gd name="textAreaRight" fmla="*/ 181080 w 180720"/>
              <a:gd name="textAreaTop" fmla="*/ 7920 h 360360"/>
              <a:gd name="textAreaBottom" fmla="*/ 35244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6"/>
                  <a:pt x="10800" y="1571"/>
                </a:cubicBezTo>
                <a:lnTo>
                  <a:pt x="10800" y="9381"/>
                </a:lnTo>
                <a:cubicBezTo>
                  <a:pt x="10800" y="10167"/>
                  <a:pt x="5400" y="10952"/>
                  <a:pt x="0" y="10952"/>
                </a:cubicBezTo>
                <a:cubicBezTo>
                  <a:pt x="5400" y="10952"/>
                  <a:pt x="10800" y="11738"/>
                  <a:pt x="10800" y="12523"/>
                </a:cubicBezTo>
                <a:lnTo>
                  <a:pt x="10800" y="20029"/>
                </a:lnTo>
                <a:cubicBezTo>
                  <a:pt x="10800" y="208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92600" y="3033720"/>
            <a:ext cx="993960" cy="54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54760" y="2583000"/>
            <a:ext cx="0" cy="45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4760" y="294480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5840" y="2673360"/>
            <a:ext cx="450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26200" y="28544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5480" y="2583000"/>
            <a:ext cx="0" cy="10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4760" y="2673360"/>
            <a:ext cx="45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4760" y="2494080"/>
            <a:ext cx="54144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86560" y="34844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67640" y="34844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46920" y="348444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35840" y="3846600"/>
            <a:ext cx="10825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slots I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6585840" y="3510720"/>
            <a:ext cx="180720" cy="541440"/>
          </a:xfrm>
          <a:custGeom>
            <a:avLst/>
            <a:gdLst>
              <a:gd name="textAreaLeft" fmla="*/ 115560 w 180720"/>
              <a:gd name="textAreaRight" fmla="*/ 181080 w 180720"/>
              <a:gd name="textAreaTop" fmla="*/ 12240 h 541440"/>
              <a:gd name="textAreaBottom" fmla="*/ 5292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6"/>
                  <a:pt x="10800" y="1571"/>
                </a:cubicBezTo>
                <a:lnTo>
                  <a:pt x="10800" y="9381"/>
                </a:lnTo>
                <a:cubicBezTo>
                  <a:pt x="10800" y="10167"/>
                  <a:pt x="5400" y="10952"/>
                  <a:pt x="0" y="10952"/>
                </a:cubicBezTo>
                <a:cubicBezTo>
                  <a:pt x="5400" y="10952"/>
                  <a:pt x="10800" y="11738"/>
                  <a:pt x="10800" y="12523"/>
                </a:cubicBezTo>
                <a:lnTo>
                  <a:pt x="10800" y="20029"/>
                </a:lnTo>
                <a:cubicBezTo>
                  <a:pt x="10800" y="2081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6920" y="3033720"/>
            <a:ext cx="992160" cy="541440"/>
          </a:xfrm>
          <a:custGeom>
            <a:avLst/>
            <a:gdLst>
              <a:gd name="textAreaLeft" fmla="*/ 291600 w 992160"/>
              <a:gd name="textAreaRight" fmla="*/ 992520 w 99216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11520" y="4025880"/>
            <a:ext cx="23446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02240" y="3124080"/>
            <a:ext cx="1052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iorit.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6560" y="3124080"/>
            <a:ext cx="117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90800" y="3033720"/>
            <a:ext cx="90720" cy="54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11520" y="294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11520" y="2854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90800" y="2854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11520" y="2944800"/>
            <a:ext cx="1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40080" y="2583000"/>
            <a:ext cx="4507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11520" y="2763720"/>
            <a:ext cx="8892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86240" y="2403360"/>
            <a:ext cx="4507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76760" y="2583000"/>
            <a:ext cx="6984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5840" y="3033720"/>
            <a:ext cx="90360" cy="541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84760" y="294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84760" y="2854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5840" y="285444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84760" y="294480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84760" y="2763720"/>
            <a:ext cx="9072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0920" y="2403360"/>
            <a:ext cx="451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50000" y="2583000"/>
            <a:ext cx="6984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7000" y="2608200"/>
            <a:ext cx="451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6520" y="185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4724280"/>
            <a:ext cx="34290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ations with smaller contention windows win more often and get higher  bandwidth on aver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191120" y="4114440"/>
            <a:ext cx="2286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419076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2668-6FB8-4C72-8798-033F7E619E9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Rema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828800"/>
            <a:ext cx="830556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) The proposed architecture makes the following configurations possib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mium Service + Assured Service + Best Eff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ured Service + Best Effort: in this case we avoid redefining P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mium Service + Best Effort: DCF is used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 Effort: no changes at all to existing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) The most logical place to do the admission control is probably at the Access Point (as suggested by Microso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E24-48C7-4617-80E5-6D500520DE2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1600200"/>
            <a:ext cx="8229600" cy="44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cheme is simple and requires only small changes to the existing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a distributed scheme, therefore simple MAC internal scheduling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probably be implemented into existing products, i.e. the effort for new product development is very 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can interoperate with the standard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distinguishes between two different classes of service: delay critical and bandwidth critic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provides soft QoS guarantees which is compatible to the scheme used in the backbo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B24-425F-4392-87F6-34B6D6A5745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IEEE 802.11 MAC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990720"/>
            <a:ext cx="845820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laying ide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meet the QoS requirements of the different traffic types: VoIP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media, elastic traffic,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goa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provide a simple and efficient solution with full backward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provide an easy migration path from existing 802.11 prod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sed solu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provide a new scheduling with little changes to the existing MAC protocol. This new scheduling, combined with admission control, will provide the QoS needed by the different traffic ty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236-B81C-4D64-94DA-52B1CF26F2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Types of traffic and their Q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143000"/>
            <a:ext cx="84582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distinguish two general types of QoS-demanding traff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ing immediate delivery of  the present packets (within some maximal burst size lim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ing specific 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3126-EA3F-43FE-ACEC-42A2CF5B036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Classes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5486400"/>
            <a:ext cx="83059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hat these traffic classes are like the ones identified in the Differentiated Service WG of the IETF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143000"/>
            <a:ext cx="830592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fore three classes of service should be present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mium Servi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233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w delay and low jitter guarant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ured Servi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233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ndwidth guarant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st effo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23328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sent type of service</a:t>
            </a:r>
            <a:r>
              <a:rPr b="0" lang="en-GB" sz="1800" spc="-1" strike="noStrike">
                <a:solidFill>
                  <a:srgbClr val="ff33cc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FBB-158F-4D19-A168-8AE3E28F80D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Classes of Service (detail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371600"/>
            <a:ext cx="8458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066680"/>
            <a:ext cx="8229600" cy="53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mium Servi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ever there is a packet belonging to the Premium Service, it is transmitted before any packet belonging to another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there are several Premium Service packets, preferably the FIFO rule is appl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 control is needed in order to make sure that the Premium Service traffic does not exceed some upper lim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ured Servic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average bandwidth is guarant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no guarantee on delay (though, on average it is expected to be lower than for the best effort packe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 control is needed in order to avoid blocking of Assure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E98-6340-408E-B373-466594DEA2D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Premium Service Schedu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838080"/>
            <a:ext cx="830592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nnel access of Premium Service packe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ne after the PIF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preventing any other traffic from using the channel 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mediately after the PIF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fic contention resolution needs to take place in order to allow multiple terminals to use Premium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didate contention resolution schem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Burst (Luc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nential Backoff as in DCF (probably with smaller CWs due to lower numbers of competing st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PERLAN Type I Schem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Elimination-Yield Non-Preemptive Multiple Acces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Y-NPMA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packets are transmitted according to their lifetime; good way to achieve FIF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EB8-CC2F-4B43-ADCF-414FCC58F58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Assured Service Scheduling in W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523880"/>
            <a:ext cx="8229600" cy="37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of existing DCF mechanism with only small modifications consisting of different contention windows for different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decreasing the contention windows for high priority services (or increasing for low priority ones) we can adjust the bandwidth available for a given stream according to specific needs. The new CWs can be calculated either statically by some Admission Controller or adjusted by each station dynamic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21096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ission control is needed in order to guarantee that no stations is flooding the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E38-478D-4A80-8E05-FA69960EDC3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CW de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676520"/>
            <a:ext cx="830556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indent="-2113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want to adjust the CW of stations having Assured Service traffic, in order to achieve the required 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9520" indent="-21132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are currently investigating two method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2332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ZapfDingbat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ic, where the admission controller is aware of the requirements of all the stations and calculates the necessary CW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7680" indent="-2332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ZapfDingbat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namic, where each station monitors the traffic and adjusts its Contention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7DA3-05AF-4E38-8197-8181CDCB602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99"/>
                </a:solidFill>
                <a:latin typeface="Times New Roman"/>
              </a:rPr>
              <a:t>Simulation and analytica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1371600"/>
            <a:ext cx="8001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e use NS-2 to simulate the following setu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stations transmitting Assured Service traffic and 16 stations transmitting Best Effort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ch station has always a packet to trans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hange the CWs in order to obtain the desired bandwidth for the Assured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4952880"/>
            <a:ext cx="8153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e look 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ndwidth available for each of the Assured Service 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tal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3962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e compare the results with an analytical model where we assume a geometric distribution for the backoff tim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1B7-6F95-4391-8818-C06389139B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Dr Witold Pokorski</dc:creator>
  <dc:description/>
  <dc:language>en-US</dc:language>
  <cp:lastModifiedBy>Harry R. Worstell</cp:lastModifiedBy>
  <cp:lastPrinted>1998-02-10T13:28:06Z</cp:lastPrinted>
  <dcterms:modified xsi:type="dcterms:W3CDTF">2000-05-08T20:19:07Z</dcterms:modified>
  <cp:revision>42</cp:revision>
  <dc:subject/>
  <dc:title>No Slide Title</dc:title>
</cp:coreProperties>
</file>