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0424-4A42-432E-862B-CF0D2558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026D-B1DF-47F7-9E06-3237C976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AFC6-B797-4F85-87BB-CDCDBB1C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D35-701B-4687-9925-C4FFA954A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881-19B6-43CB-A169-755CA970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DB7-DE81-4E38-8C3B-7ABCD5F3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D10-8D8F-4E62-950B-377E96AA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6DBF-057F-4FA9-BF14-47C1837F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0E6E-B0C3-4717-93E5-F8F580D9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915-ABD8-426A-992D-0012C9CE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F0C-E329-4EA1-AB12-A5363882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D339-80C4-43BB-B5EF-91BB735F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6CF4BD-7D89-4290-B5AB-68AA98843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Petition to FCC (Nov.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request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203-9106-4614-8F8E-6DDEC84C875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99-231 (June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Propose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A1D-EC7F-4BCA-8C80-10CE6EFEA1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 for Public Comment (closed 10/4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Comments (closed 11/19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parte Comments (ongo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mandatory hop rat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 hopping increases interference to othe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channel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pping channels increases FHSS collision rate and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545-DEB5-4F71-9EF0-875A8D85C1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 Compromise (March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3DC1-57E5-493A-B89D-E5F098CC7F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on-overlapping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Hz minimum hop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W pow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ntenna gain is at least 1.5 - 2 dB (maybe m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100 mW EI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FCC ruling in 915 MHz proc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SS power was reduced in proportion to square of reduction in minimum number of ho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7DA-D575-4EF8-82F4-1EF38EEEB8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 -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inimum coverag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use minimum of 20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pectral cover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0 x channel 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inimum channel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Bluetooth radios could qualify under WBFH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HSS and DSSS radios would not be required to col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*** MAJOR IMPLICATIONS FOR IEEE 802.15 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Receiv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M receivers highly susceptible to A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minimum ACI requirements for WBFH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channels drives need for reasonable ACI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E13-F18F-4607-8DCE-8B78352318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draft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 is sent to Commissioners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can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)  Ap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)  Send it back down to OET for furth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is at or very near completion of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could go to Commissioners within a few days, or at most, a few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usually take 4 - 6 weeks to ap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T draft probably in late stages of Commissioner’s review by July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29D-69B3-4BDB-A073-E90D68D803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37:59Z</dcterms:created>
  <dc:creator>vichayes</dc:creator>
  <dc:description/>
  <dc:language>en-US</dc:language>
  <cp:lastModifiedBy>vichayes</cp:lastModifiedBy>
  <cp:lastPrinted>1998-02-10T13:28:06Z</cp:lastPrinted>
  <dcterms:modified xsi:type="dcterms:W3CDTF">2000-05-09T12:56:09Z</dcterms:modified>
  <cp:revision>3</cp:revision>
  <dc:subject/>
  <dc:title>Regulatory Update</dc:title>
</cp:coreProperties>
</file>