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4E2-2FF1-493D-BF19-7FAE38E5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04D-2657-47CC-ADC4-ABC557C4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28E-CD69-4ECF-8757-736CE1A5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A68-A1B2-4AF4-BA1F-CF4E1CCC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947-67E3-44C3-9331-11D4D008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F61-A607-4232-B9C2-8B11B4FF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990-1DFF-4685-BEE5-B84ED668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8FF-BA8C-4A4B-BF5E-294C31B8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951-2F85-422F-87F6-50940A4C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7F4-6424-495E-BBBC-00C38AB2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E43-7E33-4455-9C56-D64BECF0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E73-ABFE-435F-A9E1-E24BAC70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794230-42BF-4CAE-9BC6-61B79AB5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39200" y="396000"/>
            <a:ext cx="262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5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request for rule interpretation/waiver to FCC (Nov.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requests 3 MHz and 5 MHz FHSS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623B-C627-47DB-BA1D-6E2F6837BE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99-231 (June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Proposes 3 MHz and 5 MHz FHSS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233-9ADD-4D38-AAE4-03D92378A0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 for Public Comment (closed 10/4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y Comments (closed 11/19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parte Comments (ongo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mandatory hop rat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er hopping increases interference to othe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 channels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apping channels increases FHSS collision rate and 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8DE-C913-4D48-99A2-AD3AE034F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 Compromise (March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 (min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overla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span &gt;75 MHz total 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 (min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overla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span &gt;75 MHz total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9486-CFD6-4FF5-98AA-49225869D9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CA Compromise (4/10/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on-overlapping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ETS 300 3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Hz minimum/100Hz max hop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mW pow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antenna gain is at least 1.5 - 2 dB (maybe m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ly 100 mW EI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ETS 300 3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FCC ruling in 915 MHz proc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HSS power was reduced in proportion to square of reduction in minimum number of ho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52B-1506-42CE-8C4F-9B6A02F328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CA Compromise (4/10/00) - cont’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inimum coverage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use minimum of 20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pectral cover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0 x channel 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inimum channel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Bluetooth radios could qualify under WBFH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HSS and DSSS radios would not be required to col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*** MAJOR IMPLICATIONS FOR IEEE 802.15 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Receiv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M receivers highly susceptible to A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minimum ACI requirements for WBFH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channels drives need for reasonable ACI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EDC-A9A5-4495-B230-58286375E6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ET drafts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ation is sent to Commissioners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ers can ei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)  Ap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)  Send it back down to OET for furth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ET is at or very near completion of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could go to Commissioners within a few days, or at most, a few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ers usually take 4 - 6 weeks to ap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ET draft probably in late stages of Commissioner’s review by July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CB35-E2FB-462E-B0E0-449ADCCA24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37:59Z</dcterms:created>
  <dc:creator>vichayes</dc:creator>
  <dc:description/>
  <dc:language>en-US</dc:language>
  <cp:lastModifiedBy>vichayes</cp:lastModifiedBy>
  <cp:lastPrinted>1998-02-10T13:28:06Z</cp:lastPrinted>
  <dcterms:modified xsi:type="dcterms:W3CDTF">2000-05-17T07:42:54Z</dcterms:modified>
  <cp:revision>7</cp:revision>
  <dc:subject/>
  <dc:title>Regulatory Update</dc:title>
</cp:coreProperties>
</file>