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D34-6767-4AEB-ABAF-E764FB14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13ED-5E79-4717-9ED7-C2D31AC2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8A1-940D-4415-A9D1-A99BD5568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5BE-3E4A-4D70-B6FD-EDC97ECF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FB3-E7AB-4B17-97C0-5B972566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ED5-B112-4301-9C1D-BB0C7B3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834-CDCF-4ABD-97A7-F8E463C1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81E-B6B7-49F5-8AFD-2F4F1CD9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D18B-E5BA-49D8-B6A3-D0557A37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109-647C-4FE4-9781-21428B5A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F96A-7023-4B94-85D0-6A8E85F9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5167-5309-4094-B83D-14C93EBB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E82D9A4-08F0-4471-A408-6EDCD71A0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59040" y="396000"/>
            <a:ext cx="300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6-Draf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65358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's response to the Strawman propo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1E2-023A-4FE9-846A-71EAE578082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data rates require a large signal margin and this in turn limits the tolerance for interference – including interference from the sam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he re-use factor for the 54 Mb/s mode range is 67 – which means that 67 channels are needed to achieve the full 54 Mb/s on each channel in an arbitrarily lar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are fewer channels the interference among channels will be larger and the maximum data rate can not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7F96-C664-4FD9-ACB7-51CAE75C6A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a large number of channels is needed to assure adequate capacity in high densit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18 channels are about enough for most situations but we are at the cusp of the performance curve and further reduction will result in unacceptable performance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s have always been positioned as user owned and operated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D46-161C-43A6-A2FC-37824FBBFC0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nd partitioning is per definition wasteful  - notably in short range systems like wireless LANs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many cases, the “licensed“ spectrum would go unused even though there is an operator in sigh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places where an operator may want to provide services is not necessarily one where the private use is very dense. So, partitioning for these reasons leads to unused spec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F43E-E2B0-43DD-86F7-6E086CCC172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ternative to licensed servi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better way may be found to give service providers some priority to use certain channels – eg. by allowing them not to employ DFS (whereas user owned and operated systems would be required to employ DF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42B-8F8C-4596-8994-2C47403A55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llocate the entire band 5570-5725 MHz to licensed exemp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onsider to exempt service providers from the requirement to use DFS for certain channel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4D5-A82A-44D2-BCDD-AF0BE29C1A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urrent allocation of the 5150-5250 MHz only for ”HIPERLAN/2 and IEEE 802.11a”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360-267E-43F2-B512-33652910BA8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(2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locate the entire band 5570-5725 MHz to licensed exem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nsider to e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xemp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rvice providers from the requirement to use DF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 certain channel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E3D-5B1A-48DF-9A22-82D17A82C78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Band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1959120"/>
          <a:ext cx="8153640" cy="302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59120"/>
                    <a:ext cx="815364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3B37-7CEB-437F-988E-187889B689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MHz Spectrum available for 8 + 2 years…. un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e Strawman allocates 100 MHz uniquely to HIPERLAN/1 for anothe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hat usage? Search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nouncement for a product in Apri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duc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ebsite: HIPERLAN/1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a single meeting in May 19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036-95DA-49B1-9A89-7A16D0F119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trum is not used for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92 Spectrum was assigned for HIPERLAN (Recommendation T/R 22-06, Madrid 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ndard was published October 1996 as ETS 300 6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s available for about 4 years, no products are availabl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87C-BFA9-4C25-86C5-F0C9696E5A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products o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il 1999 one company announced HIPERLAN/1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ate there is still no product actu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a single page website with HIPERLAN1 as title. No products men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ally required to reserve 100 MHz of spectrum for another 2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CE62-3B5D-482C-87F8-C59E85FA05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 for 5150-5250 MHz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HIPERLAN Type 1 support is a continued under-utilization of spectru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2.11 supports addition of 802.11a and HIPERLAN type 2, but to remove HIPERLAN type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F7B-A98E-45DF-832A-0ED20AEDDF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D3B6-E247-4A3C-B5CD-5243334D01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to discontinue HIPERLAN/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IEEE 802.11 provi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 of the spectrum is under some level of control to protect against interference from non-high-data-rate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could be done by limiting the use to devices conforming to recognised standards, with a clear scope of high data rates such as HIPERLAN/2, 802.11, and so 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955-65E8-43B5-9DEE-23CB8A49EF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urrent allocation of the 5150-5250 MHz only for ”HIPERLAN/2 and IEEE 802.11a”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3A0-22EF-4694-B8FA-65217800003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censed Spectru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conside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need for 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in the 455 MHz allocated to HIPERLAN/2 and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al of the spectrum from the license exempt use will result in unacceptable performance and thus capacity de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the 455 MHz does include spectrum used by rad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ical wideband radar used more than 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PERACCESS is a typical licensed band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been moved outside the 5 GHz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C471-C01C-44BD-AE0A-A2240DF3EC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44:57Z</dcterms:created>
  <dc:creator>vichayes</dc:creator>
  <dc:description/>
  <dc:language>en-US</dc:language>
  <cp:lastModifiedBy>vichayes</cp:lastModifiedBy>
  <cp:lastPrinted>1998-02-10T13:28:06Z</cp:lastPrinted>
  <dcterms:modified xsi:type="dcterms:W3CDTF">2000-05-11T20:46:00Z</dcterms:modified>
  <cp:revision>3</cp:revision>
  <dc:subject/>
  <dc:title>IEEE 802.11's response to the Strawman proposal</dc:title>
</cp:coreProperties>
</file>