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56D-A4A3-4925-8CD8-90118495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CDE-B01C-4B5A-BD5F-172B92A6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4C8-3D9F-48F3-A498-8EA441C4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806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FF4-2520-43DE-93A5-764E0E92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FDA-EB88-4890-8987-64243B9F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65D-8896-4813-8235-88BCD2AB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598-0042-4462-B228-C0CF564C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AC0A-5833-4AE4-8A99-042218E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4CF5-3DCC-4523-8B40-8A7E0D49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D8EE-36A4-409D-B43B-C629440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806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88A-5E78-4F9B-B949-AFEB09F4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806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150-E573-4F6E-A859-85B1B3C3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7B9358F-04AB-41A4-84F0-F8A2FB6AD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59040" y="396000"/>
            <a:ext cx="3007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6-Draf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71600" y="6535800"/>
            <a:ext cx="426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onse to the UK-RA Strawman proposal for the use of RLANs in the 5 GHz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7880" y="3124080"/>
            <a:ext cx="862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IEEE 802.1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Loc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IEEE 802.1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s Working Group for Wireless Personal Area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by Vic Hayes, Ombudsman for Regulatory affairs of IEEE 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F504-45EF-423F-B2D3-F78BE45C2935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censed Spectru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considerata of the Strawman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the need for licensed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NOT in the 455 MHz allocated to HIPERLAN/2 and 802.11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moval of the spectrum from the license exempt use will result in unacceptable performance and thus capacity degr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te that the 455 MHz does include spectrum used by rada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typical wideband radar uses more than 1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PERACCESS is a typical licensed band application which has been moved outside the 5 GHz ran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7342-3F05-4240-BD5B-F7C66BCC973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 data rates require a large signal margin and this in turn limits the tolerance for interference – including interference from the sam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the re-use factor for the 54 Mb/s mode range is 67 – which means that 67 channels are needed to achieve the full 54 Mb/s on each channel in an arbitrarily larg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are fewer channels the interference among channels will be larger and the maximum data rate can not be achie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D4F-23F8-4724-865B-D9E0B07E91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a large number of channels is needed to assure adequate capacity in high densit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18 channels are about enough for most situations but we are at the cusp of the performance curve and further reduction will result in unacceptable performanc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PERLANs have always been positione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user owned and consequently operated i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cense exempt spectru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9B27-631E-4F4A-893B-D06D571629E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erve spectrum for license exemp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band partitioning is per definition wasteful  - notably in short range systems like wireless LANs:</a:t>
            </a: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in many cases, the “licensed“ spectrum would go unused even though there is an operator in place but have no customer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places where an operator may want to provide services is not necessarily one where the private use is very dense. So, partitioning for these reasons leads to unused spectru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2CD-CE23-4D48-BC3A-94514B3C6E7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Times New Roman"/>
              </a:rPr>
              <a:t>Alternative to licensed servic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A better way may be found to give service providers some priority to use certain channels – for instance by allowing them NOT to employ DFS (whereas user owned and operated systems would be required to employ DF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441-4A8B-4CE7-94EF-77DB537C17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Times New Roman"/>
              </a:rPr>
              <a:t>Allocate the entire band 5470-5725 MHz to licensed exemp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3C3-374E-4CF8-B412-0BA26FEF065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 removal of “HIPERLAN/1” from the 5150-5250 M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more standards have met certain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Allocate the entire 5470-5725 MHz band to licensed exem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360-294F-4421-8E99-800738C433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ed Band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09480" y="1962000"/>
          <a:ext cx="8096400" cy="344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62000"/>
                    <a:ext cx="809640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5AEB-B674-4785-AB2E-9A5273290B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gratulation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 and IEEE 802.15 applauds the initiative of the UK-RA to change the situation in the 5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an unused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o one which will shortly bring high data rates in the hands of the work force, educational institutes, the traveler and th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ould only be improved by adoption throughout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0821-3160-4A1B-B36A-49CFB2AA8C6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00 MHz Spectrum available for 8 + 2 years…. unu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, the Strawman allocates 100 MHz uniquely to HIPERLAN/1 for another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what usage? Search on the intern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nouncement for a product in April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duct y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ebsite: HIPERLAN/1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idence of a single meeting in May 199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085-149F-477C-9DFA-61BAECAF5C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ctrum is not used for 8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1992 Spectrum was assigned for HIPERLAN (Recommendation T/R 22-06, Madrid 9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tandard was published October 1996 as ETS 300 65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ndard is available for about 4 years, no products are available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CDA-CEC5-48A0-A778-F74FCF1C6D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servations supporting removal of HIPERLAN/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 products on the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ril 1999 one company announced HIPERLAN/1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ate there is still no product actually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a single page website with HIPERLAN/1 as title. No products are men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 it really required to reserve 100 MHz of spectrum for another 2 yea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A59C-ECAC-46CB-9A8E-0A41D8EE5B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 for 5150-5250 MHz b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Times New Roman"/>
              </a:rPr>
              <a:t>Restriction of HIPERLAN Type 1 is a continued under-utilization of spectru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02.11 supports addition of 802.11a and HIPERLAN Type 2 and suggests the removal of HIPERLAN Type 1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D9B-52F0-4044-81C3-956E1342FA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gges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“HIPERLAN/1” from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5D4-6F4D-423B-BEEA-E5BE0ED063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osal to discontinue HIPERLAN/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rom IEEE 802.11 and 802.15 with the proviso that th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e of the spectrum is under some level of control to protect against interference from non-high-data-rate applic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could be done by limiting the use to devices conforming to recognised standards, with a clear scope of high data rates such as HIPERLAN/2 and 802.11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FE7B-2ECC-49EE-88AD-6797BABFEA3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”HIPERLAN/2 and IEEE 802.11a” devices to the allocation of the 5150-5250 M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regular review if new standards have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BAB-C739-45F3-94B9-8232E086EFC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0T18:44:57Z</dcterms:created>
  <dc:creator>vichayes</dc:creator>
  <dc:description/>
  <dc:language>en-US</dc:language>
  <cp:lastModifiedBy>vichayes</cp:lastModifiedBy>
  <cp:lastPrinted>1998-02-10T13:28:06Z</cp:lastPrinted>
  <dcterms:modified xsi:type="dcterms:W3CDTF">2000-05-11T20:44:18Z</dcterms:modified>
  <cp:revision>7</cp:revision>
  <dc:subject/>
  <dc:title>IEEE 802.11's response to the Strawman proposal</dc:title>
</cp:coreProperties>
</file>