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CEB1-7378-43E7-B997-ACCFDCC6B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3C1-F18B-465A-9764-75F1D81F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FAEE-3A39-48CF-BA97-40D52236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E514-B836-425F-B9F9-B5973E10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96CB-857C-4ECB-A077-6E0905DC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8AB-2D8E-4C78-90E6-C4F4FBAA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23A2-470F-4AD6-8028-4ADAB6BA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8BD-908E-47F6-9A6C-BDAA65FA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585B-691A-431D-81FC-F9CE97C6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BE9F-C058-40E0-A92A-1B4A7C20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4B6-0C0B-4CD7-8FE7-D2713581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40B-AD62-43B0-9727-2AF372F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08CF11-A6B6-42C6-9C81-E09FD59C9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59040" y="396000"/>
            <a:ext cx="300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06-Draf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653580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onse to the UK-RA Strawman proposal for the use of RLANs in the 5 GHz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7880" y="3124080"/>
            <a:ext cx="862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IEEE 802.1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Working Group for Wireless Local Are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IEEE 802.1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Working Group for Wireless Personal Are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ed by Vic Hayes, Ombudsman for Regulatory affairs of IEEE 8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A52F-F153-4EF2-A283-267A5055365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censed Spectru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conside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need for licensed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not in the 455 MHz allocated to HIPERLAN/2 and 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oval of the spectrum from the license exempt use will result in unacceptable performance and thus capacity degr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e that the 455 MHz does include spectrum used by rad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ypical wideband radar used more than 1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PERACCESS is a typical licensed band ap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s been moved outside the 5 GHz r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43D-DA18-4925-854F-864DC0CDDA5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data rates require a large signal margin and this in turn limits the tolerance for interference – including interference from the sam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the re-use factor for the 54 Mb/s mode range is 67 – which means that 67 channels are needed to achieve the full 54 Mb/s on each channel in an arbitrarily lar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are fewer channels the interference among channels will be larger and the maximum data rate can not be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DCE5-C46B-494F-8E9F-48D1FF5F81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a large number of channels is needed to assure adequate capacity in high densit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18 channels are about enough for most situations but we are at the cusp of the performance curve and further reduction will result in unacceptable performance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PERLANs have always been position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user owned and operat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CB0-AA09-43EB-BB2D-FE818683FB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and partitioning is per definition wasteful  - notably in short range systems like wireless LANs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 many cases, the “licensed“ spectrum would go unused even though there is an operator in sigh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places where an operator may want to provide services is not necessarily one where the private use is very dense. So, partitioning for these reasons leads to unused spectr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527-76DA-461E-AB58-AAD4B940AE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ternative to licensed servi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better way may be found to give service providers some priority to use certain channels – for instance by allowing them NOT to employ DFS (whereas user owned and operated systems would be required to employ DF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2833-D48E-40F3-9BB8-33290BA18A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llocate the entire band 5470-5725 MHz to licensed exemp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nsider to exempt service providers from the requirement to use DFS for certain channe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9EF-37C9-45AF-9D25-F873A8A5C1D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 removal of “HIPERLAN/1” from the 5150-5250 M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”HIPERLAN/2 and IEEE 802.11a” devices to the allocation of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more standards have met certai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llocate the entire 5470-5725 MHz band to licensed exemp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CDB-2830-4F79-9F02-F706888684E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Band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09480" y="1955880"/>
          <a:ext cx="8089920" cy="345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55880"/>
                    <a:ext cx="8089920" cy="34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5C4C-FC07-4F49-8A93-7AA1334CC4A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gratelutio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 and IEEE 802.15 applauds the initiative of the UK-RA to change the situation in the 5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n unused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one which will shortly bring high data rates in the hands of the work force, educational institutes, the traveler and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ould only be improved by adoption throughout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13B-E75E-4B75-BD74-E8A7B1F6C90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 MHz Spectrum available for 8 + 2 years…. un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, the Strawman allocates 100 MHz uniquely to HIPERLAN/1 for another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what usage? Search on the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nouncement for a product in April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oduct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ebsite: HIPERLAN/1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dence of a single meeting in May 199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8C8-85F7-4948-8935-15F992FCDD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trum is not used for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1992 Spectrum was assigned for HIPERLAN (Recommendation T/R 22-06, Madrid 9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tandard was published October 1996 as ETS 300 65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ndard is available for about 4 years, no products are available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4E5-F2FA-46E7-9E2F-58B64490C1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products on th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ril 1999 one company announced HIPERLAN/1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date there is still no product actual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a single page website with HIPERLAN1 as title. No products men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it really required to reserve 100 MHz of spectrum for another 2 y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667-2029-442B-9BA0-2569E7976A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 for 5150-5250 MHz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IPERLAN Type 1 support is a continued under-utilization of spectru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02.11 supports addition of 802.11a and HIPERLAN type 2, but to remove HIPERLAN type 1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B943-0AC7-42D5-A5E6-EE9936AB56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g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“HIPERLAN/1” from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3BC-F0B2-4F47-AC5B-2BE3BB5D3C8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al to discontinue HIPERLAN/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rom IEEE 802.11 provi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of the spectrum is under some level of control to protect against interference from non-high-data-rate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could be done by limiting the use to devices conforming to recognised standards, with a clear scope of high data rates such as HIPERLAN/2, 802.11, and so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4C91-43F0-41EE-97C6-554493401A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”HIPERLAN/2 and IEEE 802.11a” devices to the allocation of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more standards have met certai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943-3951-4C3F-B5DE-2FA1398EC9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8:44:57Z</dcterms:created>
  <dc:creator>vichayes</dc:creator>
  <dc:description/>
  <dc:language>en-US</dc:language>
  <cp:lastModifiedBy>vichayes</cp:lastModifiedBy>
  <cp:lastPrinted>1998-02-10T13:28:06Z</cp:lastPrinted>
  <dcterms:modified xsi:type="dcterms:W3CDTF">2000-05-11T20:45:33Z</dcterms:modified>
  <cp:revision>4</cp:revision>
  <dc:subject/>
  <dc:title>IEEE 802.11's response to the Strawman proposal</dc:title>
</cp:coreProperties>
</file>