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813D-F3D3-4125-B075-DC7CC3AFE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193A-68F9-4B68-92C3-616E069C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D724-9AC5-4A73-989F-F88B5CC28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2195-AE0E-4C42-8EC2-34D0EFD97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2086-DB9B-4570-93D1-70412921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6C86-11DA-4426-8D2C-3AC49E56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FFAD-B5E0-46DE-9889-44C205E5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CC05-D69C-4CF9-94D4-521613D6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2482-21FD-45BD-AA1F-AC699353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30D3-EB6B-4CF2-AED6-5D82EABF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F140-8DD5-454E-B14A-701ADB94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9F83-FE57-4254-94B5-AF21FE4F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3BC2E99-0679-44C7-80C9-2F53D9646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QoS Support in 802.11: </a:t>
            </a:r>
            <a:br>
              <a:rPr sz="3600"/>
            </a:b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Contention-Free MAC Persp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unghyun Ch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hilips Research-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Briarcliff Manor, New Y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2EEA-4242-4E33-9E3C-C1A90F7F468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Protecting QoS-Enabled B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ping BSS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-free access not guaranteed any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Features of .11e 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ing overlapping BS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ing contention from overlapped BS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102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s among 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10240">
              <a:lnSpc>
                <a:spcPct val="11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TS/CTS during C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ing contention from overlapped BS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102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control &amp; packet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9CE7-2874-41DE-8103-3471CE269D9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456080" y="4551480"/>
            <a:ext cx="1085760" cy="463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56080" y="4395960"/>
            <a:ext cx="155520" cy="155520"/>
          </a:xfrm>
          <a:prstGeom prst="ellipse">
            <a:avLst/>
          </a:prstGeom>
          <a:solidFill>
            <a:srgbClr val="ffffcc"/>
          </a:solidFill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370320" y="3314880"/>
            <a:ext cx="2327040" cy="2317680"/>
          </a:xfrm>
          <a:prstGeom prst="ellipse">
            <a:avLst/>
          </a:prstGeom>
          <a:solidFill>
            <a:srgbClr val="ffffcc"/>
          </a:solidFill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Example: Overlapping BS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,1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hear A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o beacon he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25840" y="3933720"/>
            <a:ext cx="7761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25840" y="4241880"/>
            <a:ext cx="154080" cy="1555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438280" y="3160800"/>
            <a:ext cx="2328840" cy="231768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88120" y="3933720"/>
            <a:ext cx="7761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88120" y="4241880"/>
            <a:ext cx="153720" cy="155520"/>
          </a:xfrm>
          <a:prstGeom prst="ellipse">
            <a:avLst/>
          </a:prstGeom>
          <a:solidFill>
            <a:srgbClr val="33cccc"/>
          </a:solidFill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00560" y="3160800"/>
            <a:ext cx="2328840" cy="2317680"/>
          </a:xfrm>
          <a:prstGeom prst="ellipse">
            <a:avLst/>
          </a:prstGeom>
          <a:noFill/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90960" y="3468600"/>
            <a:ext cx="10875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02000" y="3932280"/>
            <a:ext cx="154080" cy="155520"/>
          </a:xfrm>
          <a:prstGeom prst="ellipse">
            <a:avLst/>
          </a:prstGeom>
          <a:solidFill>
            <a:srgbClr val="339966"/>
          </a:soli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14800" y="2851200"/>
            <a:ext cx="2328840" cy="2317680"/>
          </a:xfrm>
          <a:prstGeom prst="ellipse">
            <a:avLst/>
          </a:prstGeom>
          <a:noFill/>
          <a:ln w="1908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35440" y="5014800"/>
            <a:ext cx="1241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90960" y="4859280"/>
            <a:ext cx="154080" cy="15552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03400" y="3778200"/>
            <a:ext cx="2328840" cy="2317680"/>
          </a:xfrm>
          <a:prstGeom prst="ellipse">
            <a:avLst/>
          </a:prstGeom>
          <a:noFill/>
          <a:ln w="1908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19720" y="4370400"/>
            <a:ext cx="153720" cy="1573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0" y="4527720"/>
            <a:ext cx="108432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5FCA-D321-48D0-9D1F-4058BC06344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913200" y="3517920"/>
            <a:ext cx="2322360" cy="2346480"/>
          </a:xfrm>
          <a:prstGeom prst="ellipse">
            <a:avLst/>
          </a:prstGeom>
          <a:solidFill>
            <a:srgbClr val="ffffcc"/>
          </a:solidFill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Example2: Overlapping BS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,1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hear A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o beacon not he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94000" y="3986280"/>
            <a:ext cx="773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94000" y="4299120"/>
            <a:ext cx="154080" cy="155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09680" y="3203640"/>
            <a:ext cx="2322720" cy="234612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72240" y="3986280"/>
            <a:ext cx="772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72240" y="4299120"/>
            <a:ext cx="153720" cy="155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87920" y="3203640"/>
            <a:ext cx="2322360" cy="2346120"/>
          </a:xfrm>
          <a:prstGeom prst="ellipse">
            <a:avLst/>
          </a:prstGeom>
          <a:noFill/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056120" y="3867120"/>
            <a:ext cx="10843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22800" y="4141800"/>
            <a:ext cx="155520" cy="1573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38480" y="3048120"/>
            <a:ext cx="2324160" cy="2346120"/>
          </a:xfrm>
          <a:prstGeom prst="ellipse">
            <a:avLst/>
          </a:prstGeom>
          <a:noFill/>
          <a:ln w="1908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13200" y="4925880"/>
            <a:ext cx="1238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68720" y="4768920"/>
            <a:ext cx="154080" cy="156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84400" y="3673440"/>
            <a:ext cx="2322720" cy="2346480"/>
          </a:xfrm>
          <a:prstGeom prst="ellipse">
            <a:avLst/>
          </a:prstGeom>
          <a:noFill/>
          <a:ln w="1908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97520" y="4768920"/>
            <a:ext cx="10843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97520" y="4611600"/>
            <a:ext cx="154080" cy="1573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A7CD-7282-4ABD-838A-9D7B9662E68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RTS/CTS during CF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from AP to 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86000" y="3535200"/>
            <a:ext cx="6843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86000" y="4356000"/>
            <a:ext cx="6843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343240" y="3124080"/>
            <a:ext cx="685800" cy="411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78080" y="3944880"/>
            <a:ext cx="684360" cy="411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038480" y="3124080"/>
            <a:ext cx="3148200" cy="411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 to ST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86000" y="5176800"/>
            <a:ext cx="6843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86200" y="4903920"/>
            <a:ext cx="0" cy="272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3124080"/>
            <a:ext cx="684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944880"/>
            <a:ext cx="9590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38080" y="4765680"/>
            <a:ext cx="9590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86200" y="4629240"/>
            <a:ext cx="205272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t up the NA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8679-BC6F-4275-B8E1-3AEC4B6C1F4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RTS/CTS during CFP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from STA to STA per being po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86200" y="5308560"/>
            <a:ext cx="2095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t up the NA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320840" y="3354480"/>
            <a:ext cx="6985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320840" y="4192560"/>
            <a:ext cx="6985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98600" y="2935440"/>
            <a:ext cx="69876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11480" y="3773520"/>
            <a:ext cx="69840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88000" y="3773520"/>
            <a:ext cx="321300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 to ST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86200" y="5587920"/>
            <a:ext cx="0" cy="279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2120" y="2935440"/>
            <a:ext cx="6984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3773520"/>
            <a:ext cx="9777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2120" y="4610160"/>
            <a:ext cx="9777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20840" y="5029200"/>
            <a:ext cx="6985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20840" y="5867280"/>
            <a:ext cx="6985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2120" y="5448240"/>
            <a:ext cx="9777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49560" y="4610160"/>
            <a:ext cx="698760" cy="419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1CEB-8CEA-4D3E-BC56-0E84BC4FE1D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When to Use RTS/C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dback from STAs to AP on overlapping BSS 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detection of overlapping BS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shold frame size; c.f., RtsThresh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shold frame lo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handling bursty errors efficient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C658-6E5F-4C5D-9917-DBD3624311F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913200" y="3517920"/>
            <a:ext cx="2322360" cy="2346480"/>
          </a:xfrm>
          <a:prstGeom prst="ellipse">
            <a:avLst/>
          </a:prstGeom>
          <a:solidFill>
            <a:srgbClr val="ffffcc"/>
          </a:solidFill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Example2: Overlapping BS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,1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hear A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o beacon not he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94000" y="3986280"/>
            <a:ext cx="773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94000" y="4299120"/>
            <a:ext cx="154080" cy="155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09680" y="3203640"/>
            <a:ext cx="2322720" cy="234612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72240" y="3986280"/>
            <a:ext cx="772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72240" y="4299120"/>
            <a:ext cx="153720" cy="155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687920" y="3203640"/>
            <a:ext cx="2322360" cy="2346120"/>
          </a:xfrm>
          <a:prstGeom prst="ellipse">
            <a:avLst/>
          </a:prstGeom>
          <a:noFill/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56120" y="3867120"/>
            <a:ext cx="10843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222800" y="4141800"/>
            <a:ext cx="155520" cy="1573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38480" y="3048120"/>
            <a:ext cx="2324160" cy="2346120"/>
          </a:xfrm>
          <a:prstGeom prst="ellipse">
            <a:avLst/>
          </a:prstGeom>
          <a:noFill/>
          <a:ln w="1908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13200" y="4925880"/>
            <a:ext cx="1238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,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68720" y="4768920"/>
            <a:ext cx="154080" cy="1569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984400" y="3673440"/>
            <a:ext cx="2322720" cy="2346480"/>
          </a:xfrm>
          <a:prstGeom prst="ellipse">
            <a:avLst/>
          </a:prstGeom>
          <a:noFill/>
          <a:ln w="1908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97520" y="4768920"/>
            <a:ext cx="10843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997520" y="4611600"/>
            <a:ext cx="154080" cy="1573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05320" y="4419720"/>
            <a:ext cx="533160" cy="380880"/>
          </a:xfrm>
          <a:prstGeom prst="line">
            <a:avLst/>
          </a:prstGeom>
          <a:ln w="19080">
            <a:solidFill>
              <a:srgbClr val="ff66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4267080" y="4724280"/>
            <a:ext cx="685800" cy="76320"/>
          </a:xfrm>
          <a:prstGeom prst="line">
            <a:avLst/>
          </a:prstGeom>
          <a:ln w="19080">
            <a:solidFill>
              <a:srgbClr val="ff66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C3FE-6C2C-4AB1-888C-E8A50772C20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Limitations of RTS/CT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TS/CTS exchange failure not de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,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s when ST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nds 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 transmission when non-zero NA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,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s an ACK while ST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ce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S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CFP based on PC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,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respond to A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ST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ce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AFA1-2DDC-4DF2-B8CE-2BF2B75DAAF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ACK Transmission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IB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2895480"/>
            <a:ext cx="7421760" cy="23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16440" y="3960720"/>
            <a:ext cx="927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16440" y="4265640"/>
            <a:ext cx="154080" cy="154080"/>
          </a:xfrm>
          <a:prstGeom prst="ellipse">
            <a:avLst/>
          </a:prstGeom>
          <a:solidFill>
            <a:srgbClr val="99cc00"/>
          </a:solidFill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33560" y="3198960"/>
            <a:ext cx="2319480" cy="2287440"/>
          </a:xfrm>
          <a:prstGeom prst="ellipse">
            <a:avLst/>
          </a:prstGeom>
          <a:noFill/>
          <a:ln w="19080">
            <a:solidFill>
              <a:srgbClr val="99cc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44880" y="3808440"/>
            <a:ext cx="1082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44880" y="4113360"/>
            <a:ext cx="154080" cy="153720"/>
          </a:xfrm>
          <a:prstGeom prst="ellipse">
            <a:avLst/>
          </a:prstGeom>
          <a:solidFill>
            <a:srgbClr val="33cccc"/>
          </a:solidFill>
          <a:ln w="1908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762360" y="3044880"/>
            <a:ext cx="2319480" cy="2290680"/>
          </a:xfrm>
          <a:prstGeom prst="ellipse">
            <a:avLst/>
          </a:prstGeom>
          <a:noFill/>
          <a:ln w="19080">
            <a:solidFill>
              <a:srgbClr val="33cc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73680" y="3733920"/>
            <a:ext cx="1082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773680" y="4038480"/>
            <a:ext cx="154080" cy="154080"/>
          </a:xfrm>
          <a:prstGeom prst="ellipse">
            <a:avLst/>
          </a:prstGeom>
          <a:solidFill>
            <a:srgbClr val="800080"/>
          </a:solidFill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91160" y="2971800"/>
            <a:ext cx="2319120" cy="2287440"/>
          </a:xfrm>
          <a:prstGeom prst="ellipse">
            <a:avLst/>
          </a:prstGeom>
          <a:noFill/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987640" y="3808440"/>
            <a:ext cx="928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87640" y="4113360"/>
            <a:ext cx="155520" cy="1537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05120" y="3044880"/>
            <a:ext cx="2320920" cy="229068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FD61-A909-43B5-8BCA-30BDFD38A25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RTS/CTS Fail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nds ACK when non-zero NA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143000" y="2286000"/>
            <a:ext cx="704376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739880" y="3436920"/>
            <a:ext cx="6566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739880" y="4152960"/>
            <a:ext cx="6566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739880" y="4869000"/>
            <a:ext cx="6566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739880" y="5584680"/>
            <a:ext cx="6566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97000" y="2959200"/>
            <a:ext cx="358920" cy="477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75080" y="3675240"/>
            <a:ext cx="358560" cy="477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52800" y="2959200"/>
            <a:ext cx="4178160" cy="477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87640" y="5108400"/>
            <a:ext cx="2149560" cy="476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156360" y="4392720"/>
            <a:ext cx="358920" cy="476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90720" y="3078000"/>
            <a:ext cx="7156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990720" y="3787920"/>
            <a:ext cx="715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90720" y="4511520"/>
            <a:ext cx="7156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90720" y="5227560"/>
            <a:ext cx="7156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523880" y="2743200"/>
            <a:ext cx="7160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81080" y="3675240"/>
            <a:ext cx="7178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46560" y="5181480"/>
            <a:ext cx="16970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 to ST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59480" y="4392720"/>
            <a:ext cx="71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05120" y="3436920"/>
            <a:ext cx="477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417760" y="4152960"/>
            <a:ext cx="477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952720" y="3436920"/>
            <a:ext cx="476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713040" y="5584680"/>
            <a:ext cx="478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999040" y="4869000"/>
            <a:ext cx="478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933640" y="4630680"/>
            <a:ext cx="0" cy="238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33640" y="4419720"/>
            <a:ext cx="17906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t up the NA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156360" y="3657600"/>
            <a:ext cx="17906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tect a coll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156360" y="3914640"/>
            <a:ext cx="0" cy="238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93880" y="4869000"/>
            <a:ext cx="5968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65720" y="3024360"/>
            <a:ext cx="15523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 to ST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097000" y="3002040"/>
            <a:ext cx="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BB29-3C28-4D15-98E9-18163CFA43F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QoS Support in 802.11 W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: a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tention-free (CF) M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top of DCF, e.g., PCF, MediaPlex, Whitec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/Limitations of PC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on for .11e 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tecting CF ac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BSS fr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F-running STAs in the B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lapping BSSs running in the sam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0C5E-C962-4040-865B-670C1123BF6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Stretching CF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8076960" cy="285120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572000" y="3429000"/>
            <a:ext cx="533520" cy="190512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86200" y="5410080"/>
            <a:ext cx="3048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ACK trans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3B68-7238-4954-9886-253A5FAF518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Proposed Sol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DC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 not transmitted when non-zero NA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ponding to a DCF frame that causes stretching to the C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ponding to a CF-Poll of a non-CF-pollable STA during C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from CF-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0C48-F9A8-4704-BC02-A20E8172A10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on contention-free MAC approach for QoS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 to protecting CF access fr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s in same B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s in overlapping BS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modifications in PCF or .11e 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modification in DC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4D26-FED1-45E7-8DEF-8067FC92053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Problems Identifi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con collision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F-Period performance degraded significa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ion from overlapping BSSs: Contention-free access not guaranteed during CF-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 transmission proble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TS/CTS not working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04DD-AC98-43B8-B1DC-AAF99A86D93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Papers Submitted/Presen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0/107: “Beacon collisions in IEEE 802.11 WLAN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0/108: “Protecting QoS-enabled BSSs in situations of overlapping BSSs in IEEE 802.11 WLA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0/109: “ACK transmission problem in 802.11 WLA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04BF-3D7A-433A-AF1D-767A75A389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Beacon Collision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3520" y="2940120"/>
            <a:ext cx="8076960" cy="28512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 and CFP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FP starts with a beacon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nsistent descriptions found in 802.11-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0A22-5788-4BCB-9E89-693C8DE00D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n-zer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cessing delay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xTX turn-around delay, PLCP delays, RF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Why Beacon Collision Happe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2255760"/>
            <a:ext cx="63244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638680" y="5378400"/>
            <a:ext cx="1874880" cy="41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ea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63720" y="5354640"/>
            <a:ext cx="880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00280" y="5794200"/>
            <a:ext cx="491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648320" y="5770440"/>
            <a:ext cx="0" cy="277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4619520"/>
            <a:ext cx="75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BT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16280" y="5100480"/>
            <a:ext cx="0" cy="69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16280" y="5908680"/>
            <a:ext cx="3780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39200" y="563256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38280" y="4946760"/>
            <a:ext cx="198144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annel idle for at least PIFS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00200" y="3257640"/>
            <a:ext cx="14130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annel idle for at least DIFS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13360" y="3673440"/>
            <a:ext cx="3400200" cy="41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3649680"/>
            <a:ext cx="88128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71800" y="3095640"/>
            <a:ext cx="17715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llision Mar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02080" y="4089240"/>
            <a:ext cx="4911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05000" y="3373560"/>
            <a:ext cx="0" cy="71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105000" y="4065480"/>
            <a:ext cx="0" cy="277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105000" y="3511440"/>
            <a:ext cx="1511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343400" y="2933640"/>
            <a:ext cx="75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BT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05000" y="4203720"/>
            <a:ext cx="37800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13360" y="4203720"/>
            <a:ext cx="45864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113360" y="4065480"/>
            <a:ext cx="0" cy="277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39200" y="3927600"/>
            <a:ext cx="2523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16280" y="3395520"/>
            <a:ext cx="0" cy="693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C516-EC6A-4EBD-BB44-C168100215D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90720" y="4276800"/>
            <a:ext cx="10778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24080" y="4618080"/>
            <a:ext cx="6005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84520" y="4049640"/>
            <a:ext cx="0" cy="56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92320" y="4276800"/>
            <a:ext cx="1233720" cy="341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ea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24080" y="4164120"/>
            <a:ext cx="460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992320" y="4164120"/>
            <a:ext cx="462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14480" y="3830760"/>
            <a:ext cx="9651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I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84520" y="3678120"/>
            <a:ext cx="11383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BT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92320" y="3956040"/>
            <a:ext cx="0" cy="66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78320" y="4295880"/>
            <a:ext cx="2465280" cy="322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 + Po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26040" y="4049640"/>
            <a:ext cx="0" cy="34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78320" y="4049640"/>
            <a:ext cx="0" cy="34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378320" y="4164120"/>
            <a:ext cx="308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917880" y="4164120"/>
            <a:ext cx="308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8320" y="3821040"/>
            <a:ext cx="923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92320" y="3025800"/>
            <a:ext cx="3235320" cy="342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3006720"/>
            <a:ext cx="10778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92320" y="3481560"/>
            <a:ext cx="3851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27600" y="3462480"/>
            <a:ext cx="237636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llision d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0" y="3368520"/>
            <a:ext cx="0" cy="20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92320" y="32529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24080" y="3368520"/>
            <a:ext cx="6005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76360" y="2798640"/>
            <a:ext cx="0" cy="56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14480" y="2913120"/>
            <a:ext cx="461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992320" y="2913120"/>
            <a:ext cx="462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24080" y="2658960"/>
            <a:ext cx="923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43120" y="2487600"/>
            <a:ext cx="12430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BT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92320" y="2798640"/>
            <a:ext cx="0" cy="56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92320" y="5415120"/>
            <a:ext cx="925560" cy="341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5424480"/>
            <a:ext cx="10778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92320" y="5869080"/>
            <a:ext cx="1233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92320" y="5869080"/>
            <a:ext cx="1565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llis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26040" y="5756400"/>
            <a:ext cx="0" cy="20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92320" y="5641920"/>
            <a:ext cx="0" cy="34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24080" y="5756400"/>
            <a:ext cx="6005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76360" y="5186520"/>
            <a:ext cx="0" cy="56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14480" y="5300640"/>
            <a:ext cx="461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992320" y="5300640"/>
            <a:ext cx="462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24080" y="5075280"/>
            <a:ext cx="923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84520" y="4917960"/>
            <a:ext cx="11383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BT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92320" y="5186520"/>
            <a:ext cx="0" cy="569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Why Beacon Collision B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ision extended to C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EFF5-FACA-4EEB-BA40-5BE86FD6C9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525760" y="5432400"/>
            <a:ext cx="509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Extremely Bad C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le CFP in Coll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5072040"/>
            <a:ext cx="14364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17800" y="4778280"/>
            <a:ext cx="0" cy="65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78080" y="5072040"/>
            <a:ext cx="10461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ea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25760" y="4948200"/>
            <a:ext cx="392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177720" y="4948200"/>
            <a:ext cx="392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09840" y="4681440"/>
            <a:ext cx="652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I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17800" y="4343400"/>
            <a:ext cx="7826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BT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78080" y="467028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54560" y="5062680"/>
            <a:ext cx="522360" cy="36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oll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24240" y="4802040"/>
            <a:ext cx="0" cy="39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54560" y="4802040"/>
            <a:ext cx="0" cy="39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354200" y="4910040"/>
            <a:ext cx="129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092480" y="4910040"/>
            <a:ext cx="1317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92480" y="4540320"/>
            <a:ext cx="6541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478008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746600" y="4910040"/>
            <a:ext cx="130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38640" y="5040360"/>
            <a:ext cx="522360" cy="392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oll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38640" y="478008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138640" y="4910040"/>
            <a:ext cx="130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46600" y="4518000"/>
            <a:ext cx="6523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I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61000" y="478008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5529240" y="4910040"/>
            <a:ext cx="1317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21280" y="5040360"/>
            <a:ext cx="522360" cy="392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oll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21280" y="478008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921280" y="4910040"/>
            <a:ext cx="13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29240" y="4518000"/>
            <a:ext cx="654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I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43640" y="478008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6313320" y="4910040"/>
            <a:ext cx="130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05720" y="5029200"/>
            <a:ext cx="522000" cy="3920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F-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05720" y="478008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6705360" y="4910040"/>
            <a:ext cx="129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13320" y="4518000"/>
            <a:ext cx="654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I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27720" y="478008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7097400" y="4910040"/>
            <a:ext cx="1299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78080" y="3395520"/>
            <a:ext cx="4179960" cy="392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49280" y="3395520"/>
            <a:ext cx="104472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78080" y="3911760"/>
            <a:ext cx="41799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84520" y="3917880"/>
            <a:ext cx="18288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llision d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58040" y="364968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78080" y="3679920"/>
            <a:ext cx="0" cy="39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25760" y="3787920"/>
            <a:ext cx="509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55720" y="3135240"/>
            <a:ext cx="0" cy="65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63680" y="3262320"/>
            <a:ext cx="392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177720" y="3262320"/>
            <a:ext cx="392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25760" y="2997360"/>
            <a:ext cx="78264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17800" y="2743200"/>
            <a:ext cx="7826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BT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78080" y="3135240"/>
            <a:ext cx="0" cy="65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C9FF-ACF5-4BCC-86BD-B33F8315288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Proposed Sol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Components S1, S2, and S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2057400"/>
            <a:ext cx="6019920" cy="40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63600" y="2984400"/>
            <a:ext cx="863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51080" y="3354480"/>
            <a:ext cx="4815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014720" y="2984400"/>
            <a:ext cx="988920" cy="370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ea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21160" y="2367000"/>
            <a:ext cx="7412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BT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68840" y="2635200"/>
            <a:ext cx="0" cy="71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49880" y="3005280"/>
            <a:ext cx="1974960" cy="349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 + Po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03640" y="2736720"/>
            <a:ext cx="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249880" y="2736720"/>
            <a:ext cx="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249880" y="2860560"/>
            <a:ext cx="247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4755960" y="2860560"/>
            <a:ext cx="247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03640" y="2470320"/>
            <a:ext cx="615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I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14720" y="2716200"/>
            <a:ext cx="0" cy="371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27240" y="2593800"/>
            <a:ext cx="617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I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4014720" y="2840040"/>
            <a:ext cx="247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521160" y="2840040"/>
            <a:ext cx="247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03640" y="3333600"/>
            <a:ext cx="0" cy="2476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68840" y="3333600"/>
            <a:ext cx="0" cy="2476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715000" y="5486400"/>
            <a:ext cx="2285640" cy="457200"/>
            <a:chOff x="5715000" y="5486400"/>
            <a:chExt cx="2285640" cy="457200"/>
          </a:xfrm>
        </p:grpSpPr>
        <p:sp>
          <p:nvSpPr>
            <p:cNvPr id="196" name=""/>
            <p:cNvSpPr/>
            <p:nvPr/>
          </p:nvSpPr>
          <p:spPr>
            <a:xfrm>
              <a:off x="5716080" y="5486400"/>
              <a:ext cx="2284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P Channel Sens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15000" y="5562360"/>
              <a:ext cx="10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2163600" y="4584600"/>
            <a:ext cx="863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51080" y="4956120"/>
            <a:ext cx="4815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68840" y="4584600"/>
            <a:ext cx="741240" cy="371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N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21160" y="3968640"/>
            <a:ext cx="7412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BT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68840" y="4235400"/>
            <a:ext cx="0" cy="72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756320" y="4605480"/>
            <a:ext cx="1974600" cy="350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CI + Data + Po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56320" y="4338720"/>
            <a:ext cx="0" cy="36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755960" y="4462560"/>
            <a:ext cx="247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262400" y="4462560"/>
            <a:ext cx="247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10080" y="4071960"/>
            <a:ext cx="615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I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21160" y="4338720"/>
            <a:ext cx="0" cy="61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81360" y="4194000"/>
            <a:ext cx="6174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I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768480" y="4441680"/>
            <a:ext cx="245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274920" y="4441680"/>
            <a:ext cx="2462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10080" y="4935600"/>
            <a:ext cx="0" cy="2458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5410080"/>
            <a:ext cx="2819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NCI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Beacon wi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Critical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74880" y="2666880"/>
            <a:ext cx="127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bined solutions S1 and 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74880" y="4313160"/>
            <a:ext cx="13874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lution 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98760" y="5410080"/>
            <a:ext cx="193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CI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Beacon with Critical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56080" y="3516480"/>
            <a:ext cx="863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51360" y="3516480"/>
            <a:ext cx="863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17840" y="5040360"/>
            <a:ext cx="863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4743-095E-4038-BC46-ECE037C2393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3T20:08:43Z</dcterms:created>
  <dc:creator>Sunghyun Choi, Philips Research</dc:creator>
  <dc:description>Sunghyun Choi, Philips Research-USA</dc:description>
  <dc:language>en-US</dc:language>
  <cp:lastModifiedBy>Sunghyun Choi</cp:lastModifiedBy>
  <cp:lastPrinted>1998-02-10T13:28:06Z</cp:lastPrinted>
  <dcterms:modified xsi:type="dcterms:W3CDTF">2000-05-09T17:01:28Z</dcterms:modified>
  <cp:revision>135</cp:revision>
  <dc:subject>Submission</dc:subject>
  <dc:title>doc.: IEEE 802.11-00/110</dc:title>
</cp:coreProperties>
</file>