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2860-A35F-420F-AB33-2952EFD52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0D13-1243-48C5-91CF-B1243C646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7B71-27A5-4E8C-BB35-CA95F5344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CF3F-68DF-4AD0-B804-4699DE5D9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1236-5019-4896-95AE-450AD5CB4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CE54-CDAF-43AA-BE93-20594BE78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70E0-B571-4166-94B8-DEE7DBCC8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9B72-AE63-4529-9B28-350D44F5C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8FD5-03B9-4FF2-B031-F31F7F742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C1EF-7563-4CBF-9604-5CDB91F28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0980-FA5D-4A99-857C-DF5BA4DE1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83AB-6B49-4CE2-B612-B8776ADEC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395640"/>
            <a:ext cx="827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185720" y="6474960"/>
            <a:ext cx="847800" cy="5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0D9F7591-92A2-4645-9076-11EE51EC61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of 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1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5800" y="1676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Need for MAC-PHY Interface Standard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4038480"/>
            <a:ext cx="64008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imothy Wakeley 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ewlett Pack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y 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im Wakeley - Hewlett Packard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69720" y="761760"/>
            <a:ext cx="8323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Market Segments that are/will Integrate the MA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for Cost Re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24680" y="3183480"/>
            <a:ext cx="4780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top P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ers and Print Serv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b P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ther Consumer Internet Applia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im Wakeley - Hewlett Packard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310120" y="913680"/>
            <a:ext cx="399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Typical Print 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43000" y="3564000"/>
            <a:ext cx="290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ASIC" descr=""/>
          <p:cNvPicPr/>
          <p:nvPr/>
        </p:nvPicPr>
        <p:blipFill>
          <a:blip r:embed="rId1"/>
          <a:stretch/>
        </p:blipFill>
        <p:spPr>
          <a:xfrm>
            <a:off x="1523880" y="1752480"/>
            <a:ext cx="5867640" cy="4496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im Wakeley - Hewlett Packard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0T13:07:52Z</dcterms:created>
  <dc:creator>V. Hayes</dc:creator>
  <dc:description/>
  <dc:language>en-US</dc:language>
  <cp:lastModifiedBy>Tim_Wakeley</cp:lastModifiedBy>
  <cp:lastPrinted>2000-05-05T18:35:17Z</cp:lastPrinted>
  <dcterms:modified xsi:type="dcterms:W3CDTF">2000-05-09T19:10:14Z</dcterms:modified>
  <cp:revision>57</cp:revision>
  <dc:subject/>
  <dc:title>No Slide Title</dc:title>
</cp:coreProperties>
</file>