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A7A-2735-42A3-B068-3F352CB2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512A-16AA-4810-97CC-082A6955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CC5-247C-49CD-B6E7-1EE9FB8A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2D55-B4E0-4570-92E1-08FB3128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1719-A293-4FF4-AEF4-02A478EE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470-D643-4E2B-9384-A276979F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491-B1F5-4B69-951E-DBA43D40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C3B-61C6-40B2-88E7-44C7DD15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5EA-AC50-4772-9444-157023D8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9782-568E-4962-B5DD-65E9E734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362-FC95-4D58-A333-E1C921B1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3597-70E5-4275-96D3-E1ADF503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402C38-F271-4AEA-A28F-672AFDB43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6446880"/>
            <a:ext cx="2027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F Enhancements and CF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PCF Enhancements and Contention Free Bur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ire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016-011D-4709-9182-8FC44A98AFB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Defici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ssues limit the use of the PCF for 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ion 9.3.4 and specifically clause 9.3.4.1 imposes strict rules upon the order in which stations are addressed or po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no mechanism (other than the More-Data bit) that allows a station to communicate its queue state(s) to the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B33-4EA1-4A44-9ADB-E3A955A732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F Enha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order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Duration/ID field for signa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i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x time of next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amble time + frame size / bit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ggy-backed on each To-DS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can explicitly poll for update by sending Nul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9FC-0219-44F7-A7DC-DC12DBDC11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Free Bursts (CFB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following PCF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ed CFP under average load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BS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CFP needs to be one uninterrupted sequence of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solve this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the PC to relinquish medium control to other BSSs in the sam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can temporarily give-up medium control and defer control until new frames are available for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27F-3F07-4082-9D7A-2613E5D526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hanced CF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 9.3.3 transfer procedures apply within CF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Bs have a maximum duration of CFBMax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maining duration is encoded in all From-DS data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off procedure between CF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1752480"/>
            <a:ext cx="7543800" cy="1828800"/>
            <a:chOff x="762120" y="1752480"/>
            <a:chExt cx="7543800" cy="1828800"/>
          </a:xfrm>
        </p:grpSpPr>
        <p:sp>
          <p:nvSpPr>
            <p:cNvPr id="73" name=""/>
            <p:cNvSpPr/>
            <p:nvPr/>
          </p:nvSpPr>
          <p:spPr>
            <a:xfrm>
              <a:off x="762120" y="1752480"/>
              <a:ext cx="754380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980640" y="1752480"/>
              <a:ext cx="3935880" cy="288720"/>
              <a:chOff x="980640" y="1752480"/>
              <a:chExt cx="3935880" cy="288720"/>
            </a:xfrm>
          </p:grpSpPr>
          <p:sp>
            <p:nvSpPr>
              <p:cNvPr id="75" name=""/>
              <p:cNvSpPr/>
              <p:nvPr/>
            </p:nvSpPr>
            <p:spPr>
              <a:xfrm>
                <a:off x="980640" y="2041200"/>
                <a:ext cx="3935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980640" y="1752480"/>
                <a:ext cx="39358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980640" y="2811240"/>
              <a:ext cx="5029200" cy="288720"/>
              <a:chOff x="980640" y="2811240"/>
              <a:chExt cx="5029200" cy="288720"/>
            </a:xfrm>
          </p:grpSpPr>
          <p:sp>
            <p:nvSpPr>
              <p:cNvPr id="78" name=""/>
              <p:cNvSpPr/>
              <p:nvPr/>
            </p:nvSpPr>
            <p:spPr>
              <a:xfrm>
                <a:off x="980640" y="2811240"/>
                <a:ext cx="502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980640" y="2811240"/>
                <a:ext cx="502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Perio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980640" y="3186720"/>
              <a:ext cx="2186280" cy="288360"/>
              <a:chOff x="980640" y="3186720"/>
              <a:chExt cx="2186280" cy="288360"/>
            </a:xfrm>
          </p:grpSpPr>
          <p:sp>
            <p:nvSpPr>
              <p:cNvPr id="81" name=""/>
              <p:cNvSpPr/>
              <p:nvPr/>
            </p:nvSpPr>
            <p:spPr>
              <a:xfrm>
                <a:off x="119916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80640" y="3234600"/>
                <a:ext cx="218520" cy="1922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948400" y="3186720"/>
              <a:ext cx="2186280" cy="288360"/>
              <a:chOff x="2948400" y="3186720"/>
              <a:chExt cx="2186280" cy="288360"/>
            </a:xfrm>
          </p:grpSpPr>
          <p:sp>
            <p:nvSpPr>
              <p:cNvPr id="84" name=""/>
              <p:cNvSpPr/>
              <p:nvPr/>
            </p:nvSpPr>
            <p:spPr>
              <a:xfrm>
                <a:off x="3166920" y="3186720"/>
                <a:ext cx="196776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948400" y="3234600"/>
                <a:ext cx="218520" cy="19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916520" y="1752480"/>
              <a:ext cx="1093320" cy="288720"/>
              <a:chOff x="4916520" y="1752480"/>
              <a:chExt cx="1093320" cy="288720"/>
            </a:xfrm>
          </p:grpSpPr>
          <p:sp>
            <p:nvSpPr>
              <p:cNvPr id="87" name=""/>
              <p:cNvSpPr/>
              <p:nvPr/>
            </p:nvSpPr>
            <p:spPr>
              <a:xfrm>
                <a:off x="4916520" y="2041200"/>
                <a:ext cx="1093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16520" y="1752480"/>
                <a:ext cx="109332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980640" y="2233440"/>
              <a:ext cx="7106400" cy="384840"/>
              <a:chOff x="980640" y="2233440"/>
              <a:chExt cx="7106400" cy="384840"/>
            </a:xfrm>
          </p:grpSpPr>
          <p:sp>
            <p:nvSpPr>
              <p:cNvPr id="90" name=""/>
              <p:cNvSpPr/>
              <p:nvPr/>
            </p:nvSpPr>
            <p:spPr>
              <a:xfrm>
                <a:off x="980640" y="2618280"/>
                <a:ext cx="710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806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991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620440" y="2233440"/>
                <a:ext cx="109296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041720" y="2233440"/>
                <a:ext cx="7650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07080" y="2233440"/>
                <a:ext cx="10908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09840" y="2233440"/>
                <a:ext cx="218520" cy="3848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28360" y="2233440"/>
                <a:ext cx="120240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540200" y="2233440"/>
                <a:ext cx="546480" cy="38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401560" y="242604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13760" y="2426040"/>
                <a:ext cx="327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5135400" y="3186720"/>
              <a:ext cx="1530360" cy="288360"/>
              <a:chOff x="5135400" y="3186720"/>
              <a:chExt cx="1530360" cy="288360"/>
            </a:xfrm>
          </p:grpSpPr>
          <p:sp>
            <p:nvSpPr>
              <p:cNvPr id="102" name=""/>
              <p:cNvSpPr/>
              <p:nvPr/>
            </p:nvSpPr>
            <p:spPr>
              <a:xfrm>
                <a:off x="5135400" y="3321360"/>
                <a:ext cx="21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53920" y="3186720"/>
                <a:ext cx="131184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70B-0F50-4686-931E-24A52474A5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ion between P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3809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restriction of NAV settings based on CFPDurRemaing in Beacon for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tend to start a CF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cy APs and stations don’t interfere because CF-con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FBs are protected through duration field in From-DS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62120" y="1447920"/>
            <a:ext cx="7619760" cy="2286000"/>
            <a:chOff x="762120" y="1447920"/>
            <a:chExt cx="7619760" cy="2286000"/>
          </a:xfrm>
        </p:grpSpPr>
        <p:sp>
          <p:nvSpPr>
            <p:cNvPr id="107" name=""/>
            <p:cNvSpPr/>
            <p:nvPr/>
          </p:nvSpPr>
          <p:spPr>
            <a:xfrm>
              <a:off x="762120" y="1447920"/>
              <a:ext cx="7619760" cy="228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2800" y="1876320"/>
              <a:ext cx="419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2800" y="1662120"/>
              <a:ext cx="39754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982800" y="3376800"/>
              <a:ext cx="2208240" cy="214200"/>
              <a:chOff x="982800" y="3376800"/>
              <a:chExt cx="2208240" cy="214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20348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con or CF-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82800" y="3412440"/>
                <a:ext cx="220680" cy="1429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970720" y="3376800"/>
              <a:ext cx="2208240" cy="214200"/>
              <a:chOff x="2970720" y="3376800"/>
              <a:chExt cx="2208240" cy="214200"/>
            </a:xfrm>
          </p:grpSpPr>
          <p:sp>
            <p:nvSpPr>
              <p:cNvPr id="114" name=""/>
              <p:cNvSpPr/>
              <p:nvPr/>
            </p:nvSpPr>
            <p:spPr>
              <a:xfrm>
                <a:off x="3191400" y="3376800"/>
                <a:ext cx="19875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ention Free Bur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970720" y="3412440"/>
                <a:ext cx="220680" cy="142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982800" y="230508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8280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03480" y="201924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5880" y="201924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8800" y="201924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87920" y="201924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08960" y="2019240"/>
              <a:ext cx="55188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848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179320" y="3376800"/>
              <a:ext cx="1545840" cy="214200"/>
              <a:chOff x="5179320" y="3376800"/>
              <a:chExt cx="1545840" cy="214200"/>
            </a:xfrm>
          </p:grpSpPr>
          <p:sp>
            <p:nvSpPr>
              <p:cNvPr id="125" name=""/>
              <p:cNvSpPr/>
              <p:nvPr/>
            </p:nvSpPr>
            <p:spPr>
              <a:xfrm>
                <a:off x="5179320" y="3476880"/>
                <a:ext cx="2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00000" y="3376800"/>
                <a:ext cx="13251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FB Backof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982800" y="3162600"/>
              <a:ext cx="71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39520" y="2876760"/>
              <a:ext cx="22068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60200" y="2876760"/>
              <a:ext cx="121464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63952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184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848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424520" y="3019680"/>
              <a:ext cx="9936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82800" y="2805120"/>
              <a:ext cx="16563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ferred back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074840" y="216216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95880" y="2019240"/>
              <a:ext cx="0" cy="100008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39520" y="2162160"/>
              <a:ext cx="14353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5880" y="3019680"/>
              <a:ext cx="883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79320" y="1876320"/>
              <a:ext cx="0" cy="114300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10520" y="2305080"/>
              <a:ext cx="0" cy="71424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10520" y="2876760"/>
              <a:ext cx="772920" cy="28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83800" y="2876760"/>
              <a:ext cx="110160" cy="2854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9320" y="3019680"/>
              <a:ext cx="33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93960" y="2305080"/>
              <a:ext cx="0" cy="57132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39520" y="2733840"/>
              <a:ext cx="375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39520" y="2519280"/>
              <a:ext cx="3754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F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87920" y="2305080"/>
              <a:ext cx="0" cy="8571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82800" y="1876320"/>
              <a:ext cx="0" cy="142560"/>
            </a:xfrm>
            <a:prstGeom prst="line">
              <a:avLst/>
            </a:prstGeom>
            <a:ln cap="rnd" w="9360">
              <a:solidFill>
                <a:srgbClr val="c0c0c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4840" y="216216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74840" y="3019680"/>
              <a:ext cx="220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82800" y="15904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2800" y="244800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93960" y="2519280"/>
              <a:ext cx="9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93960" y="2519280"/>
              <a:ext cx="9939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BDD-C459-4FD9-9343-DF45B62862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2590920" y="1600200"/>
            <a:ext cx="3885840" cy="3428640"/>
            <a:chOff x="2590920" y="1600200"/>
            <a:chExt cx="3885840" cy="3428640"/>
          </a:xfrm>
        </p:grpSpPr>
        <p:grpSp>
          <p:nvGrpSpPr>
            <p:cNvPr id="156" name=""/>
            <p:cNvGrpSpPr/>
            <p:nvPr/>
          </p:nvGrpSpPr>
          <p:grpSpPr>
            <a:xfrm>
              <a:off x="2590920" y="1778760"/>
              <a:ext cx="2926800" cy="2683440"/>
              <a:chOff x="2590920" y="1778760"/>
              <a:chExt cx="2926800" cy="2683440"/>
            </a:xfrm>
          </p:grpSpPr>
          <p:sp>
            <p:nvSpPr>
              <p:cNvPr id="157" name=""/>
              <p:cNvSpPr/>
              <p:nvPr/>
            </p:nvSpPr>
            <p:spPr>
              <a:xfrm>
                <a:off x="3875040" y="294120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590920" y="177876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452400" y="253908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3549960" y="2345400"/>
              <a:ext cx="2926800" cy="2683440"/>
              <a:chOff x="3549960" y="2345400"/>
              <a:chExt cx="2926800" cy="2683440"/>
            </a:xfrm>
          </p:grpSpPr>
          <p:sp>
            <p:nvSpPr>
              <p:cNvPr id="161" name=""/>
              <p:cNvSpPr/>
              <p:nvPr/>
            </p:nvSpPr>
            <p:spPr>
              <a:xfrm>
                <a:off x="4834080" y="35078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549960" y="23454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11440" y="31057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87600" y="1600200"/>
              <a:ext cx="2926800" cy="2683440"/>
              <a:chOff x="3387600" y="1600200"/>
              <a:chExt cx="2926800" cy="2683440"/>
            </a:xfrm>
          </p:grpSpPr>
          <p:sp>
            <p:nvSpPr>
              <p:cNvPr id="165" name=""/>
              <p:cNvSpPr/>
              <p:nvPr/>
            </p:nvSpPr>
            <p:spPr>
              <a:xfrm>
                <a:off x="4671720" y="2762640"/>
                <a:ext cx="325080" cy="298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87600" y="1600200"/>
                <a:ext cx="2926800" cy="26834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9080" y="2360520"/>
                <a:ext cx="11379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work very well in situations where BSSs overlap and PCs are in range of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03B1-0FAF-41E5-99FD-438C987706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905120" y="1143000"/>
            <a:ext cx="5867280" cy="3352320"/>
            <a:chOff x="1905120" y="1143000"/>
            <a:chExt cx="5867280" cy="3352320"/>
          </a:xfrm>
        </p:grpSpPr>
        <p:grpSp>
          <p:nvGrpSpPr>
            <p:cNvPr id="171" name=""/>
            <p:cNvGrpSpPr/>
            <p:nvPr/>
          </p:nvGrpSpPr>
          <p:grpSpPr>
            <a:xfrm>
              <a:off x="1905120" y="1600200"/>
              <a:ext cx="2707920" cy="2742840"/>
              <a:chOff x="1905120" y="1600200"/>
              <a:chExt cx="2707920" cy="2742840"/>
            </a:xfrm>
          </p:grpSpPr>
          <p:sp>
            <p:nvSpPr>
              <p:cNvPr id="172" name=""/>
              <p:cNvSpPr/>
              <p:nvPr/>
            </p:nvSpPr>
            <p:spPr>
              <a:xfrm>
                <a:off x="3093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905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02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61600" y="1752480"/>
              <a:ext cx="2707920" cy="2742840"/>
              <a:chOff x="4161600" y="1752480"/>
              <a:chExt cx="2707920" cy="2742840"/>
            </a:xfrm>
          </p:grpSpPr>
          <p:sp>
            <p:nvSpPr>
              <p:cNvPr id="176" name=""/>
              <p:cNvSpPr/>
              <p:nvPr/>
            </p:nvSpPr>
            <p:spPr>
              <a:xfrm>
                <a:off x="5349960" y="294084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61600" y="175248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958640" y="252936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P-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2958120" y="1600200"/>
              <a:ext cx="2707920" cy="2742840"/>
              <a:chOff x="2958120" y="1600200"/>
              <a:chExt cx="2707920" cy="2742840"/>
            </a:xfrm>
          </p:grpSpPr>
          <p:sp>
            <p:nvSpPr>
              <p:cNvPr id="180" name=""/>
              <p:cNvSpPr/>
              <p:nvPr/>
            </p:nvSpPr>
            <p:spPr>
              <a:xfrm>
                <a:off x="4146480" y="27885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958120" y="16002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755160" y="23770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064480" y="1143000"/>
              <a:ext cx="2707920" cy="2742840"/>
              <a:chOff x="5064480" y="1143000"/>
              <a:chExt cx="2707920" cy="2742840"/>
            </a:xfrm>
          </p:grpSpPr>
          <p:sp>
            <p:nvSpPr>
              <p:cNvPr id="184" name=""/>
              <p:cNvSpPr/>
              <p:nvPr/>
            </p:nvSpPr>
            <p:spPr>
              <a:xfrm>
                <a:off x="6252840" y="2331360"/>
                <a:ext cx="3006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64480" y="1143000"/>
                <a:ext cx="2707920" cy="2742840"/>
              </a:xfrm>
              <a:prstGeom prst="ellipse">
                <a:avLst/>
              </a:prstGeom>
              <a:noFill/>
              <a:ln cap="rnd" w="9360">
                <a:solidFill>
                  <a:srgbClr val="c0c0c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1520" y="1919880"/>
                <a:ext cx="10530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STA-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ping BSS Scenario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FBs may suffer from the same problems as the DCF in hidden node situ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TS/CTS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gular NAV in RTS/CTS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by other PC to relinquish medium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2CC-AC38-407E-82BC-32C8D5D1A3C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 and 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but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upport for legacy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line with what is standardized by other workgroups and standardization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F enhancements welcome ad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s will prove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‘loose-ends’ need to be worked-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2F80-61B7-4411-A732-DD41CED9F9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WN’s suggestions for MAC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WN actually implements PCF in their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and versatil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some problems that need to be 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ed integration with IETF 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 over Specific Link Layers (ISS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AC0-1003-4161-B58A-BE7FC34A4E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(p) Prior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d SAP between MAC and LL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t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in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IETF through ISS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by dominant 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210200" y="2590920"/>
            <a:ext cx="4095720" cy="255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352-DE29-4B62-BCBF-FA72B648EA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 access mechanisms: DCF and PC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well under low load situations, PCF works optimal under high load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works better in networks were BSSs overlap, PCF is ideally suited for networks were BSSs are carefully planned not to 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has a relatively low implementation complexity, PCF is (said to be) complex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0739-26FD-4DC7-9EAE-95CE57CC1D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ngth/weakness analysi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does not allow explicit access control, PCF 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efficiency drops considerably in densely populated BSSs, PCF has no scal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F supports legacy stations, PCF only to some ex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CF weaknesses prevented vendors from implementing the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nterest because of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80E7-54F0-4D0B-9B9C-9A13C60A68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s focus either on DCF 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to approach it as an integra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FP can only be sustained if the queues on the access point or stations are adequately backlo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ken-egg problem; polled to have medium access – medium access to get on polling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regulatory domains do not allow constant medium occupancy by one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of legacy devices may require an enhanced DC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s always spend some time in the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1550-0CFB-4C06-968D-5E4FAB2965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CF and PCF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s show gab between DCF and PCF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loaded systems spend half of their time in DCF, half in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rvice provided by the system should be linear throughout load pro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3F1-144B-4A18-A4A0-E547A8E166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cus on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ility of full medium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al medium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ffering from scalabilit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tion for gab between DCF and PC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ggestions for DCF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087-98F4-456D-8851-3328AAA783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802.1p prio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802.11 MAC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ve the overlapping BSS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between DCF and 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ward-compatibility with legacy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urrently existing frame form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rely too heavily on new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implementation complexity l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arten Hoeben, NoWires Need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B0B6-0CD0-4FF1-9401-19FD051BF7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Maarten Hoeben</dc:creator>
  <dc:description/>
  <dc:language>en-US</dc:language>
  <cp:lastModifiedBy>Maarten Hoeben</cp:lastModifiedBy>
  <cp:lastPrinted>1998-02-10T13:28:06Z</cp:lastPrinted>
  <dcterms:modified xsi:type="dcterms:W3CDTF">2000-05-11T14:48:41Z</dcterms:modified>
  <cp:revision>48</cp:revision>
  <dc:subject/>
  <dc:title>00/113 Suggested PCF Enhancements and Contention Free Bursts</dc:title>
</cp:coreProperties>
</file>