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A52-066A-467B-A241-78FA01C8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9A60-9E43-4D63-8F7F-4067C060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1FC0-CBC2-4D67-8A17-46AC3D345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F4F-ECE8-4CD0-B637-F65869DF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DB26-CB31-4463-8B22-3E722CC5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C8E-B9BB-4BBC-89E8-FBB2ED21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C85-D539-411B-976E-7BBAFF33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7E4-4E9A-4A43-9617-E1CAB0FE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83B-01E4-4CCE-82D5-F3718893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AB3-F0A2-45B5-8C30-246CBB16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040E-0FB5-411C-9B55-09396657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5E77-1F1A-4C0A-8F87-25AEAB44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eve Williams, et al, In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AECAB6-8B46-48C4-A816-F875047E0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5800" y="6446880"/>
            <a:ext cx="1373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ble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ecurity Framework Requirements for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n Willi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e W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ncan Kitc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F79-4764-4B58-88EC-FEFCA42AB83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classes of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olut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roposed framework must endeavor to m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break ties between two framework proposals that meet that absolut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7B9-355D-47ED-9029-BB00580D949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require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prevent unauthorized authentication or re-authentication with an AP as those terms are defined within the 802.11 spec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be able to prevent unauthorized access by unauthenticated peers over th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protect network traffic from eavesdropping to a reasonable level compatible with the state of the 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66F-8160-443C-9128-5873C5E648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require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allow for authentication of the source of each packet, to prevent link hijacking or undetected insertion of rogue packets into the link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allow for mutual authentication of STA and 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allow key distribution or derivation of per-link or per-session ke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B3A2-1BD4-4EE1-92A0-341AA29B95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requirement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not compromise (i.e., break the security of) existing industry standard network user authentication methods and techniques used within the framework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coexist with existing industry standard network user authentication methods and techniques (e.g., RADIUS-based authentic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coexist with existing industry standard network user authentication methods and techniques (e.g., RADIUS-based authentication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2476-C4C5-494D-9CF3-74119208F2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requirement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authentication mechanisms must fit within the designated multi-media authentication and re-authentication time budge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strongly protect keys and passwords from recovery by eavesdropp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02E-B08F-4DD1-97CD-AE4CE79CE3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solute requirements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framework must scal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, “self-managing” or “unmanaged” environments (etc., home, SOH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 environments (e.g., office campuses, factorie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 wireles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environments (e.g., hotels, public ser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roposal that allows for more than one algorithm must support negotiation to a common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D11-3F8B-4A36-9C9A-0AD13DF09D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require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cause minimal computational expense consistent with meeting other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use public and/or standard algorithms to the greatest extent possi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minimize the number of mandatory cryptographic algorithms conform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C4A-AB43-49F3-BFBF-E4A1E7E698D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ve require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make no assumption whether peer authentication is machine or user authentication, as different organizations will establish different policies regarding who or what is authentic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230-98B8-48AD-99AF-26E9FB957EE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Steve Williams</cp:lastModifiedBy>
  <cp:lastPrinted>1998-02-10T13:28:06Z</cp:lastPrinted>
  <dcterms:modified xsi:type="dcterms:W3CDTF">2000-05-10T18:05:32Z</dcterms:modified>
  <cp:revision>44</cp:revision>
  <dc:subject/>
  <dc:title>00/065a Extensible Security</dc:title>
</cp:coreProperties>
</file>