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36F0-1A21-465F-8C9E-BEE7FD673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2F6C-86BC-47A5-ABEE-EA96462D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13A1-2FB4-4794-88A3-4B0CEF14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D6D2-0D23-48D4-B617-DC16523A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CC81-3309-4D82-975C-13057A63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2A2D-EA2E-45D1-8456-025440CA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2D1E-E9A1-49B0-8268-3F502B2A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45A6-9616-45A0-8D9F-B22E7DE7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F020-E9FF-46CB-93E6-73396B37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E809-C10F-4D19-A227-1B7F66E2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C62B-BB64-495A-B8D1-A73F5969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0843-4625-4A89-89A0-7B8AFA99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2193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295600" y="6474960"/>
            <a:ext cx="33145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ga Satapathy, Sprint; Sanjay Moghe, RF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F22165A-F00A-4FC9-85E1-326D2CB99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6 WirelessHUMAN 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udy Group Report at 802.11/802.15 Interim Joint Meeting, Seattle, May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ga Satapathy, Spr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jay Moghe, RF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 W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ED73-90DF-4619-9085-814302C0DA8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oint Meeting of 802.11/802.15/WirelessHUMAN Study Group held on 1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5 particip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vely discussion for over 2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feedback items/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plan suggestions re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 W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0F4D-A74E-4800-8CD2-221C17ECB2D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Discussion/Feedback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mutual benefit in addressing coexistence strate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for standard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icensed MAN equipment already in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HUMAN standard would offer solutions for co-existence and mitigate interference iss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802.11/802.15/802.16 meetings to facili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 W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CCAA-A121-4487-A5F6-B25FB0127C7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lessHUMAN study group will take advantage of existing web-tutorials/information on 802.11 and 802.15, and initiate iterative process to identify useful MAC/PHY eleme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for joint call for contributions to be investig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for presentation of above issues at a tutorial at July meeting to be investig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Discussion/Feedback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 W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80A6-DF93-4752-BB7F-97841E21D2D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HUMAN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EEE 802.16 WirelessHUMAN Study Group was approved at the March IEEE 802 Plenary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interest from both academia and industry (manufacturers and service provid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meeting held at IEEE 802.16 Session 7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30 particip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 W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6C01-0CDB-4DC1-8A12-9B125DBBCA7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ing Support for Active Partici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ga P. Satapath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rint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ai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njay Mogh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F Solutions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reta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arpal Khann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ilent Technolog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mos Kosta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aptive Broad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entine Rhod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ka Kassl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vid Trinkw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omm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anna Goldhamm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eze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ftali Chay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eze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ger Dur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t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i Freedm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nowave EC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n Cha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NA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s Dot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dad Z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n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chael Stewa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c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 W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A46-052A-4F78-82E5-D677BAAE03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1760" y="1295280"/>
            <a:ext cx="784836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ris Paulowsk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jaya Gallagh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n M. Peh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nos I. Dall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a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rdon Stub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orgia Institute of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sein Izanpana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RL Laboratories, L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der Benyamin-Seeya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is Corp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o-Chun Wa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libu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hul Ka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libu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 Rie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x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huda Hakca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ltra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if Jans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ics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im Shenh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Band 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sein Izadpan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RL L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ger Dur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tr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vid Sum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 Doher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eon I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isting Support for Active Particip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 W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B4BC-E34C-47C7-A5FC-3632BAD0D4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HUMAN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license exempt bands that can best serve the wireless industry need for fixed broadband MAN access with a focus on 5-6 GHz b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igate issues in developing an Air Interface Standard for the identified ban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igate feasibility of using elements from existing standardization efforts e.g. IEEE 802.15, 802.11 PHY &amp; Enhanced MAC, IEEE 802.16.3 PHY &amp; MAC etc. or modifications there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int meetings with 802.16.3, 802.11, 802.15 and other standards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 W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98AE-9C43-4CC9-A37D-459D8BAD8A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existing regulations in the various unlicensed bands, and what unlicensed bands may be appropriate for WirelessHUMAN syst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mechanisms for interference avoidance/suppression, resource sharing, and ensuring adequate performance exist in unlicensed ban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unique system design issues/requirements of WirelessHUMAN systems from a MAC/PHY layer perspective? What elements can we utilize from existing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the Study Group write a PAR to proceed with a standard? If so, should we try for July or wait until Novemb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 W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B6DC-1867-419B-8490-C38AC610FA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relessHUMAN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ystem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ropolitan Area Netwo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for Point-To-Multipoin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 cellular; sectorized with frequency r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 needs backhaul architectures capable of reliable broadband 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vity to wired infrastructure/ core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s: voice, video &amp;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xed/Nomadic Wireless Service Provider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e in Unlicensed Frequency Bands (initial focus on outdoor UNII b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 in presence of other unlicensed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/PHY efficiency to support MAN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 and performance for residential/SOHO/SME/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oS support (in-system &amp; external interfere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 W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4E3D-EE1E-45BF-9B95-CA444846EA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act of 802.11/802.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ing Common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 in Unlicensed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ing interest from service providers/c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Element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sms to avoid/suppress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input on multipath, equalization, mod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 OFDM; adaptive techniques), FEC/ARQ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-existence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oS 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 W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A032-706C-469E-BF0B-3EC27830330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y Input Reques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 and 802.15 Tutorials/Conference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ibutions on elements of 802.11/802.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/PHY standardization efforts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be applicable to WirelessHU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 above findings at July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uncan Kitchin, Intel WL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FC36-A8B2-40B4-9E21-5161DE57774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,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1T19:26:40Z</dcterms:created>
  <dc:creator>Durga Satapathy, Sanjay Moghe</dc:creator>
  <dc:description/>
  <dc:language>en-US</dc:language>
  <cp:lastModifiedBy>Harry R. Worstell</cp:lastModifiedBy>
  <cp:lastPrinted>1998-02-10T13:28:06Z</cp:lastPrinted>
  <dcterms:modified xsi:type="dcterms:W3CDTF">2000-05-10T18:51:20Z</dcterms:modified>
  <cp:revision>17</cp:revision>
  <dc:subject/>
  <dc:title>IEEE 802.16 WirelessHUMAN  Study Group Report at 802.11/802.15 Interim Joint Meeting, Seattle, May 10</dc:title>
</cp:coreProperties>
</file>