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BEF0-7110-4833-B20A-9B3DD0E0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78B0-220D-4071-9797-A4FB5B9C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4C74-31FF-4101-AE21-4A4B584BC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F8A2-5810-4628-85C5-6438FD7F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3B01-4A06-46B9-BBC5-4189091F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BFFF-B4DD-4D58-AB0B-B97A7C3A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64D7-E093-4595-B1C7-D4F35AAB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2380-3A69-4430-816F-256DCD27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095E-406C-406E-92DC-78D3F953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71C9-04D6-41AE-AB3E-F2A1A1E1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17BF-17C8-4185-BB2B-4E3B1AD7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DCA6-EFF0-4CA0-8FBD-595F73A6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54CA927-AFF4-48DF-AE28-DA63A5F8E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15238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oS MAC Eval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2666880"/>
            <a:ext cx="487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m Diepstraten - Lu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r Ghori -Share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ven Gray - NOK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arten Hoeben - No Wires Needed Bob Miller - AT&amp;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gory Parks - Share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ry Worstell - AT&amp;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Miller et. al., AT&amp;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43FC-66EF-42F6-AB27-B1939790023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5335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uggested QoS MAC Evaluation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0600" y="1120680"/>
            <a:ext cx="796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tion 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o MAC performance evalu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requirements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istic approa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MAC evaluation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t playing field” rather than real-world 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mmodate widely varying MAC sch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ate and high loading exci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~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loading doesn’t need 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~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igate “break points” of sch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ly separate multi-BSS from QoS mediation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~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media-based test results as “sanity check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multi-BSS performance simulation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~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both activities to proceed simultaneous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able data sources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, streaming, best-eff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“canned” files with “drivers” emulating packet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Miller et. al., AT&amp;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58B7-2A0D-425E-915E-0219BB4D23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5335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uggested Performance Envelope B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22000" y="1203480"/>
            <a:ext cx="6519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wo speeds: 11 and 54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ree data typ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ce - N 64Kbps PCM duplex channels (UDP-lik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aming - N 3 Mbps MPEG channels (TCP-lik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aming - N 128 kbps MP3 channels (TCP-lik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st-Effort - N 10 Mbps Internet channels (TCP-lik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wo loading poi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% of total raw PHY through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5% of total raw PHY through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e multi-BSS extension as combin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-windowed QoS and time-division BSS @ S/N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rough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ccess request is separate operation within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col, test access success under above loading condi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ose fixed number of station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specify STA/STA “side” traffic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Miller et. al., AT&amp;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7B05-F65D-4647-9440-955086D717E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5335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Suggested Metr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68680" y="1603440"/>
            <a:ext cx="585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put as % of raw PHY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 vs. Lo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-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put per 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specified overl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. Miller et. al., AT&amp;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4E35-32B2-4A43-8542-BBA9A24F28C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22:42:52Z</dcterms:created>
  <dc:creator>Jesse Russell</dc:creator>
  <dc:description/>
  <dc:language>en-US</dc:language>
  <cp:lastModifiedBy>Jesse Russell</cp:lastModifiedBy>
  <dcterms:modified xsi:type="dcterms:W3CDTF">2000-05-11T01:40:11Z</dcterms:modified>
  <cp:revision>8</cp:revision>
  <dc:subject/>
  <dc:title>No Slide Title</dc:title>
</cp:coreProperties>
</file>