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4971-49E7-46FD-B4AC-4C627D6E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DAA2-8DC7-4949-B2AD-54F40B1BB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5CFB-833D-46C0-9012-7B4939062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2200-0E79-483E-8DD8-D5CE17F14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E45D-8113-4604-94F2-B060D74F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791B-8630-4DC2-A704-B413F1FB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69D9-211E-42B3-A59A-5B257C82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8923-DC4B-4AF8-ABD7-4A44D8C7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3ADC-5C30-414E-AAA6-3CDE29E0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F2E3-6CE4-4FFF-AC39-60F50236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54B2-42E1-4241-9DBF-CD9C0484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3149-FC37-49B2-B618-AB8134A3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9A52F2F-83F9-45D5-B330-573744CEA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92200" y="6446880"/>
            <a:ext cx="8982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 to Qo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ar Gh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ven G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n 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ju Gubb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arten Hoeb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g Park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zo Went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r Ghori et.al., ShareWa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2777-5EC5-4E37-B8BB-46AD19ACDCD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Q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it an action, behavior, or something el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the simplest sense, Quality of Service (QoS) means providing consistent, predictable data delivery service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ere are a number of characteristics that qualify QoS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inimizing delivery dela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inimizing delay vari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oviding consistent data throughput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 http://www.qosforum.com/about_background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r Ghori et.al., ShareWa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A36F-1C88-4EA1-9110-8824084B89D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Questions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QoS measur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it be measu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swer:QoS is measured by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840" indent="-2077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livery delay (latenc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840" indent="-2077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lay variations (jit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840" indent="-2077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ata throughput capacity (bandwid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840" indent="-2077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oss (frame lo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7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Microsoft Corp, "An overview of QoS", microsoft.com/technet/win2000/win2ksrv/technote/qosover.a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r Ghori et.al., ShareWa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2C0F-2F2A-4CA7-81DF-B33EC2D9CC3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Questions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AP primitives are used to request/control Q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protocols are on the other side of this SA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nswer: traffic handling mechanisms includ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802.1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Integrated services(intserv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buClr>
                <a:srgbClr val="0000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UNI signa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r Ghori et.al., ShareWa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E78B-EC04-40E0-BDD1-44F0676BAF3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Questions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parameters that cross this SA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nswer: the required parameters are dependant upon the protocols discussed in the previous question and the implementation of the QoS protocol at the MAC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ould current IETF developments work with this SA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d Servi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nswer: support for intserv should be required of any QoS propos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ted Servi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nswer: diffserv is currently focused on the core network elements.  Currently, diffserv is not defined for operation over IEEE802 networks and should not be a requirement for QoS in the M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r Ghori et.al., ShareWa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0D50-D1B8-4EF3-905D-AFFC0BF946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upper layer protocols support/require QoS from the Data Link/MAC lay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Answer: Signaling protocols (e.g., RSVP) needs DLC layer information for admission control and signal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concerning available resources.  Priority specification (e.g., 802.1p) needs queuing and priority mechanisms in the MA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802.1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Answer: Yes, se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r Ghori et.al., ShareWa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B106-9FF0-400D-B464-DA09FAE7CC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is QoS supported by existing OS AP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Answer: Windows 2000, NT server supports RSVP and 802.1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OS APIs are proposed to be added to support QoS at the MAC lay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Answer: Windows2000 already has the required AP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we expecting to add these AP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040" indent="-205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 vendo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7040" indent="-205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 develope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nswer: See above for OSs currently supporting Q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r Ghori et.al., ShareWa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7614-2FC5-4C27-995B-14DC57FCCE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can alternative proposals be evalu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mulat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efinitive impact statement on existing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apparent demand for QoS in LAN space, let alone W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efined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RFCs require/support the proposed servi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mapping to upper layer protoco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concrete benefits provided by the proposed servi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nswer: A requirements document will address requirements. IEEE802.11-00/008r3 functional requirements section addresses some of these requirement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mar Ghori et.al., ShareWav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7916-D63E-4B7A-9C7C-1094FA08C24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5T13:03:53Z</dcterms:created>
  <dc:creator>Amar Ghori</dc:creator>
  <dc:description>Amar Ghori et.al. ShareWave</dc:description>
  <dc:language>en-US</dc:language>
  <cp:lastModifiedBy>Harry R. Worstell</cp:lastModifiedBy>
  <cp:lastPrinted>1998-02-10T13:28:06Z</cp:lastPrinted>
  <dcterms:modified xsi:type="dcterms:W3CDTF">2000-05-11T05:45:08Z</dcterms:modified>
  <cp:revision>55</cp:revision>
  <dc:subject/>
  <dc:title>00/066 QoS Questions</dc:title>
</cp:coreProperties>
</file>