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F9C7-EED2-487B-9B6D-BC7F9773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090-7762-487D-A93D-1E321B41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AC1-9991-4B09-AB75-DBC49891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998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E45-310B-4CCD-8523-2EAC9F8F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16DD-E46C-4ECE-8429-A27C4281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B205-A4AF-4711-AA42-3CC7413F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B0C2-71F3-451E-911A-0FC05750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1A0-9C6A-42EB-9D0A-E187F8E4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283-AA3A-4275-9C99-BCB8EB51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D0E-17BD-436E-9431-79065E68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998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AE6C-CBA1-488C-A412-63D6E0F3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998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14B-9DBF-45E8-8F91-BAA6154A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87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5360" y="6474960"/>
            <a:ext cx="465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2774B8-2F3A-48C2-BA3A-C3223449F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37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Ge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 r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Jun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EEE-201C-454F-8A1E-CE28AF53AAC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l MAC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be compatible with the current 802.11 MAC including DCF and PC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peer to peer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an error correction mechanis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overlapping BSS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Frequency Selection (DFS) per 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Power Control (TPC) per C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dynamic power use minim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redundancy of Point Coordin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increase in complexity, while meeting other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A03-7D67-49E8-98C4-5C4209CAFB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rnal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interactive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able to support H.323, MPEG2, MPEG4, et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QoS definition should be higher layer agnost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 the indicates and requests of 802.3ac (VLANs), and add to it as appropriate for mobility and security and regulatory compliance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the Inter Access Point Protocol recommended practices being developed by 802.11 Task Group 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terminal assisted handoff decisions (to insure media stream can be handled by new AP before disconnec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for load balancing within the 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adhere to existing or upcoming IETF standa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ETF and 802.1 QoS sup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547-2866-4C7D-872C-37D883232C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oS Requir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multiple priorities and classes of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Class of Service three years in the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for QoS Streams and bursty data concurrent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“toll quality” voice, audio, and video strea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multiple simultaneous streams with differing priority and class requir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interactive data stre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dynamic bandwidth allocation and/or reserv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for classes of service where acknowledgement is not mand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A764-58C8-40E9-B0EB-15CC817025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oS Taxonom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3429000"/>
            <a:ext cx="45720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43434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52578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08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238880" y="34290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26640" y="2971800"/>
            <a:ext cx="1439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raffic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2700000">
            <a:off x="3152880" y="2712960"/>
            <a:ext cx="11970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st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840" y="4440240"/>
            <a:ext cx="15994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D, CBR vo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7960" y="5334120"/>
            <a:ext cx="19926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Rate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MPEG4, VBR vo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38720" y="1371600"/>
            <a:ext cx="25351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rvice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2700000">
            <a:off x="3748320" y="2497320"/>
            <a:ext cx="1681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ed Ji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700000">
            <a:off x="4643640" y="2516040"/>
            <a:ext cx="17197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uaranteed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700000">
            <a:off x="5240520" y="2376000"/>
            <a:ext cx="2050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ynamic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700000">
            <a:off x="7043400" y="2786040"/>
            <a:ext cx="8845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9160" y="3602160"/>
            <a:ext cx="140436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sty / Asy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web, file, i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0EB-3C27-4E5C-9255-4BF923CFABC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prevent unauthorized authentication or re-authentication with an AP as those terms are defined within the 802.11 spec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be able to prevent unauthorized access by unauthenticated peers over the lin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allow for mutual authentication of STA and AP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authentication mechanisms must fit within the designated multi-media authentication and re-authentication time budget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framework should make no assumption whether peer authentication is machine or user authentication, as different organizations will establish different policies regarding who or what is authentic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Requirements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0DA-0849-4944-9A64-65C96E445D4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Requirements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692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protect network traffic from eavesdropping to a reasonable level compatible with the state of the a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allow for authentication of the source of each packet, to prevent link hijacking or undetected insertion of rogue packets into the link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security to protect copyrighted media stream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preserve the security characteristics of content stre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prevent content stream the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6058-F378-4E9E-B7FD-128902647C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Requirements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92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allow key distribution or derivation of per-link or per-session ke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strongly protect keys and passwords from recovery by eavesdropp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bility, Compatibility, and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provide a mechanism for extensibility to allow new algorithms to be supported without changing the standard. (reference document 00/065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proposal that allows for more than one algorithm must support negotiation to a common algorith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not compromise (i.e., break the security of) existing industry standard network user authentication methods and techniques used within the framework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must coexist with existing industry standard network user authentication methods and techniques (e.g., RADIUS-based authentic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2646-5E8C-4B0A-B9BE-3613C293D16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urity Requirements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8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framework must scal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, “self-managing” or “unmanaged” environments (etc., home, SOH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 hoc wireless 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 environments (e.g., office campuses, factorie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 environments (e.g., hotels, public servic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and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cause minimal computational expense consistent with meeting other requi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use public and/or standard algorithms to the greatest extent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framework should minimize the number of mandatory cryptographic algorith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im Godfrey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C22D-BE6E-4F75-B08F-FAE7024E502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1T15:04:56Z</dcterms:created>
  <dc:creator>Tim Godfrey</dc:creator>
  <dc:description/>
  <dc:language>en-US</dc:language>
  <cp:lastModifiedBy>Tim Godfrey</cp:lastModifiedBy>
  <cp:lastPrinted>1998-02-10T13:28:06Z</cp:lastPrinted>
  <dcterms:modified xsi:type="dcterms:W3CDTF">2000-06-08T03:57:31Z</dcterms:modified>
  <cp:revision>13</cp:revision>
  <dc:subject/>
  <dc:title>802.11 TGe Requirements</dc:title>
</cp:coreProperties>
</file>