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39C4-8650-40F6-8DA8-64637B12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9E7-03A3-473E-95A7-14BCD97C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436-3006-451B-89FC-334461B9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F595-9C39-4773-9D8D-6B02C1B43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0476-96E5-4E83-AB0D-64E685F3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A47-E372-451E-9830-88FDEF61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C67-846D-4E31-936B-DDF11666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2A9-D268-45E2-AF26-7DD0B04F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633-2662-41A5-AEAE-D2017C39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3E6-2E88-449C-8652-372B4DD8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5FFF-2D9D-4E61-84DD-BFF0AD5F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8672-A3AD-4122-8EB9-E7C6761F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09BB40-3535-4456-976F-2B620031B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odel Proposal for 802.11e MAC Simulations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ghyun Ch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0B5-34DD-4A7C-B55F-45B2BF91939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like to include the complicated PHY behavior for MAC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 to incorporate the PHY behavior for MAC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free PHY assumption is too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rror assumption does not reflect the re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state Markov channel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accepted model for link layer eval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s the bursty error behavior of the wireles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0CFA-C4B3-4AB1-BBC1-A7B4DAD9E46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wo-State Markov Mod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bit error probabilit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,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good state)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,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bad s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transition probabilities (or rates in se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,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,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,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,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,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,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s in each state for an exponentially-distribute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438280" y="4114800"/>
          <a:ext cx="426744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426744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0E5C-5B03-46E9-9322-836318236C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Two Extreme Case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sty err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,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,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t 1 received in error / Pkt 2 received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rro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in Bad state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,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371600" y="2666880"/>
          <a:ext cx="625788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666880"/>
                    <a:ext cx="625788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DCEB-D097-459C-A31E-6E9ACD6376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ther Concer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hannel behavior determined for each transmitter-receiver pair due to location-dependent channe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at time t, channel (STA A, STA B) in bad state while channel (STA B, STA C) in goo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ssume that channels (STA A, STA B) and (STA B, STA C) are independent for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stic values of the proba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ask the folks working in PHY in 802.11 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C36-73CF-43AF-9A22-041DB28C4C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9:59:52Z</dcterms:created>
  <dc:creator>Sunghyun Choi</dc:creator>
  <dc:description/>
  <dc:language>en-US</dc:language>
  <cp:lastModifiedBy>Harry R. Worstell</cp:lastModifiedBy>
  <cp:lastPrinted>1998-02-10T13:28:06Z</cp:lastPrinted>
  <dcterms:modified xsi:type="dcterms:W3CDTF">2000-07-19T20:34:28Z</dcterms:modified>
  <cp:revision>7</cp:revision>
  <dc:subject>Submission</dc:subject>
  <dc:title>Channel model for 802.11 MAC evaluation</dc:title>
</cp:coreProperties>
</file>