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51C-65D1-4EE8-9DC4-21D442AD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59B-968C-4809-8734-A4FA6C8C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14D-F661-41C3-AD49-76C26CF5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2B4-A3EC-47D9-AA0F-D8808ACE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582-9627-498F-A03A-BB232821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C51-D8B3-419D-8C84-5A3C51B7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664-8D62-4821-8028-DF59644C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353-79B3-4665-9F74-F6DBA97C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6AB0-C0D0-4F10-9FD9-2CCB6275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B091-FB4E-4671-ABA0-BEF56A8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27A-F0C7-4611-B0C8-6C2D3C5A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FD68-3B3E-45B5-9EB8-BEBF539E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ilips Research-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806E80B-A74B-4A69-B26D-B55EC9916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Model Proposal v2.0 for 802.11e MAC Simulations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411444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ard Cervelló, Sunghyun Choi, and Daji Qi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911-5EF4-4588-9D5E-AA9CC176C7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efinitions of 3 Reg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on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TA1 receives frames from STA2 correctly in most (?)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physical and virtual sensing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R (not SIR) &gt; 15dB for .11b 11Mb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on 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TA senses STA3, i.e., channel “busy”, but cannot receive frames correctly in most (?)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physical sensing i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gion I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: STA1 cannot sense STA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CA “idle” during STA4’s trans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537-04D5-4AD0-879F-75BE5EE64E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or Simulation Purpos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terministic model for simplif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-channel interference, then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bability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f the sending STA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orrect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hannel “busy” but no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gion I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channel “id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, Staircase (or on/off) BER cu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i of two ci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 (of outer circle) is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1 (of inner circle) depends on PHY 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939A-9BAB-411D-AB40-8ED10DA6FC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IR-Driven Frame Recep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frames from STA2 to be correctly received by STA1, two conditions nee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&lt; R1, i.e., STA2 should be in region I of STA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 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ased on S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im’s paper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 in case of .11b 11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371600" y="3657600"/>
          <a:ext cx="7032600" cy="34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657600"/>
                    <a:ext cx="7032600" cy="34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93D-69A5-4B21-82C4-5281B0099F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mplementation Sugges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model may be implemen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e some stages in the original pipeli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dify certain stage in the pipeline to handle the distance issue and calculate the S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istance tables/external files ar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OPNET provides a TDA symbolic constant “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PC_TDA_RA_START_D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, and by using it as the parameter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rnel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op_td_get_dbl” will return the distance between two 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97DF-27A3-418F-8218-97D7D2284A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rther Possibilitie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didn’t consider these since they are not essential currently, but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troduce continuous BER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staircase BER curves in our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what are the reasonable curves for each PHY ra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666880" y="4114800"/>
          <a:ext cx="4572000" cy="257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114800"/>
                    <a:ext cx="45720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AEC-4906-4929-B8CC-863FA7F3C8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rther Possibilitie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troduce a Markov channel model for our Region I to capture the fading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hannel is in the bad state, the frame reception may fail even if the two conditions are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, since we are not working on the user mobility currently, is it wor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62C-F8F8-43A7-84E9-047470BE463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pen Ques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1 (radius of Region I) is determined based on PHY data rate, but h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eal with multiple interfering S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dominated by the closest interfering S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im: 15dB is the desirable SIR for proper .11b 11Mbps operation, how to get this value of 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A6F-9462-4BC4-B77E-D746CE9DD15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/comments recap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hannel model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R-based channel sens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-driven frame recep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suggestion in OP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questions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4CAE-D391-497D-98FD-E4449093AF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Assumption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As transmitting frames at the same power lev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terested in user mo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not evaluate FEC schemes in the MAC sim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C performance depends on error bit positions from PHY, which cannot be modeled realis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not interested in number/positions of the bit errors; only frame error o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8FF4-6A84-47BA-B633-D37BEABB3E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 Wim’s Idea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-level error performance is not needed for MAC mode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 is interference-bounded instead of noise-bou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fading could be modeled by adding a normal distribution fading component to every signal path calculation, which is not difficult to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900-316F-4E83-9706-33F271BD12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 Wim’s Idea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ality, error probability will increase over an SIR range, but a hard limit approach is probably adequate for our purpose, although doing so will hardly impact simulation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5E7-A132-4601-B57A-4C55C1D1CA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 Matt’s Emai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an extra channel model in the 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R/CIR based model might be overk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inst symbol/bit based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odel is only a small percentage of the total proces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cl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model only a few BSSs using the SNR/CIR based model, and model the traffic from other BSSs probabilis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B51-5B7B-42BC-B5C6-D4F7C35E53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Recap Raju’s Sugges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ng a new channe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rame is decided to be received or not  based on SIR and collision s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s within the frame are based on the Markov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in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R model” stage performs the SIR che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 model” stage performs the Markov model, and errors/locations are read from external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FD35-2D69-4612-A19D-02C096F55E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New Channel Mod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ot Markov chain mod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ov chain model is good for fading effects,   not for interference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terested in simulation of mobility, which results in fading in mos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ey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R-based channel sen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ing attenuation and backgroun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-driven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ing co-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51C-8B43-435D-9050-9B530D526F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nnel Sensing Mod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vised 3-reg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2192400"/>
          <a:ext cx="5486400" cy="41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192400"/>
                    <a:ext cx="548640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945-3D5F-4093-AD20-1D3829A4EE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4T19:59:52Z</dcterms:created>
  <dc:creator>Sunghyun Choi</dc:creator>
  <dc:description/>
  <dc:language>en-US</dc:language>
  <cp:lastModifiedBy>Harry R. Worstell</cp:lastModifiedBy>
  <cp:lastPrinted>2000-06-24T19:53:15Z</cp:lastPrinted>
  <dcterms:modified xsi:type="dcterms:W3CDTF">2000-06-30T02:35:52Z</dcterms:modified>
  <cp:revision>42</cp:revision>
  <dc:subject/>
  <dc:title>No Slide Title</dc:title>
</cp:coreProperties>
</file>