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4A8-E986-44D9-9E15-3C64DE12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94D-20CC-4D00-B01F-EB087A8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35A-E24A-4044-82A3-F065C56EB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BC0-336F-4F97-BF34-80245DEA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C2B-3CB7-44CD-839B-3050FD6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11E5-DF12-465D-8B07-72D6F3B9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DEC-F235-4A91-9A58-562F0A7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D37-30A6-4CE2-BF47-DE7D68EB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9E39-BF75-4FAD-A64F-55E92E71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A7D7-930D-4B26-BB8F-9465F6CB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69D7-C2DE-4044-9361-1E61EB7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7C6-7131-4348-B607-68E48067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et al, 3Com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1155F5-595F-4644-BAD6-B0B0ECDC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63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6160" y="6446880"/>
            <a:ext cx="2160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standards.ieee.org/regauth/oui/index.shtml" TargetMode="External"/><Relationship Id="rId2" Type="http://schemas.openxmlformats.org/officeDocument/2006/relationships/hyperlink" Target="http://standards.ieee.org/regauth/ethertype/index.html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for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3comlogo" descr=""/>
          <p:cNvPicPr/>
          <p:nvPr/>
        </p:nvPicPr>
        <p:blipFill>
          <a:blip r:embed="rId1"/>
          <a:stretch/>
        </p:blipFill>
        <p:spPr>
          <a:xfrm>
            <a:off x="6400800" y="4876920"/>
            <a:ext cx="2343240" cy="140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027-8FA6-45D1-9DA7-E770F16C94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its of Flex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dors can adapt quickly to changes in the security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ndard does not need to be changed for this reason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ket can select the “correct”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both competition and interoperability within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0D6-E518-4702-847D-8A3D74A058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s of 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s the negotiation before authentication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authentication frame stays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algorithm number for extensi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basic format of Authentication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new information element to second and third authentication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independence of choice for all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ignificantly greater identifie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values are assigned independently to each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6A4-72CD-425F-B49D-B925E680A55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the text in document 00/163 to define the Extensible Security algorithm, frame exchanges and Security Negotiation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a registration proce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ant must have an IEEE-assigned O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algorithm and handshake protocol details must be provided, including external references (if 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xchange for providing registration services, IEEE gets right to publish details (preferably on web 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a pointer to the registration web site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E3A-3523-482D-8004-AD3CC32157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istration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registration process that allows anyone to petition the IEEE for a new value to be used in this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ctly the same as the process used for OUI and Ethertype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1"/>
              </a:rPr>
              <a:t>http://standards.ieee.org/regauth/oui/index.shtml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Times New Roman"/>
                <a:hlinkClick r:id="rId2"/>
              </a:rPr>
              <a:t>http://standards.ieee.org/regauth/ethertype/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ull disclosure of information to enable multi-vend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701-BA00-41C8-91C2-EC7762F936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ural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a proposal to IEEE Registration Authority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o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should it be registe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pecial procedures are nee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RAC meeting is at this ple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with IEEE staff to implement the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037-AB45-4C67-A5F9-5F5C7888164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one (or no more than two) algorithms for each algorithm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th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 the registration information (OUI and algorithm number)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 that the selected algorithms be implemented if the negotiated security option is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vides an immediate base for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472D-4624-4E9B-BF6A-3259C9A61B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B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lgorithms to be included in the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PICS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MIB stuff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A3A2-72B0-4727-9207-051F04C054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e for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a mechanism based on negotiation, rather than fixed requirements in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 for ongoing adaptability and inno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processes that encourage/enforce exchang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one (or two) starting points using the new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637B-FE86-4BD1-9732-4FB74CAEEEB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sible 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al enhancement of security for 802.11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rames exchanged during nego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edes actual authentication, but is part of authentication frame e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fails unless successful security negotiation is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9C2-FA66-46F2-A7DC-9572B741EE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ion 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1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for authentication (algorithm =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2 (responder to reque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ty asser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abl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3 (requester to respon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accepte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0FFD-5353-47A1-90BC-C4D8C4D61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gotiat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ity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establis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-key der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5024-A754-469B-9DDC-C9A621B510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urity Negotiation Information El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0720" y="1828800"/>
            <a:ext cx="7313040" cy="4579920"/>
            <a:chOff x="990720" y="1828800"/>
            <a:chExt cx="7313040" cy="4579920"/>
          </a:xfrm>
        </p:grpSpPr>
        <p:grpSp>
          <p:nvGrpSpPr>
            <p:cNvPr id="58" name=""/>
            <p:cNvGrpSpPr/>
            <p:nvPr/>
          </p:nvGrpSpPr>
          <p:grpSpPr>
            <a:xfrm>
              <a:off x="999360" y="1830600"/>
              <a:ext cx="7294320" cy="4575960"/>
              <a:chOff x="999360" y="1830600"/>
              <a:chExt cx="7294320" cy="457596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999360" y="1830600"/>
                <a:ext cx="3646800" cy="254160"/>
                <a:chOff x="999360" y="1830600"/>
                <a:chExt cx="3646800" cy="25416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12608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 I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99936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646520" y="1830600"/>
                <a:ext cx="3646800" cy="254160"/>
                <a:chOff x="4646520" y="1830600"/>
                <a:chExt cx="3646800" cy="2541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773240" y="18306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ngth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646520" y="18306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999360" y="2084760"/>
                <a:ext cx="7294320" cy="254160"/>
                <a:chOff x="999360" y="2084760"/>
                <a:chExt cx="7294320" cy="2541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126080" y="20847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Validity Perio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99360" y="20847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99360" y="2338920"/>
                <a:ext cx="3646800" cy="254160"/>
                <a:chOff x="999360" y="2338920"/>
                <a:chExt cx="3646800" cy="2541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12608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99936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646520" y="2338920"/>
                <a:ext cx="3646800" cy="254160"/>
                <a:chOff x="4646520" y="2338920"/>
                <a:chExt cx="3646800" cy="25416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773240" y="2338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646520" y="2338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99360" y="2593080"/>
                <a:ext cx="3646800" cy="254160"/>
                <a:chOff x="999360" y="2593080"/>
                <a:chExt cx="3646800" cy="25416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112608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A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99936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4646520" y="2593080"/>
                <a:ext cx="3646800" cy="254160"/>
                <a:chOff x="4646520" y="2593080"/>
                <a:chExt cx="3646800" cy="25416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4773240" y="2593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646520" y="2593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999360" y="2847240"/>
                <a:ext cx="7294320" cy="254160"/>
                <a:chOff x="999360" y="2847240"/>
                <a:chExt cx="7294320" cy="2541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126080" y="2847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999360" y="2847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999360" y="3101760"/>
                <a:ext cx="3646800" cy="254160"/>
                <a:chOff x="999360" y="3101760"/>
                <a:chExt cx="3646800" cy="2541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12608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9936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4646520" y="3101760"/>
                <a:ext cx="3646800" cy="254160"/>
                <a:chOff x="4646520" y="3101760"/>
                <a:chExt cx="3646800" cy="2541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4773240" y="31017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646520" y="31017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999360" y="3355920"/>
                <a:ext cx="3646800" cy="254160"/>
                <a:chOff x="999360" y="3355920"/>
                <a:chExt cx="3646800" cy="25416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12608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P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99936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46520" y="3355920"/>
                <a:ext cx="3646800" cy="254160"/>
                <a:chOff x="4646520" y="3355920"/>
                <a:chExt cx="3646800" cy="2541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773240" y="33559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46520" y="33559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999360" y="3610080"/>
                <a:ext cx="7294320" cy="254160"/>
                <a:chOff x="999360" y="3610080"/>
                <a:chExt cx="7294320" cy="2541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1126080" y="361008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ivacy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999360" y="361008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99360" y="3864240"/>
                <a:ext cx="3646800" cy="254160"/>
                <a:chOff x="999360" y="3864240"/>
                <a:chExt cx="3646800" cy="2541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12608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9936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4646520" y="3864240"/>
                <a:ext cx="3646800" cy="254160"/>
                <a:chOff x="4646520" y="3864240"/>
                <a:chExt cx="3646800" cy="2541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773240" y="3864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646520" y="3864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999360" y="4118400"/>
                <a:ext cx="3646800" cy="254160"/>
                <a:chOff x="999360" y="4118400"/>
                <a:chExt cx="3646800" cy="254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12608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K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99936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46520" y="4118400"/>
                <a:ext cx="3646800" cy="254160"/>
                <a:chOff x="4646520" y="4118400"/>
                <a:chExt cx="3646800" cy="2541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4773240" y="411840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46520" y="411840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999360" y="4372560"/>
                <a:ext cx="7294320" cy="254160"/>
                <a:chOff x="999360" y="4372560"/>
                <a:chExt cx="7294320" cy="254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1126080" y="437256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ey Establishment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99360" y="437256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999360" y="4627080"/>
                <a:ext cx="3646800" cy="254160"/>
                <a:chOff x="999360" y="4627080"/>
                <a:chExt cx="3646800" cy="2541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12608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936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46520" y="4627080"/>
                <a:ext cx="3646800" cy="254160"/>
                <a:chOff x="4646520" y="4627080"/>
                <a:chExt cx="3646800" cy="2541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4773240" y="462708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46520" y="462708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999360" y="4881240"/>
                <a:ext cx="3646800" cy="254160"/>
                <a:chOff x="999360" y="4881240"/>
                <a:chExt cx="3646800" cy="254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12608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M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99936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46520" y="4881240"/>
                <a:ext cx="3646800" cy="254160"/>
                <a:chOff x="4646520" y="4881240"/>
                <a:chExt cx="3646800" cy="2541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773240" y="488124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646520" y="488124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999360" y="5135400"/>
                <a:ext cx="7294320" cy="254160"/>
                <a:chOff x="999360" y="5135400"/>
                <a:chExt cx="7294320" cy="254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126080" y="5135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ssage Authentic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9360" y="5135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99360" y="5389560"/>
                <a:ext cx="3646800" cy="254160"/>
                <a:chOff x="999360" y="5389560"/>
                <a:chExt cx="3646800" cy="254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12608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2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9936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646520" y="5389560"/>
                <a:ext cx="3646800" cy="254160"/>
                <a:chOff x="4646520" y="5389560"/>
                <a:chExt cx="3646800" cy="254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773240" y="538956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1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646520" y="538956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999360" y="5643720"/>
                <a:ext cx="3646800" cy="254160"/>
                <a:chOff x="999360" y="5643720"/>
                <a:chExt cx="3646800" cy="25416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12608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istering OUI S (0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99936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646520" y="5643720"/>
                <a:ext cx="3646800" cy="254160"/>
                <a:chOff x="4646520" y="5643720"/>
                <a:chExt cx="3646800" cy="25416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773240" y="5643720"/>
                  <a:ext cx="339336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tor 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646520" y="5643720"/>
                  <a:ext cx="364680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999360" y="5898240"/>
                <a:ext cx="7294320" cy="254160"/>
                <a:chOff x="999360" y="5898240"/>
                <a:chExt cx="7294320" cy="254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126080" y="589824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ub-key Derivation Algorith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999360" y="589824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99360" y="6152400"/>
                <a:ext cx="7294320" cy="254160"/>
                <a:chOff x="999360" y="6152400"/>
                <a:chExt cx="7294320" cy="2541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126080" y="6152400"/>
                  <a:ext cx="7040880" cy="25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…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99360" y="6152400"/>
                  <a:ext cx="7294320" cy="25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6" name=""/>
            <p:cNvSpPr/>
            <p:nvPr/>
          </p:nvSpPr>
          <p:spPr>
            <a:xfrm>
              <a:off x="990720" y="1828800"/>
              <a:ext cx="7313040" cy="4579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EFD-132F-4B8F-B2A5-6A03104FABD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icator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7: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6: Deprec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5: Reser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4: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3: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2: Key Establish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1: Message Integ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0: Sub-key Der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79D4-A45B-420A-88F1-4FD75F0418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ation Element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er s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acceptable key validity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cceptable algorithms, at least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mark algorithms “preferred” and “depreca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er s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validity period no greater than that sent by respo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accepted algorithms, only one of each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14F-BB79-4315-ADC7-FBF02667B1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s or Fail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each step of the negotiation, success or failure is indicated in the status cod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 in current authentication 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to use negotiated security in fram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er can refuse the offered algorithms in frame 3 (if one or more of the algorithm types does not have an acceptable ch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r can refuse requester’s choices in the first frame of the subsequent authentication handshake (frame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8CF6-4938-4582-84DE-B0A56A438E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7-10T23:05:19Z</dcterms:modified>
  <cp:revision>53</cp:revision>
  <dc:subject/>
  <dc:title>00/163a Proposal for Extensible Security</dc:title>
</cp:coreProperties>
</file>