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9F85E8-B146-4446-8A63-957ED2EDF3A9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9C0CE37-C9D1-4189-A816-5A30608BDA50}" type="datetime12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:22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3DC2CB-11CE-4F19-A1B4-9405CDDB9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960" y="8985240"/>
            <a:ext cx="71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2933280" y="8984880"/>
            <a:ext cx="8017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118C8B7-54A9-400F-840F-8F2771867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771720" y="8984880"/>
            <a:ext cx="2509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467160" y="97200"/>
            <a:ext cx="2814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54120" y="97200"/>
            <a:ext cx="2736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94F818-0479-4BCE-B230-EB055A8B05C9}" type="datetime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C2A42C1-B6F5-4071-96A1-82E371B981CE}" type="datetime12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:22 AM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768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23400" y="4408200"/>
            <a:ext cx="50864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4CC4C-9B01-4F00-95BD-9AD7C8593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98AA-F07F-4AD2-BED2-7BE01F3E5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B6E0-D35C-407C-8591-4E61818BB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5D29A-FED0-4461-8C04-7C8AB1A1E1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7635-28C3-4680-BD9B-3D9DA8C96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EB309-5D45-47F6-B374-831538861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0D35-94ED-40D8-ADF3-4A9C1E709E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56FB0-C277-47E7-B96F-AA267E5160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ADEE5-76F2-4C31-91E6-D48594087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D7972-05C7-4191-80E0-05A846DDA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BADD-10E5-4EA3-B348-3E071DE01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36DC-52B8-4C06-8192-8392D79B0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2B2D75-5396-430A-A9BE-B1808272D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7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2840" y="360360"/>
            <a:ext cx="77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4"/>
                </a:solidFill>
                <a:latin typeface="Times New Roman"/>
              </a:rPr>
              <a:t>July 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:  A 5-GHz Unifie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OFDM Extensions for Supporting Multiple Classes of Devices in 5 GHz  Wireless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58895-5E41-4E3D-A0AB-07C382805A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2000" y="685440"/>
            <a:ext cx="859644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/HiperLAN2 OFDM PH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6720" y="40482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 and HiperlanII have very similar OFDM PHY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MHz channel is divided into 52 carriers (48 carry data, 4 are pilot signals) -- 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Times New Roman"/>
              </a:rPr>
              <a:t>all 52 carriers are alway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rates from 6 Mb/s to 54 Mb/s are supported by varying modulation and error correction 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arrier is ~300kHz wide, giving raw data rates from 125kb/s to 1.5Mb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70320" y="2932200"/>
            <a:ext cx="385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2148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19680" y="2257560"/>
            <a:ext cx="3168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7916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877000" y="2257560"/>
            <a:ext cx="3168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3576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03576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9344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19272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5004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35004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0736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650700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6504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66432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2164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82164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7932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97860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3592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13592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5832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15832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66120" y="21351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27640" y="2678040"/>
            <a:ext cx="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94280" y="3013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27640" y="3016080"/>
            <a:ext cx="35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24000" y="17524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66080" y="2678040"/>
            <a:ext cx="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1720" y="2257560"/>
            <a:ext cx="31320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8001000" y="2257560"/>
            <a:ext cx="313920" cy="134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0400" y="327024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68200">
            <a:off x="4111200" y="190152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2089080"/>
            <a:ext cx="3146400" cy="6098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6840" y="320040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MHz OFDM channels in 5 GHz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93040" y="278928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35240" y="361152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600" y="2946240"/>
            <a:ext cx="4087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36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4808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16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3820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3204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2552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1792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1140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0524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7280" y="2860560"/>
            <a:ext cx="0" cy="169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52320" y="2298600"/>
            <a:ext cx="785160" cy="927360"/>
            <a:chOff x="652320" y="2298600"/>
            <a:chExt cx="785160" cy="927360"/>
          </a:xfrm>
        </p:grpSpPr>
        <p:sp>
          <p:nvSpPr>
            <p:cNvPr id="147" name=""/>
            <p:cNvSpPr/>
            <p:nvPr/>
          </p:nvSpPr>
          <p:spPr>
            <a:xfrm flipH="1">
              <a:off x="65232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887760" y="2298600"/>
              <a:ext cx="313920" cy="262800"/>
              <a:chOff x="887760" y="2298600"/>
              <a:chExt cx="313920" cy="262800"/>
            </a:xfrm>
          </p:grpSpPr>
          <p:sp>
            <p:nvSpPr>
              <p:cNvPr id="149" name=""/>
              <p:cNvSpPr/>
              <p:nvPr/>
            </p:nvSpPr>
            <p:spPr>
              <a:xfrm flipV="1">
                <a:off x="887760" y="2308320"/>
                <a:ext cx="0" cy="25308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>
                <a:off x="1201680" y="2308320"/>
                <a:ext cx="0" cy="253080"/>
              </a:xfrm>
              <a:prstGeom prst="line">
                <a:avLst/>
              </a:prstGeom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4240" y="2298600"/>
                <a:ext cx="30420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96732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46160" y="2298600"/>
            <a:ext cx="785160" cy="927360"/>
            <a:chOff x="1046160" y="2298600"/>
            <a:chExt cx="785160" cy="927360"/>
          </a:xfrm>
        </p:grpSpPr>
        <p:sp>
          <p:nvSpPr>
            <p:cNvPr id="154" name=""/>
            <p:cNvSpPr/>
            <p:nvPr/>
          </p:nvSpPr>
          <p:spPr>
            <a:xfrm flipH="1">
              <a:off x="104616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1281600" y="2298600"/>
              <a:ext cx="313920" cy="262800"/>
              <a:chOff x="1281600" y="2298600"/>
              <a:chExt cx="313920" cy="26280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1281600" y="2308320"/>
                <a:ext cx="0" cy="253080"/>
              </a:xfrm>
              <a:prstGeom prst="line">
                <a:avLst/>
              </a:prstGeom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1595520" y="2308320"/>
                <a:ext cx="0" cy="253080"/>
              </a:xfrm>
              <a:prstGeom prst="line">
                <a:avLst/>
              </a:prstGeom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288080" y="2298600"/>
                <a:ext cx="30420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36116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438200" y="2298600"/>
            <a:ext cx="786240" cy="927360"/>
            <a:chOff x="1438200" y="2298600"/>
            <a:chExt cx="786240" cy="927360"/>
          </a:xfrm>
        </p:grpSpPr>
        <p:sp>
          <p:nvSpPr>
            <p:cNvPr id="161" name=""/>
            <p:cNvSpPr/>
            <p:nvPr/>
          </p:nvSpPr>
          <p:spPr>
            <a:xfrm flipH="1">
              <a:off x="1438200" y="2551680"/>
              <a:ext cx="47088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674000" y="2298600"/>
              <a:ext cx="314280" cy="262800"/>
              <a:chOff x="1674000" y="2298600"/>
              <a:chExt cx="314280" cy="262800"/>
            </a:xfrm>
          </p:grpSpPr>
          <p:sp>
            <p:nvSpPr>
              <p:cNvPr id="163" name=""/>
              <p:cNvSpPr/>
              <p:nvPr/>
            </p:nvSpPr>
            <p:spPr>
              <a:xfrm flipV="1">
                <a:off x="1674000" y="2308320"/>
                <a:ext cx="0" cy="25308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1988280" y="2308320"/>
                <a:ext cx="0" cy="253080"/>
              </a:xfrm>
              <a:prstGeom prst="line">
                <a:avLst/>
              </a:prstGeom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80480" y="2298600"/>
                <a:ext cx="30456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1753560" y="2551680"/>
              <a:ext cx="47088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32040" y="2298600"/>
            <a:ext cx="785160" cy="927360"/>
            <a:chOff x="1832040" y="2298600"/>
            <a:chExt cx="785160" cy="927360"/>
          </a:xfrm>
        </p:grpSpPr>
        <p:sp>
          <p:nvSpPr>
            <p:cNvPr id="168" name=""/>
            <p:cNvSpPr/>
            <p:nvPr/>
          </p:nvSpPr>
          <p:spPr>
            <a:xfrm flipH="1">
              <a:off x="183204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2067480" y="2298600"/>
              <a:ext cx="313920" cy="262800"/>
              <a:chOff x="2067480" y="2298600"/>
              <a:chExt cx="313920" cy="262800"/>
            </a:xfrm>
          </p:grpSpPr>
          <p:sp>
            <p:nvSpPr>
              <p:cNvPr id="170" name=""/>
              <p:cNvSpPr/>
              <p:nvPr/>
            </p:nvSpPr>
            <p:spPr>
              <a:xfrm flipV="1">
                <a:off x="2067480" y="2308320"/>
                <a:ext cx="0" cy="253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381400" y="2308320"/>
                <a:ext cx="0" cy="2530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073960" y="2298600"/>
                <a:ext cx="30420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214704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225520" y="2298600"/>
            <a:ext cx="785160" cy="927360"/>
            <a:chOff x="2225520" y="2298600"/>
            <a:chExt cx="785160" cy="927360"/>
          </a:xfrm>
        </p:grpSpPr>
        <p:sp>
          <p:nvSpPr>
            <p:cNvPr id="175" name=""/>
            <p:cNvSpPr/>
            <p:nvPr/>
          </p:nvSpPr>
          <p:spPr>
            <a:xfrm flipH="1">
              <a:off x="222552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460960" y="2298600"/>
              <a:ext cx="313920" cy="262800"/>
              <a:chOff x="2460960" y="2298600"/>
              <a:chExt cx="313920" cy="26280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2460960" y="2308320"/>
                <a:ext cx="0" cy="25308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774880" y="2308320"/>
                <a:ext cx="0" cy="25308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67440" y="2298600"/>
                <a:ext cx="30420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54052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617920" y="2298600"/>
            <a:ext cx="786240" cy="927360"/>
            <a:chOff x="2617920" y="2298600"/>
            <a:chExt cx="786240" cy="927360"/>
          </a:xfrm>
        </p:grpSpPr>
        <p:sp>
          <p:nvSpPr>
            <p:cNvPr id="182" name=""/>
            <p:cNvSpPr/>
            <p:nvPr/>
          </p:nvSpPr>
          <p:spPr>
            <a:xfrm flipH="1">
              <a:off x="2617920" y="2551680"/>
              <a:ext cx="47088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853720" y="2298600"/>
              <a:ext cx="314280" cy="262800"/>
              <a:chOff x="2853720" y="2298600"/>
              <a:chExt cx="314280" cy="262800"/>
            </a:xfrm>
          </p:grpSpPr>
          <p:sp>
            <p:nvSpPr>
              <p:cNvPr id="184" name=""/>
              <p:cNvSpPr/>
              <p:nvPr/>
            </p:nvSpPr>
            <p:spPr>
              <a:xfrm flipV="1">
                <a:off x="2853720" y="2308320"/>
                <a:ext cx="0" cy="2530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3168000" y="2308320"/>
                <a:ext cx="0" cy="253080"/>
              </a:xfrm>
              <a:prstGeom prst="line">
                <a:avLst/>
              </a:prstGeom>
              <a:ln w="1908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60200" y="2298600"/>
                <a:ext cx="30456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2933280" y="2551680"/>
              <a:ext cx="47088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011400" y="2298600"/>
            <a:ext cx="785160" cy="927360"/>
            <a:chOff x="3011400" y="2298600"/>
            <a:chExt cx="785160" cy="927360"/>
          </a:xfrm>
        </p:grpSpPr>
        <p:sp>
          <p:nvSpPr>
            <p:cNvPr id="189" name=""/>
            <p:cNvSpPr/>
            <p:nvPr/>
          </p:nvSpPr>
          <p:spPr>
            <a:xfrm flipH="1">
              <a:off x="301140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3246840" y="2298600"/>
              <a:ext cx="313920" cy="262800"/>
              <a:chOff x="3246840" y="2298600"/>
              <a:chExt cx="313920" cy="262800"/>
            </a:xfrm>
          </p:grpSpPr>
          <p:sp>
            <p:nvSpPr>
              <p:cNvPr id="191" name=""/>
              <p:cNvSpPr/>
              <p:nvPr/>
            </p:nvSpPr>
            <p:spPr>
              <a:xfrm flipV="1">
                <a:off x="3246840" y="2308320"/>
                <a:ext cx="0" cy="2530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3560760" y="2308320"/>
                <a:ext cx="0" cy="2530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53320" y="2298600"/>
                <a:ext cx="30420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332640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405240" y="2298600"/>
            <a:ext cx="785160" cy="927360"/>
            <a:chOff x="3405240" y="2298600"/>
            <a:chExt cx="785160" cy="927360"/>
          </a:xfrm>
        </p:grpSpPr>
        <p:sp>
          <p:nvSpPr>
            <p:cNvPr id="196" name=""/>
            <p:cNvSpPr/>
            <p:nvPr/>
          </p:nvSpPr>
          <p:spPr>
            <a:xfrm flipH="1">
              <a:off x="340524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640680" y="2298600"/>
              <a:ext cx="313920" cy="262800"/>
              <a:chOff x="3640680" y="2298600"/>
              <a:chExt cx="313920" cy="26280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3640680" y="2308320"/>
                <a:ext cx="0" cy="25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954600" y="2308320"/>
                <a:ext cx="0" cy="25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647160" y="2298600"/>
                <a:ext cx="304200" cy="38520"/>
              </a:xfrm>
              <a:custGeom>
                <a:avLst/>
                <a:gdLst/>
                <a:ahLst/>
                <a:rect l="l" t="t" r="r" b="b"/>
                <a:pathLst>
                  <a:path w="186" h="22">
                    <a:moveTo>
                      <a:pt x="0" y="0"/>
                    </a:moveTo>
                    <a:cubicBezTo>
                      <a:pt x="43" y="16"/>
                      <a:pt x="83" y="18"/>
                      <a:pt x="129" y="22"/>
                    </a:cubicBezTo>
                    <a:cubicBezTo>
                      <a:pt x="141" y="20"/>
                      <a:pt x="152" y="18"/>
                      <a:pt x="164" y="15"/>
                    </a:cubicBezTo>
                    <a:cubicBezTo>
                      <a:pt x="171" y="13"/>
                      <a:pt x="186" y="8"/>
                      <a:pt x="186" y="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720240" y="2551680"/>
              <a:ext cx="470160" cy="674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3562200" y="2130480"/>
            <a:ext cx="471600" cy="3366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4D6DA-251F-4BFB-8BB4-63FE98D914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641760" y="2514600"/>
            <a:ext cx="1825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3448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pt for Scalable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71400" y="4419360"/>
            <a:ext cx="7772400" cy="2252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 5-UP concept extends the OFDM system to support multiple data rates and usage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evice can easily omit selected carriers from the OFDM 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data rate devices can occupy the frequency slots that were omitted by other n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DM frequency spacing provides excellent isolation between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52680" y="2341440"/>
            <a:ext cx="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52680" y="2879640"/>
            <a:ext cx="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19670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6400" y="251460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06400" y="223992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06400" y="278928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6400" y="333864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6400" y="397836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55920" y="1725480"/>
            <a:ext cx="914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4x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co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iF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and multiplex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173340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0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43040" y="2239920"/>
            <a:ext cx="3668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D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10 b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3040" y="2697120"/>
            <a:ext cx="3668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DA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10 b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274920" y="2239920"/>
            <a:ext cx="366840" cy="274680"/>
            <a:chOff x="3274920" y="2239920"/>
            <a:chExt cx="366840" cy="274680"/>
          </a:xfrm>
        </p:grpSpPr>
        <p:grpSp>
          <p:nvGrpSpPr>
            <p:cNvPr id="219" name=""/>
            <p:cNvGrpSpPr/>
            <p:nvPr/>
          </p:nvGrpSpPr>
          <p:grpSpPr>
            <a:xfrm>
              <a:off x="3367080" y="2239920"/>
              <a:ext cx="182520" cy="182880"/>
              <a:chOff x="3367080" y="2239920"/>
              <a:chExt cx="182520" cy="182880"/>
            </a:xfrm>
          </p:grpSpPr>
          <p:sp>
            <p:nvSpPr>
              <p:cNvPr id="220" name=""/>
              <p:cNvSpPr/>
              <p:nvPr/>
            </p:nvSpPr>
            <p:spPr>
              <a:xfrm>
                <a:off x="3367080" y="2239920"/>
                <a:ext cx="182520" cy="182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397320" y="2270160"/>
                <a:ext cx="12852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3392280" y="2270160"/>
                <a:ext cx="128520" cy="12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3549600" y="23320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74920" y="233208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9240" y="2422800"/>
              <a:ext cx="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3367080" y="2514600"/>
            <a:ext cx="18252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9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274920" y="2697120"/>
            <a:ext cx="366840" cy="274320"/>
            <a:chOff x="3274920" y="2697120"/>
            <a:chExt cx="366840" cy="274320"/>
          </a:xfrm>
        </p:grpSpPr>
        <p:grpSp>
          <p:nvGrpSpPr>
            <p:cNvPr id="228" name=""/>
            <p:cNvGrpSpPr/>
            <p:nvPr/>
          </p:nvGrpSpPr>
          <p:grpSpPr>
            <a:xfrm>
              <a:off x="3367080" y="2788920"/>
              <a:ext cx="182520" cy="182520"/>
              <a:chOff x="3367080" y="2788920"/>
              <a:chExt cx="182520" cy="182520"/>
            </a:xfrm>
          </p:grpSpPr>
          <p:sp>
            <p:nvSpPr>
              <p:cNvPr id="229" name=""/>
              <p:cNvSpPr/>
              <p:nvPr/>
            </p:nvSpPr>
            <p:spPr>
              <a:xfrm flipV="1">
                <a:off x="3367080" y="2788560"/>
                <a:ext cx="182520" cy="182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3397320" y="2813040"/>
                <a:ext cx="12852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3392280" y="2813040"/>
                <a:ext cx="12852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3549600" y="288000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274920" y="2880000"/>
              <a:ext cx="9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459240" y="2697120"/>
              <a:ext cx="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002040" y="2239920"/>
            <a:ext cx="27288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02040" y="2789280"/>
            <a:ext cx="27288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34"/>
                </a:solidFill>
                <a:latin typeface="Times New Roman"/>
              </a:rPr>
              <a:t>fil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41760" y="2332080"/>
            <a:ext cx="92160" cy="18252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0"/>
                </a:moveTo>
                <a:lnTo>
                  <a:pt x="144" y="0"/>
                </a:lnTo>
                <a:lnTo>
                  <a:pt x="14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41760" y="2697120"/>
            <a:ext cx="92160" cy="18252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0" y="288"/>
                </a:moveTo>
                <a:lnTo>
                  <a:pt x="144" y="288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24280" y="2239920"/>
            <a:ext cx="182520" cy="366840"/>
          </a:xfrm>
          <a:custGeom>
            <a:avLst/>
            <a:gdLst/>
            <a:ahLst/>
            <a:rect l="l" t="t" r="r" b="b"/>
            <a:pathLst>
              <a:path w="288" h="576">
                <a:moveTo>
                  <a:pt x="0" y="576"/>
                </a:moveTo>
                <a:lnTo>
                  <a:pt x="288" y="576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916440" y="2239920"/>
            <a:ext cx="9036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006800" y="2239920"/>
            <a:ext cx="9216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09880" y="233208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09880" y="2879640"/>
            <a:ext cx="9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259000"/>
            <a:ext cx="1343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27320" y="3292560"/>
            <a:ext cx="8222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57640" y="393228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pt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2532240"/>
            <a:ext cx="13431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1996920"/>
            <a:ext cx="108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0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440160"/>
            <a:ext cx="10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0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93800" y="3668760"/>
            <a:ext cx="73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3706920"/>
            <a:ext cx="1006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89280" y="307332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222800" y="2463840"/>
            <a:ext cx="304560" cy="1218600"/>
            <a:chOff x="4222800" y="2463840"/>
            <a:chExt cx="304560" cy="1218600"/>
          </a:xfrm>
        </p:grpSpPr>
        <p:sp>
          <p:nvSpPr>
            <p:cNvPr id="254" name=""/>
            <p:cNvSpPr/>
            <p:nvPr/>
          </p:nvSpPr>
          <p:spPr>
            <a:xfrm>
              <a:off x="42235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422280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375080" y="2463840"/>
            <a:ext cx="304560" cy="1218600"/>
            <a:chOff x="4375080" y="2463840"/>
            <a:chExt cx="304560" cy="1218600"/>
          </a:xfrm>
        </p:grpSpPr>
        <p:sp>
          <p:nvSpPr>
            <p:cNvPr id="257" name=""/>
            <p:cNvSpPr/>
            <p:nvPr/>
          </p:nvSpPr>
          <p:spPr>
            <a:xfrm>
              <a:off x="437580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37508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832280" y="2463840"/>
            <a:ext cx="304560" cy="1218600"/>
            <a:chOff x="4832280" y="2463840"/>
            <a:chExt cx="304560" cy="1218600"/>
          </a:xfrm>
        </p:grpSpPr>
        <p:sp>
          <p:nvSpPr>
            <p:cNvPr id="260" name=""/>
            <p:cNvSpPr/>
            <p:nvPr/>
          </p:nvSpPr>
          <p:spPr>
            <a:xfrm>
              <a:off x="483300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83228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984920" y="2463840"/>
            <a:ext cx="303840" cy="1218600"/>
            <a:chOff x="4984920" y="2463840"/>
            <a:chExt cx="303840" cy="1218600"/>
          </a:xfrm>
        </p:grpSpPr>
        <p:sp>
          <p:nvSpPr>
            <p:cNvPr id="263" name=""/>
            <p:cNvSpPr/>
            <p:nvPr/>
          </p:nvSpPr>
          <p:spPr>
            <a:xfrm>
              <a:off x="4985640" y="2463840"/>
              <a:ext cx="3031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49849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137200" y="2463840"/>
            <a:ext cx="304560" cy="1218600"/>
            <a:chOff x="5137200" y="2463840"/>
            <a:chExt cx="304560" cy="1218600"/>
          </a:xfrm>
        </p:grpSpPr>
        <p:sp>
          <p:nvSpPr>
            <p:cNvPr id="266" name=""/>
            <p:cNvSpPr/>
            <p:nvPr/>
          </p:nvSpPr>
          <p:spPr>
            <a:xfrm>
              <a:off x="51379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13720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89480" y="2463840"/>
            <a:ext cx="304560" cy="1218600"/>
            <a:chOff x="5289480" y="2463840"/>
            <a:chExt cx="304560" cy="1218600"/>
          </a:xfrm>
        </p:grpSpPr>
        <p:sp>
          <p:nvSpPr>
            <p:cNvPr id="269" name=""/>
            <p:cNvSpPr/>
            <p:nvPr/>
          </p:nvSpPr>
          <p:spPr>
            <a:xfrm>
              <a:off x="529020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528948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442120" y="2463840"/>
            <a:ext cx="303840" cy="1218600"/>
            <a:chOff x="5442120" y="2463840"/>
            <a:chExt cx="303840" cy="1218600"/>
          </a:xfrm>
        </p:grpSpPr>
        <p:sp>
          <p:nvSpPr>
            <p:cNvPr id="272" name=""/>
            <p:cNvSpPr/>
            <p:nvPr/>
          </p:nvSpPr>
          <p:spPr>
            <a:xfrm>
              <a:off x="5442840" y="2463840"/>
              <a:ext cx="3031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54421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594400" y="2463840"/>
            <a:ext cx="304560" cy="1218600"/>
            <a:chOff x="5594400" y="2463840"/>
            <a:chExt cx="304560" cy="1218600"/>
          </a:xfrm>
        </p:grpSpPr>
        <p:sp>
          <p:nvSpPr>
            <p:cNvPr id="275" name=""/>
            <p:cNvSpPr/>
            <p:nvPr/>
          </p:nvSpPr>
          <p:spPr>
            <a:xfrm>
              <a:off x="55951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559440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6661080" y="2463840"/>
            <a:ext cx="304560" cy="1218600"/>
            <a:chOff x="6661080" y="2463840"/>
            <a:chExt cx="304560" cy="1218600"/>
          </a:xfrm>
        </p:grpSpPr>
        <p:sp>
          <p:nvSpPr>
            <p:cNvPr id="278" name=""/>
            <p:cNvSpPr/>
            <p:nvPr/>
          </p:nvSpPr>
          <p:spPr>
            <a:xfrm>
              <a:off x="666180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66108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4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3841920" y="28447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920" y="314964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27320" y="331488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2 Carr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6508800" y="2463840"/>
            <a:ext cx="304560" cy="1218600"/>
            <a:chOff x="6508800" y="2463840"/>
            <a:chExt cx="304560" cy="1218600"/>
          </a:xfrm>
        </p:grpSpPr>
        <p:sp>
          <p:nvSpPr>
            <p:cNvPr id="284" name=""/>
            <p:cNvSpPr/>
            <p:nvPr/>
          </p:nvSpPr>
          <p:spPr>
            <a:xfrm>
              <a:off x="65095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650880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746680" y="2463840"/>
            <a:ext cx="304560" cy="1218600"/>
            <a:chOff x="5746680" y="2463840"/>
            <a:chExt cx="304560" cy="1218600"/>
          </a:xfrm>
        </p:grpSpPr>
        <p:sp>
          <p:nvSpPr>
            <p:cNvPr id="287" name=""/>
            <p:cNvSpPr/>
            <p:nvPr/>
          </p:nvSpPr>
          <p:spPr>
            <a:xfrm>
              <a:off x="574740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74668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899320" y="2463840"/>
            <a:ext cx="303840" cy="1218600"/>
            <a:chOff x="5899320" y="2463840"/>
            <a:chExt cx="303840" cy="1218600"/>
          </a:xfrm>
        </p:grpSpPr>
        <p:sp>
          <p:nvSpPr>
            <p:cNvPr id="290" name=""/>
            <p:cNvSpPr/>
            <p:nvPr/>
          </p:nvSpPr>
          <p:spPr>
            <a:xfrm>
              <a:off x="5900040" y="2463840"/>
              <a:ext cx="3031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8993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6051600" y="2463840"/>
            <a:ext cx="304560" cy="1218600"/>
            <a:chOff x="6051600" y="2463840"/>
            <a:chExt cx="304560" cy="1218600"/>
          </a:xfrm>
        </p:grpSpPr>
        <p:sp>
          <p:nvSpPr>
            <p:cNvPr id="293" name=""/>
            <p:cNvSpPr/>
            <p:nvPr/>
          </p:nvSpPr>
          <p:spPr>
            <a:xfrm>
              <a:off x="60523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05160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203880" y="2463840"/>
            <a:ext cx="304560" cy="1218600"/>
            <a:chOff x="6203880" y="2463840"/>
            <a:chExt cx="304560" cy="1218600"/>
          </a:xfrm>
        </p:grpSpPr>
        <p:sp>
          <p:nvSpPr>
            <p:cNvPr id="296" name=""/>
            <p:cNvSpPr/>
            <p:nvPr/>
          </p:nvSpPr>
          <p:spPr>
            <a:xfrm>
              <a:off x="620460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6203880" y="2463840"/>
              <a:ext cx="30456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230720" y="30970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92640" y="161460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riers omitted by lap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56320" y="193032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56320" y="193032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56320" y="1930320"/>
            <a:ext cx="75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4681440" y="1930320"/>
            <a:ext cx="74880" cy="51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756320" y="193032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356520" y="2463840"/>
            <a:ext cx="303840" cy="1218600"/>
            <a:chOff x="6356520" y="2463840"/>
            <a:chExt cx="303840" cy="1218600"/>
          </a:xfrm>
        </p:grpSpPr>
        <p:sp>
          <p:nvSpPr>
            <p:cNvPr id="306" name=""/>
            <p:cNvSpPr/>
            <p:nvPr/>
          </p:nvSpPr>
          <p:spPr>
            <a:xfrm>
              <a:off x="6357240" y="2463840"/>
              <a:ext cx="30312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6356520" y="2463840"/>
              <a:ext cx="30384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57200" y="3097080"/>
            <a:ext cx="107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0kb/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066080" y="39765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P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718400" y="2195640"/>
            <a:ext cx="124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Vo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</a:rPr>
              <a:t>Cordless 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46280" y="3097080"/>
          <a:ext cx="99864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097080"/>
                    <a:ext cx="99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7396200" y="1596960"/>
            <a:ext cx="838080" cy="905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6711840" y="3508200"/>
          <a:ext cx="695520" cy="73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11840" y="3508200"/>
                    <a:ext cx="69552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316" name=""/>
          <p:cNvCxnSpPr>
            <a:stCxn id="313" idx="1"/>
            <a:endCxn id="279" idx="0"/>
          </p:cNvCxnSpPr>
          <p:nvPr/>
        </p:nvCxnSpPr>
        <p:spPr>
          <a:xfrm flipH="1">
            <a:off x="6813360" y="2049480"/>
            <a:ext cx="583200" cy="397440"/>
          </a:xfrm>
          <a:prstGeom prst="straightConnector1">
            <a:avLst/>
          </a:prstGeom>
          <a:ln w="9360">
            <a:solidFill>
              <a:srgbClr val="ffcc00"/>
            </a:solidFill>
            <a:miter/>
            <a:tailEnd len="med" type="triangle" w="lg"/>
          </a:ln>
        </p:spPr>
      </p:cxnSp>
      <p:cxnSp>
        <p:nvCxnSpPr>
          <p:cNvPr id="317" name=""/>
          <p:cNvCxnSpPr>
            <a:endCxn id="291" idx="0"/>
          </p:cNvCxnSpPr>
          <p:nvPr/>
        </p:nvCxnSpPr>
        <p:spPr>
          <a:xfrm flipH="1" flipV="1">
            <a:off x="5898600" y="3071520"/>
            <a:ext cx="813240" cy="805680"/>
          </a:xfrm>
          <a:prstGeom prst="straightConnector1">
            <a:avLst/>
          </a:prstGeom>
          <a:ln w="9360">
            <a:solidFill>
              <a:srgbClr val="6699ff"/>
            </a:solidFill>
            <a:miter/>
            <a:tailEnd len="med" type="triangle" w="lg"/>
          </a:ln>
        </p:spPr>
      </p:cxnSp>
      <p:cxnSp>
        <p:nvCxnSpPr>
          <p:cNvPr id="318" name=""/>
          <p:cNvCxnSpPr>
            <a:endCxn id="288" idx="0"/>
          </p:cNvCxnSpPr>
          <p:nvPr/>
        </p:nvCxnSpPr>
        <p:spPr>
          <a:xfrm flipH="1" flipV="1">
            <a:off x="5745960" y="3071520"/>
            <a:ext cx="965880" cy="805680"/>
          </a:xfrm>
          <a:prstGeom prst="straightConnector1">
            <a:avLst/>
          </a:prstGeom>
          <a:ln w="9360">
            <a:solidFill>
              <a:srgbClr val="6699ff"/>
            </a:solidFill>
            <a:miter/>
            <a:tailEnd len="med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DDCF-646E-408B-9332-5ACC073A465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85800" y="2871720"/>
            <a:ext cx="8077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ta Rat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pplic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arri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5 kb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dless phone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t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5 Mb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 fidelity audi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2 or 4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-QAM or QPSK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Mb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PEG2 video, DVD,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, 16, or 32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4QAM, 16QAM, or 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tellite, cable modem,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DSL, data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Mbp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DTV, future cable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, or 27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4QAM, 16Q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m and xDSL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 for 5-UP N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0000" y="184788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 5-UP approach provides options to efficiently meet data-rate requirements of  key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3EBDA-184B-4E8E-8045-87E842C4D0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Node Complexity and Power vs. Data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2352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504720" y="3421080"/>
          <a:ext cx="8342280" cy="259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3421080"/>
                    <a:ext cx="834228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33520" y="3909960"/>
            <a:ext cx="839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7160" y="2165400"/>
            <a:ext cx="86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 5-UP approach also should achieve the desired objective of devices whose power and complexity scale with data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4320" y="6067440"/>
            <a:ext cx="453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4"/>
                </a:solidFill>
                <a:latin typeface="Times New Roman"/>
              </a:rPr>
              <a:t>* TX power based on lower 100 MHz of US UNII b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1B695-1922-451F-BE45-6E823DA6E15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454880" cy="106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Operation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LC/MAC Co-exist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2920" y="5001840"/>
            <a:ext cx="8872560" cy="1025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67000"/>
          </a:bodyPr>
          <a:p>
            <a:pPr marL="229680" indent="-229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5-UP time period supports nodes that might need fewer than 52 carr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 of 5-UP time periods is managed by the Primary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with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5-UP time period is managed by the 5-UP MAC and be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inals with 5-UP can operate in any network that supports the 5-UP ex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3280" y="4251240"/>
            <a:ext cx="8634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049240" y="4248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7560" y="2341440"/>
            <a:ext cx="914400" cy="1909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1710720" y="3713040"/>
            <a:ext cx="177156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-UP beacon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711440" y="3289320"/>
            <a:ext cx="176832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-UP beacon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712880" y="2494080"/>
            <a:ext cx="175896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5-UP beaco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2764440" y="2935440"/>
            <a:ext cx="35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471840" y="2494080"/>
            <a:ext cx="137160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rri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01120" y="2346480"/>
            <a:ext cx="914400" cy="1904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95440" y="2917800"/>
            <a:ext cx="4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471840" y="3289320"/>
            <a:ext cx="137160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rrier 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3471840" y="3713040"/>
            <a:ext cx="137160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rrier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917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12040" y="2470320"/>
            <a:ext cx="199800" cy="1623960"/>
          </a:xfrm>
          <a:custGeom>
            <a:avLst/>
            <a:gdLst>
              <a:gd name="textAreaLeft" fmla="*/ 0 w 199800"/>
              <a:gd name="textAreaRight" fmla="*/ 72000 w 199800"/>
              <a:gd name="textAreaTop" fmla="*/ 42120 h 1623960"/>
              <a:gd name="textAreaBottom" fmla="*/ 1581840 h 16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6616"/>
                </a:lnTo>
                <a:cubicBezTo>
                  <a:pt x="10800" y="7516"/>
                  <a:pt x="16200" y="8416"/>
                  <a:pt x="21600" y="8416"/>
                </a:cubicBezTo>
                <a:cubicBezTo>
                  <a:pt x="16200" y="8416"/>
                  <a:pt x="10800" y="9316"/>
                  <a:pt x="10800" y="1021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03920" y="2708280"/>
            <a:ext cx="100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52 frequ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091120" y="2494080"/>
            <a:ext cx="137160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rri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091120" y="3289320"/>
            <a:ext cx="137160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rrier  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5091120" y="3713040"/>
            <a:ext cx="1371600" cy="36828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arrier 5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17480" y="2133720"/>
            <a:ext cx="29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ownlink Period     Uplink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0480" y="4589640"/>
            <a:ext cx="193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one 5-UP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17040" y="241128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65560" y="236376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4005000" y="2172600"/>
            <a:ext cx="274680" cy="4618080"/>
          </a:xfrm>
          <a:custGeom>
            <a:avLst/>
            <a:gdLst>
              <a:gd name="textAreaLeft" fmla="*/ 175680 w 274680"/>
              <a:gd name="textAreaRight" fmla="*/ 275040 w 274680"/>
              <a:gd name="textAreaTop" fmla="*/ 120240 h 4618080"/>
              <a:gd name="textAreaBottom" fmla="*/ 4497840 h 461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AC2D6-F9EF-4D14-8A9E-19AC8A7B75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16000" y="5597640"/>
            <a:ext cx="869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5-UP is a solution which can answer some of the key concerns with wireless LANs and help speed the expansion of the indus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-UP Extension Summar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52360" y="1824120"/>
            <a:ext cx="8710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nel is split into 52 dynamically allocated sub c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le cost, power, and bandwidth:  125kb/s to high r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operability for al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bandwidth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ly supports QoS for cordless phones to video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interoperability concerns - mobile terminals can work in either 802.11a or Hiperlan2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CE116-B6A4-4772-81CB-1178E6C9F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we Propos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s to both the ETSI BRAN and IEEE 802 proposing study groups from each organization which would work together to develop a common extension to both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SI BRAN Hiperlan2 plenary on 6/29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/802.15 on 7/12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plenary on 7/13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SI BRAN Hiperlan2 plenary 10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AD432-6F5D-408B-93CA-F4573A7E02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6960" y="1707840"/>
            <a:ext cx="8845560" cy="41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tions for ensuring continued broad market appeal of existing 5-GHz WLAN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cept for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uture exten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802.11a and Hiperlan2 th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ly supports multiple classes of devices within a single unified wireless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terminals of one type (Hiperlan2/5-UP or 802.11a/5-UP ) to participate in the other typ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posal to further explore and standardize the con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9946-C219-47F8-A057-8307B354ED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Vision for the Wireless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arent data, audio, and video connectivity between all computing and A/V devices in the office and the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and rel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biquitous and standards-ba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7800" y="5568840"/>
            <a:ext cx="8223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he vision for future wireless networking applications has the potential for strong appeal to a very broad mar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C4965-3900-422F-81C6-12AAB44749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87720" y="1736640"/>
            <a:ext cx="6203880" cy="3419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Home 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52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923400" y="3278160"/>
            <a:ext cx="1249560" cy="1440"/>
          </a:xfrm>
          <a:prstGeom prst="line">
            <a:avLst/>
          </a:prstGeom>
          <a:ln w="57240">
            <a:solidFill>
              <a:srgbClr val="ff505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454560" y="2479680"/>
            <a:ext cx="1198440" cy="45720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273720" y="3851280"/>
          <a:ext cx="998640" cy="10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3851280"/>
                    <a:ext cx="99864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flipV="1" rot="14072400">
            <a:off x="3723480" y="2660040"/>
            <a:ext cx="2392200" cy="208296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99cc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19680" y="1762200"/>
          <a:ext cx="695160" cy="73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19680" y="1762200"/>
                    <a:ext cx="69516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"/>
          <p:cNvSpPr/>
          <p:nvPr/>
        </p:nvSpPr>
        <p:spPr>
          <a:xfrm flipV="1">
            <a:off x="3168720" y="2226600"/>
            <a:ext cx="817560" cy="60948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ff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378240" y="2555280"/>
            <a:ext cx="2666880" cy="60948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 rot="14072400">
            <a:off x="3210840" y="3771000"/>
            <a:ext cx="1632240" cy="45396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378240" y="3012480"/>
            <a:ext cx="3124080" cy="228600"/>
          </a:xfrm>
          <a:custGeom>
            <a:avLst/>
            <a:gdLst/>
            <a:ahLst/>
            <a:rect l="l" t="t" r="r" b="b"/>
            <a:pathLst>
              <a:path w="424" h="332">
                <a:moveTo>
                  <a:pt x="423" y="331"/>
                </a:moveTo>
                <a:lnTo>
                  <a:pt x="145" y="186"/>
                </a:lnTo>
                <a:lnTo>
                  <a:pt x="305" y="191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99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654960" y="2708280"/>
            <a:ext cx="631800" cy="436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6045120" y="2022480"/>
            <a:ext cx="576360" cy="585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4587840" y="4498920"/>
            <a:ext cx="576360" cy="585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87720" y="2884320"/>
            <a:ext cx="1079280" cy="82404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face 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4541760" y="1881360"/>
            <a:ext cx="701640" cy="75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928800" y="3417840"/>
            <a:ext cx="1266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4"/>
                </a:solidFill>
                <a:latin typeface="Times New Roman"/>
              </a:rPr>
              <a:t>Broadband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0640" y="5308560"/>
            <a:ext cx="82234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To support the vision, it is desirable for a wireless LAN to provide a  unified, multi-service network, supporting multiple device classes and usage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B92BE-A040-4B89-A952-4A449E5758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4GHz Protocols - Independently Developed for Specific Usage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2960" y="223344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802.11b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HomeRF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luetoo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ded data rat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1 Mb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6 Mb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0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-user throughpu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5 Mb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8 Mb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.7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media suppo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-power oper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f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0f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f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e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orts roam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ctr" pos="3600360"/>
                <a:tab algn="ctr" pos="5143680"/>
                <a:tab algn="ctr" pos="68007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u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2640" y="5324400"/>
            <a:ext cx="811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Unfortunately, the protocols are incompatible with each other and can cause significant interference and inefficiencies if run  simultaneously in the same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95E9-1680-4676-816C-261CB0550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4GHz / 5GHz Industry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4 GHz is being perceived as a band that will result in dissatisfied WLAN users as a result of  spectrum overcrowding with incompatible protocols and interfer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5 GHz, Hiperlan2 and 802.11a have incompatible MAC/data link control (DLC) layers and neither adequately addresses the issue of low cost, low power, low speed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9800" y="5543640"/>
            <a:ext cx="835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 entire WLAN industry loses  if we let the 5 GHz band devolve into the same situation as the 2.4 GHz 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5AE4-AA31-46DB-BE61-E6D769A05B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ndustry Opportunity -  A Unified Protocol at 5GH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single, compatible, evolutionary extension to both Hiperlan 2 and 802.11a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and extends both existing WLAN standards, and does not impede the delivery of first generation products based on thos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scalability in power, price and performance  - 125 kbps through high rates (~100 Mb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devices with the extension to work in either an Hiperlan 2 or an 802.11a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6880" y="5572080"/>
            <a:ext cx="867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here is an opportunity to increase the appeal of existing standards today and expand their potential future applic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FD4EF-AD68-48C4-919E-B50E9A4EBC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 for a 5-GHz Unified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high-rate WLAN applications (~100 Mbp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a range of  “low data rate” WLAN devices that trade data rate for low cost and power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high and low speed multi-media traffic with guaranteed Quality of Servi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low devices of all data rates to form ad-hoc networ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Operate as a single, backward-compatible enhancement to both 802.11a and HiperLAN2 so that existing development can proceed without dela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6F4F6-6A6D-4B9E-A3AF-74DE047043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a, Hiperlan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fied protocol goals can conveniently be achieved by exploiting characteristics of the existing WLAN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and Hiperlan2 PHYs: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oth 802.11a and Hiperlan II h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nearly identical OFDM PHY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use 52 carriers in a 20MHz B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a and Hiperlan2 DLC/MAC features can be used to enable operation of the 5-UP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rl Temme, Atheros Communicait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98B73-408D-4FFE-B2FD-A5E45A62A2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Carl Temme</dc:creator>
  <dc:description/>
  <dc:language>en-US</dc:language>
  <cp:lastModifiedBy>Harry R. Worstell</cp:lastModifiedBy>
  <cp:lastPrinted>1998-02-10T13:28:06Z</cp:lastPrinted>
  <dcterms:modified xsi:type="dcterms:W3CDTF">2000-07-12T20:42:16Z</dcterms:modified>
  <cp:revision>53</cp:revision>
  <dc:subject/>
  <dc:title>A 5-GHz Unified Protocol</dc:title>
</cp:coreProperties>
</file>