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6DCB-9031-4C20-BFE3-91F44A86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E643-1E38-4447-A091-5ADF9D7B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5414-DD3E-4B17-861D-67B24A46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C936-2786-4246-92E2-BE9A148C1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58CA-AA29-41C3-A3D9-A2348428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342C-4C62-4CC5-AA40-16718B78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AAB7-0B8A-4941-A408-ACF615CD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BDC4-0C9A-46CA-9695-4CD7BBDE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5B55-2B0D-4197-A961-07CB1E08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36FF-6DB6-4A12-AEA0-82C2E607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7B78-95D4-402E-8AC6-48B125FF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4700-B793-48C8-AE5D-60E95C98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72576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cFarland, Chesson, Atheros Commun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5DEA5E8-EE66-4436-A7A1-42CE10B67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1676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1758E-5-UP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-GHz Unified Protocol (5-UP) Proposal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DM Extensions for 802.11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ll McFarland, billm@atheros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g Chesson, greg@atheros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l Temme, ctemme@atheros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heros 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B883-ABCE-4471-9266-5416A9DF65A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CC rules limit power spectral dens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devices scale power with the number of carr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carrier radios transmit with 1/5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power of standard 802.11a radios and would have similar r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multiple carriers for greater ran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C3BA-E525-4C75-8F8B-0BF3A7A14E0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path does not generate intersymbol interference (with OFDM): rather, it creates fa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pping of carriers can prevent long fades or interference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ding can also be reduced with antenna divers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1B36-B41E-453C-A011-D84FC62B77D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sufficient orthogonality for OF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ters lock to AP carrier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s track each carri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 T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ignment must preserve guard interv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open-loop and closed-loop solutions are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 for up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pen-loop control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09AD-EBCB-4B57-BAF2-EC8C6395F34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p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-UP mode controlled by 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-UP stations communicate via 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-hoc mode requires either master election, or a protocol subset prof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er to peer (direct link) possible, but complex for multiple simultaneous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FC25-AB73-4079-AB5E-98FF9F60C31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-UP MAC Conce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 one logical carrier for DCF up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for management and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implified) DATA frames on remaining c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 assigns ID for device/carrier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l via 5-UP Beacon (look for 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 for multiple 5-UP Beacons/P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7207-1313-4299-8554-F918AF20AAF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ier groups can be added to 802.11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capabilities for OFDM ra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 low-power/cost/speed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8 Mb/s data rate (or mo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Q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ssignments via carrier grou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wer slots leads to lower jitter, less overhe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ied approach to expand the market for wireless 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C6FD-343F-4B06-B249-A018D52CE29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-UP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and Wireless LAN applications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 100 Mb/s data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 low-cost, low-power, low-speed ra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 QoS and sca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coexistence and interop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low-end and high-end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legacy and extend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tible extensions to 802.11a and HiperLA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B0FD-9F43-44B8-A166-6353D4DB34D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anne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more bandwid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rri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roups for bandwidth sha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-carrier for low power/cost/sp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fied MAC for range of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4407-4DBB-4311-ABD7-EBB71FAA742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reased Bandwid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hanges to existing 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cal carriers, OFDM, pilots, modulation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2 adjacent OFDM channels: 108 Mb/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ly more than 2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compatible with single-channel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icated beacons and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/Stations operate in both dual/single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upon (expected) DFS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B8C8-5054-42D2-A901-F07F8B7500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-UP Mode for 802.11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ier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-UP Bea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-carrier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bust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 issues: frequency lock,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 protocol 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BE17-4F9E-4FC3-8154-7FCAB99CDE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rier 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3733920"/>
            <a:ext cx="807732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group includes 1 or more carri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ID assigned by A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’s appear in beac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-carrier: OFDM with selected bins nul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-carrier: less complex, low-power/cost/sp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taneous transmission of carrier grou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59040" y="2021040"/>
            <a:ext cx="609480" cy="121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44840" y="2097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4840" y="21733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44840" y="224964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44840" y="2325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44840" y="24019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44840" y="247824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44840" y="2554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44840" y="26305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44840" y="270684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44840" y="2782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44840" y="2859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44840" y="293544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44840" y="30114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44840" y="30877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44840" y="316404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44840" y="3240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40120" y="2097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40120" y="21733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40120" y="224964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40120" y="2325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40120" y="24019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40120" y="247824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40120" y="2554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40120" y="26305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40120" y="270684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40120" y="2782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40120" y="2859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40120" y="293544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40120" y="30114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40120" y="30877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40120" y="316404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40120" y="3240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28800"/>
            <a:ext cx="19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wnlink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Up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59040" y="2021040"/>
            <a:ext cx="609480" cy="1218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5000" y="1523880"/>
            <a:ext cx="654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a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5040" y="1981080"/>
            <a:ext cx="3607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48520" y="2057400"/>
            <a:ext cx="685800" cy="2286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2286000"/>
            <a:ext cx="685800" cy="76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2362320"/>
            <a:ext cx="685800" cy="7596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2438280"/>
            <a:ext cx="685800" cy="685800"/>
          </a:xfrm>
          <a:prstGeom prst="rect">
            <a:avLst/>
          </a:prstGeom>
          <a:solidFill>
            <a:srgbClr val="ff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3124080"/>
            <a:ext cx="685800" cy="76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3200400"/>
            <a:ext cx="685800" cy="76320"/>
          </a:xfrm>
          <a:prstGeom prst="rect">
            <a:avLst/>
          </a:prstGeom>
          <a:solidFill>
            <a:srgbClr val="cc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37040" y="3236760"/>
            <a:ext cx="250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Groups        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71840" y="2065320"/>
            <a:ext cx="23256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01480" y="1981080"/>
            <a:ext cx="23256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1765-D347-42F4-9C1F-852E1F5B6C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-UP Beac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F Beacon reserves media time for 5-UP mod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-UP Beacons control carrier group transf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led data transf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DMA also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2895480"/>
            <a:ext cx="6934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676520"/>
            <a:ext cx="990720" cy="1218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1676520"/>
            <a:ext cx="609480" cy="121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1676520"/>
            <a:ext cx="609480" cy="121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1676520"/>
            <a:ext cx="990360" cy="1218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748720" y="293220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27160" y="5751360"/>
            <a:ext cx="70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1752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1828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29000" y="1905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19810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20574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21337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22096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2286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23623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24382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2514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25909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2900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2743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28195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2900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1752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1828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1905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19810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20574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21337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22096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2286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3623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24382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2514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24280" y="25909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24280" y="2743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8195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2428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65440" y="2932200"/>
            <a:ext cx="19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wnlink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Up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5732280" y="211824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43200" y="1676520"/>
            <a:ext cx="609480" cy="1218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19680" y="1941480"/>
            <a:ext cx="130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CF          5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acon   Beac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1676520"/>
            <a:ext cx="990720" cy="1218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4560" y="289548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CF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05720" y="1676520"/>
            <a:ext cx="990360" cy="1218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40960" y="29718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CF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ADD6-DC8F-4739-BB3D-0CF9CAC290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5-UP Peri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91320" y="4648320"/>
            <a:ext cx="1447560" cy="0"/>
          </a:xfrm>
          <a:prstGeom prst="line">
            <a:avLst/>
          </a:prstGeom>
          <a:ln w="7632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3809880"/>
            <a:ext cx="1371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hone3"/>
          <p:cNvSpPr/>
          <p:nvPr/>
        </p:nvSpPr>
        <p:spPr>
          <a:xfrm>
            <a:off x="7315200" y="2895480"/>
            <a:ext cx="457200" cy="4572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hone3"/>
          <p:cNvSpPr/>
          <p:nvPr/>
        </p:nvSpPr>
        <p:spPr>
          <a:xfrm>
            <a:off x="7315200" y="3581280"/>
            <a:ext cx="457200" cy="4572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monitor"/>
          <p:cNvSpPr/>
          <p:nvPr/>
        </p:nvSpPr>
        <p:spPr>
          <a:xfrm>
            <a:off x="7315200" y="4191120"/>
            <a:ext cx="981000" cy="981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computr3"/>
          <p:cNvSpPr/>
          <p:nvPr/>
        </p:nvSpPr>
        <p:spPr>
          <a:xfrm>
            <a:off x="7315200" y="5486400"/>
            <a:ext cx="1047600" cy="704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5791320"/>
            <a:ext cx="1447560" cy="0"/>
          </a:xfrm>
          <a:prstGeom prst="line">
            <a:avLst/>
          </a:prstGeom>
          <a:ln w="38160">
            <a:solidFill>
              <a:srgbClr val="cc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3276720"/>
            <a:ext cx="1371600" cy="0"/>
          </a:xfrm>
          <a:prstGeom prst="line">
            <a:avLst/>
          </a:prstGeom>
          <a:ln w="19080">
            <a:solidFill>
              <a:srgbClr val="ff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2514600"/>
            <a:ext cx="1371600" cy="0"/>
          </a:xfrm>
          <a:prstGeom prst="line">
            <a:avLst/>
          </a:prstGeom>
          <a:ln w="1908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1981080"/>
            <a:ext cx="1371600" cy="0"/>
          </a:xfrm>
          <a:prstGeom prst="line">
            <a:avLst/>
          </a:prstGeom>
          <a:ln w="1908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3124080"/>
            <a:ext cx="1143000" cy="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3200400"/>
            <a:ext cx="11430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3880" y="3276720"/>
            <a:ext cx="1143000" cy="0"/>
          </a:xfrm>
          <a:prstGeom prst="line">
            <a:avLst/>
          </a:prstGeom>
          <a:ln w="1260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3880" y="33526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3429000"/>
            <a:ext cx="1143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23880" y="3505320"/>
            <a:ext cx="1143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3581280"/>
            <a:ext cx="1143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3657600"/>
            <a:ext cx="1143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3880" y="3733920"/>
            <a:ext cx="1143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3809880"/>
            <a:ext cx="1143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3880" y="3886200"/>
            <a:ext cx="1143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3880" y="3962520"/>
            <a:ext cx="1143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4038480"/>
            <a:ext cx="1143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4114800"/>
            <a:ext cx="1143000" cy="0"/>
          </a:xfrm>
          <a:prstGeom prst="line">
            <a:avLst/>
          </a:prstGeom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4191120"/>
            <a:ext cx="1143000" cy="0"/>
          </a:xfrm>
          <a:prstGeom prst="line">
            <a:avLst/>
          </a:prstGeom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4267080"/>
            <a:ext cx="1143000" cy="0"/>
          </a:xfrm>
          <a:prstGeom prst="line">
            <a:avLst/>
          </a:prstGeom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3124080"/>
            <a:ext cx="1143000" cy="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3200400"/>
            <a:ext cx="1143000" cy="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3276720"/>
            <a:ext cx="1143000" cy="0"/>
          </a:xfrm>
          <a:prstGeom prst="line">
            <a:avLst/>
          </a:prstGeom>
          <a:ln w="1260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19520" y="33526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3429000"/>
            <a:ext cx="1143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19520" y="3505320"/>
            <a:ext cx="1143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19520" y="3581280"/>
            <a:ext cx="1143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3657600"/>
            <a:ext cx="1143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3733920"/>
            <a:ext cx="1143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19520" y="3809880"/>
            <a:ext cx="1143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3886200"/>
            <a:ext cx="1143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19520" y="3962520"/>
            <a:ext cx="1143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4038480"/>
            <a:ext cx="1143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19520" y="4114800"/>
            <a:ext cx="1143000" cy="0"/>
          </a:xfrm>
          <a:prstGeom prst="line">
            <a:avLst/>
          </a:prstGeom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4191120"/>
            <a:ext cx="1143000" cy="0"/>
          </a:xfrm>
          <a:prstGeom prst="line">
            <a:avLst/>
          </a:prstGeom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4267080"/>
            <a:ext cx="1143000" cy="0"/>
          </a:xfrm>
          <a:prstGeom prst="line">
            <a:avLst/>
          </a:prstGeom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12960" y="2855880"/>
            <a:ext cx="19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wnlink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Up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038480" y="1980720"/>
            <a:ext cx="1828800" cy="114300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4038480" y="2514240"/>
            <a:ext cx="1905120" cy="685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3276720"/>
            <a:ext cx="1828800" cy="0"/>
          </a:xfrm>
          <a:prstGeom prst="line">
            <a:avLst/>
          </a:prstGeom>
          <a:ln w="1260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3352680"/>
            <a:ext cx="18288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38480" y="3429000"/>
            <a:ext cx="76320" cy="685800"/>
          </a:xfrm>
          <a:custGeom>
            <a:avLst/>
            <a:gdLst>
              <a:gd name="textAreaLeft" fmla="*/ 0 w 76320"/>
              <a:gd name="textAreaRight" fmla="*/ 5364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23880" y="4343400"/>
            <a:ext cx="1143000" cy="0"/>
          </a:xfrm>
          <a:prstGeom prst="line">
            <a:avLst/>
          </a:prstGeom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3880" y="4419720"/>
            <a:ext cx="1143000" cy="0"/>
          </a:xfrm>
          <a:prstGeom prst="line">
            <a:avLst/>
          </a:prstGeom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23880" y="4495680"/>
            <a:ext cx="1143000" cy="0"/>
          </a:xfrm>
          <a:prstGeom prst="line">
            <a:avLst/>
          </a:prstGeom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4572000"/>
            <a:ext cx="1143000" cy="0"/>
          </a:xfrm>
          <a:prstGeom prst="line">
            <a:avLst/>
          </a:prstGeom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4343400"/>
            <a:ext cx="1143000" cy="0"/>
          </a:xfrm>
          <a:prstGeom prst="line">
            <a:avLst/>
          </a:prstGeom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4419720"/>
            <a:ext cx="1143000" cy="0"/>
          </a:xfrm>
          <a:prstGeom prst="line">
            <a:avLst/>
          </a:prstGeom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4495680"/>
            <a:ext cx="1143000" cy="0"/>
          </a:xfrm>
          <a:prstGeom prst="line">
            <a:avLst/>
          </a:prstGeom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19520" y="4572000"/>
            <a:ext cx="1143000" cy="0"/>
          </a:xfrm>
          <a:prstGeom prst="line">
            <a:avLst/>
          </a:prstGeom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14800" y="3733920"/>
            <a:ext cx="1676520" cy="9144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38480" y="4191120"/>
            <a:ext cx="76320" cy="380880"/>
          </a:xfrm>
          <a:custGeom>
            <a:avLst/>
            <a:gdLst>
              <a:gd name="textAreaLeft" fmla="*/ 0 w 76320"/>
              <a:gd name="textAreaRight" fmla="*/ 53640 w 76320"/>
              <a:gd name="textAreaTop" fmla="*/ 15840 h 380880"/>
              <a:gd name="textAreaBottom" fmla="*/ 3650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14800" y="4419720"/>
            <a:ext cx="1676520" cy="1371600"/>
          </a:xfrm>
          <a:prstGeom prst="line">
            <a:avLst/>
          </a:prstGeom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08400" y="1636560"/>
            <a:ext cx="88488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 c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 c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 c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 c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0 c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4 c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600200"/>
            <a:ext cx="281160" cy="533520"/>
          </a:xfrm>
          <a:prstGeom prst="bevel">
            <a:avLst>
              <a:gd name="adj" fmla="val 125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209680"/>
            <a:ext cx="281160" cy="533520"/>
          </a:xfrm>
          <a:prstGeom prst="bevel">
            <a:avLst>
              <a:gd name="adj" fmla="val 125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C1BF-20C9-462F-8B33-B0AB0B2A107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Carrier U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37335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p on all carr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sequence for all carr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possible algorith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brid of hopping and OFDM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52480" y="1905120"/>
            <a:ext cx="685800" cy="2286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52480" y="2133720"/>
            <a:ext cx="685800" cy="75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2480" y="2209680"/>
            <a:ext cx="685800" cy="763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52480" y="2286000"/>
            <a:ext cx="685800" cy="685800"/>
          </a:xfrm>
          <a:prstGeom prst="rect">
            <a:avLst/>
          </a:prstGeom>
          <a:solidFill>
            <a:srgbClr val="ff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2480" y="2971800"/>
            <a:ext cx="685800" cy="76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52480" y="3048120"/>
            <a:ext cx="685800" cy="75960"/>
          </a:xfrm>
          <a:prstGeom prst="rect">
            <a:avLst/>
          </a:prstGeom>
          <a:solidFill>
            <a:srgbClr val="cc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39360" y="1905120"/>
            <a:ext cx="23256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19810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20574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21337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22096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2286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23623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24382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2514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25909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27432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28195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29718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3048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3520" y="31240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86200" y="2209680"/>
            <a:ext cx="685800" cy="2286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2438280"/>
            <a:ext cx="685800" cy="76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2514600"/>
            <a:ext cx="685800" cy="7632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2590920"/>
            <a:ext cx="685800" cy="533160"/>
          </a:xfrm>
          <a:prstGeom prst="rect">
            <a:avLst/>
          </a:prstGeom>
          <a:solidFill>
            <a:srgbClr val="ff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6200" y="1905120"/>
            <a:ext cx="685800" cy="152280"/>
          </a:xfrm>
          <a:prstGeom prst="rect">
            <a:avLst/>
          </a:prstGeom>
          <a:solidFill>
            <a:srgbClr val="ff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86200" y="2058840"/>
            <a:ext cx="685800" cy="74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2135160"/>
            <a:ext cx="685800" cy="74520"/>
          </a:xfrm>
          <a:prstGeom prst="rect">
            <a:avLst/>
          </a:prstGeom>
          <a:solidFill>
            <a:srgbClr val="cc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3080" y="1828800"/>
            <a:ext cx="2325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2743200"/>
            <a:ext cx="685800" cy="2286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48520" y="2971800"/>
            <a:ext cx="685800" cy="763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248520" y="3048120"/>
            <a:ext cx="685800" cy="7596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248520" y="1905120"/>
            <a:ext cx="685800" cy="685800"/>
          </a:xfrm>
          <a:prstGeom prst="rect">
            <a:avLst/>
          </a:prstGeom>
          <a:solidFill>
            <a:srgbClr val="ff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48520" y="2592360"/>
            <a:ext cx="685800" cy="74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48520" y="2668680"/>
            <a:ext cx="685800" cy="74520"/>
          </a:xfrm>
          <a:prstGeom prst="rect">
            <a:avLst/>
          </a:prstGeom>
          <a:solidFill>
            <a:srgbClr val="cc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935400" y="2209680"/>
            <a:ext cx="2325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6880" y="1981080"/>
            <a:ext cx="11430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76920" y="2362320"/>
            <a:ext cx="12952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3F71-8C88-43D1-9987-A962B2ABD26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Carl Temme</cp:lastModifiedBy>
  <cp:lastPrinted>1998-02-10T13:28:06Z</cp:lastPrinted>
  <dcterms:modified xsi:type="dcterms:W3CDTF">2000-07-13T16:48:37Z</dcterms:modified>
  <cp:revision>39</cp:revision>
  <dc:subject/>
  <dc:title>No Slide Title</dc:title>
</cp:coreProperties>
</file>