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FC5A-5AFB-46BC-B129-13DB1FBA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A79-D9C4-4F84-9C19-1902638E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00C-7F66-46EA-A935-C0DC83C6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348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2C4-7629-4363-9A69-D0A55438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8861-CEAF-46F6-AE8A-DD816970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621-7CAD-4DF4-AB33-D50A0B4E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DB0-FF4D-4313-80CA-51CCA335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0E5B-442D-40C2-9921-620CD95E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342-8E69-4904-A7DA-BAD7E2C7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5C4B-5640-4B89-BB67-3E51CD32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348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812-466E-44A8-A76F-50BA9CF1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34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AD1-05D8-4609-8700-4732130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51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915736-1770-4939-94FF-2BCE29435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15156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1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36504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8360" y="2057040"/>
            <a:ext cx="6932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Proposal for IEEE 802.11e Secur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09840" y="3276360"/>
            <a:ext cx="624672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 Task Group E July 2000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asad, Anand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rasad1@lucent.co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ji, Alex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aji@lucent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3A3-D7E7-4042-BFC0-85AEB2B37D9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203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blic Key Exchange Requi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good pseudo random number 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400" spc="-1" strike="noStrike">
                <a:solidFill>
                  <a:srgbClr val="ff3f3f"/>
                </a:solidFill>
                <a:latin typeface="Times New Roman"/>
              </a:rPr>
              <a:t>MD5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ff3f3f"/>
                </a:solidFill>
                <a:latin typeface="Times New Roman"/>
              </a:rPr>
              <a:t>SHA(x,y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e-way hashing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calculate exponential modulus of large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f3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f3f"/>
                </a:solidFill>
                <a:latin typeface="Times New Roman"/>
              </a:rPr>
              <a:t>G</a:t>
            </a:r>
            <a:r>
              <a:rPr b="1" lang="en-US" sz="2400" spc="-1" strike="noStrike" baseline="30000">
                <a:solidFill>
                  <a:srgbClr val="ff3f3f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3f3f"/>
                </a:solidFill>
                <a:latin typeface="Times New Roman"/>
              </a:rPr>
              <a:t> MOD 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where p is 768 or 1024 bit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</a:t>
            </a:r>
            <a:r>
              <a:rPr b="0" lang="en-US" sz="2400" spc="-1" strike="noStrike">
                <a:solidFill>
                  <a:srgbClr val="ff3f3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3f3f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3f3f"/>
                </a:solidFill>
                <a:latin typeface="Times New Roman"/>
              </a:rPr>
              <a:t> MOD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for RSA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ity to verify certificate digital sign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 standard verification (NIST FIP-18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SHA(x,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g</a:t>
            </a:r>
            <a:r>
              <a:rPr b="1" lang="en-US" sz="2000" spc="-1" strike="noStrike" baseline="30000">
                <a:solidFill>
                  <a:srgbClr val="ff3f3f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 MOD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g</a:t>
            </a:r>
            <a:r>
              <a:rPr b="1" lang="en-US" sz="2000" spc="-1" strike="noStrike" baseline="30000">
                <a:solidFill>
                  <a:srgbClr val="ff3f3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 MOD 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A signature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SHA(x,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ff3f3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3f3f"/>
                </a:solidFill>
                <a:latin typeface="Times New Roman"/>
              </a:rPr>
              <a:t> MOD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c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B71-3526-4B66-9C9A-B91CD824DA4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Key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05000" y="1905120"/>
            <a:ext cx="14414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83160" y="1828800"/>
            <a:ext cx="144180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90800" y="2533680"/>
            <a:ext cx="0" cy="37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39160" y="2457360"/>
            <a:ext cx="0" cy="394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77920" y="289548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78560" y="2490840"/>
            <a:ext cx="3394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al values, Key (g^x), 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937880" y="4267080"/>
            <a:ext cx="5270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5040" y="3938760"/>
            <a:ext cx="41241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ed proposal, Key (g^y), 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77920" y="57150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39400" y="5310360"/>
            <a:ext cx="631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80520" y="5869080"/>
            <a:ext cx="311688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ey = Hash(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88400" y="3049560"/>
            <a:ext cx="2152080" cy="33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^xy = (g^x)^y MOD 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0440" y="3506760"/>
            <a:ext cx="4321440" cy="6426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Hash(g^xy+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+g^y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8640" y="4878360"/>
            <a:ext cx="486324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Hash(g^xy+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y + g^x 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40040" y="4344840"/>
            <a:ext cx="2152080" cy="33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^xy = (g^y)^x MOD 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160" y="5869080"/>
            <a:ext cx="311688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ey = Hash(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64A-D6FE-4A57-9776-927A26D0153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Key Exchange + Certificate Authent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05000" y="1905120"/>
            <a:ext cx="14414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83160" y="1828800"/>
            <a:ext cx="144180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90800" y="2533680"/>
            <a:ext cx="0" cy="37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39160" y="2457360"/>
            <a:ext cx="0" cy="379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77920" y="304812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68480" y="2643120"/>
            <a:ext cx="49863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al, Key (g^x), 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ff3f3f"/>
                </a:solidFill>
                <a:latin typeface="Times New Roman"/>
              </a:rPr>
              <a:t>Certificate Re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937880" y="3962520"/>
            <a:ext cx="5270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1080" y="3568680"/>
            <a:ext cx="53172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al, </a:t>
            </a:r>
            <a:r>
              <a:rPr b="0" lang="en-US" sz="1600" spc="-1" strike="noStrike">
                <a:solidFill>
                  <a:srgbClr val="ff3f3f"/>
                </a:solidFill>
                <a:latin typeface="Times New Roman"/>
              </a:rPr>
              <a:t>Certificate[BSSID,g^y,Signature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77920" y="495288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71000" y="4548240"/>
            <a:ext cx="631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760" y="5106960"/>
            <a:ext cx="311688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ey = Hash(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80520" y="5106960"/>
            <a:ext cx="311688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ey = Hash(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07200" y="4116240"/>
            <a:ext cx="2365200" cy="33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ertificate sign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BBD-C5E5-4AD7-9E4E-601F0A0DF5C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Key Distribution (WEP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5000" y="1905120"/>
            <a:ext cx="1441440" cy="5331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83160" y="1828800"/>
            <a:ext cx="144180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90800" y="2533680"/>
            <a:ext cx="0" cy="379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39160" y="2457360"/>
            <a:ext cx="0" cy="379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77920" y="304812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77840" y="2643120"/>
            <a:ext cx="28242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al, Key (g^x), 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937880" y="3733920"/>
            <a:ext cx="5270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4560" y="3328920"/>
            <a:ext cx="339696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al, Key (g^y), I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77920" y="43434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39400" y="4014720"/>
            <a:ext cx="6310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37880" y="5791320"/>
            <a:ext cx="5270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75400" y="5386320"/>
            <a:ext cx="145548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Session key]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12120" y="4497480"/>
            <a:ext cx="311688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ey = Hash(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0560" y="4497480"/>
            <a:ext cx="3116880" cy="365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key = Hash(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Nonc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g^x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7120" y="4954680"/>
            <a:ext cx="2162520" cy="33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C4(Session key, S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38600" y="5945040"/>
            <a:ext cx="2162520" cy="33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C4(Session key, S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3B59-3E7D-43BF-9674-C115C7DB06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e Enhanced Authent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9AA-11BE-401F-9A98-70B536CC32B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Authentication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User and Machine level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emerging 802.1x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 to support multiple authentication protocols (PAP, CHAP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le with popular AAA systems such as RADI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ility with PKI and Certificate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process itself must be 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6A1-F649-430A-A4B2-0B618FA07CE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x draft standard (EAP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49360" y="1676520"/>
            <a:ext cx="8099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le Authentication Protocol (EAP; RFC 2284) is a general protocol for PPP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OL is adopted by IEEE 802.1x as an authentication mechanism for network port access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OL supports multiple authentication mechanis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EEE draft P802.1X/D5 describes the use of EAPOL in Port based Network Access Control in IEEE 802.11 wireless LAN infrastru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POL communication occurs in an unsecured shared environment, so it is vulnerable to att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12E-EE49-4F1D-9FF5-5BDEC4ECB4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Authentication Method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a secret key prior to station authentication step to create a secure encrypted tunn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a single authentication methodology (PAP, CHAP, etc.) during the key exchang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APOL as defined in IEEE 802.1x, only after the secure tunnel is establi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Number Field of Authentication Frame is used to identify the EAPOL protocol vs the legacy Shared Key or Open Sys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F38-8E75-4F8F-8831-3F5A622AAA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AP Over Wireless LAN (EAPOW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s the following vulner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ft of hardware enables unauthorized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(enables user based authentication and filte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 cracking (provides the ability to limit the number of fail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dditional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tracking of lost/stolen hardware by logging the card MAC address while authentic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BB0-782B-4C18-AD92-B03ADD5ACB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e Enhanced Privac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482-B9F0-416D-9DA6-156F06835C8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25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09960"/>
            <a:ext cx="7772400" cy="297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network security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for business, home and Internet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re alignment with I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Encryp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re backward compatibility with the current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DDBF-4B73-478B-8238-228384EA446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Privacy Protocol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multiple encryption algorithms (DES, 3DE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key per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compatibility with WEP/RC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rame Authentication as well as En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defense against replay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defense against packet spoof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8C4-F5B0-488B-88A8-063A0F382B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Enhanced Privac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178840" cy="407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PSec standard as a model (RFC 1826, 18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a single packet security and privacy protocol for each station MAC address during the key exchang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layout is the same as WEP ex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 field could also become a 4 byte sequenc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V field could also become the payload hash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ly add authentication field to 802.11 control and management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WEP, as well as other encryption algorith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B918-E719-45B9-9842-5667B545CEA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Privacy Packe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4191120"/>
          <a:ext cx="7610400" cy="55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91120"/>
                    <a:ext cx="7610400" cy="55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85800" y="2286000"/>
          <a:ext cx="761040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286000"/>
                    <a:ext cx="761040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222720" y="2960640"/>
            <a:ext cx="2530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P encryption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4280" y="4941720"/>
            <a:ext cx="382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d privacy encryption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9236-D25E-403F-87F7-16E1800334B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Privacy Protocol Advant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es the following vulner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spoofing via frame authentication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plaintext attack via block cipher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ute force att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a longer keys / better encrypt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monitoring via packet 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ssociation attack via control frame authentication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y attack via integrated sequence number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46E-A76A-4578-97EE-F7D8A457F2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ng WEP to Enhanced Security Propo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5200" y="2211480"/>
          <a:ext cx="802152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2211480"/>
                    <a:ext cx="802152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572480" y="5826240"/>
            <a:ext cx="1644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Longer RC4 ke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424-9201-4434-9E60-08A75A53AE7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 of 802.11 Security Vulnerabilities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7560" y="1447920"/>
            <a:ext cx="76406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of encryption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ft of hardware is equivalent to theft of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poofing, disassociation at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gue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n plain-text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te force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ive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y att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* Derived from Microsoft paper: IEEE 802.11-00/034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85E-B680-48B7-A28F-B49766943B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250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802.11 Security Sol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/extensible security architecture with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 as well as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management with support for per station/per session encryption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tual authentication (defense against rogue A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to use other/better encryp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packet authentication (defense against replay attack and packet spoof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A1BB-9A05-423A-A1C1-6B9BDA5C2A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urity Proposal Highl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78249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encryption key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public key exchange (Diffie-Hellm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 WEP key distribution/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well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thentication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extensible authentication protocol (EAP) over wireless with multi-protocol support akin to 802.1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certificate authentication of 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privacy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 of packet authentication and/or encryption (AH, E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nti-replay measures (sequence #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multiple encryption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331-9842-44F7-B0E6-AED098894D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e Dynamic Key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F5B9-1722-4ECB-902A-09C379C6E6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ey Exchange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574040" cy="453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both shared key (WEP) and public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infrastructure as well as ad-hoc m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ward compatibility with 802.11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rogue AP vuln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 to negotiate a variety of security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here to known and trusted security industry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a short key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a single encrypted tunnel per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F5F-711D-43E7-8120-32607FC41C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Methodology for Key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internet key exchange (IKE, RFC 2409) standard as 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keys ASAP to establish a  secure tunnel (prior to associ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 KE messages over authentication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key exchange phase to the subsequent phases to prevent session hij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a mechanism for protocol negotiation for later phases (Authentication and Privacy protoc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AC7-48B4-4FA6-AD47-F8463C1C28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vantages Public Key Ex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s the following vulner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omise of the encryption key (each session has a new k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gue AP (via X.509 certificate authentication of the 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word cracking (allows encrypted session to be established before authent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e-Hellman public key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defined negotiation of a secret key between the end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tes shared key requirement, simplifies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X.509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d one-way or two-way certificate 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 Prasad, A. Raji  Lucent Technologie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18ED-64B2-45DC-ACDC-CEF7CE9C36E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9T02:25:06Z</dcterms:created>
  <dc:creator>Vic Hayes</dc:creator>
  <dc:description/>
  <dc:language>en-US</dc:language>
  <cp:lastModifiedBy>Vic Hayes</cp:lastModifiedBy>
  <cp:lastPrinted>1998-02-10T13:28:06Z</cp:lastPrinted>
  <dcterms:modified xsi:type="dcterms:W3CDTF">2000-07-09T02:32:33Z</dcterms:modified>
  <cp:revision>1</cp:revision>
  <dc:subject/>
  <dc:title>A Proposal for IEEE 802.11e Security  </dc:title>
</cp:coreProperties>
</file>