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252F-7588-49BD-B87E-847FB3D5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41F8-D5D5-478B-813F-5168BABE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9293-80BE-4882-AB8B-8AFBDC2D0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A56-332A-46FC-8AE6-EE5391BF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FBD5-85F5-4294-96DC-8199F776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301-AEF0-4C2C-8D61-073DFF76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FBAF-16D9-418F-B229-62CED3F6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2E3-AD1A-4D22-B2E1-D3C0F004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155-7A35-4637-988D-C44E80ED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680-E0B4-43CA-A06F-AE9479AA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A4D-D989-422D-886E-887022C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C32F-ED42-4DBC-B2B6-50D07007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7B5BD1-63E1-4595-B801-3C2B77C45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1188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ing P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Plan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Week of July 10-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1EE-44FB-4C0D-8D43-2BAA5A1EE3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arketing meeting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joint marketing meeting with 802.15 WG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conferen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CA 2000, New Orleans – July 9-12,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ing WLANs, Dallas October 25-27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CA………….Jim Zy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forum…..Bruce Kra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7B5-8277-4374-A21C-E5A7826A86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CA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broadband…..Al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racing both Fixed point radio and WLAN/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9-1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Orleans,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: Wireless PANs and WLANs….How Far Can They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: Andrew Kreg…www.wca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5626-AF4D-4B65-9B66-6B3622F8443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ing Wireless LA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Implementing Wireless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5-27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coordinator: 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a Krusinski, Program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W. Monroe, 3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ago, IL 60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2-780-0700 ext  1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chair: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90E8-D00E-4929-9220-4DBA7DABCB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G-Ad H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d rules for 802.11W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will be on the WG reflector at the close of this session for WG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al WG vote at the Interim meeting in Sept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9E2-4A6E-45E6-9C8F-9C2DD79DB9F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meeting with IEEE 802.15 on              Tuesday July 11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positioning the market 2.4GHz vs 5G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: Wireless Conferences and Tradeshows for 2000-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press release and response as a “place holder” with regards to the FCC-NP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 on developing a marketing presentation for general use by the working gro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873-59A3-4D4D-989F-5FFAAEFD48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ifie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meeting with IEEE 802.15 on              Tuesday July 11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 positioning the market 2.4GHz vs 5GH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(s) for WECA, OFDM forum, IEEE 802.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: Wireless Conferences and Tradeshows for 2000-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 on developing a marketing presentation for general use by the working grou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5A4-5FD4-4304-B6D1-9A99845749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 – liaiso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6 wireless broad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DM f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519-C2C3-4C48-A577-303B3A7C4A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ustry Press Cont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ck Ma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 Kee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onic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B00-6015-4FF9-A106-45791F7C7B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CA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broadband…..Al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racing both Fixed point radio and WLAN/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ly 9-12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Orleans,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: Wireless PANs and WLANs….How Far Can They 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ident: Andrew Kreg…www.wca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A8C-2281-4420-8F86-5E4A6BE0DD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loying Wireless LAN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and Implementing Wireless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ober 25-27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coordinator: A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a Krusinski, Program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5 W. Monroe, 3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ago, IL 60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12-780-0700 ext  1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erence chair: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C1D-CC94-447B-8770-64B5BA667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s Design Mag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 Keenan, Editor-in-Chi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umnist: Bob He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t columnist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tary a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ics include both Wireless and Wired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on due: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very month…approx 1500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137-EC3A-4791-B7DE-CE0065E5E4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802.11 Ad-Hoc Marketing Group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13,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78A-8383-443C-9980-2054198EDC1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Valued Sony Customer</cp:lastModifiedBy>
  <cp:lastPrinted>1998-02-10T13:28:06Z</cp:lastPrinted>
  <dcterms:modified xsi:type="dcterms:W3CDTF">2000-07-13T22:08:39Z</dcterms:modified>
  <cp:revision>55</cp:revision>
  <dc:subject/>
  <dc:title>00/0xx-Marketing-Plans-for-Week-of-July10-14,2000</dc:title>
</cp:coreProperties>
</file>