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91BE5-3ECD-42F7-A01E-455F3C241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14C67-37A1-438B-9D0A-4A3D7BC4D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659C2-2A3B-49A0-812B-2256B59FB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14720-7D05-4FE8-872B-1F37AE0EF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BEC6D-D3A3-43E7-AD5D-B4D3DF471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847CE-EAF1-4B62-BDB7-5752913E2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72FC9-9482-44AE-BE82-14066FF7F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79AA6-525E-4AA4-ADF9-14C101D16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890B3-6CE9-42DF-9CE1-4F9B3FB16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1E32B-F4E0-4CF8-9C2F-4812BEEBB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B5080-89B6-4F9E-9835-A1F6C4F32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1D11D-6408-4B33-B460-D1DC92F809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DA229D-00D6-47F7-B98B-C972793C5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18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ing Report</a:t>
            </a:r>
            <a:br>
              <a:rPr sz="4400"/>
            </a:br>
            <a:r>
              <a:rPr b="0" lang="en-US" sz="4400" spc="-1" strike="noStrike">
                <a:solidFill>
                  <a:srgbClr val="000000"/>
                </a:solidFill>
                <a:latin typeface="Times New Roman"/>
              </a:rPr>
              <a:t>Regulatory ad-hoc work</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914400" y="3886200"/>
            <a:ext cx="723888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 Hayes, Lucent Technologi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0, Regulatory Ombudsma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D95FB826-2815-45EA-B9C8-EB0F053329A9}" type="slidenum">
              <a:t>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y meeting result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mitted a presentation to the UK-RA on the 5 GHz band plan (00/10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d a liaison letter from ETSI-B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d the 5150-5250 MHz rules in Jap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d a paper on sharing of RLANs with Earth Exploration Satellit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4E217494-C8C5-4756-9DD0-24585604CEC1}"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vities since May 2000</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tion on UK 5 GHz band plan was given on June 2nd, 2000</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 is in 00/sss</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FS and TPC is required for devices if they operate in Europe</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censed band is required for Public Access Service providers</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Service Provider type for “Best-effort” is under stud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4332CEDE-D563-4208-B6C9-E2682DBAE7E1}"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vities since May 2000</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GHz for License-exempt devices is on the WRC-2003 agend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that we participate in the ITU-R activities to prepare the recommend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wide level of support from indust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68F5A445-36B3-43DB-BD5A-260B5876B44C}" type="slidenum">
              <a:t>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lisation of rule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rules in the IEEE, IEEE-USA and IEEE SA requires that we document our rules for preparation of submissions to Governmental bodies (includes ITU in my view</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ity to be done in  SEC fir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have to be recognised in WG rul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7F01B810-D8A5-4FA9-8733-244828AA238F}" type="slidenum">
              <a:t>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 for this meeting</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AU" sz="2000" spc="-1" strike="noStrike">
                <a:solidFill>
                  <a:srgbClr val="000000"/>
                </a:solidFill>
                <a:latin typeface="Times New Roman"/>
              </a:rPr>
              <a:t>Response to the ETSI BRAN group regarding the use of IEEE 802.11 with 802.11a in Europe, stating our plans to make an amendment to the standard for European regulations (Dynamic Frequency Selection (DFS) and Transmit Power control (TPC)) </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AU" sz="2000" spc="-1" strike="noStrike">
                <a:solidFill>
                  <a:srgbClr val="000000"/>
                </a:solidFill>
                <a:latin typeface="Times New Roman"/>
              </a:rPr>
              <a:t>Submission to the US preparatory group for ITU-R SG8a/9B rapporteur, stating the parameters for Radio LANs to be used for interference scenarios with Satellite Earth Exploration services </a:t>
            </a:r>
            <a:endParaRPr b="0" lang="en-US" sz="2000" spc="-1" strike="noStrike">
              <a:solidFill>
                <a:srgbClr val="000000"/>
              </a:solidFill>
              <a:latin typeface="Times New Roman"/>
            </a:endParaRPr>
          </a:p>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AU" sz="2000" spc="-1" strike="noStrike">
                <a:solidFill>
                  <a:srgbClr val="000000"/>
                </a:solidFill>
                <a:latin typeface="Times New Roman"/>
              </a:rPr>
              <a:t>Possible preparatory work on possible reactions towards the following subjects to be approved at a tele-conference if the preparations were needed: </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        </a:t>
            </a:r>
            <a:r>
              <a:rPr b="0" lang="en-AU" sz="1800" spc="-1" strike="noStrike">
                <a:solidFill>
                  <a:srgbClr val="000000"/>
                </a:solidFill>
                <a:latin typeface="Times New Roman"/>
              </a:rPr>
              <a:t>1.FCC Docket 99-231, Wide-Band Frequency Hopping and DS testings </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        </a:t>
            </a:r>
            <a:r>
              <a:rPr b="0" lang="en-AU" sz="1800" spc="-1" strike="noStrike">
                <a:solidFill>
                  <a:srgbClr val="000000"/>
                </a:solidFill>
                <a:latin typeface="Times New Roman"/>
              </a:rPr>
              <a:t>2.FCC Docket 98-42. RF lighting devices in the 2.45 GHz band </a:t>
            </a:r>
            <a:endParaRPr b="0" lang="en-US" sz="1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imes New Roman"/>
              </a:rPr>
              <a:t>        </a:t>
            </a:r>
            <a:r>
              <a:rPr b="0" lang="en-AU" sz="1800" spc="-1" strike="noStrike">
                <a:solidFill>
                  <a:srgbClr val="000000"/>
                </a:solidFill>
                <a:latin typeface="Times New Roman"/>
              </a:rPr>
              <a:t>3.UK Radio Communications Agency band plan for 5 GHz</a:t>
            </a:r>
            <a:r>
              <a:rPr b="0" lang="en-AU" sz="2800" spc="-1" strike="noStrike">
                <a:solidFill>
                  <a:srgbClr val="000000"/>
                </a:solidFill>
                <a:latin typeface="Times New Roman"/>
              </a:rPr>
              <a:t> </a:t>
            </a:r>
            <a:endParaRPr b="0" lang="en-US" sz="28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C0B9F8E4-9AE6-4240-AC9A-CEA8A58D474B}" type="slidenum">
              <a:t>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eting place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ical wor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esday, 8:30-10:00, Palatine 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dnesday, 8:30-10:00, Palatine 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dnesday, 4:00-5:00, Palatine 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 change wor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esday, ??:??, Palmero Ballroo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1257BFE8-6B92-4F28-BD93-2CA862696767}" type="slidenum">
              <a:t>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0T21:27:09Z</dcterms:created>
  <dc:creator>Vic Hayes</dc:creator>
  <dc:description/>
  <dc:language>en-US</dc:language>
  <cp:lastModifiedBy>Harry R. Worstell</cp:lastModifiedBy>
  <cp:lastPrinted>1998-02-10T13:28:06Z</cp:lastPrinted>
  <dcterms:modified xsi:type="dcterms:W3CDTF">2000-07-10T16:56:21Z</dcterms:modified>
  <cp:revision>4</cp:revision>
  <dc:subject/>
  <dc:title>May meeting results</dc:title>
</cp:coreProperties>
</file>