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09120" y="217440"/>
            <a:ext cx="77004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July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067080" y="43092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oc.: IEEE 802.11-00/18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4440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6214680" y="6509880"/>
            <a:ext cx="2243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un Ayyagari, et al   Microsoft,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4720" y="6510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512040"/>
            <a:ext cx="7848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962160" y="651204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 </a:t>
            </a:r>
            <a:fld id="{6BE1339C-D4B4-45B0-B986-3978F52D85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66640" indent="-56664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79600" indent="-4446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946160" indent="-46512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390760" indent="-4428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390760" indent="-44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390760" indent="-44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IEEE 802.11e</a:t>
            </a:r>
            <a:br>
              <a:rPr sz="4800"/>
            </a:b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 QoS Application Scenarios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3885840"/>
            <a:ext cx="91440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un Ayyagari, Yoram Bernet, Tim Moore, Victoria Poncin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oft Corpo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0" name=""/>
          <p:cNvSpPr/>
          <p:nvPr/>
        </p:nvSpPr>
        <p:spPr>
          <a:xfrm>
            <a:off x="6060960" y="3278160"/>
            <a:ext cx="198720" cy="12747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 flipH="1">
            <a:off x="4595400" y="4648320"/>
            <a:ext cx="1800" cy="59832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 flipV="1">
            <a:off x="3276720" y="3276360"/>
            <a:ext cx="152280" cy="14475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 flipV="1">
            <a:off x="2514600" y="3276720"/>
            <a:ext cx="762120" cy="7617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 flipV="1">
            <a:off x="1676520" y="5181480"/>
            <a:ext cx="155520" cy="609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 flipV="1">
            <a:off x="1828800" y="4266720"/>
            <a:ext cx="384120" cy="838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 flipV="1">
            <a:off x="2438280" y="4876920"/>
            <a:ext cx="15552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 flipV="1">
            <a:off x="1143000" y="4648320"/>
            <a:ext cx="38412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 flipV="1">
            <a:off x="1600200" y="4191120"/>
            <a:ext cx="30780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 flipH="1" flipV="1">
            <a:off x="2364840" y="5257440"/>
            <a:ext cx="225720" cy="609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 flipH="1">
            <a:off x="1599840" y="2895480"/>
            <a:ext cx="304920" cy="304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 flipH="1" flipV="1" rot="20268600">
            <a:off x="5181480" y="4971960"/>
            <a:ext cx="1084320" cy="329040"/>
          </a:xfrm>
          <a:custGeom>
            <a:avLst/>
            <a:gdLst/>
            <a:ahLst/>
            <a:rect l="l" t="t" r="r" b="b"/>
            <a:pathLst>
              <a:path w="656" h="197">
                <a:moveTo>
                  <a:pt x="0" y="196"/>
                </a:moveTo>
                <a:lnTo>
                  <a:pt x="401" y="145"/>
                </a:lnTo>
                <a:lnTo>
                  <a:pt x="312" y="71"/>
                </a:lnTo>
                <a:lnTo>
                  <a:pt x="655" y="0"/>
                </a:lnTo>
                <a:lnTo>
                  <a:pt x="254" y="52"/>
                </a:lnTo>
                <a:lnTo>
                  <a:pt x="346" y="129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 flipV="1">
            <a:off x="2981160" y="4277880"/>
            <a:ext cx="219240" cy="352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 flipH="1" flipV="1">
            <a:off x="1107720" y="2711520"/>
            <a:ext cx="274680" cy="511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 flipH="1" flipV="1">
            <a:off x="838080" y="3142800"/>
            <a:ext cx="416160" cy="187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 flipH="1">
            <a:off x="789120" y="3452760"/>
            <a:ext cx="490320" cy="214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 flipH="1" flipV="1">
            <a:off x="1752480" y="3580920"/>
            <a:ext cx="255600" cy="335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 flipV="1">
            <a:off x="2173320" y="352404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 flipV="1">
            <a:off x="2371680" y="3609720"/>
            <a:ext cx="127080" cy="36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9" name=""/>
          <p:cNvGrpSpPr/>
          <p:nvPr/>
        </p:nvGrpSpPr>
        <p:grpSpPr>
          <a:xfrm>
            <a:off x="1828800" y="3887640"/>
            <a:ext cx="735120" cy="479520"/>
            <a:chOff x="1828800" y="3887640"/>
            <a:chExt cx="735120" cy="479520"/>
          </a:xfrm>
        </p:grpSpPr>
        <p:grpSp>
          <p:nvGrpSpPr>
            <p:cNvPr id="3320" name=""/>
            <p:cNvGrpSpPr/>
            <p:nvPr/>
          </p:nvGrpSpPr>
          <p:grpSpPr>
            <a:xfrm>
              <a:off x="1829880" y="3949200"/>
              <a:ext cx="464040" cy="417960"/>
              <a:chOff x="1829880" y="3949200"/>
              <a:chExt cx="464040" cy="417960"/>
            </a:xfrm>
          </p:grpSpPr>
          <p:sp>
            <p:nvSpPr>
              <p:cNvPr id="3321" name=""/>
              <p:cNvSpPr/>
              <p:nvPr/>
            </p:nvSpPr>
            <p:spPr>
              <a:xfrm>
                <a:off x="1829880" y="3949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1829880" y="3949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23" name=""/>
            <p:cNvGrpSpPr/>
            <p:nvPr/>
          </p:nvGrpSpPr>
          <p:grpSpPr>
            <a:xfrm>
              <a:off x="2293920" y="3963600"/>
              <a:ext cx="267480" cy="403560"/>
              <a:chOff x="2293920" y="3963600"/>
              <a:chExt cx="267480" cy="403560"/>
            </a:xfrm>
          </p:grpSpPr>
          <p:sp>
            <p:nvSpPr>
              <p:cNvPr id="3324" name=""/>
              <p:cNvSpPr/>
              <p:nvPr/>
            </p:nvSpPr>
            <p:spPr>
              <a:xfrm>
                <a:off x="2293920" y="3963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2293920" y="3963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26" name=""/>
            <p:cNvGrpSpPr/>
            <p:nvPr/>
          </p:nvGrpSpPr>
          <p:grpSpPr>
            <a:xfrm>
              <a:off x="1828800" y="3887640"/>
              <a:ext cx="735120" cy="168120"/>
              <a:chOff x="1828800" y="3887640"/>
              <a:chExt cx="735120" cy="168120"/>
            </a:xfrm>
          </p:grpSpPr>
          <p:sp>
            <p:nvSpPr>
              <p:cNvPr id="3327" name=""/>
              <p:cNvSpPr/>
              <p:nvPr/>
            </p:nvSpPr>
            <p:spPr>
              <a:xfrm>
                <a:off x="1828800" y="3887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1828800" y="3887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29" name=""/>
            <p:cNvSpPr/>
            <p:nvPr/>
          </p:nvSpPr>
          <p:spPr>
            <a:xfrm>
              <a:off x="1857960" y="3987000"/>
              <a:ext cx="391680" cy="33804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1857960" y="4077360"/>
              <a:ext cx="391680" cy="24768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1857960" y="3987000"/>
              <a:ext cx="389520" cy="2206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32" name=""/>
            <p:cNvGrpSpPr/>
            <p:nvPr/>
          </p:nvGrpSpPr>
          <p:grpSpPr>
            <a:xfrm>
              <a:off x="1885320" y="4020120"/>
              <a:ext cx="191160" cy="81720"/>
              <a:chOff x="1885320" y="4020120"/>
              <a:chExt cx="191160" cy="81720"/>
            </a:xfrm>
          </p:grpSpPr>
          <p:sp>
            <p:nvSpPr>
              <p:cNvPr id="3333" name=""/>
              <p:cNvSpPr/>
              <p:nvPr/>
            </p:nvSpPr>
            <p:spPr>
              <a:xfrm>
                <a:off x="1885320" y="4020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1885320" y="4020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35" name=""/>
            <p:cNvGrpSpPr/>
            <p:nvPr/>
          </p:nvGrpSpPr>
          <p:grpSpPr>
            <a:xfrm>
              <a:off x="1883160" y="4107240"/>
              <a:ext cx="119520" cy="122040"/>
              <a:chOff x="1883160" y="4107240"/>
              <a:chExt cx="119520" cy="122040"/>
            </a:xfrm>
          </p:grpSpPr>
          <p:sp>
            <p:nvSpPr>
              <p:cNvPr id="3336" name=""/>
              <p:cNvSpPr/>
              <p:nvPr/>
            </p:nvSpPr>
            <p:spPr>
              <a:xfrm>
                <a:off x="1883160" y="4107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1883160" y="4107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38" name=""/>
          <p:cNvGrpSpPr/>
          <p:nvPr/>
        </p:nvGrpSpPr>
        <p:grpSpPr>
          <a:xfrm>
            <a:off x="434880" y="3436920"/>
            <a:ext cx="513000" cy="546120"/>
            <a:chOff x="434880" y="3436920"/>
            <a:chExt cx="513000" cy="546120"/>
          </a:xfrm>
        </p:grpSpPr>
        <p:grpSp>
          <p:nvGrpSpPr>
            <p:cNvPr id="3339" name=""/>
            <p:cNvGrpSpPr/>
            <p:nvPr/>
          </p:nvGrpSpPr>
          <p:grpSpPr>
            <a:xfrm>
              <a:off x="434880" y="3789360"/>
              <a:ext cx="176040" cy="193680"/>
              <a:chOff x="434880" y="3789360"/>
              <a:chExt cx="176040" cy="193680"/>
            </a:xfrm>
          </p:grpSpPr>
          <p:sp>
            <p:nvSpPr>
              <p:cNvPr id="3340" name=""/>
              <p:cNvSpPr/>
              <p:nvPr/>
            </p:nvSpPr>
            <p:spPr>
              <a:xfrm>
                <a:off x="434880" y="3789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434880" y="3789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42" name=""/>
            <p:cNvGrpSpPr/>
            <p:nvPr/>
          </p:nvGrpSpPr>
          <p:grpSpPr>
            <a:xfrm>
              <a:off x="434880" y="3717720"/>
              <a:ext cx="513000" cy="176400"/>
              <a:chOff x="434880" y="3717720"/>
              <a:chExt cx="513000" cy="176400"/>
            </a:xfrm>
          </p:grpSpPr>
          <p:sp>
            <p:nvSpPr>
              <p:cNvPr id="3343" name=""/>
              <p:cNvSpPr/>
              <p:nvPr/>
            </p:nvSpPr>
            <p:spPr>
              <a:xfrm>
                <a:off x="434880" y="371772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434880" y="371772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45" name=""/>
            <p:cNvGrpSpPr/>
            <p:nvPr/>
          </p:nvGrpSpPr>
          <p:grpSpPr>
            <a:xfrm>
              <a:off x="610920" y="3805920"/>
              <a:ext cx="336960" cy="176760"/>
              <a:chOff x="610920" y="3805920"/>
              <a:chExt cx="336960" cy="176760"/>
            </a:xfrm>
          </p:grpSpPr>
          <p:sp>
            <p:nvSpPr>
              <p:cNvPr id="3346" name=""/>
              <p:cNvSpPr/>
              <p:nvPr/>
            </p:nvSpPr>
            <p:spPr>
              <a:xfrm>
                <a:off x="610920" y="380592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610920" y="380592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48" name=""/>
            <p:cNvSpPr/>
            <p:nvPr/>
          </p:nvSpPr>
          <p:spPr>
            <a:xfrm>
              <a:off x="626760" y="388944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49" name=""/>
            <p:cNvGrpSpPr/>
            <p:nvPr/>
          </p:nvGrpSpPr>
          <p:grpSpPr>
            <a:xfrm>
              <a:off x="799920" y="3826800"/>
              <a:ext cx="131760" cy="89640"/>
              <a:chOff x="799920" y="3826800"/>
              <a:chExt cx="131760" cy="89640"/>
            </a:xfrm>
          </p:grpSpPr>
          <p:grpSp>
            <p:nvGrpSpPr>
              <p:cNvPr id="3350" name=""/>
              <p:cNvGrpSpPr/>
              <p:nvPr/>
            </p:nvGrpSpPr>
            <p:grpSpPr>
              <a:xfrm>
                <a:off x="799920" y="3826800"/>
                <a:ext cx="131760" cy="89640"/>
                <a:chOff x="799920" y="3826800"/>
                <a:chExt cx="131760" cy="89640"/>
              </a:xfrm>
            </p:grpSpPr>
            <p:sp>
              <p:nvSpPr>
                <p:cNvPr id="3351" name=""/>
                <p:cNvSpPr/>
                <p:nvPr/>
              </p:nvSpPr>
              <p:spPr>
                <a:xfrm>
                  <a:off x="799920" y="3826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2" name=""/>
                <p:cNvSpPr/>
                <p:nvPr/>
              </p:nvSpPr>
              <p:spPr>
                <a:xfrm>
                  <a:off x="799920" y="3826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53" name=""/>
              <p:cNvSpPr/>
              <p:nvPr/>
            </p:nvSpPr>
            <p:spPr>
              <a:xfrm flipH="1">
                <a:off x="799920" y="385776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846360" y="387396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846360" y="384768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56" name=""/>
            <p:cNvGrpSpPr/>
            <p:nvPr/>
          </p:nvGrpSpPr>
          <p:grpSpPr>
            <a:xfrm>
              <a:off x="455400" y="3436920"/>
              <a:ext cx="308880" cy="301680"/>
              <a:chOff x="455400" y="3436920"/>
              <a:chExt cx="308880" cy="301680"/>
            </a:xfrm>
          </p:grpSpPr>
          <p:sp>
            <p:nvSpPr>
              <p:cNvPr id="3357" name=""/>
              <p:cNvSpPr/>
              <p:nvPr/>
            </p:nvSpPr>
            <p:spPr>
              <a:xfrm>
                <a:off x="455400" y="343692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455400" y="343692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59" name=""/>
            <p:cNvGrpSpPr/>
            <p:nvPr/>
          </p:nvGrpSpPr>
          <p:grpSpPr>
            <a:xfrm>
              <a:off x="511200" y="3515760"/>
              <a:ext cx="100440" cy="331200"/>
              <a:chOff x="511200" y="3515760"/>
              <a:chExt cx="100440" cy="331200"/>
            </a:xfrm>
          </p:grpSpPr>
          <p:sp>
            <p:nvSpPr>
              <p:cNvPr id="3360" name=""/>
              <p:cNvSpPr/>
              <p:nvPr/>
            </p:nvSpPr>
            <p:spPr>
              <a:xfrm>
                <a:off x="511200" y="3515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511200" y="3515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62" name=""/>
            <p:cNvGrpSpPr/>
            <p:nvPr/>
          </p:nvGrpSpPr>
          <p:grpSpPr>
            <a:xfrm>
              <a:off x="511200" y="3447720"/>
              <a:ext cx="417600" cy="122400"/>
              <a:chOff x="511200" y="3447720"/>
              <a:chExt cx="417600" cy="122400"/>
            </a:xfrm>
          </p:grpSpPr>
          <p:sp>
            <p:nvSpPr>
              <p:cNvPr id="3363" name=""/>
              <p:cNvSpPr/>
              <p:nvPr/>
            </p:nvSpPr>
            <p:spPr>
              <a:xfrm>
                <a:off x="511200" y="344772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511200" y="344772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65" name=""/>
            <p:cNvGrpSpPr/>
            <p:nvPr/>
          </p:nvGrpSpPr>
          <p:grpSpPr>
            <a:xfrm>
              <a:off x="645840" y="3782160"/>
              <a:ext cx="220320" cy="66960"/>
              <a:chOff x="645840" y="3782160"/>
              <a:chExt cx="220320" cy="66960"/>
            </a:xfrm>
          </p:grpSpPr>
          <p:sp>
            <p:nvSpPr>
              <p:cNvPr id="3366" name=""/>
              <p:cNvSpPr/>
              <p:nvPr/>
            </p:nvSpPr>
            <p:spPr>
              <a:xfrm>
                <a:off x="645840" y="3782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645840" y="3782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68" name=""/>
            <p:cNvGrpSpPr/>
            <p:nvPr/>
          </p:nvGrpSpPr>
          <p:grpSpPr>
            <a:xfrm>
              <a:off x="612000" y="3494520"/>
              <a:ext cx="316800" cy="353160"/>
              <a:chOff x="612000" y="3494520"/>
              <a:chExt cx="316800" cy="353160"/>
            </a:xfrm>
          </p:grpSpPr>
          <p:sp>
            <p:nvSpPr>
              <p:cNvPr id="3369" name=""/>
              <p:cNvSpPr/>
              <p:nvPr/>
            </p:nvSpPr>
            <p:spPr>
              <a:xfrm>
                <a:off x="612000" y="349452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612000" y="349452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71" name=""/>
            <p:cNvGrpSpPr/>
            <p:nvPr/>
          </p:nvGrpSpPr>
          <p:grpSpPr>
            <a:xfrm>
              <a:off x="658080" y="3534480"/>
              <a:ext cx="230760" cy="257400"/>
              <a:chOff x="658080" y="3534480"/>
              <a:chExt cx="230760" cy="257400"/>
            </a:xfrm>
          </p:grpSpPr>
          <p:sp>
            <p:nvSpPr>
              <p:cNvPr id="3372" name=""/>
              <p:cNvSpPr/>
              <p:nvPr/>
            </p:nvSpPr>
            <p:spPr>
              <a:xfrm>
                <a:off x="658080" y="3534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658080" y="3534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74" name=""/>
            <p:cNvSpPr/>
            <p:nvPr/>
          </p:nvSpPr>
          <p:spPr>
            <a:xfrm>
              <a:off x="666720" y="3552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666720" y="3552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690480" y="360900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713160" y="359028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8" name=""/>
          <p:cNvGrpSpPr/>
          <p:nvPr/>
        </p:nvGrpSpPr>
        <p:grpSpPr>
          <a:xfrm>
            <a:off x="380880" y="2762280"/>
            <a:ext cx="513000" cy="546120"/>
            <a:chOff x="380880" y="2762280"/>
            <a:chExt cx="513000" cy="546120"/>
          </a:xfrm>
        </p:grpSpPr>
        <p:grpSp>
          <p:nvGrpSpPr>
            <p:cNvPr id="3379" name=""/>
            <p:cNvGrpSpPr/>
            <p:nvPr/>
          </p:nvGrpSpPr>
          <p:grpSpPr>
            <a:xfrm>
              <a:off x="380880" y="3114720"/>
              <a:ext cx="176040" cy="193680"/>
              <a:chOff x="380880" y="3114720"/>
              <a:chExt cx="176040" cy="193680"/>
            </a:xfrm>
          </p:grpSpPr>
          <p:sp>
            <p:nvSpPr>
              <p:cNvPr id="3380" name=""/>
              <p:cNvSpPr/>
              <p:nvPr/>
            </p:nvSpPr>
            <p:spPr>
              <a:xfrm>
                <a:off x="380880" y="3114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380880" y="3114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82" name=""/>
            <p:cNvGrpSpPr/>
            <p:nvPr/>
          </p:nvGrpSpPr>
          <p:grpSpPr>
            <a:xfrm>
              <a:off x="380880" y="3043080"/>
              <a:ext cx="513000" cy="176400"/>
              <a:chOff x="380880" y="3043080"/>
              <a:chExt cx="513000" cy="176400"/>
            </a:xfrm>
          </p:grpSpPr>
          <p:sp>
            <p:nvSpPr>
              <p:cNvPr id="3383" name=""/>
              <p:cNvSpPr/>
              <p:nvPr/>
            </p:nvSpPr>
            <p:spPr>
              <a:xfrm>
                <a:off x="380880" y="304308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380880" y="304308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85" name=""/>
            <p:cNvGrpSpPr/>
            <p:nvPr/>
          </p:nvGrpSpPr>
          <p:grpSpPr>
            <a:xfrm>
              <a:off x="556920" y="3131280"/>
              <a:ext cx="336960" cy="176760"/>
              <a:chOff x="556920" y="3131280"/>
              <a:chExt cx="336960" cy="176760"/>
            </a:xfrm>
          </p:grpSpPr>
          <p:sp>
            <p:nvSpPr>
              <p:cNvPr id="3386" name=""/>
              <p:cNvSpPr/>
              <p:nvPr/>
            </p:nvSpPr>
            <p:spPr>
              <a:xfrm>
                <a:off x="556920" y="313128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556920" y="313128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88" name=""/>
            <p:cNvSpPr/>
            <p:nvPr/>
          </p:nvSpPr>
          <p:spPr>
            <a:xfrm>
              <a:off x="572760" y="321480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89" name=""/>
            <p:cNvGrpSpPr/>
            <p:nvPr/>
          </p:nvGrpSpPr>
          <p:grpSpPr>
            <a:xfrm>
              <a:off x="745920" y="3152160"/>
              <a:ext cx="131760" cy="89640"/>
              <a:chOff x="745920" y="3152160"/>
              <a:chExt cx="131760" cy="89640"/>
            </a:xfrm>
          </p:grpSpPr>
          <p:grpSp>
            <p:nvGrpSpPr>
              <p:cNvPr id="3390" name=""/>
              <p:cNvGrpSpPr/>
              <p:nvPr/>
            </p:nvGrpSpPr>
            <p:grpSpPr>
              <a:xfrm>
                <a:off x="745920" y="3152160"/>
                <a:ext cx="131760" cy="89640"/>
                <a:chOff x="745920" y="3152160"/>
                <a:chExt cx="131760" cy="89640"/>
              </a:xfrm>
            </p:grpSpPr>
            <p:sp>
              <p:nvSpPr>
                <p:cNvPr id="3391" name=""/>
                <p:cNvSpPr/>
                <p:nvPr/>
              </p:nvSpPr>
              <p:spPr>
                <a:xfrm>
                  <a:off x="745920" y="3152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2" name=""/>
                <p:cNvSpPr/>
                <p:nvPr/>
              </p:nvSpPr>
              <p:spPr>
                <a:xfrm>
                  <a:off x="745920" y="3152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93" name=""/>
              <p:cNvSpPr/>
              <p:nvPr/>
            </p:nvSpPr>
            <p:spPr>
              <a:xfrm flipH="1">
                <a:off x="745920" y="318312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792360" y="319932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792360" y="317304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96" name=""/>
            <p:cNvGrpSpPr/>
            <p:nvPr/>
          </p:nvGrpSpPr>
          <p:grpSpPr>
            <a:xfrm>
              <a:off x="401400" y="2762280"/>
              <a:ext cx="308880" cy="301680"/>
              <a:chOff x="401400" y="2762280"/>
              <a:chExt cx="308880" cy="301680"/>
            </a:xfrm>
          </p:grpSpPr>
          <p:sp>
            <p:nvSpPr>
              <p:cNvPr id="3397" name=""/>
              <p:cNvSpPr/>
              <p:nvPr/>
            </p:nvSpPr>
            <p:spPr>
              <a:xfrm>
                <a:off x="401400" y="276228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401400" y="276228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99" name=""/>
            <p:cNvGrpSpPr/>
            <p:nvPr/>
          </p:nvGrpSpPr>
          <p:grpSpPr>
            <a:xfrm>
              <a:off x="457200" y="2841120"/>
              <a:ext cx="100440" cy="331200"/>
              <a:chOff x="457200" y="2841120"/>
              <a:chExt cx="100440" cy="331200"/>
            </a:xfrm>
          </p:grpSpPr>
          <p:sp>
            <p:nvSpPr>
              <p:cNvPr id="3400" name=""/>
              <p:cNvSpPr/>
              <p:nvPr/>
            </p:nvSpPr>
            <p:spPr>
              <a:xfrm>
                <a:off x="457200" y="2841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457200" y="2841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02" name=""/>
            <p:cNvGrpSpPr/>
            <p:nvPr/>
          </p:nvGrpSpPr>
          <p:grpSpPr>
            <a:xfrm>
              <a:off x="457200" y="2773080"/>
              <a:ext cx="417600" cy="122400"/>
              <a:chOff x="457200" y="2773080"/>
              <a:chExt cx="417600" cy="122400"/>
            </a:xfrm>
          </p:grpSpPr>
          <p:sp>
            <p:nvSpPr>
              <p:cNvPr id="3403" name=""/>
              <p:cNvSpPr/>
              <p:nvPr/>
            </p:nvSpPr>
            <p:spPr>
              <a:xfrm>
                <a:off x="457200" y="277308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457200" y="277308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05" name=""/>
            <p:cNvGrpSpPr/>
            <p:nvPr/>
          </p:nvGrpSpPr>
          <p:grpSpPr>
            <a:xfrm>
              <a:off x="591840" y="3107520"/>
              <a:ext cx="220320" cy="66960"/>
              <a:chOff x="591840" y="3107520"/>
              <a:chExt cx="220320" cy="66960"/>
            </a:xfrm>
          </p:grpSpPr>
          <p:sp>
            <p:nvSpPr>
              <p:cNvPr id="3406" name=""/>
              <p:cNvSpPr/>
              <p:nvPr/>
            </p:nvSpPr>
            <p:spPr>
              <a:xfrm>
                <a:off x="591840" y="3107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591840" y="3107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08" name=""/>
            <p:cNvGrpSpPr/>
            <p:nvPr/>
          </p:nvGrpSpPr>
          <p:grpSpPr>
            <a:xfrm>
              <a:off x="558000" y="2819880"/>
              <a:ext cx="316800" cy="353160"/>
              <a:chOff x="558000" y="2819880"/>
              <a:chExt cx="316800" cy="353160"/>
            </a:xfrm>
          </p:grpSpPr>
          <p:sp>
            <p:nvSpPr>
              <p:cNvPr id="3409" name=""/>
              <p:cNvSpPr/>
              <p:nvPr/>
            </p:nvSpPr>
            <p:spPr>
              <a:xfrm>
                <a:off x="558000" y="281988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558000" y="281988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11" name=""/>
            <p:cNvGrpSpPr/>
            <p:nvPr/>
          </p:nvGrpSpPr>
          <p:grpSpPr>
            <a:xfrm>
              <a:off x="604080" y="2859840"/>
              <a:ext cx="230760" cy="257400"/>
              <a:chOff x="604080" y="2859840"/>
              <a:chExt cx="230760" cy="257400"/>
            </a:xfrm>
          </p:grpSpPr>
          <p:sp>
            <p:nvSpPr>
              <p:cNvPr id="3412" name=""/>
              <p:cNvSpPr/>
              <p:nvPr/>
            </p:nvSpPr>
            <p:spPr>
              <a:xfrm>
                <a:off x="604080" y="2859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604080" y="2859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14" name=""/>
            <p:cNvSpPr/>
            <p:nvPr/>
          </p:nvSpPr>
          <p:spPr>
            <a:xfrm>
              <a:off x="612720" y="2877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612720" y="2877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636480" y="293436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659160" y="291564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18" name=""/>
          <p:cNvGrpSpPr/>
          <p:nvPr/>
        </p:nvGrpSpPr>
        <p:grpSpPr>
          <a:xfrm>
            <a:off x="906480" y="2408400"/>
            <a:ext cx="511200" cy="545760"/>
            <a:chOff x="906480" y="2408400"/>
            <a:chExt cx="511200" cy="545760"/>
          </a:xfrm>
        </p:grpSpPr>
        <p:grpSp>
          <p:nvGrpSpPr>
            <p:cNvPr id="3419" name=""/>
            <p:cNvGrpSpPr/>
            <p:nvPr/>
          </p:nvGrpSpPr>
          <p:grpSpPr>
            <a:xfrm>
              <a:off x="906480" y="2760480"/>
              <a:ext cx="175320" cy="193320"/>
              <a:chOff x="906480" y="2760480"/>
              <a:chExt cx="175320" cy="193320"/>
            </a:xfrm>
          </p:grpSpPr>
          <p:sp>
            <p:nvSpPr>
              <p:cNvPr id="3420" name=""/>
              <p:cNvSpPr/>
              <p:nvPr/>
            </p:nvSpPr>
            <p:spPr>
              <a:xfrm>
                <a:off x="906480" y="2760480"/>
                <a:ext cx="175320" cy="19332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906480" y="2760480"/>
                <a:ext cx="175320" cy="19332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22" name=""/>
            <p:cNvGrpSpPr/>
            <p:nvPr/>
          </p:nvGrpSpPr>
          <p:grpSpPr>
            <a:xfrm>
              <a:off x="906480" y="2689200"/>
              <a:ext cx="511200" cy="176400"/>
              <a:chOff x="906480" y="2689200"/>
              <a:chExt cx="511200" cy="176400"/>
            </a:xfrm>
          </p:grpSpPr>
          <p:sp>
            <p:nvSpPr>
              <p:cNvPr id="3423" name=""/>
              <p:cNvSpPr/>
              <p:nvPr/>
            </p:nvSpPr>
            <p:spPr>
              <a:xfrm>
                <a:off x="906480" y="2689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906480" y="2689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25" name=""/>
            <p:cNvGrpSpPr/>
            <p:nvPr/>
          </p:nvGrpSpPr>
          <p:grpSpPr>
            <a:xfrm>
              <a:off x="1081800" y="2777400"/>
              <a:ext cx="335520" cy="176760"/>
              <a:chOff x="1081800" y="2777400"/>
              <a:chExt cx="335520" cy="176760"/>
            </a:xfrm>
          </p:grpSpPr>
          <p:sp>
            <p:nvSpPr>
              <p:cNvPr id="3426" name=""/>
              <p:cNvSpPr/>
              <p:nvPr/>
            </p:nvSpPr>
            <p:spPr>
              <a:xfrm>
                <a:off x="1081800" y="2777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1081800" y="2777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28" name=""/>
            <p:cNvSpPr/>
            <p:nvPr/>
          </p:nvSpPr>
          <p:spPr>
            <a:xfrm>
              <a:off x="1097640" y="2860560"/>
              <a:ext cx="6732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29" name=""/>
            <p:cNvGrpSpPr/>
            <p:nvPr/>
          </p:nvGrpSpPr>
          <p:grpSpPr>
            <a:xfrm>
              <a:off x="1269720" y="2797920"/>
              <a:ext cx="131760" cy="89640"/>
              <a:chOff x="1269720" y="2797920"/>
              <a:chExt cx="131760" cy="89640"/>
            </a:xfrm>
          </p:grpSpPr>
          <p:grpSp>
            <p:nvGrpSpPr>
              <p:cNvPr id="3430" name=""/>
              <p:cNvGrpSpPr/>
              <p:nvPr/>
            </p:nvGrpSpPr>
            <p:grpSpPr>
              <a:xfrm>
                <a:off x="1270080" y="2797920"/>
                <a:ext cx="131400" cy="89640"/>
                <a:chOff x="1270080" y="2797920"/>
                <a:chExt cx="131400" cy="89640"/>
              </a:xfrm>
            </p:grpSpPr>
            <p:sp>
              <p:nvSpPr>
                <p:cNvPr id="3431" name=""/>
                <p:cNvSpPr/>
                <p:nvPr/>
              </p:nvSpPr>
              <p:spPr>
                <a:xfrm>
                  <a:off x="1270080" y="279792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2" name=""/>
                <p:cNvSpPr/>
                <p:nvPr/>
              </p:nvSpPr>
              <p:spPr>
                <a:xfrm>
                  <a:off x="1270080" y="279792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33" name=""/>
              <p:cNvSpPr/>
              <p:nvPr/>
            </p:nvSpPr>
            <p:spPr>
              <a:xfrm flipH="1">
                <a:off x="1269720" y="2828880"/>
                <a:ext cx="1314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1316160" y="2845080"/>
                <a:ext cx="4608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1316160" y="2818800"/>
                <a:ext cx="4608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36" name=""/>
            <p:cNvGrpSpPr/>
            <p:nvPr/>
          </p:nvGrpSpPr>
          <p:grpSpPr>
            <a:xfrm>
              <a:off x="927000" y="2408400"/>
              <a:ext cx="307800" cy="301320"/>
              <a:chOff x="927000" y="2408400"/>
              <a:chExt cx="307800" cy="301320"/>
            </a:xfrm>
          </p:grpSpPr>
          <p:sp>
            <p:nvSpPr>
              <p:cNvPr id="3437" name=""/>
              <p:cNvSpPr/>
              <p:nvPr/>
            </p:nvSpPr>
            <p:spPr>
              <a:xfrm>
                <a:off x="927000" y="2408400"/>
                <a:ext cx="307800" cy="30132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927000" y="2408400"/>
                <a:ext cx="307800" cy="30132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39" name=""/>
            <p:cNvGrpSpPr/>
            <p:nvPr/>
          </p:nvGrpSpPr>
          <p:grpSpPr>
            <a:xfrm>
              <a:off x="982440" y="2487240"/>
              <a:ext cx="100080" cy="330840"/>
              <a:chOff x="982440" y="2487240"/>
              <a:chExt cx="100080" cy="330840"/>
            </a:xfrm>
          </p:grpSpPr>
          <p:sp>
            <p:nvSpPr>
              <p:cNvPr id="3440" name=""/>
              <p:cNvSpPr/>
              <p:nvPr/>
            </p:nvSpPr>
            <p:spPr>
              <a:xfrm>
                <a:off x="982440" y="2487240"/>
                <a:ext cx="100080" cy="33084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982440" y="2487240"/>
                <a:ext cx="100080" cy="33084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42" name=""/>
            <p:cNvGrpSpPr/>
            <p:nvPr/>
          </p:nvGrpSpPr>
          <p:grpSpPr>
            <a:xfrm>
              <a:off x="982440" y="2419200"/>
              <a:ext cx="416160" cy="122400"/>
              <a:chOff x="982440" y="2419200"/>
              <a:chExt cx="416160" cy="122400"/>
            </a:xfrm>
          </p:grpSpPr>
          <p:sp>
            <p:nvSpPr>
              <p:cNvPr id="3443" name=""/>
              <p:cNvSpPr/>
              <p:nvPr/>
            </p:nvSpPr>
            <p:spPr>
              <a:xfrm>
                <a:off x="982440" y="2419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982440" y="2419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45" name=""/>
            <p:cNvGrpSpPr/>
            <p:nvPr/>
          </p:nvGrpSpPr>
          <p:grpSpPr>
            <a:xfrm>
              <a:off x="1116720" y="2753280"/>
              <a:ext cx="219600" cy="66600"/>
              <a:chOff x="1116720" y="2753280"/>
              <a:chExt cx="219600" cy="66600"/>
            </a:xfrm>
          </p:grpSpPr>
          <p:sp>
            <p:nvSpPr>
              <p:cNvPr id="3446" name=""/>
              <p:cNvSpPr/>
              <p:nvPr/>
            </p:nvSpPr>
            <p:spPr>
              <a:xfrm>
                <a:off x="1116720" y="2753280"/>
                <a:ext cx="219600" cy="6660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1116720" y="2753280"/>
                <a:ext cx="219600" cy="6660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48" name=""/>
            <p:cNvGrpSpPr/>
            <p:nvPr/>
          </p:nvGrpSpPr>
          <p:grpSpPr>
            <a:xfrm>
              <a:off x="1082880" y="2466000"/>
              <a:ext cx="315720" cy="352800"/>
              <a:chOff x="1082880" y="2466000"/>
              <a:chExt cx="315720" cy="352800"/>
            </a:xfrm>
          </p:grpSpPr>
          <p:sp>
            <p:nvSpPr>
              <p:cNvPr id="3449" name=""/>
              <p:cNvSpPr/>
              <p:nvPr/>
            </p:nvSpPr>
            <p:spPr>
              <a:xfrm>
                <a:off x="1082880" y="2466000"/>
                <a:ext cx="315720" cy="35280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1082880" y="2466000"/>
                <a:ext cx="315720" cy="35280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51" name=""/>
            <p:cNvGrpSpPr/>
            <p:nvPr/>
          </p:nvGrpSpPr>
          <p:grpSpPr>
            <a:xfrm>
              <a:off x="1128600" y="2505960"/>
              <a:ext cx="230040" cy="257040"/>
              <a:chOff x="1128600" y="2505960"/>
              <a:chExt cx="230040" cy="257040"/>
            </a:xfrm>
          </p:grpSpPr>
          <p:sp>
            <p:nvSpPr>
              <p:cNvPr id="3452" name=""/>
              <p:cNvSpPr/>
              <p:nvPr/>
            </p:nvSpPr>
            <p:spPr>
              <a:xfrm>
                <a:off x="1128600" y="2505960"/>
                <a:ext cx="230040" cy="2570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1128600" y="2505960"/>
                <a:ext cx="230040" cy="2570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54" name=""/>
            <p:cNvSpPr/>
            <p:nvPr/>
          </p:nvSpPr>
          <p:spPr>
            <a:xfrm>
              <a:off x="1137600" y="2523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1137600" y="2523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1161000" y="258048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1183680" y="2561760"/>
              <a:ext cx="1278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58" name=""/>
          <p:cNvSpPr/>
          <p:nvPr/>
        </p:nvSpPr>
        <p:spPr>
          <a:xfrm flipH="1" flipV="1">
            <a:off x="2421000" y="4287960"/>
            <a:ext cx="255600" cy="334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 flipV="1">
            <a:off x="2846520" y="4176360"/>
            <a:ext cx="288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60" name=""/>
          <p:cNvGrpSpPr/>
          <p:nvPr/>
        </p:nvGrpSpPr>
        <p:grpSpPr>
          <a:xfrm>
            <a:off x="1219320" y="3219480"/>
            <a:ext cx="533160" cy="380880"/>
            <a:chOff x="1219320" y="3219480"/>
            <a:chExt cx="533160" cy="380880"/>
          </a:xfrm>
        </p:grpSpPr>
        <p:sp>
          <p:nvSpPr>
            <p:cNvPr id="3461" name=""/>
            <p:cNvSpPr/>
            <p:nvPr/>
          </p:nvSpPr>
          <p:spPr>
            <a:xfrm>
              <a:off x="1219320" y="3219480"/>
              <a:ext cx="533160" cy="380880"/>
            </a:xfrm>
            <a:prstGeom prst="rect">
              <a:avLst/>
            </a:prstGeom>
            <a:gradFill rotWithShape="0">
              <a:gsLst>
                <a:gs pos="0">
                  <a:srgbClr val="2f2f75"/>
                </a:gs>
                <a:gs pos="100000">
                  <a:srgbClr val="66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62" name=""/>
            <p:cNvGrpSpPr/>
            <p:nvPr/>
          </p:nvGrpSpPr>
          <p:grpSpPr>
            <a:xfrm>
              <a:off x="1289520" y="3293280"/>
              <a:ext cx="399240" cy="247680"/>
              <a:chOff x="1289520" y="3293280"/>
              <a:chExt cx="399240" cy="247680"/>
            </a:xfrm>
          </p:grpSpPr>
          <p:sp>
            <p:nvSpPr>
              <p:cNvPr id="3463" name=""/>
              <p:cNvSpPr/>
              <p:nvPr/>
            </p:nvSpPr>
            <p:spPr>
              <a:xfrm>
                <a:off x="1351800" y="3293280"/>
                <a:ext cx="27720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 flipH="1">
                <a:off x="1344240" y="3293280"/>
                <a:ext cx="27648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1613880" y="3297240"/>
                <a:ext cx="6912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1622880" y="3538800"/>
                <a:ext cx="65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1299240" y="3297240"/>
                <a:ext cx="63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1289520" y="3538800"/>
                <a:ext cx="64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69" name=""/>
          <p:cNvSpPr/>
          <p:nvPr/>
        </p:nvSpPr>
        <p:spPr>
          <a:xfrm flipV="1" rot="1331400">
            <a:off x="3021120" y="5072760"/>
            <a:ext cx="1084320" cy="329040"/>
          </a:xfrm>
          <a:custGeom>
            <a:avLst/>
            <a:gdLst/>
            <a:ahLst/>
            <a:rect l="l" t="t" r="r" b="b"/>
            <a:pathLst>
              <a:path w="656" h="197">
                <a:moveTo>
                  <a:pt x="0" y="196"/>
                </a:moveTo>
                <a:lnTo>
                  <a:pt x="401" y="145"/>
                </a:lnTo>
                <a:lnTo>
                  <a:pt x="312" y="71"/>
                </a:lnTo>
                <a:lnTo>
                  <a:pt x="655" y="0"/>
                </a:lnTo>
                <a:lnTo>
                  <a:pt x="254" y="52"/>
                </a:lnTo>
                <a:lnTo>
                  <a:pt x="346" y="129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0" name=""/>
          <p:cNvGrpSpPr/>
          <p:nvPr/>
        </p:nvGrpSpPr>
        <p:grpSpPr>
          <a:xfrm>
            <a:off x="3505320" y="4648320"/>
            <a:ext cx="2021760" cy="1646640"/>
            <a:chOff x="3505320" y="4648320"/>
            <a:chExt cx="2021760" cy="1646640"/>
          </a:xfrm>
        </p:grpSpPr>
        <p:grpSp>
          <p:nvGrpSpPr>
            <p:cNvPr id="3471" name=""/>
            <p:cNvGrpSpPr/>
            <p:nvPr/>
          </p:nvGrpSpPr>
          <p:grpSpPr>
            <a:xfrm>
              <a:off x="3505320" y="4648320"/>
              <a:ext cx="2021760" cy="1646640"/>
              <a:chOff x="3505320" y="4648320"/>
              <a:chExt cx="2021760" cy="1646640"/>
            </a:xfrm>
          </p:grpSpPr>
          <p:grpSp>
            <p:nvGrpSpPr>
              <p:cNvPr id="3472" name=""/>
              <p:cNvGrpSpPr/>
              <p:nvPr/>
            </p:nvGrpSpPr>
            <p:grpSpPr>
              <a:xfrm>
                <a:off x="4698360" y="4795920"/>
                <a:ext cx="828720" cy="1417320"/>
                <a:chOff x="4698360" y="4795920"/>
                <a:chExt cx="828720" cy="1417320"/>
              </a:xfrm>
            </p:grpSpPr>
            <p:grpSp>
              <p:nvGrpSpPr>
                <p:cNvPr id="3473" name=""/>
                <p:cNvGrpSpPr/>
                <p:nvPr/>
              </p:nvGrpSpPr>
              <p:grpSpPr>
                <a:xfrm>
                  <a:off x="5022720" y="4795920"/>
                  <a:ext cx="504360" cy="1139400"/>
                  <a:chOff x="5022720" y="4795920"/>
                  <a:chExt cx="504360" cy="1139400"/>
                </a:xfrm>
              </p:grpSpPr>
              <p:grpSp>
                <p:nvGrpSpPr>
                  <p:cNvPr id="3474" name=""/>
                  <p:cNvGrpSpPr/>
                  <p:nvPr/>
                </p:nvGrpSpPr>
                <p:grpSpPr>
                  <a:xfrm>
                    <a:off x="5159880" y="4954680"/>
                    <a:ext cx="367200" cy="821520"/>
                    <a:chOff x="5159880" y="4954680"/>
                    <a:chExt cx="367200" cy="821520"/>
                  </a:xfrm>
                </p:grpSpPr>
                <p:grpSp>
                  <p:nvGrpSpPr>
                    <p:cNvPr id="3475" name=""/>
                    <p:cNvGrpSpPr/>
                    <p:nvPr/>
                  </p:nvGrpSpPr>
                  <p:grpSpPr>
                    <a:xfrm>
                      <a:off x="5159880" y="4954680"/>
                      <a:ext cx="367200" cy="821520"/>
                      <a:chOff x="5159880" y="4954680"/>
                      <a:chExt cx="367200" cy="821520"/>
                    </a:xfrm>
                  </p:grpSpPr>
                  <p:grpSp>
                    <p:nvGrpSpPr>
                      <p:cNvPr id="3476" name=""/>
                      <p:cNvGrpSpPr/>
                      <p:nvPr/>
                    </p:nvGrpSpPr>
                    <p:grpSpPr>
                      <a:xfrm>
                        <a:off x="5257080" y="5007240"/>
                        <a:ext cx="270000" cy="667800"/>
                        <a:chOff x="5257080" y="5007240"/>
                        <a:chExt cx="270000" cy="667800"/>
                      </a:xfrm>
                    </p:grpSpPr>
                    <p:grpSp>
                      <p:nvGrpSpPr>
                        <p:cNvPr id="3477" name=""/>
                        <p:cNvGrpSpPr/>
                        <p:nvPr/>
                      </p:nvGrpSpPr>
                      <p:grpSpPr>
                        <a:xfrm>
                          <a:off x="5290200" y="5007240"/>
                          <a:ext cx="236880" cy="667800"/>
                          <a:chOff x="5290200" y="5007240"/>
                          <a:chExt cx="236880" cy="667800"/>
                        </a:xfrm>
                      </p:grpSpPr>
                      <p:sp>
                        <p:nvSpPr>
                          <p:cNvPr id="3478" name=""/>
                          <p:cNvSpPr/>
                          <p:nvPr/>
                        </p:nvSpPr>
                        <p:spPr>
                          <a:xfrm>
                            <a:off x="5423760" y="5412960"/>
                            <a:ext cx="103320" cy="16020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79" name=""/>
                          <p:cNvSpPr/>
                          <p:nvPr/>
                        </p:nvSpPr>
                        <p:spPr>
                          <a:xfrm>
                            <a:off x="5320080" y="5464080"/>
                            <a:ext cx="137880" cy="21096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80" name=""/>
                          <p:cNvSpPr/>
                          <p:nvPr/>
                        </p:nvSpPr>
                        <p:spPr>
                          <a:xfrm>
                            <a:off x="5389200" y="5156640"/>
                            <a:ext cx="104760" cy="16020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81" name=""/>
                          <p:cNvSpPr/>
                          <p:nvPr/>
                        </p:nvSpPr>
                        <p:spPr>
                          <a:xfrm>
                            <a:off x="5290200" y="5007240"/>
                            <a:ext cx="137880" cy="21096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82" name=""/>
                          <p:cNvSpPr/>
                          <p:nvPr/>
                        </p:nvSpPr>
                        <p:spPr>
                          <a:xfrm>
                            <a:off x="5389200" y="5156640"/>
                            <a:ext cx="93960" cy="376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0" h="207">
                                <a:moveTo>
                                  <a:pt x="59" y="206"/>
                                </a:moveTo>
                                <a:lnTo>
                                  <a:pt x="34" y="206"/>
                                </a:lnTo>
                                <a:lnTo>
                                  <a:pt x="0" y="0"/>
                                </a:lnTo>
                                <a:lnTo>
                                  <a:pt x="35" y="17"/>
                                </a:lnTo>
                                <a:lnTo>
                                  <a:pt x="36" y="116"/>
                                </a:lnTo>
                                <a:lnTo>
                                  <a:pt x="59" y="206"/>
                                </a:lnTo>
                              </a:path>
                            </a:pathLst>
                          </a:custGeom>
                          <a:solidFill>
                            <a:srgbClr val="00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483" name=""/>
                        <p:cNvSpPr/>
                        <p:nvPr/>
                      </p:nvSpPr>
                      <p:spPr>
                        <a:xfrm>
                          <a:off x="5257080" y="5209200"/>
                          <a:ext cx="201240" cy="315000"/>
                        </a:xfrm>
                        <a:prstGeom prst="ellipse">
                          <a:avLst/>
                        </a:prstGeom>
                        <a:solidFill>
                          <a:srgbClr val="00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84" name=""/>
                        <p:cNvSpPr/>
                        <p:nvPr/>
                      </p:nvSpPr>
                      <p:spPr>
                        <a:xfrm>
                          <a:off x="5257080" y="5413320"/>
                          <a:ext cx="135360" cy="213120"/>
                        </a:xfrm>
                        <a:prstGeom prst="ellipse">
                          <a:avLst/>
                        </a:prstGeom>
                        <a:solidFill>
                          <a:srgbClr val="00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85" name=""/>
                        <p:cNvSpPr/>
                        <p:nvPr/>
                      </p:nvSpPr>
                      <p:spPr>
                        <a:xfrm>
                          <a:off x="5301000" y="5118120"/>
                          <a:ext cx="103680" cy="402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6" h="221">
                              <a:moveTo>
                                <a:pt x="58" y="36"/>
                              </a:moveTo>
                              <a:lnTo>
                                <a:pt x="50" y="83"/>
                              </a:lnTo>
                              <a:lnTo>
                                <a:pt x="65" y="190"/>
                              </a:lnTo>
                              <a:lnTo>
                                <a:pt x="38" y="220"/>
                              </a:lnTo>
                              <a:lnTo>
                                <a:pt x="0" y="93"/>
                              </a:lnTo>
                              <a:lnTo>
                                <a:pt x="31" y="0"/>
                              </a:lnTo>
                              <a:lnTo>
                                <a:pt x="58" y="36"/>
                              </a:lnTo>
                            </a:path>
                          </a:pathLst>
                        </a:custGeom>
                        <a:solidFill>
                          <a:srgbClr val="00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486" name=""/>
                      <p:cNvSpPr/>
                      <p:nvPr/>
                    </p:nvSpPr>
                    <p:spPr>
                      <a:xfrm>
                        <a:off x="5257080" y="5617800"/>
                        <a:ext cx="104040" cy="15840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87" name=""/>
                      <p:cNvSpPr/>
                      <p:nvPr/>
                    </p:nvSpPr>
                    <p:spPr>
                      <a:xfrm>
                        <a:off x="5159880" y="4954680"/>
                        <a:ext cx="135000" cy="21132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88" name=""/>
                      <p:cNvSpPr/>
                      <p:nvPr/>
                    </p:nvSpPr>
                    <p:spPr>
                      <a:xfrm>
                        <a:off x="5291640" y="5576040"/>
                        <a:ext cx="72360" cy="57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32">
                            <a:moveTo>
                              <a:pt x="45" y="18"/>
                            </a:moveTo>
                            <a:lnTo>
                              <a:pt x="32" y="31"/>
                            </a:lnTo>
                            <a:lnTo>
                              <a:pt x="0" y="14"/>
                            </a:lnTo>
                            <a:lnTo>
                              <a:pt x="32" y="0"/>
                            </a:lnTo>
                            <a:lnTo>
                              <a:pt x="45" y="18"/>
                            </a:lnTo>
                          </a:path>
                        </a:pathLst>
                      </a:custGeom>
                      <a:solidFill>
                        <a:srgbClr val="00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1160" bIns="11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489" name=""/>
                    <p:cNvSpPr/>
                    <p:nvPr/>
                  </p:nvSpPr>
                  <p:spPr>
                    <a:xfrm>
                      <a:off x="5281200" y="5067360"/>
                      <a:ext cx="31320" cy="11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64">
                          <a:moveTo>
                            <a:pt x="9" y="0"/>
                          </a:moveTo>
                          <a:lnTo>
                            <a:pt x="19" y="0"/>
                          </a:lnTo>
                          <a:lnTo>
                            <a:pt x="15" y="63"/>
                          </a:lnTo>
                          <a:lnTo>
                            <a:pt x="0" y="5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90" name=""/>
                  <p:cNvGrpSpPr/>
                  <p:nvPr/>
                </p:nvGrpSpPr>
                <p:grpSpPr>
                  <a:xfrm>
                    <a:off x="5022720" y="4795920"/>
                    <a:ext cx="338400" cy="1031760"/>
                    <a:chOff x="5022720" y="4795920"/>
                    <a:chExt cx="338400" cy="1031760"/>
                  </a:xfrm>
                </p:grpSpPr>
                <p:sp>
                  <p:nvSpPr>
                    <p:cNvPr id="3491" name=""/>
                    <p:cNvSpPr/>
                    <p:nvPr/>
                  </p:nvSpPr>
                  <p:spPr>
                    <a:xfrm>
                      <a:off x="5054400" y="5414040"/>
                      <a:ext cx="272160" cy="41364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2" name=""/>
                    <p:cNvSpPr/>
                    <p:nvPr/>
                  </p:nvSpPr>
                  <p:spPr>
                    <a:xfrm>
                      <a:off x="5088960" y="5105880"/>
                      <a:ext cx="272160" cy="41904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3" name=""/>
                    <p:cNvSpPr/>
                    <p:nvPr/>
                  </p:nvSpPr>
                  <p:spPr>
                    <a:xfrm>
                      <a:off x="5022720" y="4795920"/>
                      <a:ext cx="204840" cy="32076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4" name=""/>
                    <p:cNvSpPr/>
                    <p:nvPr/>
                  </p:nvSpPr>
                  <p:spPr>
                    <a:xfrm>
                      <a:off x="5159520" y="5007600"/>
                      <a:ext cx="100440" cy="15876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5" name=""/>
                    <p:cNvSpPr/>
                    <p:nvPr/>
                  </p:nvSpPr>
                  <p:spPr>
                    <a:xfrm>
                      <a:off x="5088960" y="4961880"/>
                      <a:ext cx="18072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203">
                          <a:moveTo>
                            <a:pt x="80" y="8"/>
                          </a:moveTo>
                          <a:lnTo>
                            <a:pt x="79" y="35"/>
                          </a:lnTo>
                          <a:lnTo>
                            <a:pt x="106" y="78"/>
                          </a:lnTo>
                          <a:lnTo>
                            <a:pt x="114" y="82"/>
                          </a:lnTo>
                          <a:lnTo>
                            <a:pt x="73" y="202"/>
                          </a:lnTo>
                          <a:lnTo>
                            <a:pt x="0" y="0"/>
                          </a:lnTo>
                          <a:lnTo>
                            <a:pt x="80" y="8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6" name=""/>
                    <p:cNvSpPr/>
                    <p:nvPr/>
                  </p:nvSpPr>
                  <p:spPr>
                    <a:xfrm>
                      <a:off x="5181840" y="5500080"/>
                      <a:ext cx="113040" cy="8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46">
                          <a:moveTo>
                            <a:pt x="62" y="6"/>
                          </a:moveTo>
                          <a:lnTo>
                            <a:pt x="71" y="21"/>
                          </a:lnTo>
                          <a:lnTo>
                            <a:pt x="0" y="45"/>
                          </a:lnTo>
                          <a:lnTo>
                            <a:pt x="1" y="0"/>
                          </a:lnTo>
                          <a:lnTo>
                            <a:pt x="62" y="6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97" name=""/>
                  <p:cNvSpPr/>
                  <p:nvPr/>
                </p:nvSpPr>
                <p:spPr>
                  <a:xfrm>
                    <a:off x="5022720" y="5722560"/>
                    <a:ext cx="141480" cy="2127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8" name=""/>
                  <p:cNvSpPr/>
                  <p:nvPr/>
                </p:nvSpPr>
                <p:spPr>
                  <a:xfrm>
                    <a:off x="5123520" y="5694840"/>
                    <a:ext cx="72360" cy="10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8">
                        <a:moveTo>
                          <a:pt x="17" y="57"/>
                        </a:moveTo>
                        <a:lnTo>
                          <a:pt x="45" y="38"/>
                        </a:lnTo>
                        <a:lnTo>
                          <a:pt x="13" y="0"/>
                        </a:lnTo>
                        <a:lnTo>
                          <a:pt x="0" y="19"/>
                        </a:lnTo>
                        <a:lnTo>
                          <a:pt x="17" y="57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99" name=""/>
                <p:cNvSpPr/>
                <p:nvPr/>
              </p:nvSpPr>
              <p:spPr>
                <a:xfrm>
                  <a:off x="4698360" y="5950800"/>
                  <a:ext cx="169920" cy="26244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0" name=""/>
                <p:cNvSpPr/>
                <p:nvPr/>
              </p:nvSpPr>
              <p:spPr>
                <a:xfrm>
                  <a:off x="4858920" y="5950800"/>
                  <a:ext cx="136800" cy="2149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1" name=""/>
                <p:cNvSpPr/>
                <p:nvPr/>
              </p:nvSpPr>
              <p:spPr>
                <a:xfrm>
                  <a:off x="4950360" y="5870520"/>
                  <a:ext cx="136800" cy="2149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2" name=""/>
                <p:cNvSpPr/>
                <p:nvPr/>
              </p:nvSpPr>
              <p:spPr>
                <a:xfrm>
                  <a:off x="4814640" y="5828400"/>
                  <a:ext cx="303840" cy="306360"/>
                </a:xfrm>
                <a:custGeom>
                  <a:avLst/>
                  <a:gdLst/>
                  <a:ahLst/>
                  <a:rect l="l" t="t" r="r" b="b"/>
                  <a:pathLst>
                    <a:path w="193" h="168">
                      <a:moveTo>
                        <a:pt x="177" y="48"/>
                      </a:moveTo>
                      <a:lnTo>
                        <a:pt x="161" y="59"/>
                      </a:lnTo>
                      <a:lnTo>
                        <a:pt x="109" y="128"/>
                      </a:lnTo>
                      <a:lnTo>
                        <a:pt x="97" y="156"/>
                      </a:lnTo>
                      <a:lnTo>
                        <a:pt x="40" y="156"/>
                      </a:lnTo>
                      <a:lnTo>
                        <a:pt x="28" y="167"/>
                      </a:lnTo>
                      <a:lnTo>
                        <a:pt x="0" y="118"/>
                      </a:lnTo>
                      <a:lnTo>
                        <a:pt x="128" y="0"/>
                      </a:lnTo>
                      <a:lnTo>
                        <a:pt x="192" y="28"/>
                      </a:lnTo>
                      <a:lnTo>
                        <a:pt x="177" y="48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3" name=""/>
              <p:cNvGrpSpPr/>
              <p:nvPr/>
            </p:nvGrpSpPr>
            <p:grpSpPr>
              <a:xfrm>
                <a:off x="3505320" y="4812480"/>
                <a:ext cx="487800" cy="964080"/>
                <a:chOff x="3505320" y="4812480"/>
                <a:chExt cx="487800" cy="964080"/>
              </a:xfrm>
            </p:grpSpPr>
            <p:grpSp>
              <p:nvGrpSpPr>
                <p:cNvPr id="3504" name=""/>
                <p:cNvGrpSpPr/>
                <p:nvPr/>
              </p:nvGrpSpPr>
              <p:grpSpPr>
                <a:xfrm>
                  <a:off x="3505320" y="4954680"/>
                  <a:ext cx="254520" cy="570240"/>
                  <a:chOff x="3505320" y="4954680"/>
                  <a:chExt cx="254520" cy="570240"/>
                </a:xfrm>
              </p:grpSpPr>
              <p:sp>
                <p:nvSpPr>
                  <p:cNvPr id="3505" name=""/>
                  <p:cNvSpPr/>
                  <p:nvPr/>
                </p:nvSpPr>
                <p:spPr>
                  <a:xfrm>
                    <a:off x="3505320" y="5157000"/>
                    <a:ext cx="103680" cy="16020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6" name=""/>
                  <p:cNvSpPr/>
                  <p:nvPr/>
                </p:nvSpPr>
                <p:spPr>
                  <a:xfrm>
                    <a:off x="3524040" y="5315400"/>
                    <a:ext cx="136440" cy="20952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7" name=""/>
                  <p:cNvSpPr/>
                  <p:nvPr/>
                </p:nvSpPr>
                <p:spPr>
                  <a:xfrm>
                    <a:off x="3558600" y="4954680"/>
                    <a:ext cx="201240" cy="3153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8" name=""/>
                  <p:cNvSpPr/>
                  <p:nvPr/>
                </p:nvSpPr>
                <p:spPr>
                  <a:xfrm>
                    <a:off x="3539880" y="5182200"/>
                    <a:ext cx="70560" cy="1638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90">
                        <a:moveTo>
                          <a:pt x="25" y="0"/>
                        </a:moveTo>
                        <a:lnTo>
                          <a:pt x="0" y="18"/>
                        </a:lnTo>
                        <a:lnTo>
                          <a:pt x="1" y="71"/>
                        </a:lnTo>
                        <a:lnTo>
                          <a:pt x="10" y="89"/>
                        </a:lnTo>
                        <a:lnTo>
                          <a:pt x="44" y="71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9" name=""/>
                <p:cNvGrpSpPr/>
                <p:nvPr/>
              </p:nvGrpSpPr>
              <p:grpSpPr>
                <a:xfrm>
                  <a:off x="3590280" y="4812480"/>
                  <a:ext cx="402840" cy="964080"/>
                  <a:chOff x="3590280" y="4812480"/>
                  <a:chExt cx="402840" cy="964080"/>
                </a:xfrm>
              </p:grpSpPr>
              <p:sp>
                <p:nvSpPr>
                  <p:cNvPr id="3510" name=""/>
                  <p:cNvSpPr/>
                  <p:nvPr/>
                </p:nvSpPr>
                <p:spPr>
                  <a:xfrm>
                    <a:off x="3727080" y="4847040"/>
                    <a:ext cx="266040" cy="42264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1" name=""/>
                  <p:cNvSpPr/>
                  <p:nvPr/>
                </p:nvSpPr>
                <p:spPr>
                  <a:xfrm>
                    <a:off x="3590280" y="5157000"/>
                    <a:ext cx="136800" cy="2127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2" name=""/>
                  <p:cNvSpPr/>
                  <p:nvPr/>
                </p:nvSpPr>
                <p:spPr>
                  <a:xfrm>
                    <a:off x="3623400" y="5315400"/>
                    <a:ext cx="207720" cy="31140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3" name=""/>
                  <p:cNvSpPr/>
                  <p:nvPr/>
                </p:nvSpPr>
                <p:spPr>
                  <a:xfrm>
                    <a:off x="3692520" y="5465160"/>
                    <a:ext cx="204480" cy="31140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4" name=""/>
                  <p:cNvSpPr/>
                  <p:nvPr/>
                </p:nvSpPr>
                <p:spPr>
                  <a:xfrm>
                    <a:off x="3709800" y="5061960"/>
                    <a:ext cx="176400" cy="26784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5" name=""/>
                  <p:cNvSpPr/>
                  <p:nvPr/>
                </p:nvSpPr>
                <p:spPr>
                  <a:xfrm>
                    <a:off x="3871800" y="4812480"/>
                    <a:ext cx="108720" cy="15480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6" name=""/>
                  <p:cNvSpPr/>
                  <p:nvPr/>
                </p:nvSpPr>
                <p:spPr>
                  <a:xfrm>
                    <a:off x="3769560" y="5005800"/>
                    <a:ext cx="12420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71">
                        <a:moveTo>
                          <a:pt x="0" y="19"/>
                        </a:moveTo>
                        <a:lnTo>
                          <a:pt x="10" y="53"/>
                        </a:lnTo>
                        <a:lnTo>
                          <a:pt x="78" y="70"/>
                        </a:lnTo>
                        <a:lnTo>
                          <a:pt x="78" y="24"/>
                        </a:lnTo>
                        <a:lnTo>
                          <a:pt x="3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7" name=""/>
                  <p:cNvSpPr/>
                  <p:nvPr/>
                </p:nvSpPr>
                <p:spPr>
                  <a:xfrm>
                    <a:off x="3634200" y="5264640"/>
                    <a:ext cx="14796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56">
                        <a:moveTo>
                          <a:pt x="58" y="0"/>
                        </a:moveTo>
                        <a:lnTo>
                          <a:pt x="0" y="39"/>
                        </a:lnTo>
                        <a:lnTo>
                          <a:pt x="23" y="70"/>
                        </a:lnTo>
                        <a:lnTo>
                          <a:pt x="27" y="146"/>
                        </a:lnTo>
                        <a:lnTo>
                          <a:pt x="42" y="155"/>
                        </a:lnTo>
                        <a:lnTo>
                          <a:pt x="90" y="107"/>
                        </a:lnTo>
                        <a:lnTo>
                          <a:pt x="93" y="16"/>
                        </a:lnTo>
                        <a:lnTo>
                          <a:pt x="58" y="0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18" name=""/>
                <p:cNvSpPr/>
                <p:nvPr/>
              </p:nvSpPr>
              <p:spPr>
                <a:xfrm>
                  <a:off x="3862800" y="4914360"/>
                  <a:ext cx="73800" cy="121680"/>
                </a:xfrm>
                <a:custGeom>
                  <a:avLst/>
                  <a:gdLst/>
                  <a:ahLst/>
                  <a:rect l="l" t="t" r="r" b="b"/>
                  <a:pathLst>
                    <a:path w="47" h="67">
                      <a:moveTo>
                        <a:pt x="0" y="36"/>
                      </a:moveTo>
                      <a:lnTo>
                        <a:pt x="18" y="0"/>
                      </a:lnTo>
                      <a:lnTo>
                        <a:pt x="46" y="36"/>
                      </a:lnTo>
                      <a:lnTo>
                        <a:pt x="24" y="66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9" name=""/>
              <p:cNvGrpSpPr/>
              <p:nvPr/>
            </p:nvGrpSpPr>
            <p:grpSpPr>
              <a:xfrm>
                <a:off x="3755880" y="4648320"/>
                <a:ext cx="1471680" cy="1646640"/>
                <a:chOff x="3755880" y="4648320"/>
                <a:chExt cx="1471680" cy="1646640"/>
              </a:xfrm>
            </p:grpSpPr>
            <p:sp>
              <p:nvSpPr>
                <p:cNvPr id="3520" name=""/>
                <p:cNvSpPr/>
                <p:nvPr/>
              </p:nvSpPr>
              <p:spPr>
                <a:xfrm>
                  <a:off x="4223880" y="4697280"/>
                  <a:ext cx="336960" cy="52128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1" name=""/>
                <p:cNvSpPr/>
                <p:nvPr/>
              </p:nvSpPr>
              <p:spPr>
                <a:xfrm>
                  <a:off x="4521600" y="4648320"/>
                  <a:ext cx="275760" cy="4176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2" name=""/>
                <p:cNvSpPr/>
                <p:nvPr/>
              </p:nvSpPr>
              <p:spPr>
                <a:xfrm>
                  <a:off x="4787640" y="5105880"/>
                  <a:ext cx="439920" cy="67104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3" name=""/>
                <p:cNvSpPr/>
                <p:nvPr/>
              </p:nvSpPr>
              <p:spPr>
                <a:xfrm>
                  <a:off x="3925800" y="5414040"/>
                  <a:ext cx="499320" cy="77688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4" name=""/>
                <p:cNvSpPr/>
                <p:nvPr/>
              </p:nvSpPr>
              <p:spPr>
                <a:xfrm>
                  <a:off x="4658760" y="5518440"/>
                  <a:ext cx="370080" cy="56844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5" name=""/>
                <p:cNvSpPr/>
                <p:nvPr/>
              </p:nvSpPr>
              <p:spPr>
                <a:xfrm>
                  <a:off x="3791880" y="5571360"/>
                  <a:ext cx="271080" cy="41184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6" name=""/>
                <p:cNvSpPr/>
                <p:nvPr/>
              </p:nvSpPr>
              <p:spPr>
                <a:xfrm>
                  <a:off x="3755880" y="5209920"/>
                  <a:ext cx="270720" cy="4176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7" name=""/>
                <p:cNvSpPr/>
                <p:nvPr/>
              </p:nvSpPr>
              <p:spPr>
                <a:xfrm>
                  <a:off x="3888000" y="4795920"/>
                  <a:ext cx="442800" cy="6786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8" name=""/>
                <p:cNvSpPr/>
                <p:nvPr/>
              </p:nvSpPr>
              <p:spPr>
                <a:xfrm>
                  <a:off x="4291560" y="5618520"/>
                  <a:ext cx="438120" cy="67644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9" name=""/>
                <p:cNvSpPr/>
                <p:nvPr/>
              </p:nvSpPr>
              <p:spPr>
                <a:xfrm>
                  <a:off x="4858920" y="4847040"/>
                  <a:ext cx="332280" cy="52308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0" name=""/>
                <p:cNvSpPr/>
                <p:nvPr/>
              </p:nvSpPr>
              <p:spPr>
                <a:xfrm>
                  <a:off x="4756320" y="4648320"/>
                  <a:ext cx="307080" cy="46836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1" name=""/>
                <p:cNvSpPr/>
                <p:nvPr/>
              </p:nvSpPr>
              <p:spPr>
                <a:xfrm>
                  <a:off x="3873960" y="4776120"/>
                  <a:ext cx="1279080" cy="1305720"/>
                </a:xfrm>
                <a:custGeom>
                  <a:avLst/>
                  <a:gdLst/>
                  <a:ahLst/>
                  <a:rect l="l" t="t" r="r" b="b"/>
                  <a:pathLst>
                    <a:path w="812" h="716">
                      <a:moveTo>
                        <a:pt x="249" y="71"/>
                      </a:moveTo>
                      <a:lnTo>
                        <a:pt x="284" y="20"/>
                      </a:lnTo>
                      <a:lnTo>
                        <a:pt x="435" y="23"/>
                      </a:lnTo>
                      <a:lnTo>
                        <a:pt x="542" y="0"/>
                      </a:lnTo>
                      <a:lnTo>
                        <a:pt x="676" y="85"/>
                      </a:lnTo>
                      <a:lnTo>
                        <a:pt x="746" y="62"/>
                      </a:lnTo>
                      <a:lnTo>
                        <a:pt x="782" y="71"/>
                      </a:lnTo>
                      <a:lnTo>
                        <a:pt x="789" y="283"/>
                      </a:lnTo>
                      <a:lnTo>
                        <a:pt x="811" y="318"/>
                      </a:lnTo>
                      <a:lnTo>
                        <a:pt x="747" y="482"/>
                      </a:lnTo>
                      <a:lnTo>
                        <a:pt x="680" y="369"/>
                      </a:lnTo>
                      <a:lnTo>
                        <a:pt x="661" y="429"/>
                      </a:lnTo>
                      <a:lnTo>
                        <a:pt x="566" y="652"/>
                      </a:lnTo>
                      <a:lnTo>
                        <a:pt x="244" y="715"/>
                      </a:lnTo>
                      <a:lnTo>
                        <a:pt x="79" y="671"/>
                      </a:lnTo>
                      <a:lnTo>
                        <a:pt x="27" y="530"/>
                      </a:lnTo>
                      <a:lnTo>
                        <a:pt x="27" y="387"/>
                      </a:lnTo>
                      <a:lnTo>
                        <a:pt x="0" y="268"/>
                      </a:lnTo>
                      <a:lnTo>
                        <a:pt x="249" y="71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32" name=""/>
            <p:cNvGrpSpPr/>
            <p:nvPr/>
          </p:nvGrpSpPr>
          <p:grpSpPr>
            <a:xfrm>
              <a:off x="3823560" y="4865400"/>
              <a:ext cx="1265400" cy="997560"/>
              <a:chOff x="3823560" y="4865400"/>
              <a:chExt cx="1265400" cy="997560"/>
            </a:xfrm>
          </p:grpSpPr>
          <p:sp>
            <p:nvSpPr>
              <p:cNvPr id="3533" name=""/>
              <p:cNvSpPr/>
              <p:nvPr/>
            </p:nvSpPr>
            <p:spPr>
              <a:xfrm>
                <a:off x="3823560" y="4865400"/>
                <a:ext cx="1265400" cy="61992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3823560" y="5244480"/>
                <a:ext cx="1233360" cy="61848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35" name=""/>
          <p:cNvGrpSpPr/>
          <p:nvPr/>
        </p:nvGrpSpPr>
        <p:grpSpPr>
          <a:xfrm>
            <a:off x="4952880" y="5181480"/>
            <a:ext cx="511200" cy="381240"/>
            <a:chOff x="4952880" y="5181480"/>
            <a:chExt cx="511200" cy="381240"/>
          </a:xfrm>
        </p:grpSpPr>
        <p:grpSp>
          <p:nvGrpSpPr>
            <p:cNvPr id="3536" name=""/>
            <p:cNvGrpSpPr/>
            <p:nvPr/>
          </p:nvGrpSpPr>
          <p:grpSpPr>
            <a:xfrm>
              <a:off x="4953600" y="5230440"/>
              <a:ext cx="322560" cy="332280"/>
              <a:chOff x="4953600" y="5230440"/>
              <a:chExt cx="322560" cy="332280"/>
            </a:xfrm>
          </p:grpSpPr>
          <p:sp>
            <p:nvSpPr>
              <p:cNvPr id="3537" name=""/>
              <p:cNvSpPr/>
              <p:nvPr/>
            </p:nvSpPr>
            <p:spPr>
              <a:xfrm>
                <a:off x="4953600" y="5230440"/>
                <a:ext cx="322560" cy="33228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4953600" y="5230440"/>
                <a:ext cx="322560" cy="33228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9" name=""/>
            <p:cNvGrpSpPr/>
            <p:nvPr/>
          </p:nvGrpSpPr>
          <p:grpSpPr>
            <a:xfrm>
              <a:off x="5276160" y="5241960"/>
              <a:ext cx="186120" cy="320760"/>
              <a:chOff x="5276160" y="5241960"/>
              <a:chExt cx="186120" cy="320760"/>
            </a:xfrm>
          </p:grpSpPr>
          <p:sp>
            <p:nvSpPr>
              <p:cNvPr id="3540" name=""/>
              <p:cNvSpPr/>
              <p:nvPr/>
            </p:nvSpPr>
            <p:spPr>
              <a:xfrm>
                <a:off x="5276160" y="5241960"/>
                <a:ext cx="186120" cy="3207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5276160" y="5241960"/>
                <a:ext cx="186120" cy="3207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42" name=""/>
            <p:cNvGrpSpPr/>
            <p:nvPr/>
          </p:nvGrpSpPr>
          <p:grpSpPr>
            <a:xfrm>
              <a:off x="4952880" y="5181480"/>
              <a:ext cx="511200" cy="133560"/>
              <a:chOff x="4952880" y="5181480"/>
              <a:chExt cx="511200" cy="133560"/>
            </a:xfrm>
          </p:grpSpPr>
          <p:sp>
            <p:nvSpPr>
              <p:cNvPr id="3543" name=""/>
              <p:cNvSpPr/>
              <p:nvPr/>
            </p:nvSpPr>
            <p:spPr>
              <a:xfrm>
                <a:off x="4952880" y="5181480"/>
                <a:ext cx="511200" cy="1335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4952880" y="5181480"/>
                <a:ext cx="511200" cy="1335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45" name=""/>
            <p:cNvSpPr/>
            <p:nvPr/>
          </p:nvSpPr>
          <p:spPr>
            <a:xfrm>
              <a:off x="4973040" y="5260320"/>
              <a:ext cx="272520" cy="268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4973040" y="5332320"/>
              <a:ext cx="272520" cy="19692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4973040" y="5260320"/>
              <a:ext cx="271080" cy="1756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48" name=""/>
            <p:cNvGrpSpPr/>
            <p:nvPr/>
          </p:nvGrpSpPr>
          <p:grpSpPr>
            <a:xfrm>
              <a:off x="4992120" y="5286600"/>
              <a:ext cx="132840" cy="65160"/>
              <a:chOff x="4992120" y="5286600"/>
              <a:chExt cx="132840" cy="65160"/>
            </a:xfrm>
          </p:grpSpPr>
          <p:sp>
            <p:nvSpPr>
              <p:cNvPr id="3549" name=""/>
              <p:cNvSpPr/>
              <p:nvPr/>
            </p:nvSpPr>
            <p:spPr>
              <a:xfrm>
                <a:off x="4992120" y="5286600"/>
                <a:ext cx="132840" cy="65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4992120" y="5286600"/>
                <a:ext cx="132840" cy="65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51" name=""/>
            <p:cNvGrpSpPr/>
            <p:nvPr/>
          </p:nvGrpSpPr>
          <p:grpSpPr>
            <a:xfrm>
              <a:off x="4990680" y="5356080"/>
              <a:ext cx="83160" cy="96840"/>
              <a:chOff x="4990680" y="5356080"/>
              <a:chExt cx="83160" cy="96840"/>
            </a:xfrm>
          </p:grpSpPr>
          <p:sp>
            <p:nvSpPr>
              <p:cNvPr id="3552" name=""/>
              <p:cNvSpPr/>
              <p:nvPr/>
            </p:nvSpPr>
            <p:spPr>
              <a:xfrm>
                <a:off x="4990680" y="5356080"/>
                <a:ext cx="83160" cy="968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4990680" y="5356080"/>
                <a:ext cx="83160" cy="968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54" name=""/>
          <p:cNvGrpSpPr/>
          <p:nvPr/>
        </p:nvGrpSpPr>
        <p:grpSpPr>
          <a:xfrm>
            <a:off x="3962520" y="5715000"/>
            <a:ext cx="507960" cy="380880"/>
            <a:chOff x="3962520" y="5715000"/>
            <a:chExt cx="507960" cy="380880"/>
          </a:xfrm>
        </p:grpSpPr>
        <p:grpSp>
          <p:nvGrpSpPr>
            <p:cNvPr id="3555" name=""/>
            <p:cNvGrpSpPr/>
            <p:nvPr/>
          </p:nvGrpSpPr>
          <p:grpSpPr>
            <a:xfrm>
              <a:off x="3963240" y="5763960"/>
              <a:ext cx="320400" cy="331920"/>
              <a:chOff x="3963240" y="5763960"/>
              <a:chExt cx="320400" cy="331920"/>
            </a:xfrm>
          </p:grpSpPr>
          <p:sp>
            <p:nvSpPr>
              <p:cNvPr id="3556" name=""/>
              <p:cNvSpPr/>
              <p:nvPr/>
            </p:nvSpPr>
            <p:spPr>
              <a:xfrm>
                <a:off x="3963240" y="5763960"/>
                <a:ext cx="320400" cy="33192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3963240" y="5763960"/>
                <a:ext cx="320400" cy="33192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58" name=""/>
            <p:cNvGrpSpPr/>
            <p:nvPr/>
          </p:nvGrpSpPr>
          <p:grpSpPr>
            <a:xfrm>
              <a:off x="4284000" y="5775120"/>
              <a:ext cx="184680" cy="320400"/>
              <a:chOff x="4284000" y="5775120"/>
              <a:chExt cx="184680" cy="320400"/>
            </a:xfrm>
          </p:grpSpPr>
          <p:sp>
            <p:nvSpPr>
              <p:cNvPr id="3559" name=""/>
              <p:cNvSpPr/>
              <p:nvPr/>
            </p:nvSpPr>
            <p:spPr>
              <a:xfrm>
                <a:off x="4284000" y="5775120"/>
                <a:ext cx="184680" cy="32040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4284000" y="5775120"/>
                <a:ext cx="184680" cy="32040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61" name=""/>
            <p:cNvGrpSpPr/>
            <p:nvPr/>
          </p:nvGrpSpPr>
          <p:grpSpPr>
            <a:xfrm>
              <a:off x="3962520" y="5715000"/>
              <a:ext cx="507960" cy="133560"/>
              <a:chOff x="3962520" y="5715000"/>
              <a:chExt cx="507960" cy="133560"/>
            </a:xfrm>
          </p:grpSpPr>
          <p:sp>
            <p:nvSpPr>
              <p:cNvPr id="3562" name=""/>
              <p:cNvSpPr/>
              <p:nvPr/>
            </p:nvSpPr>
            <p:spPr>
              <a:xfrm>
                <a:off x="3962520" y="5715000"/>
                <a:ext cx="507960" cy="1335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3962520" y="5715000"/>
                <a:ext cx="507960" cy="1335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64" name=""/>
            <p:cNvSpPr/>
            <p:nvPr/>
          </p:nvSpPr>
          <p:spPr>
            <a:xfrm>
              <a:off x="3982680" y="5793840"/>
              <a:ext cx="270720" cy="268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3982680" y="5865480"/>
              <a:ext cx="270720" cy="19656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3982680" y="5793840"/>
              <a:ext cx="269280" cy="1753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67" name=""/>
            <p:cNvGrpSpPr/>
            <p:nvPr/>
          </p:nvGrpSpPr>
          <p:grpSpPr>
            <a:xfrm>
              <a:off x="4001400" y="5820120"/>
              <a:ext cx="132120" cy="64800"/>
              <a:chOff x="4001400" y="5820120"/>
              <a:chExt cx="132120" cy="64800"/>
            </a:xfrm>
          </p:grpSpPr>
          <p:sp>
            <p:nvSpPr>
              <p:cNvPr id="3568" name=""/>
              <p:cNvSpPr/>
              <p:nvPr/>
            </p:nvSpPr>
            <p:spPr>
              <a:xfrm>
                <a:off x="4001400" y="5820120"/>
                <a:ext cx="132120" cy="6480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4001400" y="5820120"/>
                <a:ext cx="132120" cy="6480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70" name=""/>
            <p:cNvGrpSpPr/>
            <p:nvPr/>
          </p:nvGrpSpPr>
          <p:grpSpPr>
            <a:xfrm>
              <a:off x="3999960" y="5889240"/>
              <a:ext cx="82440" cy="96840"/>
              <a:chOff x="3999960" y="5889240"/>
              <a:chExt cx="82440" cy="96840"/>
            </a:xfrm>
          </p:grpSpPr>
          <p:sp>
            <p:nvSpPr>
              <p:cNvPr id="3571" name=""/>
              <p:cNvSpPr/>
              <p:nvPr/>
            </p:nvSpPr>
            <p:spPr>
              <a:xfrm>
                <a:off x="3999960" y="5889240"/>
                <a:ext cx="82440" cy="968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3999960" y="5889240"/>
                <a:ext cx="82440" cy="968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3" name=""/>
          <p:cNvGrpSpPr/>
          <p:nvPr/>
        </p:nvGrpSpPr>
        <p:grpSpPr>
          <a:xfrm>
            <a:off x="4191120" y="5029200"/>
            <a:ext cx="511200" cy="380880"/>
            <a:chOff x="4191120" y="5029200"/>
            <a:chExt cx="511200" cy="380880"/>
          </a:xfrm>
        </p:grpSpPr>
        <p:grpSp>
          <p:nvGrpSpPr>
            <p:cNvPr id="3574" name=""/>
            <p:cNvGrpSpPr/>
            <p:nvPr/>
          </p:nvGrpSpPr>
          <p:grpSpPr>
            <a:xfrm>
              <a:off x="4191840" y="5078160"/>
              <a:ext cx="322560" cy="331920"/>
              <a:chOff x="4191840" y="5078160"/>
              <a:chExt cx="322560" cy="331920"/>
            </a:xfrm>
          </p:grpSpPr>
          <p:sp>
            <p:nvSpPr>
              <p:cNvPr id="3575" name=""/>
              <p:cNvSpPr/>
              <p:nvPr/>
            </p:nvSpPr>
            <p:spPr>
              <a:xfrm>
                <a:off x="4191840" y="5078160"/>
                <a:ext cx="322560" cy="33192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4191840" y="5078160"/>
                <a:ext cx="322560" cy="33192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77" name=""/>
            <p:cNvGrpSpPr/>
            <p:nvPr/>
          </p:nvGrpSpPr>
          <p:grpSpPr>
            <a:xfrm>
              <a:off x="4514400" y="5089320"/>
              <a:ext cx="186120" cy="320400"/>
              <a:chOff x="4514400" y="5089320"/>
              <a:chExt cx="186120" cy="320400"/>
            </a:xfrm>
          </p:grpSpPr>
          <p:sp>
            <p:nvSpPr>
              <p:cNvPr id="3578" name=""/>
              <p:cNvSpPr/>
              <p:nvPr/>
            </p:nvSpPr>
            <p:spPr>
              <a:xfrm>
                <a:off x="4514400" y="5089320"/>
                <a:ext cx="186120" cy="32040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4514400" y="5089320"/>
                <a:ext cx="186120" cy="32040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80" name=""/>
            <p:cNvGrpSpPr/>
            <p:nvPr/>
          </p:nvGrpSpPr>
          <p:grpSpPr>
            <a:xfrm>
              <a:off x="4191120" y="5029200"/>
              <a:ext cx="511200" cy="133560"/>
              <a:chOff x="4191120" y="5029200"/>
              <a:chExt cx="511200" cy="133560"/>
            </a:xfrm>
          </p:grpSpPr>
          <p:sp>
            <p:nvSpPr>
              <p:cNvPr id="3581" name=""/>
              <p:cNvSpPr/>
              <p:nvPr/>
            </p:nvSpPr>
            <p:spPr>
              <a:xfrm>
                <a:off x="4191120" y="5029200"/>
                <a:ext cx="511200" cy="1335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4191120" y="5029200"/>
                <a:ext cx="511200" cy="1335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3" name=""/>
            <p:cNvSpPr/>
            <p:nvPr/>
          </p:nvSpPr>
          <p:spPr>
            <a:xfrm>
              <a:off x="4211280" y="5108040"/>
              <a:ext cx="272520" cy="268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4211280" y="5179680"/>
              <a:ext cx="272520" cy="19656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4211280" y="5108040"/>
              <a:ext cx="271080" cy="1753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86" name=""/>
            <p:cNvGrpSpPr/>
            <p:nvPr/>
          </p:nvGrpSpPr>
          <p:grpSpPr>
            <a:xfrm>
              <a:off x="4230360" y="5134320"/>
              <a:ext cx="132840" cy="64800"/>
              <a:chOff x="4230360" y="5134320"/>
              <a:chExt cx="132840" cy="64800"/>
            </a:xfrm>
          </p:grpSpPr>
          <p:sp>
            <p:nvSpPr>
              <p:cNvPr id="3587" name=""/>
              <p:cNvSpPr/>
              <p:nvPr/>
            </p:nvSpPr>
            <p:spPr>
              <a:xfrm>
                <a:off x="4230360" y="5134320"/>
                <a:ext cx="132840" cy="6480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4230360" y="5134320"/>
                <a:ext cx="132840" cy="6480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89" name=""/>
            <p:cNvGrpSpPr/>
            <p:nvPr/>
          </p:nvGrpSpPr>
          <p:grpSpPr>
            <a:xfrm>
              <a:off x="4228920" y="5203440"/>
              <a:ext cx="83160" cy="96840"/>
              <a:chOff x="4228920" y="5203440"/>
              <a:chExt cx="83160" cy="96840"/>
            </a:xfrm>
          </p:grpSpPr>
          <p:sp>
            <p:nvSpPr>
              <p:cNvPr id="3590" name=""/>
              <p:cNvSpPr/>
              <p:nvPr/>
            </p:nvSpPr>
            <p:spPr>
              <a:xfrm>
                <a:off x="4228920" y="5203440"/>
                <a:ext cx="83160" cy="968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4228920" y="5203440"/>
                <a:ext cx="83160" cy="968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92" name=""/>
          <p:cNvGrpSpPr/>
          <p:nvPr/>
        </p:nvGrpSpPr>
        <p:grpSpPr>
          <a:xfrm>
            <a:off x="2438280" y="4492800"/>
            <a:ext cx="990720" cy="631800"/>
            <a:chOff x="2438280" y="4492800"/>
            <a:chExt cx="990720" cy="631800"/>
          </a:xfrm>
        </p:grpSpPr>
        <p:grpSp>
          <p:nvGrpSpPr>
            <p:cNvPr id="3593" name=""/>
            <p:cNvGrpSpPr/>
            <p:nvPr/>
          </p:nvGrpSpPr>
          <p:grpSpPr>
            <a:xfrm>
              <a:off x="2439720" y="4574160"/>
              <a:ext cx="624960" cy="550440"/>
              <a:chOff x="2439720" y="4574160"/>
              <a:chExt cx="624960" cy="550440"/>
            </a:xfrm>
          </p:grpSpPr>
          <p:sp>
            <p:nvSpPr>
              <p:cNvPr id="3594" name=""/>
              <p:cNvSpPr/>
              <p:nvPr/>
            </p:nvSpPr>
            <p:spPr>
              <a:xfrm>
                <a:off x="2439720" y="4574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2439720" y="4574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96" name=""/>
            <p:cNvGrpSpPr/>
            <p:nvPr/>
          </p:nvGrpSpPr>
          <p:grpSpPr>
            <a:xfrm>
              <a:off x="3065040" y="4592880"/>
              <a:ext cx="360360" cy="531720"/>
              <a:chOff x="3065040" y="4592880"/>
              <a:chExt cx="360360" cy="531720"/>
            </a:xfrm>
          </p:grpSpPr>
          <p:sp>
            <p:nvSpPr>
              <p:cNvPr id="3597" name=""/>
              <p:cNvSpPr/>
              <p:nvPr/>
            </p:nvSpPr>
            <p:spPr>
              <a:xfrm>
                <a:off x="3065040" y="4592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3065040" y="4592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99" name=""/>
            <p:cNvGrpSpPr/>
            <p:nvPr/>
          </p:nvGrpSpPr>
          <p:grpSpPr>
            <a:xfrm>
              <a:off x="2438280" y="4492800"/>
              <a:ext cx="990720" cy="221760"/>
              <a:chOff x="2438280" y="4492800"/>
              <a:chExt cx="990720" cy="221760"/>
            </a:xfrm>
          </p:grpSpPr>
          <p:sp>
            <p:nvSpPr>
              <p:cNvPr id="3600" name=""/>
              <p:cNvSpPr/>
              <p:nvPr/>
            </p:nvSpPr>
            <p:spPr>
              <a:xfrm>
                <a:off x="2438280" y="4492800"/>
                <a:ext cx="99072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2438280" y="4492800"/>
                <a:ext cx="99072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02" name=""/>
            <p:cNvSpPr/>
            <p:nvPr/>
          </p:nvSpPr>
          <p:spPr>
            <a:xfrm>
              <a:off x="2477520" y="4623840"/>
              <a:ext cx="527760" cy="4453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2477520" y="4742640"/>
              <a:ext cx="527760" cy="32616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2477520" y="4623840"/>
              <a:ext cx="525240" cy="2908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05" name=""/>
            <p:cNvGrpSpPr/>
            <p:nvPr/>
          </p:nvGrpSpPr>
          <p:grpSpPr>
            <a:xfrm>
              <a:off x="2514240" y="4667040"/>
              <a:ext cx="257760" cy="107640"/>
              <a:chOff x="2514240" y="4667040"/>
              <a:chExt cx="257760" cy="107640"/>
            </a:xfrm>
          </p:grpSpPr>
          <p:sp>
            <p:nvSpPr>
              <p:cNvPr id="3606" name=""/>
              <p:cNvSpPr/>
              <p:nvPr/>
            </p:nvSpPr>
            <p:spPr>
              <a:xfrm>
                <a:off x="2514240" y="4667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2514240" y="4667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08" name=""/>
            <p:cNvGrpSpPr/>
            <p:nvPr/>
          </p:nvGrpSpPr>
          <p:grpSpPr>
            <a:xfrm>
              <a:off x="2511720" y="4781880"/>
              <a:ext cx="161280" cy="160920"/>
              <a:chOff x="2511720" y="4781880"/>
              <a:chExt cx="161280" cy="160920"/>
            </a:xfrm>
          </p:grpSpPr>
          <p:sp>
            <p:nvSpPr>
              <p:cNvPr id="3609" name=""/>
              <p:cNvSpPr/>
              <p:nvPr/>
            </p:nvSpPr>
            <p:spPr>
              <a:xfrm>
                <a:off x="2511720" y="4781880"/>
                <a:ext cx="16128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2511720" y="4781880"/>
                <a:ext cx="16128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11" name=""/>
          <p:cNvGrpSpPr/>
          <p:nvPr/>
        </p:nvGrpSpPr>
        <p:grpSpPr>
          <a:xfrm>
            <a:off x="3657600" y="5105520"/>
            <a:ext cx="511200" cy="380880"/>
            <a:chOff x="3657600" y="5105520"/>
            <a:chExt cx="511200" cy="380880"/>
          </a:xfrm>
        </p:grpSpPr>
        <p:grpSp>
          <p:nvGrpSpPr>
            <p:cNvPr id="3612" name=""/>
            <p:cNvGrpSpPr/>
            <p:nvPr/>
          </p:nvGrpSpPr>
          <p:grpSpPr>
            <a:xfrm>
              <a:off x="3658320" y="5154480"/>
              <a:ext cx="322560" cy="331920"/>
              <a:chOff x="3658320" y="5154480"/>
              <a:chExt cx="322560" cy="331920"/>
            </a:xfrm>
          </p:grpSpPr>
          <p:sp>
            <p:nvSpPr>
              <p:cNvPr id="3613" name=""/>
              <p:cNvSpPr/>
              <p:nvPr/>
            </p:nvSpPr>
            <p:spPr>
              <a:xfrm>
                <a:off x="3658320" y="5154480"/>
                <a:ext cx="322560" cy="33192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3658320" y="5154480"/>
                <a:ext cx="322560" cy="33192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15" name=""/>
            <p:cNvGrpSpPr/>
            <p:nvPr/>
          </p:nvGrpSpPr>
          <p:grpSpPr>
            <a:xfrm>
              <a:off x="3980880" y="5165640"/>
              <a:ext cx="186120" cy="320400"/>
              <a:chOff x="3980880" y="5165640"/>
              <a:chExt cx="186120" cy="320400"/>
            </a:xfrm>
          </p:grpSpPr>
          <p:sp>
            <p:nvSpPr>
              <p:cNvPr id="3616" name=""/>
              <p:cNvSpPr/>
              <p:nvPr/>
            </p:nvSpPr>
            <p:spPr>
              <a:xfrm>
                <a:off x="3980880" y="5165640"/>
                <a:ext cx="186120" cy="32040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3980880" y="5165640"/>
                <a:ext cx="186120" cy="32040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18" name=""/>
            <p:cNvGrpSpPr/>
            <p:nvPr/>
          </p:nvGrpSpPr>
          <p:grpSpPr>
            <a:xfrm>
              <a:off x="3657600" y="5105520"/>
              <a:ext cx="511200" cy="133560"/>
              <a:chOff x="3657600" y="5105520"/>
              <a:chExt cx="511200" cy="133560"/>
            </a:xfrm>
          </p:grpSpPr>
          <p:sp>
            <p:nvSpPr>
              <p:cNvPr id="3619" name=""/>
              <p:cNvSpPr/>
              <p:nvPr/>
            </p:nvSpPr>
            <p:spPr>
              <a:xfrm>
                <a:off x="3657600" y="5105520"/>
                <a:ext cx="511200" cy="1335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3657600" y="5105520"/>
                <a:ext cx="511200" cy="1335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21" name=""/>
            <p:cNvSpPr/>
            <p:nvPr/>
          </p:nvSpPr>
          <p:spPr>
            <a:xfrm>
              <a:off x="3677760" y="5184360"/>
              <a:ext cx="272520" cy="268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3677760" y="5256000"/>
              <a:ext cx="272520" cy="19656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3677760" y="5184360"/>
              <a:ext cx="271080" cy="1753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24" name=""/>
            <p:cNvGrpSpPr/>
            <p:nvPr/>
          </p:nvGrpSpPr>
          <p:grpSpPr>
            <a:xfrm>
              <a:off x="3696840" y="5210640"/>
              <a:ext cx="132840" cy="64800"/>
              <a:chOff x="3696840" y="5210640"/>
              <a:chExt cx="132840" cy="64800"/>
            </a:xfrm>
          </p:grpSpPr>
          <p:sp>
            <p:nvSpPr>
              <p:cNvPr id="3625" name=""/>
              <p:cNvSpPr/>
              <p:nvPr/>
            </p:nvSpPr>
            <p:spPr>
              <a:xfrm>
                <a:off x="3696840" y="5210640"/>
                <a:ext cx="132840" cy="6480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3696840" y="5210640"/>
                <a:ext cx="132840" cy="6480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27" name=""/>
            <p:cNvGrpSpPr/>
            <p:nvPr/>
          </p:nvGrpSpPr>
          <p:grpSpPr>
            <a:xfrm>
              <a:off x="3695400" y="5279760"/>
              <a:ext cx="83160" cy="96840"/>
              <a:chOff x="3695400" y="5279760"/>
              <a:chExt cx="83160" cy="96840"/>
            </a:xfrm>
          </p:grpSpPr>
          <p:sp>
            <p:nvSpPr>
              <p:cNvPr id="3628" name=""/>
              <p:cNvSpPr/>
              <p:nvPr/>
            </p:nvSpPr>
            <p:spPr>
              <a:xfrm>
                <a:off x="3695400" y="5279760"/>
                <a:ext cx="83160" cy="968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3695400" y="5279760"/>
                <a:ext cx="83160" cy="968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30" name=""/>
          <p:cNvGrpSpPr/>
          <p:nvPr/>
        </p:nvGrpSpPr>
        <p:grpSpPr>
          <a:xfrm>
            <a:off x="4648320" y="5486400"/>
            <a:ext cx="511200" cy="380880"/>
            <a:chOff x="4648320" y="5486400"/>
            <a:chExt cx="511200" cy="380880"/>
          </a:xfrm>
        </p:grpSpPr>
        <p:grpSp>
          <p:nvGrpSpPr>
            <p:cNvPr id="3631" name=""/>
            <p:cNvGrpSpPr/>
            <p:nvPr/>
          </p:nvGrpSpPr>
          <p:grpSpPr>
            <a:xfrm>
              <a:off x="4649040" y="5535360"/>
              <a:ext cx="322560" cy="331920"/>
              <a:chOff x="4649040" y="5535360"/>
              <a:chExt cx="322560" cy="331920"/>
            </a:xfrm>
          </p:grpSpPr>
          <p:sp>
            <p:nvSpPr>
              <p:cNvPr id="3632" name=""/>
              <p:cNvSpPr/>
              <p:nvPr/>
            </p:nvSpPr>
            <p:spPr>
              <a:xfrm>
                <a:off x="4649040" y="5535360"/>
                <a:ext cx="322560" cy="33192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4649040" y="5535360"/>
                <a:ext cx="322560" cy="33192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34" name=""/>
            <p:cNvGrpSpPr/>
            <p:nvPr/>
          </p:nvGrpSpPr>
          <p:grpSpPr>
            <a:xfrm>
              <a:off x="4971600" y="5546520"/>
              <a:ext cx="186120" cy="320400"/>
              <a:chOff x="4971600" y="5546520"/>
              <a:chExt cx="186120" cy="320400"/>
            </a:xfrm>
          </p:grpSpPr>
          <p:sp>
            <p:nvSpPr>
              <p:cNvPr id="3635" name=""/>
              <p:cNvSpPr/>
              <p:nvPr/>
            </p:nvSpPr>
            <p:spPr>
              <a:xfrm>
                <a:off x="4971600" y="5546520"/>
                <a:ext cx="186120" cy="32040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4971600" y="5546520"/>
                <a:ext cx="186120" cy="32040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37" name=""/>
            <p:cNvGrpSpPr/>
            <p:nvPr/>
          </p:nvGrpSpPr>
          <p:grpSpPr>
            <a:xfrm>
              <a:off x="4648320" y="5486400"/>
              <a:ext cx="511200" cy="133560"/>
              <a:chOff x="4648320" y="5486400"/>
              <a:chExt cx="511200" cy="133560"/>
            </a:xfrm>
          </p:grpSpPr>
          <p:sp>
            <p:nvSpPr>
              <p:cNvPr id="3638" name=""/>
              <p:cNvSpPr/>
              <p:nvPr/>
            </p:nvSpPr>
            <p:spPr>
              <a:xfrm>
                <a:off x="4648320" y="5486400"/>
                <a:ext cx="511200" cy="1335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4648320" y="5486400"/>
                <a:ext cx="511200" cy="1335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40" name=""/>
            <p:cNvSpPr/>
            <p:nvPr/>
          </p:nvSpPr>
          <p:spPr>
            <a:xfrm>
              <a:off x="4668480" y="5565240"/>
              <a:ext cx="272520" cy="268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4668480" y="5636880"/>
              <a:ext cx="272520" cy="19656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4668480" y="5565240"/>
              <a:ext cx="271080" cy="1753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43" name=""/>
            <p:cNvGrpSpPr/>
            <p:nvPr/>
          </p:nvGrpSpPr>
          <p:grpSpPr>
            <a:xfrm>
              <a:off x="4687560" y="5591520"/>
              <a:ext cx="132840" cy="64800"/>
              <a:chOff x="4687560" y="5591520"/>
              <a:chExt cx="132840" cy="64800"/>
            </a:xfrm>
          </p:grpSpPr>
          <p:sp>
            <p:nvSpPr>
              <p:cNvPr id="3644" name=""/>
              <p:cNvSpPr/>
              <p:nvPr/>
            </p:nvSpPr>
            <p:spPr>
              <a:xfrm>
                <a:off x="4687560" y="5591520"/>
                <a:ext cx="132840" cy="6480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4687560" y="5591520"/>
                <a:ext cx="132840" cy="6480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46" name=""/>
            <p:cNvGrpSpPr/>
            <p:nvPr/>
          </p:nvGrpSpPr>
          <p:grpSpPr>
            <a:xfrm>
              <a:off x="4686120" y="5660640"/>
              <a:ext cx="83160" cy="96840"/>
              <a:chOff x="4686120" y="5660640"/>
              <a:chExt cx="83160" cy="96840"/>
            </a:xfrm>
          </p:grpSpPr>
          <p:sp>
            <p:nvSpPr>
              <p:cNvPr id="3647" name=""/>
              <p:cNvSpPr/>
              <p:nvPr/>
            </p:nvSpPr>
            <p:spPr>
              <a:xfrm>
                <a:off x="4686120" y="5660640"/>
                <a:ext cx="83160" cy="968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4686120" y="5660640"/>
                <a:ext cx="83160" cy="968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49" name=""/>
          <p:cNvSpPr/>
          <p:nvPr/>
        </p:nvSpPr>
        <p:spPr>
          <a:xfrm flipH="1" flipV="1">
            <a:off x="6019920" y="4250880"/>
            <a:ext cx="218880" cy="352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 flipV="1">
            <a:off x="7837560" y="2684520"/>
            <a:ext cx="274680" cy="511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 flipV="1">
            <a:off x="7966080" y="3115800"/>
            <a:ext cx="415800" cy="187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>
            <a:off x="7940520" y="3425760"/>
            <a:ext cx="490680" cy="214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 flipV="1">
            <a:off x="7238880" y="3580920"/>
            <a:ext cx="255600" cy="335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 flipH="1" flipV="1">
            <a:off x="7043400" y="349704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 flipH="1" flipV="1">
            <a:off x="6721200" y="3582720"/>
            <a:ext cx="127080" cy="36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56" name=""/>
          <p:cNvGrpSpPr/>
          <p:nvPr/>
        </p:nvGrpSpPr>
        <p:grpSpPr>
          <a:xfrm>
            <a:off x="6656400" y="3860640"/>
            <a:ext cx="735120" cy="479520"/>
            <a:chOff x="6656400" y="3860640"/>
            <a:chExt cx="735120" cy="479520"/>
          </a:xfrm>
        </p:grpSpPr>
        <p:grpSp>
          <p:nvGrpSpPr>
            <p:cNvPr id="3657" name=""/>
            <p:cNvGrpSpPr/>
            <p:nvPr/>
          </p:nvGrpSpPr>
          <p:grpSpPr>
            <a:xfrm>
              <a:off x="6926400" y="3922200"/>
              <a:ext cx="464040" cy="417960"/>
              <a:chOff x="6926400" y="3922200"/>
              <a:chExt cx="464040" cy="417960"/>
            </a:xfrm>
          </p:grpSpPr>
          <p:sp>
            <p:nvSpPr>
              <p:cNvPr id="3658" name=""/>
              <p:cNvSpPr/>
              <p:nvPr/>
            </p:nvSpPr>
            <p:spPr>
              <a:xfrm flipH="1">
                <a:off x="6926040" y="3922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 flipH="1">
                <a:off x="6926040" y="3922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60" name=""/>
            <p:cNvGrpSpPr/>
            <p:nvPr/>
          </p:nvGrpSpPr>
          <p:grpSpPr>
            <a:xfrm>
              <a:off x="6658920" y="3936600"/>
              <a:ext cx="267480" cy="403560"/>
              <a:chOff x="6658920" y="3936600"/>
              <a:chExt cx="267480" cy="403560"/>
            </a:xfrm>
          </p:grpSpPr>
          <p:sp>
            <p:nvSpPr>
              <p:cNvPr id="3661" name=""/>
              <p:cNvSpPr/>
              <p:nvPr/>
            </p:nvSpPr>
            <p:spPr>
              <a:xfrm flipH="1">
                <a:off x="6658560" y="3936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 flipH="1">
                <a:off x="6658560" y="3936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63" name=""/>
            <p:cNvGrpSpPr/>
            <p:nvPr/>
          </p:nvGrpSpPr>
          <p:grpSpPr>
            <a:xfrm>
              <a:off x="6656400" y="3860640"/>
              <a:ext cx="735120" cy="168120"/>
              <a:chOff x="6656400" y="3860640"/>
              <a:chExt cx="735120" cy="168120"/>
            </a:xfrm>
          </p:grpSpPr>
          <p:sp>
            <p:nvSpPr>
              <p:cNvPr id="3664" name=""/>
              <p:cNvSpPr/>
              <p:nvPr/>
            </p:nvSpPr>
            <p:spPr>
              <a:xfrm flipH="1">
                <a:off x="6656400" y="3860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 flipH="1">
                <a:off x="6656400" y="3860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66" name=""/>
            <p:cNvSpPr/>
            <p:nvPr/>
          </p:nvSpPr>
          <p:spPr>
            <a:xfrm flipH="1">
              <a:off x="6970680" y="3960000"/>
              <a:ext cx="391680" cy="33804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 flipH="1">
              <a:off x="6970680" y="4050360"/>
              <a:ext cx="391680" cy="24768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 flipH="1">
              <a:off x="6972840" y="3960000"/>
              <a:ext cx="389520" cy="2206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69" name=""/>
            <p:cNvGrpSpPr/>
            <p:nvPr/>
          </p:nvGrpSpPr>
          <p:grpSpPr>
            <a:xfrm>
              <a:off x="7143840" y="3993120"/>
              <a:ext cx="191160" cy="81720"/>
              <a:chOff x="7143840" y="3993120"/>
              <a:chExt cx="191160" cy="81720"/>
            </a:xfrm>
          </p:grpSpPr>
          <p:sp>
            <p:nvSpPr>
              <p:cNvPr id="3670" name=""/>
              <p:cNvSpPr/>
              <p:nvPr/>
            </p:nvSpPr>
            <p:spPr>
              <a:xfrm flipH="1">
                <a:off x="7143480" y="3993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 flipH="1">
                <a:off x="7143480" y="3993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72" name=""/>
            <p:cNvGrpSpPr/>
            <p:nvPr/>
          </p:nvGrpSpPr>
          <p:grpSpPr>
            <a:xfrm>
              <a:off x="7217640" y="4080240"/>
              <a:ext cx="119520" cy="122040"/>
              <a:chOff x="7217640" y="4080240"/>
              <a:chExt cx="119520" cy="122040"/>
            </a:xfrm>
          </p:grpSpPr>
          <p:sp>
            <p:nvSpPr>
              <p:cNvPr id="3673" name=""/>
              <p:cNvSpPr/>
              <p:nvPr/>
            </p:nvSpPr>
            <p:spPr>
              <a:xfrm flipH="1">
                <a:off x="7217640" y="4080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 flipH="1">
                <a:off x="7217640" y="4080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75" name=""/>
          <p:cNvGrpSpPr/>
          <p:nvPr/>
        </p:nvGrpSpPr>
        <p:grpSpPr>
          <a:xfrm>
            <a:off x="8272440" y="3409920"/>
            <a:ext cx="512640" cy="546120"/>
            <a:chOff x="8272440" y="3409920"/>
            <a:chExt cx="512640" cy="546120"/>
          </a:xfrm>
        </p:grpSpPr>
        <p:grpSp>
          <p:nvGrpSpPr>
            <p:cNvPr id="3676" name=""/>
            <p:cNvGrpSpPr/>
            <p:nvPr/>
          </p:nvGrpSpPr>
          <p:grpSpPr>
            <a:xfrm>
              <a:off x="8609040" y="3762360"/>
              <a:ext cx="176040" cy="193680"/>
              <a:chOff x="8609040" y="3762360"/>
              <a:chExt cx="176040" cy="193680"/>
            </a:xfrm>
          </p:grpSpPr>
          <p:sp>
            <p:nvSpPr>
              <p:cNvPr id="3677" name=""/>
              <p:cNvSpPr/>
              <p:nvPr/>
            </p:nvSpPr>
            <p:spPr>
              <a:xfrm flipH="1">
                <a:off x="8608680" y="3762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 flipH="1">
                <a:off x="8608680" y="3762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79" name=""/>
            <p:cNvGrpSpPr/>
            <p:nvPr/>
          </p:nvGrpSpPr>
          <p:grpSpPr>
            <a:xfrm>
              <a:off x="8272440" y="3690720"/>
              <a:ext cx="512640" cy="176400"/>
              <a:chOff x="8272440" y="3690720"/>
              <a:chExt cx="512640" cy="176400"/>
            </a:xfrm>
          </p:grpSpPr>
          <p:sp>
            <p:nvSpPr>
              <p:cNvPr id="3680" name=""/>
              <p:cNvSpPr/>
              <p:nvPr/>
            </p:nvSpPr>
            <p:spPr>
              <a:xfrm flipH="1">
                <a:off x="8272440" y="369072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 flipH="1">
                <a:off x="8272440" y="369072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82" name=""/>
            <p:cNvGrpSpPr/>
            <p:nvPr/>
          </p:nvGrpSpPr>
          <p:grpSpPr>
            <a:xfrm>
              <a:off x="8272440" y="3778920"/>
              <a:ext cx="336600" cy="176760"/>
              <a:chOff x="8272440" y="3778920"/>
              <a:chExt cx="336600" cy="176760"/>
            </a:xfrm>
          </p:grpSpPr>
          <p:sp>
            <p:nvSpPr>
              <p:cNvPr id="3683" name=""/>
              <p:cNvSpPr/>
              <p:nvPr/>
            </p:nvSpPr>
            <p:spPr>
              <a:xfrm flipH="1">
                <a:off x="8272080" y="377892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 flipH="1">
                <a:off x="8272080" y="377892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85" name=""/>
            <p:cNvSpPr/>
            <p:nvPr/>
          </p:nvSpPr>
          <p:spPr>
            <a:xfrm flipH="1">
              <a:off x="8525520" y="386244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86" name=""/>
            <p:cNvGrpSpPr/>
            <p:nvPr/>
          </p:nvGrpSpPr>
          <p:grpSpPr>
            <a:xfrm>
              <a:off x="8288640" y="3799800"/>
              <a:ext cx="131760" cy="89640"/>
              <a:chOff x="8288640" y="3799800"/>
              <a:chExt cx="131760" cy="89640"/>
            </a:xfrm>
          </p:grpSpPr>
          <p:grpSp>
            <p:nvGrpSpPr>
              <p:cNvPr id="3687" name=""/>
              <p:cNvGrpSpPr/>
              <p:nvPr/>
            </p:nvGrpSpPr>
            <p:grpSpPr>
              <a:xfrm>
                <a:off x="8288640" y="3799800"/>
                <a:ext cx="131760" cy="89640"/>
                <a:chOff x="8288640" y="3799800"/>
                <a:chExt cx="131760" cy="89640"/>
              </a:xfrm>
            </p:grpSpPr>
            <p:sp>
              <p:nvSpPr>
                <p:cNvPr id="3688" name=""/>
                <p:cNvSpPr/>
                <p:nvPr/>
              </p:nvSpPr>
              <p:spPr>
                <a:xfrm flipH="1">
                  <a:off x="8288640" y="3799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9" name=""/>
                <p:cNvSpPr/>
                <p:nvPr/>
              </p:nvSpPr>
              <p:spPr>
                <a:xfrm flipH="1">
                  <a:off x="8288640" y="3799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90" name=""/>
              <p:cNvSpPr/>
              <p:nvPr/>
            </p:nvSpPr>
            <p:spPr>
              <a:xfrm>
                <a:off x="8288640" y="383076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 flipH="1">
                <a:off x="8327160" y="384696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 flipH="1">
                <a:off x="8327160" y="382068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93" name=""/>
            <p:cNvGrpSpPr/>
            <p:nvPr/>
          </p:nvGrpSpPr>
          <p:grpSpPr>
            <a:xfrm>
              <a:off x="8456040" y="3409920"/>
              <a:ext cx="308520" cy="301680"/>
              <a:chOff x="8456040" y="3409920"/>
              <a:chExt cx="308520" cy="301680"/>
            </a:xfrm>
          </p:grpSpPr>
          <p:sp>
            <p:nvSpPr>
              <p:cNvPr id="3694" name=""/>
              <p:cNvSpPr/>
              <p:nvPr/>
            </p:nvSpPr>
            <p:spPr>
              <a:xfrm flipH="1">
                <a:off x="8455680" y="340992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 flipH="1">
                <a:off x="8455680" y="340992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96" name=""/>
            <p:cNvGrpSpPr/>
            <p:nvPr/>
          </p:nvGrpSpPr>
          <p:grpSpPr>
            <a:xfrm>
              <a:off x="8608320" y="3488760"/>
              <a:ext cx="100440" cy="331200"/>
              <a:chOff x="8608320" y="3488760"/>
              <a:chExt cx="100440" cy="331200"/>
            </a:xfrm>
          </p:grpSpPr>
          <p:sp>
            <p:nvSpPr>
              <p:cNvPr id="3697" name=""/>
              <p:cNvSpPr/>
              <p:nvPr/>
            </p:nvSpPr>
            <p:spPr>
              <a:xfrm flipH="1">
                <a:off x="8607960" y="3488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 flipH="1">
                <a:off x="8607960" y="3488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99" name=""/>
            <p:cNvGrpSpPr/>
            <p:nvPr/>
          </p:nvGrpSpPr>
          <p:grpSpPr>
            <a:xfrm>
              <a:off x="8291520" y="3420720"/>
              <a:ext cx="417240" cy="122400"/>
              <a:chOff x="8291520" y="3420720"/>
              <a:chExt cx="417240" cy="122400"/>
            </a:xfrm>
          </p:grpSpPr>
          <p:sp>
            <p:nvSpPr>
              <p:cNvPr id="3700" name=""/>
              <p:cNvSpPr/>
              <p:nvPr/>
            </p:nvSpPr>
            <p:spPr>
              <a:xfrm flipH="1">
                <a:off x="8291160" y="342072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 flipH="1">
                <a:off x="8291160" y="342072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02" name=""/>
            <p:cNvGrpSpPr/>
            <p:nvPr/>
          </p:nvGrpSpPr>
          <p:grpSpPr>
            <a:xfrm>
              <a:off x="8353800" y="3755160"/>
              <a:ext cx="220320" cy="66960"/>
              <a:chOff x="8353800" y="3755160"/>
              <a:chExt cx="220320" cy="66960"/>
            </a:xfrm>
          </p:grpSpPr>
          <p:sp>
            <p:nvSpPr>
              <p:cNvPr id="3703" name=""/>
              <p:cNvSpPr/>
              <p:nvPr/>
            </p:nvSpPr>
            <p:spPr>
              <a:xfrm flipH="1">
                <a:off x="8353800" y="3755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 flipH="1">
                <a:off x="8353800" y="3755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05" name=""/>
            <p:cNvGrpSpPr/>
            <p:nvPr/>
          </p:nvGrpSpPr>
          <p:grpSpPr>
            <a:xfrm>
              <a:off x="8291880" y="3467520"/>
              <a:ext cx="316440" cy="353160"/>
              <a:chOff x="8291880" y="3467520"/>
              <a:chExt cx="316440" cy="353160"/>
            </a:xfrm>
          </p:grpSpPr>
          <p:sp>
            <p:nvSpPr>
              <p:cNvPr id="3706" name=""/>
              <p:cNvSpPr/>
              <p:nvPr/>
            </p:nvSpPr>
            <p:spPr>
              <a:xfrm flipH="1">
                <a:off x="8291520" y="346752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 flipH="1">
                <a:off x="8291520" y="346752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08" name=""/>
            <p:cNvGrpSpPr/>
            <p:nvPr/>
          </p:nvGrpSpPr>
          <p:grpSpPr>
            <a:xfrm>
              <a:off x="8331480" y="3507480"/>
              <a:ext cx="230760" cy="257400"/>
              <a:chOff x="8331480" y="3507480"/>
              <a:chExt cx="230760" cy="257400"/>
            </a:xfrm>
          </p:grpSpPr>
          <p:sp>
            <p:nvSpPr>
              <p:cNvPr id="3709" name=""/>
              <p:cNvSpPr/>
              <p:nvPr/>
            </p:nvSpPr>
            <p:spPr>
              <a:xfrm flipH="1">
                <a:off x="8331120" y="3507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 flipH="1">
                <a:off x="8331120" y="3507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11" name=""/>
            <p:cNvSpPr/>
            <p:nvPr/>
          </p:nvSpPr>
          <p:spPr>
            <a:xfrm flipH="1">
              <a:off x="8349480" y="3525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 flipH="1">
              <a:off x="8349480" y="3525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 flipH="1">
              <a:off x="8511120" y="358200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 flipH="1">
              <a:off x="8379000" y="356328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15" name=""/>
          <p:cNvGrpSpPr/>
          <p:nvPr/>
        </p:nvGrpSpPr>
        <p:grpSpPr>
          <a:xfrm>
            <a:off x="8326440" y="2735280"/>
            <a:ext cx="512640" cy="546120"/>
            <a:chOff x="8326440" y="2735280"/>
            <a:chExt cx="512640" cy="546120"/>
          </a:xfrm>
        </p:grpSpPr>
        <p:grpSp>
          <p:nvGrpSpPr>
            <p:cNvPr id="3716" name=""/>
            <p:cNvGrpSpPr/>
            <p:nvPr/>
          </p:nvGrpSpPr>
          <p:grpSpPr>
            <a:xfrm>
              <a:off x="8663040" y="3087720"/>
              <a:ext cx="176040" cy="193680"/>
              <a:chOff x="8663040" y="3087720"/>
              <a:chExt cx="176040" cy="193680"/>
            </a:xfrm>
          </p:grpSpPr>
          <p:sp>
            <p:nvSpPr>
              <p:cNvPr id="3717" name=""/>
              <p:cNvSpPr/>
              <p:nvPr/>
            </p:nvSpPr>
            <p:spPr>
              <a:xfrm flipH="1">
                <a:off x="8662680" y="3087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 flipH="1">
                <a:off x="8662680" y="3087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9" name=""/>
            <p:cNvGrpSpPr/>
            <p:nvPr/>
          </p:nvGrpSpPr>
          <p:grpSpPr>
            <a:xfrm>
              <a:off x="8326440" y="3016080"/>
              <a:ext cx="512640" cy="176400"/>
              <a:chOff x="8326440" y="3016080"/>
              <a:chExt cx="512640" cy="176400"/>
            </a:xfrm>
          </p:grpSpPr>
          <p:sp>
            <p:nvSpPr>
              <p:cNvPr id="3720" name=""/>
              <p:cNvSpPr/>
              <p:nvPr/>
            </p:nvSpPr>
            <p:spPr>
              <a:xfrm flipH="1">
                <a:off x="8326440" y="301608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 flipH="1">
                <a:off x="8326440" y="301608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22" name=""/>
            <p:cNvGrpSpPr/>
            <p:nvPr/>
          </p:nvGrpSpPr>
          <p:grpSpPr>
            <a:xfrm>
              <a:off x="8326440" y="3104280"/>
              <a:ext cx="336600" cy="176760"/>
              <a:chOff x="8326440" y="3104280"/>
              <a:chExt cx="336600" cy="176760"/>
            </a:xfrm>
          </p:grpSpPr>
          <p:sp>
            <p:nvSpPr>
              <p:cNvPr id="3723" name=""/>
              <p:cNvSpPr/>
              <p:nvPr/>
            </p:nvSpPr>
            <p:spPr>
              <a:xfrm flipH="1">
                <a:off x="8326080" y="310428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 flipH="1">
                <a:off x="8326080" y="310428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25" name=""/>
            <p:cNvSpPr/>
            <p:nvPr/>
          </p:nvSpPr>
          <p:spPr>
            <a:xfrm flipH="1">
              <a:off x="8579520" y="318780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26" name=""/>
            <p:cNvGrpSpPr/>
            <p:nvPr/>
          </p:nvGrpSpPr>
          <p:grpSpPr>
            <a:xfrm>
              <a:off x="8342640" y="3125160"/>
              <a:ext cx="131760" cy="89640"/>
              <a:chOff x="8342640" y="3125160"/>
              <a:chExt cx="131760" cy="89640"/>
            </a:xfrm>
          </p:grpSpPr>
          <p:grpSp>
            <p:nvGrpSpPr>
              <p:cNvPr id="3727" name=""/>
              <p:cNvGrpSpPr/>
              <p:nvPr/>
            </p:nvGrpSpPr>
            <p:grpSpPr>
              <a:xfrm>
                <a:off x="8342640" y="3125160"/>
                <a:ext cx="131760" cy="89640"/>
                <a:chOff x="8342640" y="3125160"/>
                <a:chExt cx="131760" cy="89640"/>
              </a:xfrm>
            </p:grpSpPr>
            <p:sp>
              <p:nvSpPr>
                <p:cNvPr id="3728" name=""/>
                <p:cNvSpPr/>
                <p:nvPr/>
              </p:nvSpPr>
              <p:spPr>
                <a:xfrm flipH="1">
                  <a:off x="8342640" y="3125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9" name=""/>
                <p:cNvSpPr/>
                <p:nvPr/>
              </p:nvSpPr>
              <p:spPr>
                <a:xfrm flipH="1">
                  <a:off x="8342640" y="3125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30" name=""/>
              <p:cNvSpPr/>
              <p:nvPr/>
            </p:nvSpPr>
            <p:spPr>
              <a:xfrm>
                <a:off x="8342640" y="315612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 flipH="1">
                <a:off x="8381160" y="317232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 flipH="1">
                <a:off x="8381160" y="314604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33" name=""/>
            <p:cNvGrpSpPr/>
            <p:nvPr/>
          </p:nvGrpSpPr>
          <p:grpSpPr>
            <a:xfrm>
              <a:off x="8510040" y="2735280"/>
              <a:ext cx="308520" cy="301680"/>
              <a:chOff x="8510040" y="2735280"/>
              <a:chExt cx="308520" cy="301680"/>
            </a:xfrm>
          </p:grpSpPr>
          <p:sp>
            <p:nvSpPr>
              <p:cNvPr id="3734" name=""/>
              <p:cNvSpPr/>
              <p:nvPr/>
            </p:nvSpPr>
            <p:spPr>
              <a:xfrm flipH="1">
                <a:off x="8509680" y="273528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 flipH="1">
                <a:off x="8509680" y="273528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36" name=""/>
            <p:cNvGrpSpPr/>
            <p:nvPr/>
          </p:nvGrpSpPr>
          <p:grpSpPr>
            <a:xfrm>
              <a:off x="8662320" y="2814120"/>
              <a:ext cx="100440" cy="331200"/>
              <a:chOff x="8662320" y="2814120"/>
              <a:chExt cx="100440" cy="331200"/>
            </a:xfrm>
          </p:grpSpPr>
          <p:sp>
            <p:nvSpPr>
              <p:cNvPr id="3737" name=""/>
              <p:cNvSpPr/>
              <p:nvPr/>
            </p:nvSpPr>
            <p:spPr>
              <a:xfrm flipH="1">
                <a:off x="8661960" y="2814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 flipH="1">
                <a:off x="8661960" y="2814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39" name=""/>
            <p:cNvGrpSpPr/>
            <p:nvPr/>
          </p:nvGrpSpPr>
          <p:grpSpPr>
            <a:xfrm>
              <a:off x="8345520" y="2746080"/>
              <a:ext cx="417240" cy="122400"/>
              <a:chOff x="8345520" y="2746080"/>
              <a:chExt cx="417240" cy="122400"/>
            </a:xfrm>
          </p:grpSpPr>
          <p:sp>
            <p:nvSpPr>
              <p:cNvPr id="3740" name=""/>
              <p:cNvSpPr/>
              <p:nvPr/>
            </p:nvSpPr>
            <p:spPr>
              <a:xfrm flipH="1">
                <a:off x="8345160" y="274608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 flipH="1">
                <a:off x="8345160" y="274608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42" name=""/>
            <p:cNvGrpSpPr/>
            <p:nvPr/>
          </p:nvGrpSpPr>
          <p:grpSpPr>
            <a:xfrm>
              <a:off x="8407800" y="3080520"/>
              <a:ext cx="220320" cy="66960"/>
              <a:chOff x="8407800" y="3080520"/>
              <a:chExt cx="220320" cy="66960"/>
            </a:xfrm>
          </p:grpSpPr>
          <p:sp>
            <p:nvSpPr>
              <p:cNvPr id="3743" name=""/>
              <p:cNvSpPr/>
              <p:nvPr/>
            </p:nvSpPr>
            <p:spPr>
              <a:xfrm flipH="1">
                <a:off x="8407800" y="3080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 flipH="1">
                <a:off x="8407800" y="3080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45" name=""/>
            <p:cNvGrpSpPr/>
            <p:nvPr/>
          </p:nvGrpSpPr>
          <p:grpSpPr>
            <a:xfrm>
              <a:off x="8345880" y="2792880"/>
              <a:ext cx="316440" cy="353160"/>
              <a:chOff x="8345880" y="2792880"/>
              <a:chExt cx="316440" cy="353160"/>
            </a:xfrm>
          </p:grpSpPr>
          <p:sp>
            <p:nvSpPr>
              <p:cNvPr id="3746" name=""/>
              <p:cNvSpPr/>
              <p:nvPr/>
            </p:nvSpPr>
            <p:spPr>
              <a:xfrm flipH="1">
                <a:off x="8345520" y="279288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 flipH="1">
                <a:off x="8345520" y="279288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48" name=""/>
            <p:cNvGrpSpPr/>
            <p:nvPr/>
          </p:nvGrpSpPr>
          <p:grpSpPr>
            <a:xfrm>
              <a:off x="8385480" y="2832840"/>
              <a:ext cx="230760" cy="257400"/>
              <a:chOff x="8385480" y="2832840"/>
              <a:chExt cx="230760" cy="257400"/>
            </a:xfrm>
          </p:grpSpPr>
          <p:sp>
            <p:nvSpPr>
              <p:cNvPr id="3749" name=""/>
              <p:cNvSpPr/>
              <p:nvPr/>
            </p:nvSpPr>
            <p:spPr>
              <a:xfrm flipH="1">
                <a:off x="8385120" y="2832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 flipH="1">
                <a:off x="8385120" y="2832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51" name=""/>
            <p:cNvSpPr/>
            <p:nvPr/>
          </p:nvSpPr>
          <p:spPr>
            <a:xfrm flipH="1">
              <a:off x="8403480" y="2850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 flipH="1">
              <a:off x="8403480" y="2850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 flipH="1">
              <a:off x="8565120" y="290736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 flipH="1">
              <a:off x="8433000" y="288864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55" name=""/>
          <p:cNvGrpSpPr/>
          <p:nvPr/>
        </p:nvGrpSpPr>
        <p:grpSpPr>
          <a:xfrm>
            <a:off x="7802640" y="2381400"/>
            <a:ext cx="511200" cy="546120"/>
            <a:chOff x="7802640" y="2381400"/>
            <a:chExt cx="511200" cy="546120"/>
          </a:xfrm>
        </p:grpSpPr>
        <p:grpSp>
          <p:nvGrpSpPr>
            <p:cNvPr id="3756" name=""/>
            <p:cNvGrpSpPr/>
            <p:nvPr/>
          </p:nvGrpSpPr>
          <p:grpSpPr>
            <a:xfrm>
              <a:off x="8138520" y="2733840"/>
              <a:ext cx="175320" cy="193680"/>
              <a:chOff x="8138520" y="2733840"/>
              <a:chExt cx="175320" cy="193680"/>
            </a:xfrm>
          </p:grpSpPr>
          <p:sp>
            <p:nvSpPr>
              <p:cNvPr id="3757" name=""/>
              <p:cNvSpPr/>
              <p:nvPr/>
            </p:nvSpPr>
            <p:spPr>
              <a:xfrm flipH="1">
                <a:off x="8138160" y="2733840"/>
                <a:ext cx="17532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 flipH="1">
                <a:off x="8138160" y="2733840"/>
                <a:ext cx="17532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59" name=""/>
            <p:cNvGrpSpPr/>
            <p:nvPr/>
          </p:nvGrpSpPr>
          <p:grpSpPr>
            <a:xfrm>
              <a:off x="7802640" y="2662200"/>
              <a:ext cx="511200" cy="176400"/>
              <a:chOff x="7802640" y="2662200"/>
              <a:chExt cx="511200" cy="176400"/>
            </a:xfrm>
          </p:grpSpPr>
          <p:sp>
            <p:nvSpPr>
              <p:cNvPr id="3760" name=""/>
              <p:cNvSpPr/>
              <p:nvPr/>
            </p:nvSpPr>
            <p:spPr>
              <a:xfrm flipH="1">
                <a:off x="7802640" y="2662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 flipH="1">
                <a:off x="7802640" y="2662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62" name=""/>
            <p:cNvGrpSpPr/>
            <p:nvPr/>
          </p:nvGrpSpPr>
          <p:grpSpPr>
            <a:xfrm>
              <a:off x="7803000" y="2750400"/>
              <a:ext cx="335520" cy="176760"/>
              <a:chOff x="7803000" y="2750400"/>
              <a:chExt cx="335520" cy="176760"/>
            </a:xfrm>
          </p:grpSpPr>
          <p:sp>
            <p:nvSpPr>
              <p:cNvPr id="3763" name=""/>
              <p:cNvSpPr/>
              <p:nvPr/>
            </p:nvSpPr>
            <p:spPr>
              <a:xfrm flipH="1">
                <a:off x="7803000" y="2750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 flipH="1">
                <a:off x="7803000" y="2750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65" name=""/>
            <p:cNvSpPr/>
            <p:nvPr/>
          </p:nvSpPr>
          <p:spPr>
            <a:xfrm flipH="1">
              <a:off x="8055000" y="2833920"/>
              <a:ext cx="6732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66" name=""/>
            <p:cNvGrpSpPr/>
            <p:nvPr/>
          </p:nvGrpSpPr>
          <p:grpSpPr>
            <a:xfrm>
              <a:off x="7818840" y="2771280"/>
              <a:ext cx="131760" cy="89640"/>
              <a:chOff x="7818840" y="2771280"/>
              <a:chExt cx="131760" cy="89640"/>
            </a:xfrm>
          </p:grpSpPr>
          <p:grpSp>
            <p:nvGrpSpPr>
              <p:cNvPr id="3767" name=""/>
              <p:cNvGrpSpPr/>
              <p:nvPr/>
            </p:nvGrpSpPr>
            <p:grpSpPr>
              <a:xfrm>
                <a:off x="7818840" y="2771280"/>
                <a:ext cx="131400" cy="89640"/>
                <a:chOff x="7818840" y="2771280"/>
                <a:chExt cx="131400" cy="89640"/>
              </a:xfrm>
            </p:grpSpPr>
            <p:sp>
              <p:nvSpPr>
                <p:cNvPr id="3768" name=""/>
                <p:cNvSpPr/>
                <p:nvPr/>
              </p:nvSpPr>
              <p:spPr>
                <a:xfrm flipH="1">
                  <a:off x="7818480" y="277128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9" name=""/>
                <p:cNvSpPr/>
                <p:nvPr/>
              </p:nvSpPr>
              <p:spPr>
                <a:xfrm flipH="1">
                  <a:off x="7818480" y="277128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70" name=""/>
              <p:cNvSpPr/>
              <p:nvPr/>
            </p:nvSpPr>
            <p:spPr>
              <a:xfrm>
                <a:off x="7819200" y="2802240"/>
                <a:ext cx="1314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 flipH="1">
                <a:off x="7858080" y="2818440"/>
                <a:ext cx="4608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 flipH="1">
                <a:off x="7858080" y="2792160"/>
                <a:ext cx="4608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3" name=""/>
            <p:cNvGrpSpPr/>
            <p:nvPr/>
          </p:nvGrpSpPr>
          <p:grpSpPr>
            <a:xfrm>
              <a:off x="7985520" y="2381400"/>
              <a:ext cx="307800" cy="301680"/>
              <a:chOff x="7985520" y="2381400"/>
              <a:chExt cx="307800" cy="301680"/>
            </a:xfrm>
          </p:grpSpPr>
          <p:sp>
            <p:nvSpPr>
              <p:cNvPr id="3774" name=""/>
              <p:cNvSpPr/>
              <p:nvPr/>
            </p:nvSpPr>
            <p:spPr>
              <a:xfrm flipH="1">
                <a:off x="7985160" y="2381400"/>
                <a:ext cx="30780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 flipH="1">
                <a:off x="7985160" y="2381400"/>
                <a:ext cx="30780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6" name=""/>
            <p:cNvGrpSpPr/>
            <p:nvPr/>
          </p:nvGrpSpPr>
          <p:grpSpPr>
            <a:xfrm>
              <a:off x="8137800" y="2460240"/>
              <a:ext cx="100080" cy="331200"/>
              <a:chOff x="8137800" y="2460240"/>
              <a:chExt cx="100080" cy="331200"/>
            </a:xfrm>
          </p:grpSpPr>
          <p:sp>
            <p:nvSpPr>
              <p:cNvPr id="3777" name=""/>
              <p:cNvSpPr/>
              <p:nvPr/>
            </p:nvSpPr>
            <p:spPr>
              <a:xfrm flipH="1">
                <a:off x="8137800" y="2460240"/>
                <a:ext cx="10008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 flipH="1">
                <a:off x="8137800" y="2460240"/>
                <a:ext cx="10008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9" name=""/>
            <p:cNvGrpSpPr/>
            <p:nvPr/>
          </p:nvGrpSpPr>
          <p:grpSpPr>
            <a:xfrm>
              <a:off x="7821720" y="2392200"/>
              <a:ext cx="416160" cy="122400"/>
              <a:chOff x="7821720" y="2392200"/>
              <a:chExt cx="416160" cy="122400"/>
            </a:xfrm>
          </p:grpSpPr>
          <p:sp>
            <p:nvSpPr>
              <p:cNvPr id="3780" name=""/>
              <p:cNvSpPr/>
              <p:nvPr/>
            </p:nvSpPr>
            <p:spPr>
              <a:xfrm flipH="1">
                <a:off x="7821720" y="2392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 flipH="1">
                <a:off x="7821720" y="2392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82" name=""/>
            <p:cNvGrpSpPr/>
            <p:nvPr/>
          </p:nvGrpSpPr>
          <p:grpSpPr>
            <a:xfrm>
              <a:off x="7884000" y="2726640"/>
              <a:ext cx="219600" cy="66960"/>
              <a:chOff x="7884000" y="2726640"/>
              <a:chExt cx="219600" cy="66960"/>
            </a:xfrm>
          </p:grpSpPr>
          <p:sp>
            <p:nvSpPr>
              <p:cNvPr id="3783" name=""/>
              <p:cNvSpPr/>
              <p:nvPr/>
            </p:nvSpPr>
            <p:spPr>
              <a:xfrm flipH="1">
                <a:off x="7884000" y="2726640"/>
                <a:ext cx="21960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 flipH="1">
                <a:off x="7884000" y="2726640"/>
                <a:ext cx="21960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85" name=""/>
            <p:cNvGrpSpPr/>
            <p:nvPr/>
          </p:nvGrpSpPr>
          <p:grpSpPr>
            <a:xfrm>
              <a:off x="7821720" y="2439000"/>
              <a:ext cx="315720" cy="353160"/>
              <a:chOff x="7821720" y="2439000"/>
              <a:chExt cx="315720" cy="353160"/>
            </a:xfrm>
          </p:grpSpPr>
          <p:sp>
            <p:nvSpPr>
              <p:cNvPr id="3786" name=""/>
              <p:cNvSpPr/>
              <p:nvPr/>
            </p:nvSpPr>
            <p:spPr>
              <a:xfrm flipH="1">
                <a:off x="7821360" y="2439000"/>
                <a:ext cx="31572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 flipH="1">
                <a:off x="7821360" y="2439000"/>
                <a:ext cx="31572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88" name=""/>
            <p:cNvGrpSpPr/>
            <p:nvPr/>
          </p:nvGrpSpPr>
          <p:grpSpPr>
            <a:xfrm>
              <a:off x="7861680" y="2478960"/>
              <a:ext cx="230040" cy="257400"/>
              <a:chOff x="7861680" y="2478960"/>
              <a:chExt cx="230040" cy="257400"/>
            </a:xfrm>
          </p:grpSpPr>
          <p:sp>
            <p:nvSpPr>
              <p:cNvPr id="3789" name=""/>
              <p:cNvSpPr/>
              <p:nvPr/>
            </p:nvSpPr>
            <p:spPr>
              <a:xfrm flipH="1">
                <a:off x="7861320" y="2478960"/>
                <a:ext cx="23004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 flipH="1">
                <a:off x="7861320" y="2478960"/>
                <a:ext cx="23004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91" name=""/>
            <p:cNvSpPr/>
            <p:nvPr/>
          </p:nvSpPr>
          <p:spPr>
            <a:xfrm flipH="1">
              <a:off x="7879680" y="2496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 flipH="1">
              <a:off x="7879680" y="2496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 flipH="1">
              <a:off x="8040600" y="255348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 flipH="1">
              <a:off x="7908480" y="2534760"/>
              <a:ext cx="1278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95" name=""/>
          <p:cNvSpPr/>
          <p:nvPr/>
        </p:nvSpPr>
        <p:spPr>
          <a:xfrm flipV="1">
            <a:off x="6543720" y="4260960"/>
            <a:ext cx="255600" cy="334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6" name=""/>
          <p:cNvSpPr/>
          <p:nvPr/>
        </p:nvSpPr>
        <p:spPr>
          <a:xfrm flipH="1" flipV="1">
            <a:off x="6370200" y="414936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97" name=""/>
          <p:cNvGrpSpPr/>
          <p:nvPr/>
        </p:nvGrpSpPr>
        <p:grpSpPr>
          <a:xfrm>
            <a:off x="7467480" y="3192480"/>
            <a:ext cx="533520" cy="380880"/>
            <a:chOff x="7467480" y="3192480"/>
            <a:chExt cx="533520" cy="380880"/>
          </a:xfrm>
        </p:grpSpPr>
        <p:sp>
          <p:nvSpPr>
            <p:cNvPr id="3798" name=""/>
            <p:cNvSpPr/>
            <p:nvPr/>
          </p:nvSpPr>
          <p:spPr>
            <a:xfrm flipH="1">
              <a:off x="7467480" y="3192480"/>
              <a:ext cx="533520" cy="380880"/>
            </a:xfrm>
            <a:prstGeom prst="rect">
              <a:avLst/>
            </a:prstGeom>
            <a:gradFill rotWithShape="0">
              <a:gsLst>
                <a:gs pos="0">
                  <a:srgbClr val="2f2f75"/>
                </a:gs>
                <a:gs pos="100000">
                  <a:srgbClr val="66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99" name=""/>
            <p:cNvGrpSpPr/>
            <p:nvPr/>
          </p:nvGrpSpPr>
          <p:grpSpPr>
            <a:xfrm>
              <a:off x="7531200" y="3266280"/>
              <a:ext cx="399240" cy="247680"/>
              <a:chOff x="7531200" y="3266280"/>
              <a:chExt cx="399240" cy="247680"/>
            </a:xfrm>
          </p:grpSpPr>
          <p:sp>
            <p:nvSpPr>
              <p:cNvPr id="3800" name=""/>
              <p:cNvSpPr/>
              <p:nvPr/>
            </p:nvSpPr>
            <p:spPr>
              <a:xfrm flipH="1">
                <a:off x="7590960" y="3266280"/>
                <a:ext cx="27720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7599240" y="3266280"/>
                <a:ext cx="27648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 flipH="1">
                <a:off x="7536960" y="3270240"/>
                <a:ext cx="6912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 flipH="1">
                <a:off x="7531200" y="3511800"/>
                <a:ext cx="65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 flipH="1">
                <a:off x="7857720" y="3270240"/>
                <a:ext cx="63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 flipH="1">
                <a:off x="7866000" y="3511800"/>
                <a:ext cx="64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06" name=""/>
          <p:cNvGrpSpPr/>
          <p:nvPr/>
        </p:nvGrpSpPr>
        <p:grpSpPr>
          <a:xfrm>
            <a:off x="5790960" y="4465800"/>
            <a:ext cx="990360" cy="631800"/>
            <a:chOff x="5790960" y="4465800"/>
            <a:chExt cx="990360" cy="631800"/>
          </a:xfrm>
        </p:grpSpPr>
        <p:grpSp>
          <p:nvGrpSpPr>
            <p:cNvPr id="3807" name=""/>
            <p:cNvGrpSpPr/>
            <p:nvPr/>
          </p:nvGrpSpPr>
          <p:grpSpPr>
            <a:xfrm>
              <a:off x="6154920" y="4547160"/>
              <a:ext cx="624960" cy="550440"/>
              <a:chOff x="6154920" y="4547160"/>
              <a:chExt cx="624960" cy="550440"/>
            </a:xfrm>
          </p:grpSpPr>
          <p:sp>
            <p:nvSpPr>
              <p:cNvPr id="3808" name=""/>
              <p:cNvSpPr/>
              <p:nvPr/>
            </p:nvSpPr>
            <p:spPr>
              <a:xfrm flipH="1">
                <a:off x="6154920" y="4547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 flipH="1">
                <a:off x="6154920" y="4547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10" name=""/>
            <p:cNvGrpSpPr/>
            <p:nvPr/>
          </p:nvGrpSpPr>
          <p:grpSpPr>
            <a:xfrm>
              <a:off x="5794560" y="4565880"/>
              <a:ext cx="360360" cy="531720"/>
              <a:chOff x="5794560" y="4565880"/>
              <a:chExt cx="360360" cy="531720"/>
            </a:xfrm>
          </p:grpSpPr>
          <p:sp>
            <p:nvSpPr>
              <p:cNvPr id="3811" name=""/>
              <p:cNvSpPr/>
              <p:nvPr/>
            </p:nvSpPr>
            <p:spPr>
              <a:xfrm flipH="1">
                <a:off x="5794200" y="4565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 flipH="1">
                <a:off x="5794200" y="4565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13" name=""/>
            <p:cNvGrpSpPr/>
            <p:nvPr/>
          </p:nvGrpSpPr>
          <p:grpSpPr>
            <a:xfrm>
              <a:off x="5790960" y="4465800"/>
              <a:ext cx="990360" cy="221760"/>
              <a:chOff x="5790960" y="4465800"/>
              <a:chExt cx="990360" cy="221760"/>
            </a:xfrm>
          </p:grpSpPr>
          <p:sp>
            <p:nvSpPr>
              <p:cNvPr id="3814" name=""/>
              <p:cNvSpPr/>
              <p:nvPr/>
            </p:nvSpPr>
            <p:spPr>
              <a:xfrm flipH="1">
                <a:off x="5790600" y="4465800"/>
                <a:ext cx="99036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 flipH="1">
                <a:off x="5790600" y="4465800"/>
                <a:ext cx="99036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16" name=""/>
            <p:cNvSpPr/>
            <p:nvPr/>
          </p:nvSpPr>
          <p:spPr>
            <a:xfrm flipH="1">
              <a:off x="6214320" y="4596840"/>
              <a:ext cx="527760" cy="4453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 flipH="1">
              <a:off x="6214320" y="4715640"/>
              <a:ext cx="527760" cy="32616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 flipH="1">
              <a:off x="6217200" y="4596840"/>
              <a:ext cx="524880" cy="2908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19" name=""/>
            <p:cNvGrpSpPr/>
            <p:nvPr/>
          </p:nvGrpSpPr>
          <p:grpSpPr>
            <a:xfrm>
              <a:off x="6447600" y="4640040"/>
              <a:ext cx="257760" cy="107640"/>
              <a:chOff x="6447600" y="4640040"/>
              <a:chExt cx="257760" cy="107640"/>
            </a:xfrm>
          </p:grpSpPr>
          <p:sp>
            <p:nvSpPr>
              <p:cNvPr id="3820" name=""/>
              <p:cNvSpPr/>
              <p:nvPr/>
            </p:nvSpPr>
            <p:spPr>
              <a:xfrm flipH="1">
                <a:off x="6447600" y="4640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 flipH="1">
                <a:off x="6447600" y="4640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22" name=""/>
            <p:cNvGrpSpPr/>
            <p:nvPr/>
          </p:nvGrpSpPr>
          <p:grpSpPr>
            <a:xfrm>
              <a:off x="6546960" y="4754880"/>
              <a:ext cx="160920" cy="160920"/>
              <a:chOff x="6546960" y="4754880"/>
              <a:chExt cx="160920" cy="160920"/>
            </a:xfrm>
          </p:grpSpPr>
          <p:sp>
            <p:nvSpPr>
              <p:cNvPr id="3823" name=""/>
              <p:cNvSpPr/>
              <p:nvPr/>
            </p:nvSpPr>
            <p:spPr>
              <a:xfrm flipH="1">
                <a:off x="6546600" y="4754880"/>
                <a:ext cx="16092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 flipH="1">
                <a:off x="6546600" y="4754880"/>
                <a:ext cx="16092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25" name=""/>
          <p:cNvGrpSpPr/>
          <p:nvPr/>
        </p:nvGrpSpPr>
        <p:grpSpPr>
          <a:xfrm>
            <a:off x="1828800" y="2590920"/>
            <a:ext cx="380880" cy="380880"/>
            <a:chOff x="1828800" y="2590920"/>
            <a:chExt cx="380880" cy="380880"/>
          </a:xfrm>
        </p:grpSpPr>
        <p:grpSp>
          <p:nvGrpSpPr>
            <p:cNvPr id="3826" name=""/>
            <p:cNvGrpSpPr/>
            <p:nvPr/>
          </p:nvGrpSpPr>
          <p:grpSpPr>
            <a:xfrm>
              <a:off x="1828800" y="2836800"/>
              <a:ext cx="130680" cy="135000"/>
              <a:chOff x="1828800" y="2836800"/>
              <a:chExt cx="130680" cy="135000"/>
            </a:xfrm>
          </p:grpSpPr>
          <p:sp>
            <p:nvSpPr>
              <p:cNvPr id="3827" name=""/>
              <p:cNvSpPr/>
              <p:nvPr/>
            </p:nvSpPr>
            <p:spPr>
              <a:xfrm>
                <a:off x="1828800" y="2836800"/>
                <a:ext cx="130680" cy="13500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1828800" y="2836800"/>
                <a:ext cx="130680" cy="13500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29" name=""/>
            <p:cNvGrpSpPr/>
            <p:nvPr/>
          </p:nvGrpSpPr>
          <p:grpSpPr>
            <a:xfrm>
              <a:off x="1828800" y="2786760"/>
              <a:ext cx="380880" cy="123120"/>
              <a:chOff x="1828800" y="2786760"/>
              <a:chExt cx="380880" cy="123120"/>
            </a:xfrm>
          </p:grpSpPr>
          <p:sp>
            <p:nvSpPr>
              <p:cNvPr id="3830" name=""/>
              <p:cNvSpPr/>
              <p:nvPr/>
            </p:nvSpPr>
            <p:spPr>
              <a:xfrm>
                <a:off x="1828800" y="2786760"/>
                <a:ext cx="380880" cy="12312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1828800" y="2786760"/>
                <a:ext cx="380880" cy="12312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32" name=""/>
            <p:cNvGrpSpPr/>
            <p:nvPr/>
          </p:nvGrpSpPr>
          <p:grpSpPr>
            <a:xfrm>
              <a:off x="1959480" y="2848320"/>
              <a:ext cx="250200" cy="123480"/>
              <a:chOff x="1959480" y="2848320"/>
              <a:chExt cx="250200" cy="123480"/>
            </a:xfrm>
          </p:grpSpPr>
          <p:sp>
            <p:nvSpPr>
              <p:cNvPr id="3833" name=""/>
              <p:cNvSpPr/>
              <p:nvPr/>
            </p:nvSpPr>
            <p:spPr>
              <a:xfrm>
                <a:off x="1959480" y="2848320"/>
                <a:ext cx="250200" cy="12348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1959480" y="2848320"/>
                <a:ext cx="250200" cy="12348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35" name=""/>
            <p:cNvSpPr/>
            <p:nvPr/>
          </p:nvSpPr>
          <p:spPr>
            <a:xfrm>
              <a:off x="1971360" y="2906280"/>
              <a:ext cx="50040" cy="2808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36" name=""/>
            <p:cNvGrpSpPr/>
            <p:nvPr/>
          </p:nvGrpSpPr>
          <p:grpSpPr>
            <a:xfrm>
              <a:off x="2099880" y="2862720"/>
              <a:ext cx="97920" cy="62280"/>
              <a:chOff x="2099880" y="2862720"/>
              <a:chExt cx="97920" cy="62280"/>
            </a:xfrm>
          </p:grpSpPr>
          <p:grpSp>
            <p:nvGrpSpPr>
              <p:cNvPr id="3837" name=""/>
              <p:cNvGrpSpPr/>
              <p:nvPr/>
            </p:nvGrpSpPr>
            <p:grpSpPr>
              <a:xfrm>
                <a:off x="2099880" y="2862720"/>
                <a:ext cx="97920" cy="62280"/>
                <a:chOff x="2099880" y="2862720"/>
                <a:chExt cx="97920" cy="62280"/>
              </a:xfrm>
            </p:grpSpPr>
            <p:sp>
              <p:nvSpPr>
                <p:cNvPr id="3838" name=""/>
                <p:cNvSpPr/>
                <p:nvPr/>
              </p:nvSpPr>
              <p:spPr>
                <a:xfrm>
                  <a:off x="2099880" y="2862720"/>
                  <a:ext cx="97920" cy="6228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9" name=""/>
                <p:cNvSpPr/>
                <p:nvPr/>
              </p:nvSpPr>
              <p:spPr>
                <a:xfrm>
                  <a:off x="2099880" y="2862720"/>
                  <a:ext cx="97920" cy="6228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40" name=""/>
              <p:cNvSpPr/>
              <p:nvPr/>
            </p:nvSpPr>
            <p:spPr>
              <a:xfrm flipH="1">
                <a:off x="2099880" y="2884320"/>
                <a:ext cx="9792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2134440" y="2895480"/>
                <a:ext cx="34560" cy="1404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2134440" y="2877120"/>
                <a:ext cx="34560" cy="1296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3" name=""/>
            <p:cNvGrpSpPr/>
            <p:nvPr/>
          </p:nvGrpSpPr>
          <p:grpSpPr>
            <a:xfrm>
              <a:off x="1843920" y="2590920"/>
              <a:ext cx="229320" cy="210240"/>
              <a:chOff x="1843920" y="2590920"/>
              <a:chExt cx="229320" cy="210240"/>
            </a:xfrm>
          </p:grpSpPr>
          <p:sp>
            <p:nvSpPr>
              <p:cNvPr id="3844" name=""/>
              <p:cNvSpPr/>
              <p:nvPr/>
            </p:nvSpPr>
            <p:spPr>
              <a:xfrm>
                <a:off x="1843920" y="2590920"/>
                <a:ext cx="229320" cy="21024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1843920" y="2590920"/>
                <a:ext cx="229320" cy="21024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6" name=""/>
            <p:cNvGrpSpPr/>
            <p:nvPr/>
          </p:nvGrpSpPr>
          <p:grpSpPr>
            <a:xfrm>
              <a:off x="1885320" y="2646000"/>
              <a:ext cx="74520" cy="231120"/>
              <a:chOff x="1885320" y="2646000"/>
              <a:chExt cx="74520" cy="231120"/>
            </a:xfrm>
          </p:grpSpPr>
          <p:sp>
            <p:nvSpPr>
              <p:cNvPr id="3847" name=""/>
              <p:cNvSpPr/>
              <p:nvPr/>
            </p:nvSpPr>
            <p:spPr>
              <a:xfrm>
                <a:off x="1885320" y="2646000"/>
                <a:ext cx="74520" cy="23112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1885320" y="2646000"/>
                <a:ext cx="74520" cy="23112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49" name=""/>
            <p:cNvGrpSpPr/>
            <p:nvPr/>
          </p:nvGrpSpPr>
          <p:grpSpPr>
            <a:xfrm>
              <a:off x="1885320" y="2598480"/>
              <a:ext cx="309960" cy="85320"/>
              <a:chOff x="1885320" y="2598480"/>
              <a:chExt cx="309960" cy="85320"/>
            </a:xfrm>
          </p:grpSpPr>
          <p:sp>
            <p:nvSpPr>
              <p:cNvPr id="3850" name=""/>
              <p:cNvSpPr/>
              <p:nvPr/>
            </p:nvSpPr>
            <p:spPr>
              <a:xfrm>
                <a:off x="1885320" y="2598480"/>
                <a:ext cx="309960" cy="8532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1885320" y="2598480"/>
                <a:ext cx="309960" cy="8532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52" name=""/>
            <p:cNvGrpSpPr/>
            <p:nvPr/>
          </p:nvGrpSpPr>
          <p:grpSpPr>
            <a:xfrm>
              <a:off x="1985400" y="2831760"/>
              <a:ext cx="163440" cy="46440"/>
              <a:chOff x="1985400" y="2831760"/>
              <a:chExt cx="163440" cy="46440"/>
            </a:xfrm>
          </p:grpSpPr>
          <p:sp>
            <p:nvSpPr>
              <p:cNvPr id="3853" name=""/>
              <p:cNvSpPr/>
              <p:nvPr/>
            </p:nvSpPr>
            <p:spPr>
              <a:xfrm>
                <a:off x="1985400" y="2831760"/>
                <a:ext cx="163440" cy="4644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1985400" y="2831760"/>
                <a:ext cx="163440" cy="4644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55" name=""/>
            <p:cNvGrpSpPr/>
            <p:nvPr/>
          </p:nvGrpSpPr>
          <p:grpSpPr>
            <a:xfrm>
              <a:off x="1960200" y="2630880"/>
              <a:ext cx="235080" cy="246240"/>
              <a:chOff x="1960200" y="2630880"/>
              <a:chExt cx="235080" cy="246240"/>
            </a:xfrm>
          </p:grpSpPr>
          <p:sp>
            <p:nvSpPr>
              <p:cNvPr id="3856" name=""/>
              <p:cNvSpPr/>
              <p:nvPr/>
            </p:nvSpPr>
            <p:spPr>
              <a:xfrm>
                <a:off x="1960200" y="2630880"/>
                <a:ext cx="235080" cy="24624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1960200" y="2630880"/>
                <a:ext cx="235080" cy="24624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58" name=""/>
            <p:cNvGrpSpPr/>
            <p:nvPr/>
          </p:nvGrpSpPr>
          <p:grpSpPr>
            <a:xfrm>
              <a:off x="1994400" y="2658960"/>
              <a:ext cx="171360" cy="179640"/>
              <a:chOff x="1994400" y="2658960"/>
              <a:chExt cx="171360" cy="179640"/>
            </a:xfrm>
          </p:grpSpPr>
          <p:sp>
            <p:nvSpPr>
              <p:cNvPr id="3859" name=""/>
              <p:cNvSpPr/>
              <p:nvPr/>
            </p:nvSpPr>
            <p:spPr>
              <a:xfrm>
                <a:off x="1994400" y="2658960"/>
                <a:ext cx="171360" cy="1796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1994400" y="2658960"/>
                <a:ext cx="171360" cy="1796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61" name=""/>
            <p:cNvSpPr/>
            <p:nvPr/>
          </p:nvSpPr>
          <p:spPr>
            <a:xfrm>
              <a:off x="2000880" y="2671200"/>
              <a:ext cx="151200" cy="15192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2000880" y="2671200"/>
              <a:ext cx="151200" cy="15192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2018520" y="2710800"/>
              <a:ext cx="1404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2035440" y="2697840"/>
              <a:ext cx="95400" cy="1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65" name=""/>
          <p:cNvSpPr/>
          <p:nvPr/>
        </p:nvSpPr>
        <p:spPr>
          <a:xfrm>
            <a:off x="1906560" y="2362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B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66" name=""/>
          <p:cNvGrpSpPr/>
          <p:nvPr/>
        </p:nvGrpSpPr>
        <p:grpSpPr>
          <a:xfrm>
            <a:off x="2209680" y="5105520"/>
            <a:ext cx="511200" cy="330120"/>
            <a:chOff x="2209680" y="5105520"/>
            <a:chExt cx="511200" cy="330120"/>
          </a:xfrm>
        </p:grpSpPr>
        <p:grpSp>
          <p:nvGrpSpPr>
            <p:cNvPr id="3867" name=""/>
            <p:cNvGrpSpPr/>
            <p:nvPr/>
          </p:nvGrpSpPr>
          <p:grpSpPr>
            <a:xfrm>
              <a:off x="2210400" y="5148000"/>
              <a:ext cx="322560" cy="287640"/>
              <a:chOff x="2210400" y="5148000"/>
              <a:chExt cx="322560" cy="287640"/>
            </a:xfrm>
          </p:grpSpPr>
          <p:sp>
            <p:nvSpPr>
              <p:cNvPr id="3868" name=""/>
              <p:cNvSpPr/>
              <p:nvPr/>
            </p:nvSpPr>
            <p:spPr>
              <a:xfrm>
                <a:off x="2210400" y="51480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2210400" y="51480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70" name=""/>
            <p:cNvGrpSpPr/>
            <p:nvPr/>
          </p:nvGrpSpPr>
          <p:grpSpPr>
            <a:xfrm>
              <a:off x="2532960" y="5157720"/>
              <a:ext cx="186120" cy="277920"/>
              <a:chOff x="2532960" y="5157720"/>
              <a:chExt cx="186120" cy="277920"/>
            </a:xfrm>
          </p:grpSpPr>
          <p:sp>
            <p:nvSpPr>
              <p:cNvPr id="3871" name=""/>
              <p:cNvSpPr/>
              <p:nvPr/>
            </p:nvSpPr>
            <p:spPr>
              <a:xfrm>
                <a:off x="2532960" y="51577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2532960" y="51577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73" name=""/>
            <p:cNvGrpSpPr/>
            <p:nvPr/>
          </p:nvGrpSpPr>
          <p:grpSpPr>
            <a:xfrm>
              <a:off x="2209680" y="5105520"/>
              <a:ext cx="511200" cy="115920"/>
              <a:chOff x="2209680" y="5105520"/>
              <a:chExt cx="511200" cy="115920"/>
            </a:xfrm>
          </p:grpSpPr>
          <p:sp>
            <p:nvSpPr>
              <p:cNvPr id="3874" name=""/>
              <p:cNvSpPr/>
              <p:nvPr/>
            </p:nvSpPr>
            <p:spPr>
              <a:xfrm>
                <a:off x="2209680" y="51055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2209680" y="51055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76" name=""/>
            <p:cNvSpPr/>
            <p:nvPr/>
          </p:nvSpPr>
          <p:spPr>
            <a:xfrm>
              <a:off x="2229840" y="517392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2229840" y="523584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2229840" y="517392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79" name=""/>
            <p:cNvGrpSpPr/>
            <p:nvPr/>
          </p:nvGrpSpPr>
          <p:grpSpPr>
            <a:xfrm>
              <a:off x="2248920" y="5196600"/>
              <a:ext cx="132840" cy="56160"/>
              <a:chOff x="2248920" y="5196600"/>
              <a:chExt cx="132840" cy="56160"/>
            </a:xfrm>
          </p:grpSpPr>
          <p:sp>
            <p:nvSpPr>
              <p:cNvPr id="3880" name=""/>
              <p:cNvSpPr/>
              <p:nvPr/>
            </p:nvSpPr>
            <p:spPr>
              <a:xfrm>
                <a:off x="2248920" y="51966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2248920" y="51966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82" name=""/>
            <p:cNvGrpSpPr/>
            <p:nvPr/>
          </p:nvGrpSpPr>
          <p:grpSpPr>
            <a:xfrm>
              <a:off x="2247480" y="5256720"/>
              <a:ext cx="83160" cy="83880"/>
              <a:chOff x="2247480" y="5256720"/>
              <a:chExt cx="83160" cy="83880"/>
            </a:xfrm>
          </p:grpSpPr>
          <p:sp>
            <p:nvSpPr>
              <p:cNvPr id="3883" name=""/>
              <p:cNvSpPr/>
              <p:nvPr/>
            </p:nvSpPr>
            <p:spPr>
              <a:xfrm>
                <a:off x="2247480" y="52567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2247480" y="52567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85" name=""/>
          <p:cNvGrpSpPr/>
          <p:nvPr/>
        </p:nvGrpSpPr>
        <p:grpSpPr>
          <a:xfrm>
            <a:off x="1371600" y="4419720"/>
            <a:ext cx="511200" cy="330120"/>
            <a:chOff x="1371600" y="4419720"/>
            <a:chExt cx="511200" cy="330120"/>
          </a:xfrm>
        </p:grpSpPr>
        <p:grpSp>
          <p:nvGrpSpPr>
            <p:cNvPr id="3886" name=""/>
            <p:cNvGrpSpPr/>
            <p:nvPr/>
          </p:nvGrpSpPr>
          <p:grpSpPr>
            <a:xfrm>
              <a:off x="1372320" y="4462200"/>
              <a:ext cx="322560" cy="287640"/>
              <a:chOff x="1372320" y="4462200"/>
              <a:chExt cx="322560" cy="287640"/>
            </a:xfrm>
          </p:grpSpPr>
          <p:sp>
            <p:nvSpPr>
              <p:cNvPr id="3887" name=""/>
              <p:cNvSpPr/>
              <p:nvPr/>
            </p:nvSpPr>
            <p:spPr>
              <a:xfrm>
                <a:off x="1372320" y="44622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1372320" y="44622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89" name=""/>
            <p:cNvGrpSpPr/>
            <p:nvPr/>
          </p:nvGrpSpPr>
          <p:grpSpPr>
            <a:xfrm>
              <a:off x="1694880" y="4471920"/>
              <a:ext cx="186120" cy="277920"/>
              <a:chOff x="1694880" y="4471920"/>
              <a:chExt cx="186120" cy="277920"/>
            </a:xfrm>
          </p:grpSpPr>
          <p:sp>
            <p:nvSpPr>
              <p:cNvPr id="3890" name=""/>
              <p:cNvSpPr/>
              <p:nvPr/>
            </p:nvSpPr>
            <p:spPr>
              <a:xfrm>
                <a:off x="1694880" y="44719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1694880" y="44719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92" name=""/>
            <p:cNvGrpSpPr/>
            <p:nvPr/>
          </p:nvGrpSpPr>
          <p:grpSpPr>
            <a:xfrm>
              <a:off x="1371600" y="4419720"/>
              <a:ext cx="511200" cy="115920"/>
              <a:chOff x="1371600" y="4419720"/>
              <a:chExt cx="511200" cy="115920"/>
            </a:xfrm>
          </p:grpSpPr>
          <p:sp>
            <p:nvSpPr>
              <p:cNvPr id="3893" name=""/>
              <p:cNvSpPr/>
              <p:nvPr/>
            </p:nvSpPr>
            <p:spPr>
              <a:xfrm>
                <a:off x="1371600" y="44197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1371600" y="44197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95" name=""/>
            <p:cNvSpPr/>
            <p:nvPr/>
          </p:nvSpPr>
          <p:spPr>
            <a:xfrm>
              <a:off x="1391760" y="448812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1391760" y="455004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1391760" y="448812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98" name=""/>
            <p:cNvGrpSpPr/>
            <p:nvPr/>
          </p:nvGrpSpPr>
          <p:grpSpPr>
            <a:xfrm>
              <a:off x="1410840" y="4510800"/>
              <a:ext cx="132840" cy="56160"/>
              <a:chOff x="1410840" y="4510800"/>
              <a:chExt cx="132840" cy="56160"/>
            </a:xfrm>
          </p:grpSpPr>
          <p:sp>
            <p:nvSpPr>
              <p:cNvPr id="3899" name=""/>
              <p:cNvSpPr/>
              <p:nvPr/>
            </p:nvSpPr>
            <p:spPr>
              <a:xfrm>
                <a:off x="1410840" y="45108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1410840" y="45108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01" name=""/>
            <p:cNvGrpSpPr/>
            <p:nvPr/>
          </p:nvGrpSpPr>
          <p:grpSpPr>
            <a:xfrm>
              <a:off x="1409400" y="4570920"/>
              <a:ext cx="83160" cy="83880"/>
              <a:chOff x="1409400" y="4570920"/>
              <a:chExt cx="83160" cy="83880"/>
            </a:xfrm>
          </p:grpSpPr>
          <p:sp>
            <p:nvSpPr>
              <p:cNvPr id="3902" name=""/>
              <p:cNvSpPr/>
              <p:nvPr/>
            </p:nvSpPr>
            <p:spPr>
              <a:xfrm>
                <a:off x="1409400" y="45709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1409400" y="45709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04" name=""/>
          <p:cNvGrpSpPr/>
          <p:nvPr/>
        </p:nvGrpSpPr>
        <p:grpSpPr>
          <a:xfrm>
            <a:off x="1600200" y="4952880"/>
            <a:ext cx="507960" cy="330480"/>
            <a:chOff x="1600200" y="4952880"/>
            <a:chExt cx="507960" cy="330480"/>
          </a:xfrm>
        </p:grpSpPr>
        <p:grpSp>
          <p:nvGrpSpPr>
            <p:cNvPr id="3905" name=""/>
            <p:cNvGrpSpPr/>
            <p:nvPr/>
          </p:nvGrpSpPr>
          <p:grpSpPr>
            <a:xfrm>
              <a:off x="1600920" y="4995360"/>
              <a:ext cx="320400" cy="288000"/>
              <a:chOff x="1600920" y="4995360"/>
              <a:chExt cx="320400" cy="288000"/>
            </a:xfrm>
          </p:grpSpPr>
          <p:sp>
            <p:nvSpPr>
              <p:cNvPr id="3906" name=""/>
              <p:cNvSpPr/>
              <p:nvPr/>
            </p:nvSpPr>
            <p:spPr>
              <a:xfrm>
                <a:off x="1600920" y="4995360"/>
                <a:ext cx="32040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1600920" y="4995360"/>
                <a:ext cx="32040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08" name=""/>
            <p:cNvGrpSpPr/>
            <p:nvPr/>
          </p:nvGrpSpPr>
          <p:grpSpPr>
            <a:xfrm>
              <a:off x="1921680" y="5005080"/>
              <a:ext cx="184680" cy="278280"/>
              <a:chOff x="1921680" y="5005080"/>
              <a:chExt cx="184680" cy="278280"/>
            </a:xfrm>
          </p:grpSpPr>
          <p:sp>
            <p:nvSpPr>
              <p:cNvPr id="3909" name=""/>
              <p:cNvSpPr/>
              <p:nvPr/>
            </p:nvSpPr>
            <p:spPr>
              <a:xfrm>
                <a:off x="1921680" y="5005080"/>
                <a:ext cx="18468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1921680" y="5005080"/>
                <a:ext cx="18468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11" name=""/>
            <p:cNvGrpSpPr/>
            <p:nvPr/>
          </p:nvGrpSpPr>
          <p:grpSpPr>
            <a:xfrm>
              <a:off x="1600200" y="4952880"/>
              <a:ext cx="507960" cy="115920"/>
              <a:chOff x="1600200" y="4952880"/>
              <a:chExt cx="507960" cy="115920"/>
            </a:xfrm>
          </p:grpSpPr>
          <p:sp>
            <p:nvSpPr>
              <p:cNvPr id="3912" name=""/>
              <p:cNvSpPr/>
              <p:nvPr/>
            </p:nvSpPr>
            <p:spPr>
              <a:xfrm>
                <a:off x="1600200" y="495288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1600200" y="495288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14" name=""/>
            <p:cNvSpPr/>
            <p:nvPr/>
          </p:nvSpPr>
          <p:spPr>
            <a:xfrm>
              <a:off x="1620360" y="5021280"/>
              <a:ext cx="270720" cy="2329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1620360" y="5083560"/>
              <a:ext cx="2707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1620360" y="5021280"/>
              <a:ext cx="269280" cy="1522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17" name=""/>
            <p:cNvGrpSpPr/>
            <p:nvPr/>
          </p:nvGrpSpPr>
          <p:grpSpPr>
            <a:xfrm>
              <a:off x="1639080" y="5043960"/>
              <a:ext cx="132120" cy="56160"/>
              <a:chOff x="1639080" y="5043960"/>
              <a:chExt cx="132120" cy="56160"/>
            </a:xfrm>
          </p:grpSpPr>
          <p:sp>
            <p:nvSpPr>
              <p:cNvPr id="3918" name=""/>
              <p:cNvSpPr/>
              <p:nvPr/>
            </p:nvSpPr>
            <p:spPr>
              <a:xfrm>
                <a:off x="1639080" y="504396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1639080" y="504396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20" name=""/>
            <p:cNvGrpSpPr/>
            <p:nvPr/>
          </p:nvGrpSpPr>
          <p:grpSpPr>
            <a:xfrm>
              <a:off x="1637640" y="5104080"/>
              <a:ext cx="82440" cy="84240"/>
              <a:chOff x="1637640" y="5104080"/>
              <a:chExt cx="82440" cy="84240"/>
            </a:xfrm>
          </p:grpSpPr>
          <p:sp>
            <p:nvSpPr>
              <p:cNvPr id="3921" name=""/>
              <p:cNvSpPr/>
              <p:nvPr/>
            </p:nvSpPr>
            <p:spPr>
              <a:xfrm>
                <a:off x="1637640" y="5104080"/>
                <a:ext cx="8244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1637640" y="5104080"/>
                <a:ext cx="8244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23" name=""/>
          <p:cNvSpPr/>
          <p:nvPr/>
        </p:nvSpPr>
        <p:spPr>
          <a:xfrm>
            <a:off x="3048120" y="2743200"/>
            <a:ext cx="685800" cy="555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4191120" y="3638520"/>
            <a:ext cx="685800" cy="64152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5715000" y="2743200"/>
            <a:ext cx="685800" cy="555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2889000" y="243828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2827800" y="6172200"/>
            <a:ext cx="33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fferentiated Service Network(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8" name=""/>
          <p:cNvSpPr/>
          <p:nvPr/>
        </p:nvSpPr>
        <p:spPr>
          <a:xfrm>
            <a:off x="230040" y="411480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EEE 802.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9" name=""/>
          <p:cNvGrpSpPr/>
          <p:nvPr/>
        </p:nvGrpSpPr>
        <p:grpSpPr>
          <a:xfrm>
            <a:off x="7248600" y="3124080"/>
            <a:ext cx="1107720" cy="785880"/>
            <a:chOff x="7248600" y="3124080"/>
            <a:chExt cx="1107720" cy="785880"/>
          </a:xfrm>
        </p:grpSpPr>
        <p:sp>
          <p:nvSpPr>
            <p:cNvPr id="3930" name=""/>
            <p:cNvSpPr/>
            <p:nvPr/>
          </p:nvSpPr>
          <p:spPr>
            <a:xfrm flipH="1">
              <a:off x="8003880" y="3124080"/>
              <a:ext cx="352440" cy="1666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 flipH="1">
              <a:off x="7248600" y="3562200"/>
              <a:ext cx="247680" cy="3477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32" name=""/>
          <p:cNvSpPr/>
          <p:nvPr/>
        </p:nvSpPr>
        <p:spPr>
          <a:xfrm flipH="1">
            <a:off x="6629040" y="4267080"/>
            <a:ext cx="15228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 flipH="1" flipV="1">
            <a:off x="6060960" y="3303720"/>
            <a:ext cx="185760" cy="118728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 flipH="1">
            <a:off x="5410080" y="4952880"/>
            <a:ext cx="4572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>
            <a:off x="533520" y="685800"/>
            <a:ext cx="8381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8.  Next router applies internal resource check and receiver policy check against directo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533520" y="1066680"/>
            <a:ext cx="8610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9.  Checks approved, RESV forwarded to SBM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>
            <a:off x="533520" y="1447920"/>
            <a:ext cx="8381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ffffff"/>
              </a:buClr>
              <a:buFont typeface="Arial"/>
              <a:buAutoNum type="arabicPeriod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BM applies resource check on behalf of AP (Note: SBM could be co-located with AP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533520" y="1828800"/>
            <a:ext cx="8381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1.  SBM approves resource check, RESV continues back to send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 flipH="1">
            <a:off x="3962520" y="5010120"/>
            <a:ext cx="1218960" cy="14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 flipH="1">
            <a:off x="4525560" y="4183200"/>
            <a:ext cx="4680" cy="66348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 flipH="1" flipV="1">
            <a:off x="3325680" y="5003640"/>
            <a:ext cx="331920" cy="330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 flipV="1">
            <a:off x="3276720" y="3276720"/>
            <a:ext cx="152280" cy="129528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 flipH="1" flipV="1">
            <a:off x="2436840" y="4292640"/>
            <a:ext cx="177840" cy="255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 flipV="1">
            <a:off x="2535120" y="3303360"/>
            <a:ext cx="717840" cy="67932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 flipH="1" flipV="1">
            <a:off x="1757520" y="3574800"/>
            <a:ext cx="234720" cy="34596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 flipV="1">
            <a:off x="1582560" y="2906640"/>
            <a:ext cx="309600" cy="309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47" name=""/>
          <p:cNvGrpSpPr/>
          <p:nvPr/>
        </p:nvGrpSpPr>
        <p:grpSpPr>
          <a:xfrm>
            <a:off x="864720" y="2932200"/>
            <a:ext cx="1003320" cy="344160"/>
            <a:chOff x="864720" y="2932200"/>
            <a:chExt cx="1003320" cy="344160"/>
          </a:xfrm>
        </p:grpSpPr>
        <p:sp>
          <p:nvSpPr>
            <p:cNvPr id="3948" name=""/>
            <p:cNvSpPr/>
            <p:nvPr/>
          </p:nvSpPr>
          <p:spPr>
            <a:xfrm flipH="1">
              <a:off x="1599840" y="2932200"/>
              <a:ext cx="268200" cy="268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 flipH="1" flipV="1">
              <a:off x="864720" y="3126960"/>
              <a:ext cx="358920" cy="149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50" name=""/>
          <p:cNvSpPr/>
          <p:nvPr/>
        </p:nvSpPr>
        <p:spPr>
          <a:xfrm>
            <a:off x="1745640" y="3048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1" name=""/>
          <p:cNvSpPr/>
          <p:nvPr/>
        </p:nvSpPr>
        <p:spPr>
          <a:xfrm>
            <a:off x="3076560" y="1590840"/>
            <a:ext cx="28353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52" name=""/>
          <p:cNvGrpSpPr/>
          <p:nvPr/>
        </p:nvGrpSpPr>
        <p:grpSpPr>
          <a:xfrm>
            <a:off x="4583160" y="2763720"/>
            <a:ext cx="4560840" cy="3335400"/>
            <a:chOff x="4583160" y="2763720"/>
            <a:chExt cx="4560840" cy="3335400"/>
          </a:xfrm>
        </p:grpSpPr>
        <p:sp>
          <p:nvSpPr>
            <p:cNvPr id="3953" name=""/>
            <p:cNvSpPr/>
            <p:nvPr/>
          </p:nvSpPr>
          <p:spPr>
            <a:xfrm>
              <a:off x="6172200" y="399384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2.  RESV message arrives from network, indicating successful admission contro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4583160" y="2763720"/>
              <a:ext cx="0" cy="33354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55" name=""/>
          <p:cNvGrpSpPr/>
          <p:nvPr/>
        </p:nvGrpSpPr>
        <p:grpSpPr>
          <a:xfrm>
            <a:off x="4572000" y="1603440"/>
            <a:ext cx="4446720" cy="2287080"/>
            <a:chOff x="4572000" y="1603440"/>
            <a:chExt cx="4446720" cy="2287080"/>
          </a:xfrm>
        </p:grpSpPr>
        <p:sp>
          <p:nvSpPr>
            <p:cNvPr id="3956" name=""/>
            <p:cNvSpPr/>
            <p:nvPr/>
          </p:nvSpPr>
          <p:spPr>
            <a:xfrm>
              <a:off x="6172200" y="2973600"/>
              <a:ext cx="2846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3. QoS SP indicates successful admission control to 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4572000" y="1603440"/>
              <a:ext cx="0" cy="541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58" name=""/>
          <p:cNvSpPr/>
          <p:nvPr/>
        </p:nvSpPr>
        <p:spPr>
          <a:xfrm>
            <a:off x="3733920" y="3124080"/>
            <a:ext cx="2044440" cy="990720"/>
          </a:xfrm>
          <a:prstGeom prst="rect">
            <a:avLst/>
          </a:prstGeom>
          <a:gradFill rotWithShape="0">
            <a:gsLst>
              <a:gs pos="0">
                <a:srgbClr val="75393b"/>
              </a:gs>
              <a:gs pos="100000">
                <a:srgbClr val="ff7c8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>
            <a:off x="1524600" y="121932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Sock2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>
            <a:off x="3429000" y="762120"/>
            <a:ext cx="2044800" cy="642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oS-aware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>
            <a:off x="1143000" y="3127320"/>
            <a:ext cx="28353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62" name=""/>
          <p:cNvGrpSpPr/>
          <p:nvPr/>
        </p:nvGrpSpPr>
        <p:grpSpPr>
          <a:xfrm>
            <a:off x="3782880" y="1908000"/>
            <a:ext cx="5284800" cy="1219320"/>
            <a:chOff x="3782880" y="1908000"/>
            <a:chExt cx="5284800" cy="1219320"/>
          </a:xfrm>
        </p:grpSpPr>
        <p:sp>
          <p:nvSpPr>
            <p:cNvPr id="3963" name=""/>
            <p:cNvSpPr/>
            <p:nvPr/>
          </p:nvSpPr>
          <p:spPr>
            <a:xfrm>
              <a:off x="6172200" y="1908000"/>
              <a:ext cx="2895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4.  QoS SP invokes greedy traffic control (marking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3782880" y="2746080"/>
              <a:ext cx="0" cy="3812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65" name=""/>
          <p:cNvSpPr/>
          <p:nvPr/>
        </p:nvSpPr>
        <p:spPr>
          <a:xfrm>
            <a:off x="684360" y="2730600"/>
            <a:ext cx="24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ffic Control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3560760" y="2130480"/>
            <a:ext cx="2044800" cy="642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oS S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7" name=""/>
          <p:cNvSpPr/>
          <p:nvPr/>
        </p:nvSpPr>
        <p:spPr>
          <a:xfrm>
            <a:off x="3657600" y="5791320"/>
            <a:ext cx="2044800" cy="642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tC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68" name=""/>
          <p:cNvGrpSpPr/>
          <p:nvPr/>
        </p:nvGrpSpPr>
        <p:grpSpPr>
          <a:xfrm>
            <a:off x="4876920" y="914400"/>
            <a:ext cx="4419000" cy="4950000"/>
            <a:chOff x="4876920" y="914400"/>
            <a:chExt cx="4419000" cy="4950000"/>
          </a:xfrm>
        </p:grpSpPr>
        <p:sp>
          <p:nvSpPr>
            <p:cNvPr id="3969" name=""/>
            <p:cNvSpPr/>
            <p:nvPr/>
          </p:nvSpPr>
          <p:spPr>
            <a:xfrm>
              <a:off x="4876920" y="4308840"/>
              <a:ext cx="0" cy="15555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6449760" y="914400"/>
              <a:ext cx="2846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5.  Transmitted data is marked high prior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1" name=""/>
          <p:cNvSpPr/>
          <p:nvPr/>
        </p:nvSpPr>
        <p:spPr>
          <a:xfrm>
            <a:off x="3505320" y="4419720"/>
            <a:ext cx="2286000" cy="6062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cket Schedu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2" name=""/>
          <p:cNvSpPr/>
          <p:nvPr/>
        </p:nvSpPr>
        <p:spPr>
          <a:xfrm>
            <a:off x="1371600" y="54100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C S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3" name=""/>
          <p:cNvSpPr/>
          <p:nvPr/>
        </p:nvSpPr>
        <p:spPr>
          <a:xfrm>
            <a:off x="3124080" y="5562720"/>
            <a:ext cx="1067040" cy="75960"/>
          </a:xfrm>
          <a:prstGeom prst="rightArrow">
            <a:avLst>
              <a:gd name="adj1" fmla="val 50000"/>
              <a:gd name="adj2" fmla="val 351185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4" name=""/>
          <p:cNvSpPr/>
          <p:nvPr/>
        </p:nvSpPr>
        <p:spPr>
          <a:xfrm>
            <a:off x="1828800" y="4343400"/>
            <a:ext cx="617220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5" name=""/>
          <p:cNvSpPr/>
          <p:nvPr/>
        </p:nvSpPr>
        <p:spPr>
          <a:xfrm>
            <a:off x="990720" y="4114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DI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6" name=""/>
          <p:cNvSpPr/>
          <p:nvPr/>
        </p:nvSpPr>
        <p:spPr>
          <a:xfrm>
            <a:off x="0" y="16002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ckets tagged with DSCP by RSV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7" name=""/>
          <p:cNvSpPr/>
          <p:nvPr/>
        </p:nvSpPr>
        <p:spPr>
          <a:xfrm>
            <a:off x="2819520" y="1905120"/>
            <a:ext cx="1143000" cy="75960"/>
          </a:xfrm>
          <a:prstGeom prst="rightArrow">
            <a:avLst>
              <a:gd name="adj1" fmla="val 50000"/>
              <a:gd name="adj2" fmla="val 376185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8" name=""/>
          <p:cNvSpPr/>
          <p:nvPr/>
        </p:nvSpPr>
        <p:spPr>
          <a:xfrm flipV="1">
            <a:off x="1676520" y="5181480"/>
            <a:ext cx="155520" cy="609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9" name=""/>
          <p:cNvSpPr/>
          <p:nvPr/>
        </p:nvSpPr>
        <p:spPr>
          <a:xfrm flipV="1">
            <a:off x="1828800" y="4266720"/>
            <a:ext cx="384120" cy="838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0" name=""/>
          <p:cNvSpPr/>
          <p:nvPr/>
        </p:nvSpPr>
        <p:spPr>
          <a:xfrm flipV="1">
            <a:off x="2438280" y="4876920"/>
            <a:ext cx="15552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1" name=""/>
          <p:cNvSpPr/>
          <p:nvPr/>
        </p:nvSpPr>
        <p:spPr>
          <a:xfrm flipV="1">
            <a:off x="1143000" y="4648320"/>
            <a:ext cx="38412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2" name=""/>
          <p:cNvSpPr/>
          <p:nvPr/>
        </p:nvSpPr>
        <p:spPr>
          <a:xfrm flipV="1">
            <a:off x="1600200" y="4191120"/>
            <a:ext cx="30780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3" name=""/>
          <p:cNvSpPr/>
          <p:nvPr/>
        </p:nvSpPr>
        <p:spPr>
          <a:xfrm flipH="1" flipV="1">
            <a:off x="2364840" y="5257440"/>
            <a:ext cx="225720" cy="609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4" name=""/>
          <p:cNvSpPr/>
          <p:nvPr/>
        </p:nvSpPr>
        <p:spPr>
          <a:xfrm flipH="1" flipV="1" rot="20268600">
            <a:off x="5181480" y="4971960"/>
            <a:ext cx="1084320" cy="329040"/>
          </a:xfrm>
          <a:custGeom>
            <a:avLst/>
            <a:gdLst/>
            <a:ahLst/>
            <a:rect l="l" t="t" r="r" b="b"/>
            <a:pathLst>
              <a:path w="656" h="197">
                <a:moveTo>
                  <a:pt x="0" y="196"/>
                </a:moveTo>
                <a:lnTo>
                  <a:pt x="401" y="145"/>
                </a:lnTo>
                <a:lnTo>
                  <a:pt x="312" y="71"/>
                </a:lnTo>
                <a:lnTo>
                  <a:pt x="655" y="0"/>
                </a:lnTo>
                <a:lnTo>
                  <a:pt x="254" y="52"/>
                </a:lnTo>
                <a:lnTo>
                  <a:pt x="346" y="129"/>
                </a:lnTo>
                <a:lnTo>
                  <a:pt x="0" y="196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5" name=""/>
          <p:cNvSpPr/>
          <p:nvPr/>
        </p:nvSpPr>
        <p:spPr>
          <a:xfrm flipV="1">
            <a:off x="2981160" y="4277880"/>
            <a:ext cx="219240" cy="352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6" name=""/>
          <p:cNvSpPr/>
          <p:nvPr/>
        </p:nvSpPr>
        <p:spPr>
          <a:xfrm flipH="1" flipV="1">
            <a:off x="1107720" y="2711520"/>
            <a:ext cx="274680" cy="511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7" name=""/>
          <p:cNvSpPr/>
          <p:nvPr/>
        </p:nvSpPr>
        <p:spPr>
          <a:xfrm flipH="1" flipV="1">
            <a:off x="838080" y="3142800"/>
            <a:ext cx="416160" cy="187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8" name=""/>
          <p:cNvSpPr/>
          <p:nvPr/>
        </p:nvSpPr>
        <p:spPr>
          <a:xfrm flipH="1">
            <a:off x="789120" y="3452760"/>
            <a:ext cx="490320" cy="214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 flipH="1" flipV="1">
            <a:off x="1752480" y="3580920"/>
            <a:ext cx="255600" cy="335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0" name=""/>
          <p:cNvSpPr/>
          <p:nvPr/>
        </p:nvSpPr>
        <p:spPr>
          <a:xfrm flipV="1">
            <a:off x="2173320" y="352404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1" name=""/>
          <p:cNvSpPr/>
          <p:nvPr/>
        </p:nvSpPr>
        <p:spPr>
          <a:xfrm flipV="1">
            <a:off x="2371680" y="3609720"/>
            <a:ext cx="127080" cy="36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92" name=""/>
          <p:cNvGrpSpPr/>
          <p:nvPr/>
        </p:nvGrpSpPr>
        <p:grpSpPr>
          <a:xfrm>
            <a:off x="434880" y="3436920"/>
            <a:ext cx="513000" cy="546120"/>
            <a:chOff x="434880" y="3436920"/>
            <a:chExt cx="513000" cy="546120"/>
          </a:xfrm>
        </p:grpSpPr>
        <p:grpSp>
          <p:nvGrpSpPr>
            <p:cNvPr id="3993" name=""/>
            <p:cNvGrpSpPr/>
            <p:nvPr/>
          </p:nvGrpSpPr>
          <p:grpSpPr>
            <a:xfrm>
              <a:off x="434880" y="3789360"/>
              <a:ext cx="176040" cy="193680"/>
              <a:chOff x="434880" y="3789360"/>
              <a:chExt cx="176040" cy="193680"/>
            </a:xfrm>
          </p:grpSpPr>
          <p:sp>
            <p:nvSpPr>
              <p:cNvPr id="3994" name=""/>
              <p:cNvSpPr/>
              <p:nvPr/>
            </p:nvSpPr>
            <p:spPr>
              <a:xfrm>
                <a:off x="434880" y="3789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434880" y="3789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96" name=""/>
            <p:cNvGrpSpPr/>
            <p:nvPr/>
          </p:nvGrpSpPr>
          <p:grpSpPr>
            <a:xfrm>
              <a:off x="434880" y="3717720"/>
              <a:ext cx="513000" cy="176400"/>
              <a:chOff x="434880" y="3717720"/>
              <a:chExt cx="513000" cy="176400"/>
            </a:xfrm>
          </p:grpSpPr>
          <p:sp>
            <p:nvSpPr>
              <p:cNvPr id="3997" name=""/>
              <p:cNvSpPr/>
              <p:nvPr/>
            </p:nvSpPr>
            <p:spPr>
              <a:xfrm>
                <a:off x="434880" y="371772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434880" y="371772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99" name=""/>
            <p:cNvGrpSpPr/>
            <p:nvPr/>
          </p:nvGrpSpPr>
          <p:grpSpPr>
            <a:xfrm>
              <a:off x="610920" y="3805920"/>
              <a:ext cx="336960" cy="176760"/>
              <a:chOff x="610920" y="3805920"/>
              <a:chExt cx="336960" cy="176760"/>
            </a:xfrm>
          </p:grpSpPr>
          <p:sp>
            <p:nvSpPr>
              <p:cNvPr id="4000" name=""/>
              <p:cNvSpPr/>
              <p:nvPr/>
            </p:nvSpPr>
            <p:spPr>
              <a:xfrm>
                <a:off x="610920" y="380592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610920" y="380592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02" name=""/>
            <p:cNvSpPr/>
            <p:nvPr/>
          </p:nvSpPr>
          <p:spPr>
            <a:xfrm>
              <a:off x="626760" y="388944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03" name=""/>
            <p:cNvGrpSpPr/>
            <p:nvPr/>
          </p:nvGrpSpPr>
          <p:grpSpPr>
            <a:xfrm>
              <a:off x="799920" y="3826800"/>
              <a:ext cx="131760" cy="89640"/>
              <a:chOff x="799920" y="3826800"/>
              <a:chExt cx="131760" cy="89640"/>
            </a:xfrm>
          </p:grpSpPr>
          <p:grpSp>
            <p:nvGrpSpPr>
              <p:cNvPr id="4004" name=""/>
              <p:cNvGrpSpPr/>
              <p:nvPr/>
            </p:nvGrpSpPr>
            <p:grpSpPr>
              <a:xfrm>
                <a:off x="799920" y="3826800"/>
                <a:ext cx="131760" cy="89640"/>
                <a:chOff x="799920" y="3826800"/>
                <a:chExt cx="131760" cy="89640"/>
              </a:xfrm>
            </p:grpSpPr>
            <p:sp>
              <p:nvSpPr>
                <p:cNvPr id="4005" name=""/>
                <p:cNvSpPr/>
                <p:nvPr/>
              </p:nvSpPr>
              <p:spPr>
                <a:xfrm>
                  <a:off x="799920" y="3826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6" name=""/>
                <p:cNvSpPr/>
                <p:nvPr/>
              </p:nvSpPr>
              <p:spPr>
                <a:xfrm>
                  <a:off x="799920" y="3826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07" name=""/>
              <p:cNvSpPr/>
              <p:nvPr/>
            </p:nvSpPr>
            <p:spPr>
              <a:xfrm flipH="1">
                <a:off x="799920" y="385776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846360" y="387396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846360" y="384768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10" name=""/>
            <p:cNvGrpSpPr/>
            <p:nvPr/>
          </p:nvGrpSpPr>
          <p:grpSpPr>
            <a:xfrm>
              <a:off x="455400" y="3436920"/>
              <a:ext cx="308880" cy="301680"/>
              <a:chOff x="455400" y="3436920"/>
              <a:chExt cx="308880" cy="301680"/>
            </a:xfrm>
          </p:grpSpPr>
          <p:sp>
            <p:nvSpPr>
              <p:cNvPr id="4011" name=""/>
              <p:cNvSpPr/>
              <p:nvPr/>
            </p:nvSpPr>
            <p:spPr>
              <a:xfrm>
                <a:off x="455400" y="343692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455400" y="343692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13" name=""/>
            <p:cNvGrpSpPr/>
            <p:nvPr/>
          </p:nvGrpSpPr>
          <p:grpSpPr>
            <a:xfrm>
              <a:off x="511200" y="3515760"/>
              <a:ext cx="100440" cy="331200"/>
              <a:chOff x="511200" y="3515760"/>
              <a:chExt cx="100440" cy="331200"/>
            </a:xfrm>
          </p:grpSpPr>
          <p:sp>
            <p:nvSpPr>
              <p:cNvPr id="4014" name=""/>
              <p:cNvSpPr/>
              <p:nvPr/>
            </p:nvSpPr>
            <p:spPr>
              <a:xfrm>
                <a:off x="511200" y="3515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511200" y="3515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16" name=""/>
            <p:cNvGrpSpPr/>
            <p:nvPr/>
          </p:nvGrpSpPr>
          <p:grpSpPr>
            <a:xfrm>
              <a:off x="511200" y="3447720"/>
              <a:ext cx="417600" cy="122400"/>
              <a:chOff x="511200" y="3447720"/>
              <a:chExt cx="417600" cy="122400"/>
            </a:xfrm>
          </p:grpSpPr>
          <p:sp>
            <p:nvSpPr>
              <p:cNvPr id="4017" name=""/>
              <p:cNvSpPr/>
              <p:nvPr/>
            </p:nvSpPr>
            <p:spPr>
              <a:xfrm>
                <a:off x="511200" y="344772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511200" y="344772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19" name=""/>
            <p:cNvGrpSpPr/>
            <p:nvPr/>
          </p:nvGrpSpPr>
          <p:grpSpPr>
            <a:xfrm>
              <a:off x="645840" y="3782160"/>
              <a:ext cx="220320" cy="66960"/>
              <a:chOff x="645840" y="3782160"/>
              <a:chExt cx="220320" cy="66960"/>
            </a:xfrm>
          </p:grpSpPr>
          <p:sp>
            <p:nvSpPr>
              <p:cNvPr id="4020" name=""/>
              <p:cNvSpPr/>
              <p:nvPr/>
            </p:nvSpPr>
            <p:spPr>
              <a:xfrm>
                <a:off x="645840" y="3782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645840" y="3782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22" name=""/>
            <p:cNvGrpSpPr/>
            <p:nvPr/>
          </p:nvGrpSpPr>
          <p:grpSpPr>
            <a:xfrm>
              <a:off x="612000" y="3494520"/>
              <a:ext cx="316800" cy="353160"/>
              <a:chOff x="612000" y="3494520"/>
              <a:chExt cx="316800" cy="353160"/>
            </a:xfrm>
          </p:grpSpPr>
          <p:sp>
            <p:nvSpPr>
              <p:cNvPr id="4023" name=""/>
              <p:cNvSpPr/>
              <p:nvPr/>
            </p:nvSpPr>
            <p:spPr>
              <a:xfrm>
                <a:off x="612000" y="349452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612000" y="349452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25" name=""/>
            <p:cNvGrpSpPr/>
            <p:nvPr/>
          </p:nvGrpSpPr>
          <p:grpSpPr>
            <a:xfrm>
              <a:off x="658080" y="3534480"/>
              <a:ext cx="230760" cy="257400"/>
              <a:chOff x="658080" y="3534480"/>
              <a:chExt cx="230760" cy="257400"/>
            </a:xfrm>
          </p:grpSpPr>
          <p:sp>
            <p:nvSpPr>
              <p:cNvPr id="4026" name=""/>
              <p:cNvSpPr/>
              <p:nvPr/>
            </p:nvSpPr>
            <p:spPr>
              <a:xfrm>
                <a:off x="658080" y="3534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658080" y="3534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28" name=""/>
            <p:cNvSpPr/>
            <p:nvPr/>
          </p:nvSpPr>
          <p:spPr>
            <a:xfrm>
              <a:off x="666720" y="3552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666720" y="3552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690480" y="360900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713160" y="359028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32" name=""/>
          <p:cNvGrpSpPr/>
          <p:nvPr/>
        </p:nvGrpSpPr>
        <p:grpSpPr>
          <a:xfrm>
            <a:off x="380880" y="2762280"/>
            <a:ext cx="513000" cy="546120"/>
            <a:chOff x="380880" y="2762280"/>
            <a:chExt cx="513000" cy="546120"/>
          </a:xfrm>
        </p:grpSpPr>
        <p:grpSp>
          <p:nvGrpSpPr>
            <p:cNvPr id="4033" name=""/>
            <p:cNvGrpSpPr/>
            <p:nvPr/>
          </p:nvGrpSpPr>
          <p:grpSpPr>
            <a:xfrm>
              <a:off x="380880" y="3114720"/>
              <a:ext cx="176040" cy="193680"/>
              <a:chOff x="380880" y="3114720"/>
              <a:chExt cx="176040" cy="193680"/>
            </a:xfrm>
          </p:grpSpPr>
          <p:sp>
            <p:nvSpPr>
              <p:cNvPr id="4034" name=""/>
              <p:cNvSpPr/>
              <p:nvPr/>
            </p:nvSpPr>
            <p:spPr>
              <a:xfrm>
                <a:off x="380880" y="3114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380880" y="3114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36" name=""/>
            <p:cNvGrpSpPr/>
            <p:nvPr/>
          </p:nvGrpSpPr>
          <p:grpSpPr>
            <a:xfrm>
              <a:off x="380880" y="3043080"/>
              <a:ext cx="513000" cy="176400"/>
              <a:chOff x="380880" y="3043080"/>
              <a:chExt cx="513000" cy="176400"/>
            </a:xfrm>
          </p:grpSpPr>
          <p:sp>
            <p:nvSpPr>
              <p:cNvPr id="4037" name=""/>
              <p:cNvSpPr/>
              <p:nvPr/>
            </p:nvSpPr>
            <p:spPr>
              <a:xfrm>
                <a:off x="380880" y="304308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380880" y="304308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39" name=""/>
            <p:cNvGrpSpPr/>
            <p:nvPr/>
          </p:nvGrpSpPr>
          <p:grpSpPr>
            <a:xfrm>
              <a:off x="556920" y="3131280"/>
              <a:ext cx="336960" cy="176760"/>
              <a:chOff x="556920" y="3131280"/>
              <a:chExt cx="336960" cy="176760"/>
            </a:xfrm>
          </p:grpSpPr>
          <p:sp>
            <p:nvSpPr>
              <p:cNvPr id="4040" name=""/>
              <p:cNvSpPr/>
              <p:nvPr/>
            </p:nvSpPr>
            <p:spPr>
              <a:xfrm>
                <a:off x="556920" y="313128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556920" y="313128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42" name=""/>
            <p:cNvSpPr/>
            <p:nvPr/>
          </p:nvSpPr>
          <p:spPr>
            <a:xfrm>
              <a:off x="572760" y="321480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43" name=""/>
            <p:cNvGrpSpPr/>
            <p:nvPr/>
          </p:nvGrpSpPr>
          <p:grpSpPr>
            <a:xfrm>
              <a:off x="745920" y="3152160"/>
              <a:ext cx="131760" cy="89640"/>
              <a:chOff x="745920" y="3152160"/>
              <a:chExt cx="131760" cy="89640"/>
            </a:xfrm>
          </p:grpSpPr>
          <p:grpSp>
            <p:nvGrpSpPr>
              <p:cNvPr id="4044" name=""/>
              <p:cNvGrpSpPr/>
              <p:nvPr/>
            </p:nvGrpSpPr>
            <p:grpSpPr>
              <a:xfrm>
                <a:off x="745920" y="3152160"/>
                <a:ext cx="131760" cy="89640"/>
                <a:chOff x="745920" y="3152160"/>
                <a:chExt cx="131760" cy="89640"/>
              </a:xfrm>
            </p:grpSpPr>
            <p:sp>
              <p:nvSpPr>
                <p:cNvPr id="4045" name=""/>
                <p:cNvSpPr/>
                <p:nvPr/>
              </p:nvSpPr>
              <p:spPr>
                <a:xfrm>
                  <a:off x="745920" y="3152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6" name=""/>
                <p:cNvSpPr/>
                <p:nvPr/>
              </p:nvSpPr>
              <p:spPr>
                <a:xfrm>
                  <a:off x="745920" y="3152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47" name=""/>
              <p:cNvSpPr/>
              <p:nvPr/>
            </p:nvSpPr>
            <p:spPr>
              <a:xfrm flipH="1">
                <a:off x="745920" y="318312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792360" y="319932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792360" y="317304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50" name=""/>
            <p:cNvGrpSpPr/>
            <p:nvPr/>
          </p:nvGrpSpPr>
          <p:grpSpPr>
            <a:xfrm>
              <a:off x="401400" y="2762280"/>
              <a:ext cx="308880" cy="301680"/>
              <a:chOff x="401400" y="2762280"/>
              <a:chExt cx="308880" cy="301680"/>
            </a:xfrm>
          </p:grpSpPr>
          <p:sp>
            <p:nvSpPr>
              <p:cNvPr id="4051" name=""/>
              <p:cNvSpPr/>
              <p:nvPr/>
            </p:nvSpPr>
            <p:spPr>
              <a:xfrm>
                <a:off x="401400" y="276228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401400" y="276228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53" name=""/>
            <p:cNvGrpSpPr/>
            <p:nvPr/>
          </p:nvGrpSpPr>
          <p:grpSpPr>
            <a:xfrm>
              <a:off x="457200" y="2841120"/>
              <a:ext cx="100440" cy="331200"/>
              <a:chOff x="457200" y="2841120"/>
              <a:chExt cx="100440" cy="331200"/>
            </a:xfrm>
          </p:grpSpPr>
          <p:sp>
            <p:nvSpPr>
              <p:cNvPr id="4054" name=""/>
              <p:cNvSpPr/>
              <p:nvPr/>
            </p:nvSpPr>
            <p:spPr>
              <a:xfrm>
                <a:off x="457200" y="2841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457200" y="2841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56" name=""/>
            <p:cNvGrpSpPr/>
            <p:nvPr/>
          </p:nvGrpSpPr>
          <p:grpSpPr>
            <a:xfrm>
              <a:off x="457200" y="2773080"/>
              <a:ext cx="417600" cy="122400"/>
              <a:chOff x="457200" y="2773080"/>
              <a:chExt cx="417600" cy="122400"/>
            </a:xfrm>
          </p:grpSpPr>
          <p:sp>
            <p:nvSpPr>
              <p:cNvPr id="4057" name=""/>
              <p:cNvSpPr/>
              <p:nvPr/>
            </p:nvSpPr>
            <p:spPr>
              <a:xfrm>
                <a:off x="457200" y="277308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457200" y="277308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59" name=""/>
            <p:cNvGrpSpPr/>
            <p:nvPr/>
          </p:nvGrpSpPr>
          <p:grpSpPr>
            <a:xfrm>
              <a:off x="591840" y="3107520"/>
              <a:ext cx="220320" cy="66960"/>
              <a:chOff x="591840" y="3107520"/>
              <a:chExt cx="220320" cy="66960"/>
            </a:xfrm>
          </p:grpSpPr>
          <p:sp>
            <p:nvSpPr>
              <p:cNvPr id="4060" name=""/>
              <p:cNvSpPr/>
              <p:nvPr/>
            </p:nvSpPr>
            <p:spPr>
              <a:xfrm>
                <a:off x="591840" y="3107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591840" y="3107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62" name=""/>
            <p:cNvGrpSpPr/>
            <p:nvPr/>
          </p:nvGrpSpPr>
          <p:grpSpPr>
            <a:xfrm>
              <a:off x="558000" y="2819880"/>
              <a:ext cx="316800" cy="353160"/>
              <a:chOff x="558000" y="2819880"/>
              <a:chExt cx="316800" cy="353160"/>
            </a:xfrm>
          </p:grpSpPr>
          <p:sp>
            <p:nvSpPr>
              <p:cNvPr id="4063" name=""/>
              <p:cNvSpPr/>
              <p:nvPr/>
            </p:nvSpPr>
            <p:spPr>
              <a:xfrm>
                <a:off x="558000" y="281988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558000" y="281988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65" name=""/>
            <p:cNvGrpSpPr/>
            <p:nvPr/>
          </p:nvGrpSpPr>
          <p:grpSpPr>
            <a:xfrm>
              <a:off x="604080" y="2859840"/>
              <a:ext cx="230760" cy="257400"/>
              <a:chOff x="604080" y="2859840"/>
              <a:chExt cx="230760" cy="257400"/>
            </a:xfrm>
          </p:grpSpPr>
          <p:sp>
            <p:nvSpPr>
              <p:cNvPr id="4066" name=""/>
              <p:cNvSpPr/>
              <p:nvPr/>
            </p:nvSpPr>
            <p:spPr>
              <a:xfrm>
                <a:off x="604080" y="2859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604080" y="2859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68" name=""/>
            <p:cNvSpPr/>
            <p:nvPr/>
          </p:nvSpPr>
          <p:spPr>
            <a:xfrm>
              <a:off x="612720" y="2877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612720" y="2877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636480" y="293436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659160" y="291564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2" name=""/>
          <p:cNvGrpSpPr/>
          <p:nvPr/>
        </p:nvGrpSpPr>
        <p:grpSpPr>
          <a:xfrm>
            <a:off x="906480" y="2408400"/>
            <a:ext cx="511200" cy="545760"/>
            <a:chOff x="906480" y="2408400"/>
            <a:chExt cx="511200" cy="545760"/>
          </a:xfrm>
        </p:grpSpPr>
        <p:grpSp>
          <p:nvGrpSpPr>
            <p:cNvPr id="4073" name=""/>
            <p:cNvGrpSpPr/>
            <p:nvPr/>
          </p:nvGrpSpPr>
          <p:grpSpPr>
            <a:xfrm>
              <a:off x="906480" y="2760480"/>
              <a:ext cx="175320" cy="193320"/>
              <a:chOff x="906480" y="2760480"/>
              <a:chExt cx="175320" cy="193320"/>
            </a:xfrm>
          </p:grpSpPr>
          <p:sp>
            <p:nvSpPr>
              <p:cNvPr id="4074" name=""/>
              <p:cNvSpPr/>
              <p:nvPr/>
            </p:nvSpPr>
            <p:spPr>
              <a:xfrm>
                <a:off x="906480" y="2760480"/>
                <a:ext cx="175320" cy="19332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906480" y="2760480"/>
                <a:ext cx="175320" cy="19332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76" name=""/>
            <p:cNvGrpSpPr/>
            <p:nvPr/>
          </p:nvGrpSpPr>
          <p:grpSpPr>
            <a:xfrm>
              <a:off x="906480" y="2689200"/>
              <a:ext cx="511200" cy="176400"/>
              <a:chOff x="906480" y="2689200"/>
              <a:chExt cx="511200" cy="176400"/>
            </a:xfrm>
          </p:grpSpPr>
          <p:sp>
            <p:nvSpPr>
              <p:cNvPr id="4077" name=""/>
              <p:cNvSpPr/>
              <p:nvPr/>
            </p:nvSpPr>
            <p:spPr>
              <a:xfrm>
                <a:off x="906480" y="2689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906480" y="2689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79" name=""/>
            <p:cNvGrpSpPr/>
            <p:nvPr/>
          </p:nvGrpSpPr>
          <p:grpSpPr>
            <a:xfrm>
              <a:off x="1081800" y="2777400"/>
              <a:ext cx="335520" cy="176760"/>
              <a:chOff x="1081800" y="2777400"/>
              <a:chExt cx="335520" cy="176760"/>
            </a:xfrm>
          </p:grpSpPr>
          <p:sp>
            <p:nvSpPr>
              <p:cNvPr id="4080" name=""/>
              <p:cNvSpPr/>
              <p:nvPr/>
            </p:nvSpPr>
            <p:spPr>
              <a:xfrm>
                <a:off x="1081800" y="2777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1081800" y="2777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082" name=""/>
            <p:cNvSpPr/>
            <p:nvPr/>
          </p:nvSpPr>
          <p:spPr>
            <a:xfrm>
              <a:off x="1097640" y="2860560"/>
              <a:ext cx="6732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83" name=""/>
            <p:cNvGrpSpPr/>
            <p:nvPr/>
          </p:nvGrpSpPr>
          <p:grpSpPr>
            <a:xfrm>
              <a:off x="1269720" y="2797920"/>
              <a:ext cx="131760" cy="89640"/>
              <a:chOff x="1269720" y="2797920"/>
              <a:chExt cx="131760" cy="89640"/>
            </a:xfrm>
          </p:grpSpPr>
          <p:grpSp>
            <p:nvGrpSpPr>
              <p:cNvPr id="4084" name=""/>
              <p:cNvGrpSpPr/>
              <p:nvPr/>
            </p:nvGrpSpPr>
            <p:grpSpPr>
              <a:xfrm>
                <a:off x="1270080" y="2797920"/>
                <a:ext cx="131400" cy="89640"/>
                <a:chOff x="1270080" y="2797920"/>
                <a:chExt cx="131400" cy="89640"/>
              </a:xfrm>
            </p:grpSpPr>
            <p:sp>
              <p:nvSpPr>
                <p:cNvPr id="4085" name=""/>
                <p:cNvSpPr/>
                <p:nvPr/>
              </p:nvSpPr>
              <p:spPr>
                <a:xfrm>
                  <a:off x="1270080" y="279792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6" name=""/>
                <p:cNvSpPr/>
                <p:nvPr/>
              </p:nvSpPr>
              <p:spPr>
                <a:xfrm>
                  <a:off x="1270080" y="279792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87" name=""/>
              <p:cNvSpPr/>
              <p:nvPr/>
            </p:nvSpPr>
            <p:spPr>
              <a:xfrm flipH="1">
                <a:off x="1269720" y="2828880"/>
                <a:ext cx="1314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1316160" y="2845080"/>
                <a:ext cx="4608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1316160" y="2818800"/>
                <a:ext cx="4608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90" name=""/>
            <p:cNvGrpSpPr/>
            <p:nvPr/>
          </p:nvGrpSpPr>
          <p:grpSpPr>
            <a:xfrm>
              <a:off x="927000" y="2408400"/>
              <a:ext cx="307800" cy="301320"/>
              <a:chOff x="927000" y="2408400"/>
              <a:chExt cx="307800" cy="301320"/>
            </a:xfrm>
          </p:grpSpPr>
          <p:sp>
            <p:nvSpPr>
              <p:cNvPr id="4091" name=""/>
              <p:cNvSpPr/>
              <p:nvPr/>
            </p:nvSpPr>
            <p:spPr>
              <a:xfrm>
                <a:off x="927000" y="2408400"/>
                <a:ext cx="307800" cy="30132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927000" y="2408400"/>
                <a:ext cx="307800" cy="30132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93" name=""/>
            <p:cNvGrpSpPr/>
            <p:nvPr/>
          </p:nvGrpSpPr>
          <p:grpSpPr>
            <a:xfrm>
              <a:off x="982440" y="2487240"/>
              <a:ext cx="100080" cy="330840"/>
              <a:chOff x="982440" y="2487240"/>
              <a:chExt cx="100080" cy="330840"/>
            </a:xfrm>
          </p:grpSpPr>
          <p:sp>
            <p:nvSpPr>
              <p:cNvPr id="4094" name=""/>
              <p:cNvSpPr/>
              <p:nvPr/>
            </p:nvSpPr>
            <p:spPr>
              <a:xfrm>
                <a:off x="982440" y="2487240"/>
                <a:ext cx="100080" cy="33084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982440" y="2487240"/>
                <a:ext cx="100080" cy="33084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96" name=""/>
            <p:cNvGrpSpPr/>
            <p:nvPr/>
          </p:nvGrpSpPr>
          <p:grpSpPr>
            <a:xfrm>
              <a:off x="982440" y="2419200"/>
              <a:ext cx="416160" cy="122400"/>
              <a:chOff x="982440" y="2419200"/>
              <a:chExt cx="416160" cy="122400"/>
            </a:xfrm>
          </p:grpSpPr>
          <p:sp>
            <p:nvSpPr>
              <p:cNvPr id="4097" name=""/>
              <p:cNvSpPr/>
              <p:nvPr/>
            </p:nvSpPr>
            <p:spPr>
              <a:xfrm>
                <a:off x="982440" y="2419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982440" y="2419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99" name=""/>
            <p:cNvGrpSpPr/>
            <p:nvPr/>
          </p:nvGrpSpPr>
          <p:grpSpPr>
            <a:xfrm>
              <a:off x="1116720" y="2753280"/>
              <a:ext cx="219600" cy="66600"/>
              <a:chOff x="1116720" y="2753280"/>
              <a:chExt cx="219600" cy="66600"/>
            </a:xfrm>
          </p:grpSpPr>
          <p:sp>
            <p:nvSpPr>
              <p:cNvPr id="4100" name=""/>
              <p:cNvSpPr/>
              <p:nvPr/>
            </p:nvSpPr>
            <p:spPr>
              <a:xfrm>
                <a:off x="1116720" y="2753280"/>
                <a:ext cx="219600" cy="6660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1116720" y="2753280"/>
                <a:ext cx="219600" cy="6660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02" name=""/>
            <p:cNvGrpSpPr/>
            <p:nvPr/>
          </p:nvGrpSpPr>
          <p:grpSpPr>
            <a:xfrm>
              <a:off x="1082880" y="2466000"/>
              <a:ext cx="315720" cy="352800"/>
              <a:chOff x="1082880" y="2466000"/>
              <a:chExt cx="315720" cy="352800"/>
            </a:xfrm>
          </p:grpSpPr>
          <p:sp>
            <p:nvSpPr>
              <p:cNvPr id="4103" name=""/>
              <p:cNvSpPr/>
              <p:nvPr/>
            </p:nvSpPr>
            <p:spPr>
              <a:xfrm>
                <a:off x="1082880" y="2466000"/>
                <a:ext cx="315720" cy="35280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1082880" y="2466000"/>
                <a:ext cx="315720" cy="35280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05" name=""/>
            <p:cNvGrpSpPr/>
            <p:nvPr/>
          </p:nvGrpSpPr>
          <p:grpSpPr>
            <a:xfrm>
              <a:off x="1128600" y="2505960"/>
              <a:ext cx="230040" cy="257040"/>
              <a:chOff x="1128600" y="2505960"/>
              <a:chExt cx="230040" cy="257040"/>
            </a:xfrm>
          </p:grpSpPr>
          <p:sp>
            <p:nvSpPr>
              <p:cNvPr id="4106" name=""/>
              <p:cNvSpPr/>
              <p:nvPr/>
            </p:nvSpPr>
            <p:spPr>
              <a:xfrm>
                <a:off x="1128600" y="2505960"/>
                <a:ext cx="230040" cy="2570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1128600" y="2505960"/>
                <a:ext cx="230040" cy="2570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08" name=""/>
            <p:cNvSpPr/>
            <p:nvPr/>
          </p:nvSpPr>
          <p:spPr>
            <a:xfrm>
              <a:off x="1137600" y="2523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1137600" y="2523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1161000" y="258048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1183680" y="2561760"/>
              <a:ext cx="1278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12" name=""/>
          <p:cNvSpPr/>
          <p:nvPr/>
        </p:nvSpPr>
        <p:spPr>
          <a:xfrm flipH="1" flipV="1">
            <a:off x="2421000" y="4287960"/>
            <a:ext cx="255600" cy="334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3" name=""/>
          <p:cNvSpPr/>
          <p:nvPr/>
        </p:nvSpPr>
        <p:spPr>
          <a:xfrm flipV="1">
            <a:off x="2846520" y="4176360"/>
            <a:ext cx="288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4" name=""/>
          <p:cNvSpPr/>
          <p:nvPr/>
        </p:nvSpPr>
        <p:spPr>
          <a:xfrm flipV="1" rot="1331400">
            <a:off x="3021120" y="5072760"/>
            <a:ext cx="1084320" cy="329040"/>
          </a:xfrm>
          <a:custGeom>
            <a:avLst/>
            <a:gdLst/>
            <a:ahLst/>
            <a:rect l="l" t="t" r="r" b="b"/>
            <a:pathLst>
              <a:path w="656" h="197">
                <a:moveTo>
                  <a:pt x="0" y="196"/>
                </a:moveTo>
                <a:lnTo>
                  <a:pt x="401" y="145"/>
                </a:lnTo>
                <a:lnTo>
                  <a:pt x="312" y="71"/>
                </a:lnTo>
                <a:lnTo>
                  <a:pt x="655" y="0"/>
                </a:lnTo>
                <a:lnTo>
                  <a:pt x="254" y="52"/>
                </a:lnTo>
                <a:lnTo>
                  <a:pt x="346" y="129"/>
                </a:lnTo>
                <a:lnTo>
                  <a:pt x="0" y="196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15" name=""/>
          <p:cNvGrpSpPr/>
          <p:nvPr/>
        </p:nvGrpSpPr>
        <p:grpSpPr>
          <a:xfrm>
            <a:off x="3581280" y="4952880"/>
            <a:ext cx="2022120" cy="1428480"/>
            <a:chOff x="3581280" y="4952880"/>
            <a:chExt cx="2022120" cy="1428480"/>
          </a:xfrm>
        </p:grpSpPr>
        <p:grpSp>
          <p:nvGrpSpPr>
            <p:cNvPr id="4116" name=""/>
            <p:cNvGrpSpPr/>
            <p:nvPr/>
          </p:nvGrpSpPr>
          <p:grpSpPr>
            <a:xfrm>
              <a:off x="3581280" y="4952880"/>
              <a:ext cx="2022120" cy="1428480"/>
              <a:chOff x="3581280" y="4952880"/>
              <a:chExt cx="2022120" cy="1428480"/>
            </a:xfrm>
          </p:grpSpPr>
          <p:grpSp>
            <p:nvGrpSpPr>
              <p:cNvPr id="4117" name=""/>
              <p:cNvGrpSpPr/>
              <p:nvPr/>
            </p:nvGrpSpPr>
            <p:grpSpPr>
              <a:xfrm>
                <a:off x="4774680" y="5080680"/>
                <a:ext cx="828720" cy="1229040"/>
                <a:chOff x="4774680" y="5080680"/>
                <a:chExt cx="828720" cy="1229040"/>
              </a:xfrm>
            </p:grpSpPr>
            <p:grpSp>
              <p:nvGrpSpPr>
                <p:cNvPr id="4118" name=""/>
                <p:cNvGrpSpPr/>
                <p:nvPr/>
              </p:nvGrpSpPr>
              <p:grpSpPr>
                <a:xfrm>
                  <a:off x="5099040" y="5080680"/>
                  <a:ext cx="504360" cy="988200"/>
                  <a:chOff x="5099040" y="5080680"/>
                  <a:chExt cx="504360" cy="988200"/>
                </a:xfrm>
              </p:grpSpPr>
              <p:grpSp>
                <p:nvGrpSpPr>
                  <p:cNvPr id="4119" name=""/>
                  <p:cNvGrpSpPr/>
                  <p:nvPr/>
                </p:nvGrpSpPr>
                <p:grpSpPr>
                  <a:xfrm>
                    <a:off x="5236200" y="5218200"/>
                    <a:ext cx="367200" cy="712800"/>
                    <a:chOff x="5236200" y="5218200"/>
                    <a:chExt cx="367200" cy="712800"/>
                  </a:xfrm>
                </p:grpSpPr>
                <p:grpSp>
                  <p:nvGrpSpPr>
                    <p:cNvPr id="4120" name=""/>
                    <p:cNvGrpSpPr/>
                    <p:nvPr/>
                  </p:nvGrpSpPr>
                  <p:grpSpPr>
                    <a:xfrm>
                      <a:off x="5236200" y="5218200"/>
                      <a:ext cx="367200" cy="712800"/>
                      <a:chOff x="5236200" y="5218200"/>
                      <a:chExt cx="367200" cy="712800"/>
                    </a:xfrm>
                  </p:grpSpPr>
                  <p:grpSp>
                    <p:nvGrpSpPr>
                      <p:cNvPr id="4121" name=""/>
                      <p:cNvGrpSpPr/>
                      <p:nvPr/>
                    </p:nvGrpSpPr>
                    <p:grpSpPr>
                      <a:xfrm>
                        <a:off x="5333400" y="5263920"/>
                        <a:ext cx="270000" cy="579600"/>
                        <a:chOff x="5333400" y="5263920"/>
                        <a:chExt cx="270000" cy="579600"/>
                      </a:xfrm>
                    </p:grpSpPr>
                    <p:grpSp>
                      <p:nvGrpSpPr>
                        <p:cNvPr id="4122" name=""/>
                        <p:cNvGrpSpPr/>
                        <p:nvPr/>
                      </p:nvGrpSpPr>
                      <p:grpSpPr>
                        <a:xfrm>
                          <a:off x="5366520" y="5263920"/>
                          <a:ext cx="236880" cy="579600"/>
                          <a:chOff x="5366520" y="5263920"/>
                          <a:chExt cx="236880" cy="579600"/>
                        </a:xfrm>
                      </p:grpSpPr>
                      <p:sp>
                        <p:nvSpPr>
                          <p:cNvPr id="4123" name=""/>
                          <p:cNvSpPr/>
                          <p:nvPr/>
                        </p:nvSpPr>
                        <p:spPr>
                          <a:xfrm>
                            <a:off x="5500080" y="5616000"/>
                            <a:ext cx="103320" cy="13896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24" name=""/>
                          <p:cNvSpPr/>
                          <p:nvPr/>
                        </p:nvSpPr>
                        <p:spPr>
                          <a:xfrm>
                            <a:off x="5396400" y="5660640"/>
                            <a:ext cx="137880" cy="18288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25" name=""/>
                          <p:cNvSpPr/>
                          <p:nvPr/>
                        </p:nvSpPr>
                        <p:spPr>
                          <a:xfrm>
                            <a:off x="5465520" y="5393520"/>
                            <a:ext cx="104760" cy="13896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26" name=""/>
                          <p:cNvSpPr/>
                          <p:nvPr/>
                        </p:nvSpPr>
                        <p:spPr>
                          <a:xfrm>
                            <a:off x="5366520" y="5263920"/>
                            <a:ext cx="137880" cy="18288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27" name=""/>
                          <p:cNvSpPr/>
                          <p:nvPr/>
                        </p:nvSpPr>
                        <p:spPr>
                          <a:xfrm>
                            <a:off x="5465520" y="5393520"/>
                            <a:ext cx="93960" cy="326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0" h="207">
                                <a:moveTo>
                                  <a:pt x="59" y="206"/>
                                </a:moveTo>
                                <a:lnTo>
                                  <a:pt x="34" y="206"/>
                                </a:lnTo>
                                <a:lnTo>
                                  <a:pt x="0" y="0"/>
                                </a:lnTo>
                                <a:lnTo>
                                  <a:pt x="35" y="17"/>
                                </a:lnTo>
                                <a:lnTo>
                                  <a:pt x="36" y="116"/>
                                </a:lnTo>
                                <a:lnTo>
                                  <a:pt x="59" y="206"/>
                                </a:lnTo>
                              </a:path>
                            </a:pathLst>
                          </a:custGeom>
                          <a:solidFill>
                            <a:srgbClr val="00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128" name=""/>
                        <p:cNvSpPr/>
                        <p:nvPr/>
                      </p:nvSpPr>
                      <p:spPr>
                        <a:xfrm>
                          <a:off x="5333400" y="5438880"/>
                          <a:ext cx="201240" cy="273240"/>
                        </a:xfrm>
                        <a:prstGeom prst="ellipse">
                          <a:avLst/>
                        </a:prstGeom>
                        <a:solidFill>
                          <a:srgbClr val="00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29" name=""/>
                        <p:cNvSpPr/>
                        <p:nvPr/>
                      </p:nvSpPr>
                      <p:spPr>
                        <a:xfrm>
                          <a:off x="5333400" y="5616000"/>
                          <a:ext cx="135360" cy="184680"/>
                        </a:xfrm>
                        <a:prstGeom prst="ellipse">
                          <a:avLst/>
                        </a:prstGeom>
                        <a:solidFill>
                          <a:srgbClr val="00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130" name=""/>
                        <p:cNvSpPr/>
                        <p:nvPr/>
                      </p:nvSpPr>
                      <p:spPr>
                        <a:xfrm>
                          <a:off x="5377320" y="5360040"/>
                          <a:ext cx="103680" cy="348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6" h="221">
                              <a:moveTo>
                                <a:pt x="58" y="36"/>
                              </a:moveTo>
                              <a:lnTo>
                                <a:pt x="50" y="83"/>
                              </a:lnTo>
                              <a:lnTo>
                                <a:pt x="65" y="190"/>
                              </a:lnTo>
                              <a:lnTo>
                                <a:pt x="38" y="220"/>
                              </a:lnTo>
                              <a:lnTo>
                                <a:pt x="0" y="93"/>
                              </a:lnTo>
                              <a:lnTo>
                                <a:pt x="31" y="0"/>
                              </a:lnTo>
                              <a:lnTo>
                                <a:pt x="58" y="36"/>
                              </a:lnTo>
                            </a:path>
                          </a:pathLst>
                        </a:custGeom>
                        <a:solidFill>
                          <a:srgbClr val="00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131" name=""/>
                      <p:cNvSpPr/>
                      <p:nvPr/>
                    </p:nvSpPr>
                    <p:spPr>
                      <a:xfrm>
                        <a:off x="5333400" y="5793480"/>
                        <a:ext cx="104040" cy="13752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32" name=""/>
                      <p:cNvSpPr/>
                      <p:nvPr/>
                    </p:nvSpPr>
                    <p:spPr>
                      <a:xfrm>
                        <a:off x="5236200" y="5218200"/>
                        <a:ext cx="135000" cy="18324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33" name=""/>
                      <p:cNvSpPr/>
                      <p:nvPr/>
                    </p:nvSpPr>
                    <p:spPr>
                      <a:xfrm>
                        <a:off x="5367960" y="5757120"/>
                        <a:ext cx="72360" cy="50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32">
                            <a:moveTo>
                              <a:pt x="45" y="18"/>
                            </a:moveTo>
                            <a:lnTo>
                              <a:pt x="32" y="31"/>
                            </a:lnTo>
                            <a:lnTo>
                              <a:pt x="0" y="14"/>
                            </a:lnTo>
                            <a:lnTo>
                              <a:pt x="32" y="0"/>
                            </a:lnTo>
                            <a:lnTo>
                              <a:pt x="45" y="18"/>
                            </a:lnTo>
                          </a:path>
                        </a:pathLst>
                      </a:custGeom>
                      <a:solidFill>
                        <a:srgbClr val="00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" bIns="3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134" name=""/>
                    <p:cNvSpPr/>
                    <p:nvPr/>
                  </p:nvSpPr>
                  <p:spPr>
                    <a:xfrm>
                      <a:off x="5357520" y="5315760"/>
                      <a:ext cx="31320" cy="10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64">
                          <a:moveTo>
                            <a:pt x="9" y="0"/>
                          </a:moveTo>
                          <a:lnTo>
                            <a:pt x="19" y="0"/>
                          </a:lnTo>
                          <a:lnTo>
                            <a:pt x="15" y="63"/>
                          </a:lnTo>
                          <a:lnTo>
                            <a:pt x="0" y="5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5" name=""/>
                  <p:cNvGrpSpPr/>
                  <p:nvPr/>
                </p:nvGrpSpPr>
                <p:grpSpPr>
                  <a:xfrm>
                    <a:off x="5099040" y="5080680"/>
                    <a:ext cx="338400" cy="894600"/>
                    <a:chOff x="5099040" y="5080680"/>
                    <a:chExt cx="338400" cy="894600"/>
                  </a:xfrm>
                </p:grpSpPr>
                <p:sp>
                  <p:nvSpPr>
                    <p:cNvPr id="4136" name=""/>
                    <p:cNvSpPr/>
                    <p:nvPr/>
                  </p:nvSpPr>
                  <p:spPr>
                    <a:xfrm>
                      <a:off x="5130720" y="5616720"/>
                      <a:ext cx="272160" cy="35856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37" name=""/>
                    <p:cNvSpPr/>
                    <p:nvPr/>
                  </p:nvSpPr>
                  <p:spPr>
                    <a:xfrm>
                      <a:off x="5165280" y="5349240"/>
                      <a:ext cx="272160" cy="36324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38" name=""/>
                    <p:cNvSpPr/>
                    <p:nvPr/>
                  </p:nvSpPr>
                  <p:spPr>
                    <a:xfrm>
                      <a:off x="5099040" y="5080680"/>
                      <a:ext cx="204840" cy="27792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39" name=""/>
                    <p:cNvSpPr/>
                    <p:nvPr/>
                  </p:nvSpPr>
                  <p:spPr>
                    <a:xfrm>
                      <a:off x="5235840" y="5263920"/>
                      <a:ext cx="100440" cy="13752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0" name=""/>
                    <p:cNvSpPr/>
                    <p:nvPr/>
                  </p:nvSpPr>
                  <p:spPr>
                    <a:xfrm>
                      <a:off x="5165280" y="5224680"/>
                      <a:ext cx="180720" cy="32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203">
                          <a:moveTo>
                            <a:pt x="80" y="8"/>
                          </a:moveTo>
                          <a:lnTo>
                            <a:pt x="79" y="35"/>
                          </a:lnTo>
                          <a:lnTo>
                            <a:pt x="106" y="78"/>
                          </a:lnTo>
                          <a:lnTo>
                            <a:pt x="114" y="82"/>
                          </a:lnTo>
                          <a:lnTo>
                            <a:pt x="73" y="202"/>
                          </a:lnTo>
                          <a:lnTo>
                            <a:pt x="0" y="0"/>
                          </a:lnTo>
                          <a:lnTo>
                            <a:pt x="80" y="8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1" name=""/>
                    <p:cNvSpPr/>
                    <p:nvPr/>
                  </p:nvSpPr>
                  <p:spPr>
                    <a:xfrm>
                      <a:off x="5258160" y="5691240"/>
                      <a:ext cx="113040" cy="7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46">
                          <a:moveTo>
                            <a:pt x="62" y="6"/>
                          </a:moveTo>
                          <a:lnTo>
                            <a:pt x="71" y="21"/>
                          </a:lnTo>
                          <a:lnTo>
                            <a:pt x="0" y="45"/>
                          </a:lnTo>
                          <a:lnTo>
                            <a:pt x="1" y="0"/>
                          </a:lnTo>
                          <a:lnTo>
                            <a:pt x="62" y="6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42" name=""/>
                  <p:cNvSpPr/>
                  <p:nvPr/>
                </p:nvSpPr>
                <p:spPr>
                  <a:xfrm>
                    <a:off x="5099040" y="5884200"/>
                    <a:ext cx="141480" cy="1846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3" name=""/>
                  <p:cNvSpPr/>
                  <p:nvPr/>
                </p:nvSpPr>
                <p:spPr>
                  <a:xfrm>
                    <a:off x="5199840" y="5860440"/>
                    <a:ext cx="72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8">
                        <a:moveTo>
                          <a:pt x="17" y="57"/>
                        </a:moveTo>
                        <a:lnTo>
                          <a:pt x="45" y="38"/>
                        </a:lnTo>
                        <a:lnTo>
                          <a:pt x="13" y="0"/>
                        </a:lnTo>
                        <a:lnTo>
                          <a:pt x="0" y="19"/>
                        </a:lnTo>
                        <a:lnTo>
                          <a:pt x="17" y="57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44" name=""/>
                <p:cNvSpPr/>
                <p:nvPr/>
              </p:nvSpPr>
              <p:spPr>
                <a:xfrm>
                  <a:off x="4774680" y="6082200"/>
                  <a:ext cx="169920" cy="2275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5" name=""/>
                <p:cNvSpPr/>
                <p:nvPr/>
              </p:nvSpPr>
              <p:spPr>
                <a:xfrm>
                  <a:off x="4935240" y="6082200"/>
                  <a:ext cx="136800" cy="18648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6" name=""/>
                <p:cNvSpPr/>
                <p:nvPr/>
              </p:nvSpPr>
              <p:spPr>
                <a:xfrm>
                  <a:off x="5026680" y="6012360"/>
                  <a:ext cx="136800" cy="18648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7" name=""/>
                <p:cNvSpPr/>
                <p:nvPr/>
              </p:nvSpPr>
              <p:spPr>
                <a:xfrm>
                  <a:off x="4890960" y="5976000"/>
                  <a:ext cx="303840" cy="265680"/>
                </a:xfrm>
                <a:custGeom>
                  <a:avLst/>
                  <a:gdLst/>
                  <a:ahLst/>
                  <a:rect l="l" t="t" r="r" b="b"/>
                  <a:pathLst>
                    <a:path w="193" h="168">
                      <a:moveTo>
                        <a:pt x="177" y="48"/>
                      </a:moveTo>
                      <a:lnTo>
                        <a:pt x="161" y="59"/>
                      </a:lnTo>
                      <a:lnTo>
                        <a:pt x="109" y="128"/>
                      </a:lnTo>
                      <a:lnTo>
                        <a:pt x="97" y="156"/>
                      </a:lnTo>
                      <a:lnTo>
                        <a:pt x="40" y="156"/>
                      </a:lnTo>
                      <a:lnTo>
                        <a:pt x="28" y="167"/>
                      </a:lnTo>
                      <a:lnTo>
                        <a:pt x="0" y="118"/>
                      </a:lnTo>
                      <a:lnTo>
                        <a:pt x="128" y="0"/>
                      </a:lnTo>
                      <a:lnTo>
                        <a:pt x="192" y="28"/>
                      </a:lnTo>
                      <a:lnTo>
                        <a:pt x="177" y="48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8" name=""/>
              <p:cNvGrpSpPr/>
              <p:nvPr/>
            </p:nvGrpSpPr>
            <p:grpSpPr>
              <a:xfrm>
                <a:off x="3581280" y="5095080"/>
                <a:ext cx="487800" cy="836640"/>
                <a:chOff x="3581280" y="5095080"/>
                <a:chExt cx="487800" cy="836640"/>
              </a:xfrm>
            </p:grpSpPr>
            <p:grpSp>
              <p:nvGrpSpPr>
                <p:cNvPr id="4149" name=""/>
                <p:cNvGrpSpPr/>
                <p:nvPr/>
              </p:nvGrpSpPr>
              <p:grpSpPr>
                <a:xfrm>
                  <a:off x="3581280" y="5218200"/>
                  <a:ext cx="254520" cy="494640"/>
                  <a:chOff x="3581280" y="5218200"/>
                  <a:chExt cx="254520" cy="494640"/>
                </a:xfrm>
              </p:grpSpPr>
              <p:sp>
                <p:nvSpPr>
                  <p:cNvPr id="4150" name=""/>
                  <p:cNvSpPr/>
                  <p:nvPr/>
                </p:nvSpPr>
                <p:spPr>
                  <a:xfrm>
                    <a:off x="3581280" y="5393880"/>
                    <a:ext cx="103680" cy="1389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1" name=""/>
                  <p:cNvSpPr/>
                  <p:nvPr/>
                </p:nvSpPr>
                <p:spPr>
                  <a:xfrm>
                    <a:off x="3600000" y="5531040"/>
                    <a:ext cx="136440" cy="18180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2" name=""/>
                  <p:cNvSpPr/>
                  <p:nvPr/>
                </p:nvSpPr>
                <p:spPr>
                  <a:xfrm>
                    <a:off x="3634560" y="5218200"/>
                    <a:ext cx="201240" cy="27360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3" name=""/>
                  <p:cNvSpPr/>
                  <p:nvPr/>
                </p:nvSpPr>
                <p:spPr>
                  <a:xfrm>
                    <a:off x="3615840" y="5415840"/>
                    <a:ext cx="7056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90">
                        <a:moveTo>
                          <a:pt x="25" y="0"/>
                        </a:moveTo>
                        <a:lnTo>
                          <a:pt x="0" y="18"/>
                        </a:lnTo>
                        <a:lnTo>
                          <a:pt x="1" y="71"/>
                        </a:lnTo>
                        <a:lnTo>
                          <a:pt x="10" y="89"/>
                        </a:lnTo>
                        <a:lnTo>
                          <a:pt x="44" y="71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54" name=""/>
                <p:cNvGrpSpPr/>
                <p:nvPr/>
              </p:nvGrpSpPr>
              <p:grpSpPr>
                <a:xfrm>
                  <a:off x="3666240" y="5095080"/>
                  <a:ext cx="402840" cy="836640"/>
                  <a:chOff x="3666240" y="5095080"/>
                  <a:chExt cx="402840" cy="836640"/>
                </a:xfrm>
              </p:grpSpPr>
              <p:sp>
                <p:nvSpPr>
                  <p:cNvPr id="4155" name=""/>
                  <p:cNvSpPr/>
                  <p:nvPr/>
                </p:nvSpPr>
                <p:spPr>
                  <a:xfrm>
                    <a:off x="3803040" y="5124960"/>
                    <a:ext cx="266040" cy="36684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6" name=""/>
                  <p:cNvSpPr/>
                  <p:nvPr/>
                </p:nvSpPr>
                <p:spPr>
                  <a:xfrm>
                    <a:off x="3666240" y="5394240"/>
                    <a:ext cx="136800" cy="1846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7" name=""/>
                  <p:cNvSpPr/>
                  <p:nvPr/>
                </p:nvSpPr>
                <p:spPr>
                  <a:xfrm>
                    <a:off x="3699360" y="5531400"/>
                    <a:ext cx="207720" cy="2703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8" name=""/>
                  <p:cNvSpPr/>
                  <p:nvPr/>
                </p:nvSpPr>
                <p:spPr>
                  <a:xfrm>
                    <a:off x="3768480" y="5661360"/>
                    <a:ext cx="204480" cy="2703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9" name=""/>
                  <p:cNvSpPr/>
                  <p:nvPr/>
                </p:nvSpPr>
                <p:spPr>
                  <a:xfrm>
                    <a:off x="3785760" y="5311440"/>
                    <a:ext cx="176400" cy="23220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0" name=""/>
                  <p:cNvSpPr/>
                  <p:nvPr/>
                </p:nvSpPr>
                <p:spPr>
                  <a:xfrm>
                    <a:off x="3947760" y="5095080"/>
                    <a:ext cx="108720" cy="1342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1" name=""/>
                  <p:cNvSpPr/>
                  <p:nvPr/>
                </p:nvSpPr>
                <p:spPr>
                  <a:xfrm>
                    <a:off x="3845520" y="5262840"/>
                    <a:ext cx="12420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71">
                        <a:moveTo>
                          <a:pt x="0" y="19"/>
                        </a:moveTo>
                        <a:lnTo>
                          <a:pt x="10" y="53"/>
                        </a:lnTo>
                        <a:lnTo>
                          <a:pt x="78" y="70"/>
                        </a:lnTo>
                        <a:lnTo>
                          <a:pt x="78" y="24"/>
                        </a:lnTo>
                        <a:lnTo>
                          <a:pt x="3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2" name=""/>
                  <p:cNvSpPr/>
                  <p:nvPr/>
                </p:nvSpPr>
                <p:spPr>
                  <a:xfrm>
                    <a:off x="3710160" y="5487480"/>
                    <a:ext cx="147960" cy="2466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56">
                        <a:moveTo>
                          <a:pt x="58" y="0"/>
                        </a:moveTo>
                        <a:lnTo>
                          <a:pt x="0" y="39"/>
                        </a:lnTo>
                        <a:lnTo>
                          <a:pt x="23" y="70"/>
                        </a:lnTo>
                        <a:lnTo>
                          <a:pt x="27" y="146"/>
                        </a:lnTo>
                        <a:lnTo>
                          <a:pt x="42" y="155"/>
                        </a:lnTo>
                        <a:lnTo>
                          <a:pt x="90" y="107"/>
                        </a:lnTo>
                        <a:lnTo>
                          <a:pt x="93" y="16"/>
                        </a:lnTo>
                        <a:lnTo>
                          <a:pt x="58" y="0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63" name=""/>
                <p:cNvSpPr/>
                <p:nvPr/>
              </p:nvSpPr>
              <p:spPr>
                <a:xfrm>
                  <a:off x="3938760" y="5183640"/>
                  <a:ext cx="73800" cy="105480"/>
                </a:xfrm>
                <a:custGeom>
                  <a:avLst/>
                  <a:gdLst/>
                  <a:ahLst/>
                  <a:rect l="l" t="t" r="r" b="b"/>
                  <a:pathLst>
                    <a:path w="47" h="67">
                      <a:moveTo>
                        <a:pt x="0" y="36"/>
                      </a:moveTo>
                      <a:lnTo>
                        <a:pt x="18" y="0"/>
                      </a:lnTo>
                      <a:lnTo>
                        <a:pt x="46" y="36"/>
                      </a:lnTo>
                      <a:lnTo>
                        <a:pt x="24" y="66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4" name=""/>
              <p:cNvGrpSpPr/>
              <p:nvPr/>
            </p:nvGrpSpPr>
            <p:grpSpPr>
              <a:xfrm>
                <a:off x="3831840" y="4952880"/>
                <a:ext cx="1472040" cy="1428480"/>
                <a:chOff x="3831840" y="4952880"/>
                <a:chExt cx="1472040" cy="1428480"/>
              </a:xfrm>
            </p:grpSpPr>
            <p:sp>
              <p:nvSpPr>
                <p:cNvPr id="4165" name=""/>
                <p:cNvSpPr/>
                <p:nvPr/>
              </p:nvSpPr>
              <p:spPr>
                <a:xfrm>
                  <a:off x="4299840" y="4995360"/>
                  <a:ext cx="336960" cy="45216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6" name=""/>
                <p:cNvSpPr/>
                <p:nvPr/>
              </p:nvSpPr>
              <p:spPr>
                <a:xfrm>
                  <a:off x="4597560" y="4952880"/>
                  <a:ext cx="275760" cy="36216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7" name=""/>
                <p:cNvSpPr/>
                <p:nvPr/>
              </p:nvSpPr>
              <p:spPr>
                <a:xfrm>
                  <a:off x="4863960" y="5349960"/>
                  <a:ext cx="439920" cy="5821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8" name=""/>
                <p:cNvSpPr/>
                <p:nvPr/>
              </p:nvSpPr>
              <p:spPr>
                <a:xfrm>
                  <a:off x="4001760" y="5617080"/>
                  <a:ext cx="499680" cy="6739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9" name=""/>
                <p:cNvSpPr/>
                <p:nvPr/>
              </p:nvSpPr>
              <p:spPr>
                <a:xfrm>
                  <a:off x="4735080" y="5707800"/>
                  <a:ext cx="370080" cy="4932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0" name=""/>
                <p:cNvSpPr/>
                <p:nvPr/>
              </p:nvSpPr>
              <p:spPr>
                <a:xfrm>
                  <a:off x="3867840" y="5753520"/>
                  <a:ext cx="271080" cy="3571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1" name=""/>
                <p:cNvSpPr/>
                <p:nvPr/>
              </p:nvSpPr>
              <p:spPr>
                <a:xfrm>
                  <a:off x="3831840" y="5439960"/>
                  <a:ext cx="270720" cy="36216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2" name=""/>
                <p:cNvSpPr/>
                <p:nvPr/>
              </p:nvSpPr>
              <p:spPr>
                <a:xfrm>
                  <a:off x="3963960" y="5080680"/>
                  <a:ext cx="443160" cy="5886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3" name=""/>
                <p:cNvSpPr/>
                <p:nvPr/>
              </p:nvSpPr>
              <p:spPr>
                <a:xfrm>
                  <a:off x="4367520" y="5794560"/>
                  <a:ext cx="438120" cy="5868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4" name=""/>
                <p:cNvSpPr/>
                <p:nvPr/>
              </p:nvSpPr>
              <p:spPr>
                <a:xfrm>
                  <a:off x="4935240" y="5125320"/>
                  <a:ext cx="332280" cy="4536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5" name=""/>
                <p:cNvSpPr/>
                <p:nvPr/>
              </p:nvSpPr>
              <p:spPr>
                <a:xfrm>
                  <a:off x="4832640" y="4952880"/>
                  <a:ext cx="307080" cy="40644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6" name=""/>
                <p:cNvSpPr/>
                <p:nvPr/>
              </p:nvSpPr>
              <p:spPr>
                <a:xfrm>
                  <a:off x="3949920" y="5063400"/>
                  <a:ext cx="1279440" cy="1132560"/>
                </a:xfrm>
                <a:custGeom>
                  <a:avLst/>
                  <a:gdLst/>
                  <a:ahLst/>
                  <a:rect l="l" t="t" r="r" b="b"/>
                  <a:pathLst>
                    <a:path w="812" h="716">
                      <a:moveTo>
                        <a:pt x="249" y="71"/>
                      </a:moveTo>
                      <a:lnTo>
                        <a:pt x="284" y="20"/>
                      </a:lnTo>
                      <a:lnTo>
                        <a:pt x="435" y="23"/>
                      </a:lnTo>
                      <a:lnTo>
                        <a:pt x="542" y="0"/>
                      </a:lnTo>
                      <a:lnTo>
                        <a:pt x="676" y="85"/>
                      </a:lnTo>
                      <a:lnTo>
                        <a:pt x="746" y="62"/>
                      </a:lnTo>
                      <a:lnTo>
                        <a:pt x="782" y="71"/>
                      </a:lnTo>
                      <a:lnTo>
                        <a:pt x="789" y="283"/>
                      </a:lnTo>
                      <a:lnTo>
                        <a:pt x="811" y="318"/>
                      </a:lnTo>
                      <a:lnTo>
                        <a:pt x="747" y="482"/>
                      </a:lnTo>
                      <a:lnTo>
                        <a:pt x="680" y="369"/>
                      </a:lnTo>
                      <a:lnTo>
                        <a:pt x="661" y="429"/>
                      </a:lnTo>
                      <a:lnTo>
                        <a:pt x="566" y="652"/>
                      </a:lnTo>
                      <a:lnTo>
                        <a:pt x="244" y="715"/>
                      </a:lnTo>
                      <a:lnTo>
                        <a:pt x="79" y="671"/>
                      </a:lnTo>
                      <a:lnTo>
                        <a:pt x="27" y="530"/>
                      </a:lnTo>
                      <a:lnTo>
                        <a:pt x="27" y="387"/>
                      </a:lnTo>
                      <a:lnTo>
                        <a:pt x="0" y="268"/>
                      </a:lnTo>
                      <a:lnTo>
                        <a:pt x="249" y="71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77" name=""/>
            <p:cNvGrpSpPr/>
            <p:nvPr/>
          </p:nvGrpSpPr>
          <p:grpSpPr>
            <a:xfrm>
              <a:off x="3899520" y="5141160"/>
              <a:ext cx="1265760" cy="865080"/>
              <a:chOff x="3899520" y="5141160"/>
              <a:chExt cx="1265760" cy="865080"/>
            </a:xfrm>
          </p:grpSpPr>
          <p:sp>
            <p:nvSpPr>
              <p:cNvPr id="4178" name=""/>
              <p:cNvSpPr/>
              <p:nvPr/>
            </p:nvSpPr>
            <p:spPr>
              <a:xfrm>
                <a:off x="3899520" y="5141160"/>
                <a:ext cx="1265760" cy="5378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3899520" y="5469840"/>
                <a:ext cx="1233720" cy="5364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80" name=""/>
          <p:cNvGrpSpPr/>
          <p:nvPr/>
        </p:nvGrpSpPr>
        <p:grpSpPr>
          <a:xfrm>
            <a:off x="5029200" y="5181480"/>
            <a:ext cx="511200" cy="330480"/>
            <a:chOff x="5029200" y="5181480"/>
            <a:chExt cx="511200" cy="330480"/>
          </a:xfrm>
        </p:grpSpPr>
        <p:grpSp>
          <p:nvGrpSpPr>
            <p:cNvPr id="4181" name=""/>
            <p:cNvGrpSpPr/>
            <p:nvPr/>
          </p:nvGrpSpPr>
          <p:grpSpPr>
            <a:xfrm>
              <a:off x="5029920" y="5223960"/>
              <a:ext cx="322560" cy="288000"/>
              <a:chOff x="5029920" y="5223960"/>
              <a:chExt cx="322560" cy="288000"/>
            </a:xfrm>
          </p:grpSpPr>
          <p:sp>
            <p:nvSpPr>
              <p:cNvPr id="4182" name=""/>
              <p:cNvSpPr/>
              <p:nvPr/>
            </p:nvSpPr>
            <p:spPr>
              <a:xfrm>
                <a:off x="5029920" y="5223960"/>
                <a:ext cx="32256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5029920" y="5223960"/>
                <a:ext cx="32256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84" name=""/>
            <p:cNvGrpSpPr/>
            <p:nvPr/>
          </p:nvGrpSpPr>
          <p:grpSpPr>
            <a:xfrm>
              <a:off x="5352480" y="5233680"/>
              <a:ext cx="186120" cy="278280"/>
              <a:chOff x="5352480" y="5233680"/>
              <a:chExt cx="186120" cy="278280"/>
            </a:xfrm>
          </p:grpSpPr>
          <p:sp>
            <p:nvSpPr>
              <p:cNvPr id="4185" name=""/>
              <p:cNvSpPr/>
              <p:nvPr/>
            </p:nvSpPr>
            <p:spPr>
              <a:xfrm>
                <a:off x="5352480" y="5233680"/>
                <a:ext cx="18612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5352480" y="5233680"/>
                <a:ext cx="18612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87" name=""/>
            <p:cNvGrpSpPr/>
            <p:nvPr/>
          </p:nvGrpSpPr>
          <p:grpSpPr>
            <a:xfrm>
              <a:off x="5029200" y="5181480"/>
              <a:ext cx="511200" cy="115920"/>
              <a:chOff x="5029200" y="5181480"/>
              <a:chExt cx="511200" cy="115920"/>
            </a:xfrm>
          </p:grpSpPr>
          <p:sp>
            <p:nvSpPr>
              <p:cNvPr id="4188" name=""/>
              <p:cNvSpPr/>
              <p:nvPr/>
            </p:nvSpPr>
            <p:spPr>
              <a:xfrm>
                <a:off x="5029200" y="518148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5029200" y="518148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90" name=""/>
            <p:cNvSpPr/>
            <p:nvPr/>
          </p:nvSpPr>
          <p:spPr>
            <a:xfrm>
              <a:off x="5049360" y="5249880"/>
              <a:ext cx="272520" cy="2329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5049360" y="531216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5049360" y="5249880"/>
              <a:ext cx="271080" cy="1522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93" name=""/>
            <p:cNvGrpSpPr/>
            <p:nvPr/>
          </p:nvGrpSpPr>
          <p:grpSpPr>
            <a:xfrm>
              <a:off x="5068440" y="5272560"/>
              <a:ext cx="132840" cy="56160"/>
              <a:chOff x="5068440" y="5272560"/>
              <a:chExt cx="132840" cy="56160"/>
            </a:xfrm>
          </p:grpSpPr>
          <p:sp>
            <p:nvSpPr>
              <p:cNvPr id="4194" name=""/>
              <p:cNvSpPr/>
              <p:nvPr/>
            </p:nvSpPr>
            <p:spPr>
              <a:xfrm>
                <a:off x="5068440" y="527256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5068440" y="527256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96" name=""/>
            <p:cNvGrpSpPr/>
            <p:nvPr/>
          </p:nvGrpSpPr>
          <p:grpSpPr>
            <a:xfrm>
              <a:off x="5067000" y="5332680"/>
              <a:ext cx="83160" cy="84240"/>
              <a:chOff x="5067000" y="5332680"/>
              <a:chExt cx="83160" cy="84240"/>
            </a:xfrm>
          </p:grpSpPr>
          <p:sp>
            <p:nvSpPr>
              <p:cNvPr id="4197" name=""/>
              <p:cNvSpPr/>
              <p:nvPr/>
            </p:nvSpPr>
            <p:spPr>
              <a:xfrm>
                <a:off x="5067000" y="5332680"/>
                <a:ext cx="8316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5067000" y="5332680"/>
                <a:ext cx="8316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99" name=""/>
          <p:cNvGrpSpPr/>
          <p:nvPr/>
        </p:nvGrpSpPr>
        <p:grpSpPr>
          <a:xfrm>
            <a:off x="3886200" y="5638680"/>
            <a:ext cx="507960" cy="330480"/>
            <a:chOff x="3886200" y="5638680"/>
            <a:chExt cx="507960" cy="330480"/>
          </a:xfrm>
        </p:grpSpPr>
        <p:grpSp>
          <p:nvGrpSpPr>
            <p:cNvPr id="4200" name=""/>
            <p:cNvGrpSpPr/>
            <p:nvPr/>
          </p:nvGrpSpPr>
          <p:grpSpPr>
            <a:xfrm>
              <a:off x="3886920" y="5681160"/>
              <a:ext cx="320400" cy="288000"/>
              <a:chOff x="3886920" y="5681160"/>
              <a:chExt cx="320400" cy="288000"/>
            </a:xfrm>
          </p:grpSpPr>
          <p:sp>
            <p:nvSpPr>
              <p:cNvPr id="4201" name=""/>
              <p:cNvSpPr/>
              <p:nvPr/>
            </p:nvSpPr>
            <p:spPr>
              <a:xfrm>
                <a:off x="3886920" y="5681160"/>
                <a:ext cx="32040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3886920" y="5681160"/>
                <a:ext cx="32040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03" name=""/>
            <p:cNvGrpSpPr/>
            <p:nvPr/>
          </p:nvGrpSpPr>
          <p:grpSpPr>
            <a:xfrm>
              <a:off x="4207680" y="5690880"/>
              <a:ext cx="184680" cy="278280"/>
              <a:chOff x="4207680" y="5690880"/>
              <a:chExt cx="184680" cy="278280"/>
            </a:xfrm>
          </p:grpSpPr>
          <p:sp>
            <p:nvSpPr>
              <p:cNvPr id="4204" name=""/>
              <p:cNvSpPr/>
              <p:nvPr/>
            </p:nvSpPr>
            <p:spPr>
              <a:xfrm>
                <a:off x="4207680" y="5690880"/>
                <a:ext cx="18468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4207680" y="5690880"/>
                <a:ext cx="18468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06" name=""/>
            <p:cNvGrpSpPr/>
            <p:nvPr/>
          </p:nvGrpSpPr>
          <p:grpSpPr>
            <a:xfrm>
              <a:off x="3886200" y="5638680"/>
              <a:ext cx="507960" cy="115920"/>
              <a:chOff x="3886200" y="5638680"/>
              <a:chExt cx="507960" cy="115920"/>
            </a:xfrm>
          </p:grpSpPr>
          <p:sp>
            <p:nvSpPr>
              <p:cNvPr id="4207" name=""/>
              <p:cNvSpPr/>
              <p:nvPr/>
            </p:nvSpPr>
            <p:spPr>
              <a:xfrm>
                <a:off x="3886200" y="563868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3886200" y="563868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09" name=""/>
            <p:cNvSpPr/>
            <p:nvPr/>
          </p:nvSpPr>
          <p:spPr>
            <a:xfrm>
              <a:off x="3906360" y="5707080"/>
              <a:ext cx="270720" cy="2329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3906360" y="5769360"/>
              <a:ext cx="2707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3906360" y="5707080"/>
              <a:ext cx="269280" cy="1522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12" name=""/>
            <p:cNvGrpSpPr/>
            <p:nvPr/>
          </p:nvGrpSpPr>
          <p:grpSpPr>
            <a:xfrm>
              <a:off x="3925080" y="5729760"/>
              <a:ext cx="132120" cy="56160"/>
              <a:chOff x="3925080" y="5729760"/>
              <a:chExt cx="132120" cy="56160"/>
            </a:xfrm>
          </p:grpSpPr>
          <p:sp>
            <p:nvSpPr>
              <p:cNvPr id="4213" name=""/>
              <p:cNvSpPr/>
              <p:nvPr/>
            </p:nvSpPr>
            <p:spPr>
              <a:xfrm>
                <a:off x="3925080" y="572976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3925080" y="572976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15" name=""/>
            <p:cNvGrpSpPr/>
            <p:nvPr/>
          </p:nvGrpSpPr>
          <p:grpSpPr>
            <a:xfrm>
              <a:off x="3923640" y="5789880"/>
              <a:ext cx="82440" cy="84240"/>
              <a:chOff x="3923640" y="5789880"/>
              <a:chExt cx="82440" cy="84240"/>
            </a:xfrm>
          </p:grpSpPr>
          <p:sp>
            <p:nvSpPr>
              <p:cNvPr id="4216" name=""/>
              <p:cNvSpPr/>
              <p:nvPr/>
            </p:nvSpPr>
            <p:spPr>
              <a:xfrm>
                <a:off x="3923640" y="5789880"/>
                <a:ext cx="8244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3923640" y="5789880"/>
                <a:ext cx="8244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18" name=""/>
          <p:cNvGrpSpPr/>
          <p:nvPr/>
        </p:nvGrpSpPr>
        <p:grpSpPr>
          <a:xfrm>
            <a:off x="4419720" y="5334120"/>
            <a:ext cx="511200" cy="330120"/>
            <a:chOff x="4419720" y="5334120"/>
            <a:chExt cx="511200" cy="330120"/>
          </a:xfrm>
        </p:grpSpPr>
        <p:grpSp>
          <p:nvGrpSpPr>
            <p:cNvPr id="4219" name=""/>
            <p:cNvGrpSpPr/>
            <p:nvPr/>
          </p:nvGrpSpPr>
          <p:grpSpPr>
            <a:xfrm>
              <a:off x="4420440" y="5376600"/>
              <a:ext cx="322560" cy="287640"/>
              <a:chOff x="4420440" y="5376600"/>
              <a:chExt cx="322560" cy="287640"/>
            </a:xfrm>
          </p:grpSpPr>
          <p:sp>
            <p:nvSpPr>
              <p:cNvPr id="4220" name=""/>
              <p:cNvSpPr/>
              <p:nvPr/>
            </p:nvSpPr>
            <p:spPr>
              <a:xfrm>
                <a:off x="4420440" y="53766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4420440" y="53766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22" name=""/>
            <p:cNvGrpSpPr/>
            <p:nvPr/>
          </p:nvGrpSpPr>
          <p:grpSpPr>
            <a:xfrm>
              <a:off x="4743000" y="5386320"/>
              <a:ext cx="186120" cy="277920"/>
              <a:chOff x="4743000" y="5386320"/>
              <a:chExt cx="186120" cy="277920"/>
            </a:xfrm>
          </p:grpSpPr>
          <p:sp>
            <p:nvSpPr>
              <p:cNvPr id="4223" name=""/>
              <p:cNvSpPr/>
              <p:nvPr/>
            </p:nvSpPr>
            <p:spPr>
              <a:xfrm>
                <a:off x="4743000" y="53863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4743000" y="53863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25" name=""/>
            <p:cNvGrpSpPr/>
            <p:nvPr/>
          </p:nvGrpSpPr>
          <p:grpSpPr>
            <a:xfrm>
              <a:off x="4419720" y="5334120"/>
              <a:ext cx="511200" cy="115920"/>
              <a:chOff x="4419720" y="5334120"/>
              <a:chExt cx="511200" cy="115920"/>
            </a:xfrm>
          </p:grpSpPr>
          <p:sp>
            <p:nvSpPr>
              <p:cNvPr id="4226" name=""/>
              <p:cNvSpPr/>
              <p:nvPr/>
            </p:nvSpPr>
            <p:spPr>
              <a:xfrm>
                <a:off x="4419720" y="53341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4419720" y="53341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28" name=""/>
            <p:cNvSpPr/>
            <p:nvPr/>
          </p:nvSpPr>
          <p:spPr>
            <a:xfrm>
              <a:off x="4439880" y="540252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4439880" y="546444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4439880" y="540252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31" name=""/>
            <p:cNvGrpSpPr/>
            <p:nvPr/>
          </p:nvGrpSpPr>
          <p:grpSpPr>
            <a:xfrm>
              <a:off x="4458960" y="5425200"/>
              <a:ext cx="132840" cy="56160"/>
              <a:chOff x="4458960" y="5425200"/>
              <a:chExt cx="132840" cy="56160"/>
            </a:xfrm>
          </p:grpSpPr>
          <p:sp>
            <p:nvSpPr>
              <p:cNvPr id="4232" name=""/>
              <p:cNvSpPr/>
              <p:nvPr/>
            </p:nvSpPr>
            <p:spPr>
              <a:xfrm>
                <a:off x="4458960" y="54252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4458960" y="54252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34" name=""/>
            <p:cNvGrpSpPr/>
            <p:nvPr/>
          </p:nvGrpSpPr>
          <p:grpSpPr>
            <a:xfrm>
              <a:off x="4457520" y="5485320"/>
              <a:ext cx="83160" cy="83880"/>
              <a:chOff x="4457520" y="5485320"/>
              <a:chExt cx="83160" cy="83880"/>
            </a:xfrm>
          </p:grpSpPr>
          <p:sp>
            <p:nvSpPr>
              <p:cNvPr id="4235" name=""/>
              <p:cNvSpPr/>
              <p:nvPr/>
            </p:nvSpPr>
            <p:spPr>
              <a:xfrm>
                <a:off x="4457520" y="54853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4457520" y="54853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37" name=""/>
          <p:cNvGrpSpPr/>
          <p:nvPr/>
        </p:nvGrpSpPr>
        <p:grpSpPr>
          <a:xfrm>
            <a:off x="3657600" y="5105520"/>
            <a:ext cx="511200" cy="330120"/>
            <a:chOff x="3657600" y="5105520"/>
            <a:chExt cx="511200" cy="330120"/>
          </a:xfrm>
        </p:grpSpPr>
        <p:grpSp>
          <p:nvGrpSpPr>
            <p:cNvPr id="4238" name=""/>
            <p:cNvGrpSpPr/>
            <p:nvPr/>
          </p:nvGrpSpPr>
          <p:grpSpPr>
            <a:xfrm>
              <a:off x="3658320" y="5148000"/>
              <a:ext cx="322560" cy="287640"/>
              <a:chOff x="3658320" y="5148000"/>
              <a:chExt cx="322560" cy="287640"/>
            </a:xfrm>
          </p:grpSpPr>
          <p:sp>
            <p:nvSpPr>
              <p:cNvPr id="4239" name=""/>
              <p:cNvSpPr/>
              <p:nvPr/>
            </p:nvSpPr>
            <p:spPr>
              <a:xfrm>
                <a:off x="3658320" y="51480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3658320" y="51480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41" name=""/>
            <p:cNvGrpSpPr/>
            <p:nvPr/>
          </p:nvGrpSpPr>
          <p:grpSpPr>
            <a:xfrm>
              <a:off x="3980880" y="5157720"/>
              <a:ext cx="186120" cy="277920"/>
              <a:chOff x="3980880" y="5157720"/>
              <a:chExt cx="186120" cy="277920"/>
            </a:xfrm>
          </p:grpSpPr>
          <p:sp>
            <p:nvSpPr>
              <p:cNvPr id="4242" name=""/>
              <p:cNvSpPr/>
              <p:nvPr/>
            </p:nvSpPr>
            <p:spPr>
              <a:xfrm>
                <a:off x="3980880" y="51577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3980880" y="51577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44" name=""/>
            <p:cNvGrpSpPr/>
            <p:nvPr/>
          </p:nvGrpSpPr>
          <p:grpSpPr>
            <a:xfrm>
              <a:off x="3657600" y="5105520"/>
              <a:ext cx="511200" cy="115920"/>
              <a:chOff x="3657600" y="5105520"/>
              <a:chExt cx="511200" cy="115920"/>
            </a:xfrm>
          </p:grpSpPr>
          <p:sp>
            <p:nvSpPr>
              <p:cNvPr id="4245" name=""/>
              <p:cNvSpPr/>
              <p:nvPr/>
            </p:nvSpPr>
            <p:spPr>
              <a:xfrm>
                <a:off x="3657600" y="51055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3657600" y="51055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47" name=""/>
            <p:cNvSpPr/>
            <p:nvPr/>
          </p:nvSpPr>
          <p:spPr>
            <a:xfrm>
              <a:off x="3677760" y="517392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3677760" y="523584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3677760" y="517392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50" name=""/>
            <p:cNvGrpSpPr/>
            <p:nvPr/>
          </p:nvGrpSpPr>
          <p:grpSpPr>
            <a:xfrm>
              <a:off x="3696840" y="5196600"/>
              <a:ext cx="132840" cy="56160"/>
              <a:chOff x="3696840" y="5196600"/>
              <a:chExt cx="132840" cy="56160"/>
            </a:xfrm>
          </p:grpSpPr>
          <p:sp>
            <p:nvSpPr>
              <p:cNvPr id="4251" name=""/>
              <p:cNvSpPr/>
              <p:nvPr/>
            </p:nvSpPr>
            <p:spPr>
              <a:xfrm>
                <a:off x="3696840" y="51966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3696840" y="51966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53" name=""/>
            <p:cNvGrpSpPr/>
            <p:nvPr/>
          </p:nvGrpSpPr>
          <p:grpSpPr>
            <a:xfrm>
              <a:off x="3695400" y="5256720"/>
              <a:ext cx="83160" cy="83880"/>
              <a:chOff x="3695400" y="5256720"/>
              <a:chExt cx="83160" cy="83880"/>
            </a:xfrm>
          </p:grpSpPr>
          <p:sp>
            <p:nvSpPr>
              <p:cNvPr id="4254" name=""/>
              <p:cNvSpPr/>
              <p:nvPr/>
            </p:nvSpPr>
            <p:spPr>
              <a:xfrm>
                <a:off x="3695400" y="52567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3695400" y="52567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56" name=""/>
          <p:cNvGrpSpPr/>
          <p:nvPr/>
        </p:nvGrpSpPr>
        <p:grpSpPr>
          <a:xfrm>
            <a:off x="4572000" y="5791320"/>
            <a:ext cx="511200" cy="330120"/>
            <a:chOff x="4572000" y="5791320"/>
            <a:chExt cx="511200" cy="330120"/>
          </a:xfrm>
        </p:grpSpPr>
        <p:grpSp>
          <p:nvGrpSpPr>
            <p:cNvPr id="4257" name=""/>
            <p:cNvGrpSpPr/>
            <p:nvPr/>
          </p:nvGrpSpPr>
          <p:grpSpPr>
            <a:xfrm>
              <a:off x="4572720" y="5833800"/>
              <a:ext cx="322560" cy="287640"/>
              <a:chOff x="4572720" y="5833800"/>
              <a:chExt cx="322560" cy="287640"/>
            </a:xfrm>
          </p:grpSpPr>
          <p:sp>
            <p:nvSpPr>
              <p:cNvPr id="4258" name=""/>
              <p:cNvSpPr/>
              <p:nvPr/>
            </p:nvSpPr>
            <p:spPr>
              <a:xfrm>
                <a:off x="4572720" y="58338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4572720" y="58338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60" name=""/>
            <p:cNvGrpSpPr/>
            <p:nvPr/>
          </p:nvGrpSpPr>
          <p:grpSpPr>
            <a:xfrm>
              <a:off x="4895280" y="5843520"/>
              <a:ext cx="186120" cy="277920"/>
              <a:chOff x="4895280" y="5843520"/>
              <a:chExt cx="186120" cy="277920"/>
            </a:xfrm>
          </p:grpSpPr>
          <p:sp>
            <p:nvSpPr>
              <p:cNvPr id="4261" name=""/>
              <p:cNvSpPr/>
              <p:nvPr/>
            </p:nvSpPr>
            <p:spPr>
              <a:xfrm>
                <a:off x="4895280" y="58435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4895280" y="58435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63" name=""/>
            <p:cNvGrpSpPr/>
            <p:nvPr/>
          </p:nvGrpSpPr>
          <p:grpSpPr>
            <a:xfrm>
              <a:off x="4572000" y="5791320"/>
              <a:ext cx="511200" cy="115920"/>
              <a:chOff x="4572000" y="5791320"/>
              <a:chExt cx="511200" cy="115920"/>
            </a:xfrm>
          </p:grpSpPr>
          <p:sp>
            <p:nvSpPr>
              <p:cNvPr id="4264" name=""/>
              <p:cNvSpPr/>
              <p:nvPr/>
            </p:nvSpPr>
            <p:spPr>
              <a:xfrm>
                <a:off x="4572000" y="57913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4572000" y="57913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66" name=""/>
            <p:cNvSpPr/>
            <p:nvPr/>
          </p:nvSpPr>
          <p:spPr>
            <a:xfrm>
              <a:off x="4592160" y="585972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4592160" y="592164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4592160" y="585972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69" name=""/>
            <p:cNvGrpSpPr/>
            <p:nvPr/>
          </p:nvGrpSpPr>
          <p:grpSpPr>
            <a:xfrm>
              <a:off x="4611240" y="5882400"/>
              <a:ext cx="132840" cy="56160"/>
              <a:chOff x="4611240" y="5882400"/>
              <a:chExt cx="132840" cy="56160"/>
            </a:xfrm>
          </p:grpSpPr>
          <p:sp>
            <p:nvSpPr>
              <p:cNvPr id="4270" name=""/>
              <p:cNvSpPr/>
              <p:nvPr/>
            </p:nvSpPr>
            <p:spPr>
              <a:xfrm>
                <a:off x="4611240" y="58824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4611240" y="58824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72" name=""/>
            <p:cNvGrpSpPr/>
            <p:nvPr/>
          </p:nvGrpSpPr>
          <p:grpSpPr>
            <a:xfrm>
              <a:off x="4609800" y="5942520"/>
              <a:ext cx="83160" cy="83880"/>
              <a:chOff x="4609800" y="5942520"/>
              <a:chExt cx="83160" cy="83880"/>
            </a:xfrm>
          </p:grpSpPr>
          <p:sp>
            <p:nvSpPr>
              <p:cNvPr id="4273" name=""/>
              <p:cNvSpPr/>
              <p:nvPr/>
            </p:nvSpPr>
            <p:spPr>
              <a:xfrm>
                <a:off x="4609800" y="59425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4609800" y="59425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5" name=""/>
          <p:cNvSpPr/>
          <p:nvPr/>
        </p:nvSpPr>
        <p:spPr>
          <a:xfrm flipH="1" flipV="1">
            <a:off x="6019920" y="4250880"/>
            <a:ext cx="218880" cy="352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6" name=""/>
          <p:cNvSpPr/>
          <p:nvPr/>
        </p:nvSpPr>
        <p:spPr>
          <a:xfrm flipV="1">
            <a:off x="7837560" y="2684520"/>
            <a:ext cx="274680" cy="511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7" name=""/>
          <p:cNvSpPr/>
          <p:nvPr/>
        </p:nvSpPr>
        <p:spPr>
          <a:xfrm flipV="1">
            <a:off x="7966080" y="3115800"/>
            <a:ext cx="415800" cy="187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8" name=""/>
          <p:cNvSpPr/>
          <p:nvPr/>
        </p:nvSpPr>
        <p:spPr>
          <a:xfrm>
            <a:off x="7940520" y="3425760"/>
            <a:ext cx="490680" cy="214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9" name=""/>
          <p:cNvSpPr/>
          <p:nvPr/>
        </p:nvSpPr>
        <p:spPr>
          <a:xfrm flipV="1">
            <a:off x="7238880" y="3580920"/>
            <a:ext cx="255600" cy="335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0" name=""/>
          <p:cNvSpPr/>
          <p:nvPr/>
        </p:nvSpPr>
        <p:spPr>
          <a:xfrm flipH="1" flipV="1">
            <a:off x="7043400" y="349704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1" name=""/>
          <p:cNvSpPr/>
          <p:nvPr/>
        </p:nvSpPr>
        <p:spPr>
          <a:xfrm flipH="1" flipV="1">
            <a:off x="6721200" y="3582720"/>
            <a:ext cx="127080" cy="36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82" name=""/>
          <p:cNvGrpSpPr/>
          <p:nvPr/>
        </p:nvGrpSpPr>
        <p:grpSpPr>
          <a:xfrm>
            <a:off x="8272440" y="3409920"/>
            <a:ext cx="512640" cy="546120"/>
            <a:chOff x="8272440" y="3409920"/>
            <a:chExt cx="512640" cy="546120"/>
          </a:xfrm>
        </p:grpSpPr>
        <p:grpSp>
          <p:nvGrpSpPr>
            <p:cNvPr id="4283" name=""/>
            <p:cNvGrpSpPr/>
            <p:nvPr/>
          </p:nvGrpSpPr>
          <p:grpSpPr>
            <a:xfrm>
              <a:off x="8609040" y="3762360"/>
              <a:ext cx="176040" cy="193680"/>
              <a:chOff x="8609040" y="3762360"/>
              <a:chExt cx="176040" cy="193680"/>
            </a:xfrm>
          </p:grpSpPr>
          <p:sp>
            <p:nvSpPr>
              <p:cNvPr id="4284" name=""/>
              <p:cNvSpPr/>
              <p:nvPr/>
            </p:nvSpPr>
            <p:spPr>
              <a:xfrm flipH="1">
                <a:off x="8608680" y="3762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 flipH="1">
                <a:off x="8608680" y="3762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86" name=""/>
            <p:cNvGrpSpPr/>
            <p:nvPr/>
          </p:nvGrpSpPr>
          <p:grpSpPr>
            <a:xfrm>
              <a:off x="8272440" y="3690720"/>
              <a:ext cx="512640" cy="176400"/>
              <a:chOff x="8272440" y="3690720"/>
              <a:chExt cx="512640" cy="176400"/>
            </a:xfrm>
          </p:grpSpPr>
          <p:sp>
            <p:nvSpPr>
              <p:cNvPr id="4287" name=""/>
              <p:cNvSpPr/>
              <p:nvPr/>
            </p:nvSpPr>
            <p:spPr>
              <a:xfrm flipH="1">
                <a:off x="8272440" y="369072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 flipH="1">
                <a:off x="8272440" y="369072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89" name=""/>
            <p:cNvGrpSpPr/>
            <p:nvPr/>
          </p:nvGrpSpPr>
          <p:grpSpPr>
            <a:xfrm>
              <a:off x="8272440" y="3778920"/>
              <a:ext cx="336600" cy="176760"/>
              <a:chOff x="8272440" y="3778920"/>
              <a:chExt cx="336600" cy="176760"/>
            </a:xfrm>
          </p:grpSpPr>
          <p:sp>
            <p:nvSpPr>
              <p:cNvPr id="4290" name=""/>
              <p:cNvSpPr/>
              <p:nvPr/>
            </p:nvSpPr>
            <p:spPr>
              <a:xfrm flipH="1">
                <a:off x="8272080" y="377892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 flipH="1">
                <a:off x="8272080" y="377892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92" name=""/>
            <p:cNvSpPr/>
            <p:nvPr/>
          </p:nvSpPr>
          <p:spPr>
            <a:xfrm flipH="1">
              <a:off x="8525520" y="386244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93" name=""/>
            <p:cNvGrpSpPr/>
            <p:nvPr/>
          </p:nvGrpSpPr>
          <p:grpSpPr>
            <a:xfrm>
              <a:off x="8288640" y="3799800"/>
              <a:ext cx="131760" cy="89640"/>
              <a:chOff x="8288640" y="3799800"/>
              <a:chExt cx="131760" cy="89640"/>
            </a:xfrm>
          </p:grpSpPr>
          <p:grpSp>
            <p:nvGrpSpPr>
              <p:cNvPr id="4294" name=""/>
              <p:cNvGrpSpPr/>
              <p:nvPr/>
            </p:nvGrpSpPr>
            <p:grpSpPr>
              <a:xfrm>
                <a:off x="8288640" y="3799800"/>
                <a:ext cx="131760" cy="89640"/>
                <a:chOff x="8288640" y="3799800"/>
                <a:chExt cx="131760" cy="89640"/>
              </a:xfrm>
            </p:grpSpPr>
            <p:sp>
              <p:nvSpPr>
                <p:cNvPr id="4295" name=""/>
                <p:cNvSpPr/>
                <p:nvPr/>
              </p:nvSpPr>
              <p:spPr>
                <a:xfrm flipH="1">
                  <a:off x="8288640" y="3799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6" name=""/>
                <p:cNvSpPr/>
                <p:nvPr/>
              </p:nvSpPr>
              <p:spPr>
                <a:xfrm flipH="1">
                  <a:off x="8288640" y="3799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97" name=""/>
              <p:cNvSpPr/>
              <p:nvPr/>
            </p:nvSpPr>
            <p:spPr>
              <a:xfrm>
                <a:off x="8288640" y="383076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 flipH="1">
                <a:off x="8327160" y="384696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 flipH="1">
                <a:off x="8327160" y="382068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00" name=""/>
            <p:cNvGrpSpPr/>
            <p:nvPr/>
          </p:nvGrpSpPr>
          <p:grpSpPr>
            <a:xfrm>
              <a:off x="8456040" y="3409920"/>
              <a:ext cx="308520" cy="301680"/>
              <a:chOff x="8456040" y="3409920"/>
              <a:chExt cx="308520" cy="301680"/>
            </a:xfrm>
          </p:grpSpPr>
          <p:sp>
            <p:nvSpPr>
              <p:cNvPr id="4301" name=""/>
              <p:cNvSpPr/>
              <p:nvPr/>
            </p:nvSpPr>
            <p:spPr>
              <a:xfrm flipH="1">
                <a:off x="8455680" y="340992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 flipH="1">
                <a:off x="8455680" y="340992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03" name=""/>
            <p:cNvGrpSpPr/>
            <p:nvPr/>
          </p:nvGrpSpPr>
          <p:grpSpPr>
            <a:xfrm>
              <a:off x="8608320" y="3488760"/>
              <a:ext cx="100440" cy="331200"/>
              <a:chOff x="8608320" y="3488760"/>
              <a:chExt cx="100440" cy="331200"/>
            </a:xfrm>
          </p:grpSpPr>
          <p:sp>
            <p:nvSpPr>
              <p:cNvPr id="4304" name=""/>
              <p:cNvSpPr/>
              <p:nvPr/>
            </p:nvSpPr>
            <p:spPr>
              <a:xfrm flipH="1">
                <a:off x="8607960" y="3488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 flipH="1">
                <a:off x="8607960" y="3488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06" name=""/>
            <p:cNvGrpSpPr/>
            <p:nvPr/>
          </p:nvGrpSpPr>
          <p:grpSpPr>
            <a:xfrm>
              <a:off x="8291520" y="3420720"/>
              <a:ext cx="417240" cy="122400"/>
              <a:chOff x="8291520" y="3420720"/>
              <a:chExt cx="417240" cy="122400"/>
            </a:xfrm>
          </p:grpSpPr>
          <p:sp>
            <p:nvSpPr>
              <p:cNvPr id="4307" name=""/>
              <p:cNvSpPr/>
              <p:nvPr/>
            </p:nvSpPr>
            <p:spPr>
              <a:xfrm flipH="1">
                <a:off x="8291160" y="342072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 flipH="1">
                <a:off x="8291160" y="342072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09" name=""/>
            <p:cNvGrpSpPr/>
            <p:nvPr/>
          </p:nvGrpSpPr>
          <p:grpSpPr>
            <a:xfrm>
              <a:off x="8353800" y="3755160"/>
              <a:ext cx="220320" cy="66960"/>
              <a:chOff x="8353800" y="3755160"/>
              <a:chExt cx="220320" cy="66960"/>
            </a:xfrm>
          </p:grpSpPr>
          <p:sp>
            <p:nvSpPr>
              <p:cNvPr id="4310" name=""/>
              <p:cNvSpPr/>
              <p:nvPr/>
            </p:nvSpPr>
            <p:spPr>
              <a:xfrm flipH="1">
                <a:off x="8353800" y="3755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 flipH="1">
                <a:off x="8353800" y="3755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12" name=""/>
            <p:cNvGrpSpPr/>
            <p:nvPr/>
          </p:nvGrpSpPr>
          <p:grpSpPr>
            <a:xfrm>
              <a:off x="8291880" y="3467520"/>
              <a:ext cx="316440" cy="353160"/>
              <a:chOff x="8291880" y="3467520"/>
              <a:chExt cx="316440" cy="353160"/>
            </a:xfrm>
          </p:grpSpPr>
          <p:sp>
            <p:nvSpPr>
              <p:cNvPr id="4313" name=""/>
              <p:cNvSpPr/>
              <p:nvPr/>
            </p:nvSpPr>
            <p:spPr>
              <a:xfrm flipH="1">
                <a:off x="8291520" y="346752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 flipH="1">
                <a:off x="8291520" y="346752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15" name=""/>
            <p:cNvGrpSpPr/>
            <p:nvPr/>
          </p:nvGrpSpPr>
          <p:grpSpPr>
            <a:xfrm>
              <a:off x="8331480" y="3507480"/>
              <a:ext cx="230760" cy="257400"/>
              <a:chOff x="8331480" y="3507480"/>
              <a:chExt cx="230760" cy="257400"/>
            </a:xfrm>
          </p:grpSpPr>
          <p:sp>
            <p:nvSpPr>
              <p:cNvPr id="4316" name=""/>
              <p:cNvSpPr/>
              <p:nvPr/>
            </p:nvSpPr>
            <p:spPr>
              <a:xfrm flipH="1">
                <a:off x="8331120" y="3507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 flipH="1">
                <a:off x="8331120" y="3507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18" name=""/>
            <p:cNvSpPr/>
            <p:nvPr/>
          </p:nvSpPr>
          <p:spPr>
            <a:xfrm flipH="1">
              <a:off x="8349480" y="3525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 flipH="1">
              <a:off x="8349480" y="3525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 flipH="1">
              <a:off x="8511120" y="358200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 flipH="1">
              <a:off x="8379000" y="356328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22" name=""/>
          <p:cNvGrpSpPr/>
          <p:nvPr/>
        </p:nvGrpSpPr>
        <p:grpSpPr>
          <a:xfrm>
            <a:off x="8326440" y="2735280"/>
            <a:ext cx="512640" cy="546120"/>
            <a:chOff x="8326440" y="2735280"/>
            <a:chExt cx="512640" cy="546120"/>
          </a:xfrm>
        </p:grpSpPr>
        <p:grpSp>
          <p:nvGrpSpPr>
            <p:cNvPr id="4323" name=""/>
            <p:cNvGrpSpPr/>
            <p:nvPr/>
          </p:nvGrpSpPr>
          <p:grpSpPr>
            <a:xfrm>
              <a:off x="8663040" y="3087720"/>
              <a:ext cx="176040" cy="193680"/>
              <a:chOff x="8663040" y="3087720"/>
              <a:chExt cx="176040" cy="193680"/>
            </a:xfrm>
          </p:grpSpPr>
          <p:sp>
            <p:nvSpPr>
              <p:cNvPr id="4324" name=""/>
              <p:cNvSpPr/>
              <p:nvPr/>
            </p:nvSpPr>
            <p:spPr>
              <a:xfrm flipH="1">
                <a:off x="8662680" y="3087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 flipH="1">
                <a:off x="8662680" y="3087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26" name=""/>
            <p:cNvGrpSpPr/>
            <p:nvPr/>
          </p:nvGrpSpPr>
          <p:grpSpPr>
            <a:xfrm>
              <a:off x="8326440" y="3016080"/>
              <a:ext cx="512640" cy="176400"/>
              <a:chOff x="8326440" y="3016080"/>
              <a:chExt cx="512640" cy="176400"/>
            </a:xfrm>
          </p:grpSpPr>
          <p:sp>
            <p:nvSpPr>
              <p:cNvPr id="4327" name=""/>
              <p:cNvSpPr/>
              <p:nvPr/>
            </p:nvSpPr>
            <p:spPr>
              <a:xfrm flipH="1">
                <a:off x="8326440" y="301608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 flipH="1">
                <a:off x="8326440" y="301608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29" name=""/>
            <p:cNvGrpSpPr/>
            <p:nvPr/>
          </p:nvGrpSpPr>
          <p:grpSpPr>
            <a:xfrm>
              <a:off x="8326440" y="3104280"/>
              <a:ext cx="336600" cy="176760"/>
              <a:chOff x="8326440" y="3104280"/>
              <a:chExt cx="336600" cy="176760"/>
            </a:xfrm>
          </p:grpSpPr>
          <p:sp>
            <p:nvSpPr>
              <p:cNvPr id="4330" name=""/>
              <p:cNvSpPr/>
              <p:nvPr/>
            </p:nvSpPr>
            <p:spPr>
              <a:xfrm flipH="1">
                <a:off x="8326080" y="310428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 flipH="1">
                <a:off x="8326080" y="310428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32" name=""/>
            <p:cNvSpPr/>
            <p:nvPr/>
          </p:nvSpPr>
          <p:spPr>
            <a:xfrm flipH="1">
              <a:off x="8579520" y="318780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33" name=""/>
            <p:cNvGrpSpPr/>
            <p:nvPr/>
          </p:nvGrpSpPr>
          <p:grpSpPr>
            <a:xfrm>
              <a:off x="8342640" y="3125160"/>
              <a:ext cx="131760" cy="89640"/>
              <a:chOff x="8342640" y="3125160"/>
              <a:chExt cx="131760" cy="89640"/>
            </a:xfrm>
          </p:grpSpPr>
          <p:grpSp>
            <p:nvGrpSpPr>
              <p:cNvPr id="4334" name=""/>
              <p:cNvGrpSpPr/>
              <p:nvPr/>
            </p:nvGrpSpPr>
            <p:grpSpPr>
              <a:xfrm>
                <a:off x="8342640" y="3125160"/>
                <a:ext cx="131760" cy="89640"/>
                <a:chOff x="8342640" y="3125160"/>
                <a:chExt cx="131760" cy="89640"/>
              </a:xfrm>
            </p:grpSpPr>
            <p:sp>
              <p:nvSpPr>
                <p:cNvPr id="4335" name=""/>
                <p:cNvSpPr/>
                <p:nvPr/>
              </p:nvSpPr>
              <p:spPr>
                <a:xfrm flipH="1">
                  <a:off x="8342640" y="3125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36" name=""/>
                <p:cNvSpPr/>
                <p:nvPr/>
              </p:nvSpPr>
              <p:spPr>
                <a:xfrm flipH="1">
                  <a:off x="8342640" y="3125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37" name=""/>
              <p:cNvSpPr/>
              <p:nvPr/>
            </p:nvSpPr>
            <p:spPr>
              <a:xfrm>
                <a:off x="8342640" y="315612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 flipH="1">
                <a:off x="8381160" y="317232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 flipH="1">
                <a:off x="8381160" y="314604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40" name=""/>
            <p:cNvGrpSpPr/>
            <p:nvPr/>
          </p:nvGrpSpPr>
          <p:grpSpPr>
            <a:xfrm>
              <a:off x="8510040" y="2735280"/>
              <a:ext cx="308520" cy="301680"/>
              <a:chOff x="8510040" y="2735280"/>
              <a:chExt cx="308520" cy="301680"/>
            </a:xfrm>
          </p:grpSpPr>
          <p:sp>
            <p:nvSpPr>
              <p:cNvPr id="4341" name=""/>
              <p:cNvSpPr/>
              <p:nvPr/>
            </p:nvSpPr>
            <p:spPr>
              <a:xfrm flipH="1">
                <a:off x="8509680" y="273528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 flipH="1">
                <a:off x="8509680" y="273528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43" name=""/>
            <p:cNvGrpSpPr/>
            <p:nvPr/>
          </p:nvGrpSpPr>
          <p:grpSpPr>
            <a:xfrm>
              <a:off x="8662320" y="2814120"/>
              <a:ext cx="100440" cy="331200"/>
              <a:chOff x="8662320" y="2814120"/>
              <a:chExt cx="100440" cy="331200"/>
            </a:xfrm>
          </p:grpSpPr>
          <p:sp>
            <p:nvSpPr>
              <p:cNvPr id="4344" name=""/>
              <p:cNvSpPr/>
              <p:nvPr/>
            </p:nvSpPr>
            <p:spPr>
              <a:xfrm flipH="1">
                <a:off x="8661960" y="2814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 flipH="1">
                <a:off x="8661960" y="2814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46" name=""/>
            <p:cNvGrpSpPr/>
            <p:nvPr/>
          </p:nvGrpSpPr>
          <p:grpSpPr>
            <a:xfrm>
              <a:off x="8345520" y="2746080"/>
              <a:ext cx="417240" cy="122400"/>
              <a:chOff x="8345520" y="2746080"/>
              <a:chExt cx="417240" cy="122400"/>
            </a:xfrm>
          </p:grpSpPr>
          <p:sp>
            <p:nvSpPr>
              <p:cNvPr id="4347" name=""/>
              <p:cNvSpPr/>
              <p:nvPr/>
            </p:nvSpPr>
            <p:spPr>
              <a:xfrm flipH="1">
                <a:off x="8345160" y="274608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 flipH="1">
                <a:off x="8345160" y="274608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49" name=""/>
            <p:cNvGrpSpPr/>
            <p:nvPr/>
          </p:nvGrpSpPr>
          <p:grpSpPr>
            <a:xfrm>
              <a:off x="8407800" y="3080520"/>
              <a:ext cx="220320" cy="66960"/>
              <a:chOff x="8407800" y="3080520"/>
              <a:chExt cx="220320" cy="66960"/>
            </a:xfrm>
          </p:grpSpPr>
          <p:sp>
            <p:nvSpPr>
              <p:cNvPr id="4350" name=""/>
              <p:cNvSpPr/>
              <p:nvPr/>
            </p:nvSpPr>
            <p:spPr>
              <a:xfrm flipH="1">
                <a:off x="8407800" y="3080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 flipH="1">
                <a:off x="8407800" y="3080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52" name=""/>
            <p:cNvGrpSpPr/>
            <p:nvPr/>
          </p:nvGrpSpPr>
          <p:grpSpPr>
            <a:xfrm>
              <a:off x="8345880" y="2792880"/>
              <a:ext cx="316440" cy="353160"/>
              <a:chOff x="8345880" y="2792880"/>
              <a:chExt cx="316440" cy="353160"/>
            </a:xfrm>
          </p:grpSpPr>
          <p:sp>
            <p:nvSpPr>
              <p:cNvPr id="4353" name=""/>
              <p:cNvSpPr/>
              <p:nvPr/>
            </p:nvSpPr>
            <p:spPr>
              <a:xfrm flipH="1">
                <a:off x="8345520" y="279288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 flipH="1">
                <a:off x="8345520" y="279288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55" name=""/>
            <p:cNvGrpSpPr/>
            <p:nvPr/>
          </p:nvGrpSpPr>
          <p:grpSpPr>
            <a:xfrm>
              <a:off x="8385480" y="2832840"/>
              <a:ext cx="230760" cy="257400"/>
              <a:chOff x="8385480" y="2832840"/>
              <a:chExt cx="230760" cy="257400"/>
            </a:xfrm>
          </p:grpSpPr>
          <p:sp>
            <p:nvSpPr>
              <p:cNvPr id="4356" name=""/>
              <p:cNvSpPr/>
              <p:nvPr/>
            </p:nvSpPr>
            <p:spPr>
              <a:xfrm flipH="1">
                <a:off x="8385120" y="2832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 flipH="1">
                <a:off x="8385120" y="2832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58" name=""/>
            <p:cNvSpPr/>
            <p:nvPr/>
          </p:nvSpPr>
          <p:spPr>
            <a:xfrm flipH="1">
              <a:off x="8403480" y="2850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 flipH="1">
              <a:off x="8403480" y="2850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 flipH="1">
              <a:off x="8565120" y="290736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 flipH="1">
              <a:off x="8433000" y="288864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62" name=""/>
          <p:cNvGrpSpPr/>
          <p:nvPr/>
        </p:nvGrpSpPr>
        <p:grpSpPr>
          <a:xfrm>
            <a:off x="7802640" y="2381400"/>
            <a:ext cx="511200" cy="546120"/>
            <a:chOff x="7802640" y="2381400"/>
            <a:chExt cx="511200" cy="546120"/>
          </a:xfrm>
        </p:grpSpPr>
        <p:grpSp>
          <p:nvGrpSpPr>
            <p:cNvPr id="4363" name=""/>
            <p:cNvGrpSpPr/>
            <p:nvPr/>
          </p:nvGrpSpPr>
          <p:grpSpPr>
            <a:xfrm>
              <a:off x="8138520" y="2733840"/>
              <a:ext cx="175320" cy="193680"/>
              <a:chOff x="8138520" y="2733840"/>
              <a:chExt cx="175320" cy="193680"/>
            </a:xfrm>
          </p:grpSpPr>
          <p:sp>
            <p:nvSpPr>
              <p:cNvPr id="4364" name=""/>
              <p:cNvSpPr/>
              <p:nvPr/>
            </p:nvSpPr>
            <p:spPr>
              <a:xfrm flipH="1">
                <a:off x="8138160" y="2733840"/>
                <a:ext cx="17532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 flipH="1">
                <a:off x="8138160" y="2733840"/>
                <a:ext cx="17532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66" name=""/>
            <p:cNvGrpSpPr/>
            <p:nvPr/>
          </p:nvGrpSpPr>
          <p:grpSpPr>
            <a:xfrm>
              <a:off x="7802640" y="2662200"/>
              <a:ext cx="511200" cy="176400"/>
              <a:chOff x="7802640" y="2662200"/>
              <a:chExt cx="511200" cy="176400"/>
            </a:xfrm>
          </p:grpSpPr>
          <p:sp>
            <p:nvSpPr>
              <p:cNvPr id="4367" name=""/>
              <p:cNvSpPr/>
              <p:nvPr/>
            </p:nvSpPr>
            <p:spPr>
              <a:xfrm flipH="1">
                <a:off x="7802640" y="2662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 flipH="1">
                <a:off x="7802640" y="2662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69" name=""/>
            <p:cNvGrpSpPr/>
            <p:nvPr/>
          </p:nvGrpSpPr>
          <p:grpSpPr>
            <a:xfrm>
              <a:off x="7803000" y="2750400"/>
              <a:ext cx="335520" cy="176760"/>
              <a:chOff x="7803000" y="2750400"/>
              <a:chExt cx="335520" cy="176760"/>
            </a:xfrm>
          </p:grpSpPr>
          <p:sp>
            <p:nvSpPr>
              <p:cNvPr id="4370" name=""/>
              <p:cNvSpPr/>
              <p:nvPr/>
            </p:nvSpPr>
            <p:spPr>
              <a:xfrm flipH="1">
                <a:off x="7803000" y="2750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 flipH="1">
                <a:off x="7803000" y="2750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72" name=""/>
            <p:cNvSpPr/>
            <p:nvPr/>
          </p:nvSpPr>
          <p:spPr>
            <a:xfrm flipH="1">
              <a:off x="8055000" y="2833920"/>
              <a:ext cx="6732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73" name=""/>
            <p:cNvGrpSpPr/>
            <p:nvPr/>
          </p:nvGrpSpPr>
          <p:grpSpPr>
            <a:xfrm>
              <a:off x="7818840" y="2771280"/>
              <a:ext cx="131760" cy="89640"/>
              <a:chOff x="7818840" y="2771280"/>
              <a:chExt cx="131760" cy="89640"/>
            </a:xfrm>
          </p:grpSpPr>
          <p:grpSp>
            <p:nvGrpSpPr>
              <p:cNvPr id="4374" name=""/>
              <p:cNvGrpSpPr/>
              <p:nvPr/>
            </p:nvGrpSpPr>
            <p:grpSpPr>
              <a:xfrm>
                <a:off x="7818840" y="2771280"/>
                <a:ext cx="131400" cy="89640"/>
                <a:chOff x="7818840" y="2771280"/>
                <a:chExt cx="131400" cy="89640"/>
              </a:xfrm>
            </p:grpSpPr>
            <p:sp>
              <p:nvSpPr>
                <p:cNvPr id="4375" name=""/>
                <p:cNvSpPr/>
                <p:nvPr/>
              </p:nvSpPr>
              <p:spPr>
                <a:xfrm flipH="1">
                  <a:off x="7818480" y="277128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6" name=""/>
                <p:cNvSpPr/>
                <p:nvPr/>
              </p:nvSpPr>
              <p:spPr>
                <a:xfrm flipH="1">
                  <a:off x="7818480" y="277128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77" name=""/>
              <p:cNvSpPr/>
              <p:nvPr/>
            </p:nvSpPr>
            <p:spPr>
              <a:xfrm>
                <a:off x="7819200" y="2802240"/>
                <a:ext cx="1314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 flipH="1">
                <a:off x="7858080" y="2818440"/>
                <a:ext cx="4608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 flipH="1">
                <a:off x="7858080" y="2792160"/>
                <a:ext cx="4608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80" name=""/>
            <p:cNvGrpSpPr/>
            <p:nvPr/>
          </p:nvGrpSpPr>
          <p:grpSpPr>
            <a:xfrm>
              <a:off x="7985520" y="2381400"/>
              <a:ext cx="307800" cy="301680"/>
              <a:chOff x="7985520" y="2381400"/>
              <a:chExt cx="307800" cy="301680"/>
            </a:xfrm>
          </p:grpSpPr>
          <p:sp>
            <p:nvSpPr>
              <p:cNvPr id="4381" name=""/>
              <p:cNvSpPr/>
              <p:nvPr/>
            </p:nvSpPr>
            <p:spPr>
              <a:xfrm flipH="1">
                <a:off x="7985160" y="2381400"/>
                <a:ext cx="30780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 flipH="1">
                <a:off x="7985160" y="2381400"/>
                <a:ext cx="30780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83" name=""/>
            <p:cNvGrpSpPr/>
            <p:nvPr/>
          </p:nvGrpSpPr>
          <p:grpSpPr>
            <a:xfrm>
              <a:off x="8137800" y="2460240"/>
              <a:ext cx="100080" cy="331200"/>
              <a:chOff x="8137800" y="2460240"/>
              <a:chExt cx="100080" cy="331200"/>
            </a:xfrm>
          </p:grpSpPr>
          <p:sp>
            <p:nvSpPr>
              <p:cNvPr id="4384" name=""/>
              <p:cNvSpPr/>
              <p:nvPr/>
            </p:nvSpPr>
            <p:spPr>
              <a:xfrm flipH="1">
                <a:off x="8137800" y="2460240"/>
                <a:ext cx="10008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 flipH="1">
                <a:off x="8137800" y="2460240"/>
                <a:ext cx="10008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86" name=""/>
            <p:cNvGrpSpPr/>
            <p:nvPr/>
          </p:nvGrpSpPr>
          <p:grpSpPr>
            <a:xfrm>
              <a:off x="7821720" y="2392200"/>
              <a:ext cx="416160" cy="122400"/>
              <a:chOff x="7821720" y="2392200"/>
              <a:chExt cx="416160" cy="122400"/>
            </a:xfrm>
          </p:grpSpPr>
          <p:sp>
            <p:nvSpPr>
              <p:cNvPr id="4387" name=""/>
              <p:cNvSpPr/>
              <p:nvPr/>
            </p:nvSpPr>
            <p:spPr>
              <a:xfrm flipH="1">
                <a:off x="7821720" y="2392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 flipH="1">
                <a:off x="7821720" y="2392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89" name=""/>
            <p:cNvGrpSpPr/>
            <p:nvPr/>
          </p:nvGrpSpPr>
          <p:grpSpPr>
            <a:xfrm>
              <a:off x="7884000" y="2726640"/>
              <a:ext cx="219600" cy="66960"/>
              <a:chOff x="7884000" y="2726640"/>
              <a:chExt cx="219600" cy="66960"/>
            </a:xfrm>
          </p:grpSpPr>
          <p:sp>
            <p:nvSpPr>
              <p:cNvPr id="4390" name=""/>
              <p:cNvSpPr/>
              <p:nvPr/>
            </p:nvSpPr>
            <p:spPr>
              <a:xfrm flipH="1">
                <a:off x="7884000" y="2726640"/>
                <a:ext cx="21960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 flipH="1">
                <a:off x="7884000" y="2726640"/>
                <a:ext cx="21960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92" name=""/>
            <p:cNvGrpSpPr/>
            <p:nvPr/>
          </p:nvGrpSpPr>
          <p:grpSpPr>
            <a:xfrm>
              <a:off x="7821720" y="2439000"/>
              <a:ext cx="315720" cy="353160"/>
              <a:chOff x="7821720" y="2439000"/>
              <a:chExt cx="315720" cy="353160"/>
            </a:xfrm>
          </p:grpSpPr>
          <p:sp>
            <p:nvSpPr>
              <p:cNvPr id="4393" name=""/>
              <p:cNvSpPr/>
              <p:nvPr/>
            </p:nvSpPr>
            <p:spPr>
              <a:xfrm flipH="1">
                <a:off x="7821360" y="2439000"/>
                <a:ext cx="31572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 flipH="1">
                <a:off x="7821360" y="2439000"/>
                <a:ext cx="31572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95" name=""/>
            <p:cNvGrpSpPr/>
            <p:nvPr/>
          </p:nvGrpSpPr>
          <p:grpSpPr>
            <a:xfrm>
              <a:off x="7861680" y="2478960"/>
              <a:ext cx="230040" cy="257400"/>
              <a:chOff x="7861680" y="2478960"/>
              <a:chExt cx="230040" cy="257400"/>
            </a:xfrm>
          </p:grpSpPr>
          <p:sp>
            <p:nvSpPr>
              <p:cNvPr id="4396" name=""/>
              <p:cNvSpPr/>
              <p:nvPr/>
            </p:nvSpPr>
            <p:spPr>
              <a:xfrm flipH="1">
                <a:off x="7861320" y="2478960"/>
                <a:ext cx="23004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 flipH="1">
                <a:off x="7861320" y="2478960"/>
                <a:ext cx="23004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98" name=""/>
            <p:cNvSpPr/>
            <p:nvPr/>
          </p:nvSpPr>
          <p:spPr>
            <a:xfrm flipH="1">
              <a:off x="7879680" y="2496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 flipH="1">
              <a:off x="7879680" y="2496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 flipH="1">
              <a:off x="8040600" y="255348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 flipH="1">
              <a:off x="7908480" y="2534760"/>
              <a:ext cx="1278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02" name=""/>
          <p:cNvSpPr/>
          <p:nvPr/>
        </p:nvSpPr>
        <p:spPr>
          <a:xfrm flipV="1">
            <a:off x="6543720" y="4260960"/>
            <a:ext cx="255600" cy="334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3" name=""/>
          <p:cNvSpPr/>
          <p:nvPr/>
        </p:nvSpPr>
        <p:spPr>
          <a:xfrm flipH="1" flipV="1">
            <a:off x="6370200" y="414936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04" name=""/>
          <p:cNvGrpSpPr/>
          <p:nvPr/>
        </p:nvGrpSpPr>
        <p:grpSpPr>
          <a:xfrm>
            <a:off x="1219320" y="3192480"/>
            <a:ext cx="6781680" cy="407880"/>
            <a:chOff x="1219320" y="3192480"/>
            <a:chExt cx="6781680" cy="407880"/>
          </a:xfrm>
        </p:grpSpPr>
        <p:grpSp>
          <p:nvGrpSpPr>
            <p:cNvPr id="4405" name=""/>
            <p:cNvGrpSpPr/>
            <p:nvPr/>
          </p:nvGrpSpPr>
          <p:grpSpPr>
            <a:xfrm>
              <a:off x="1219320" y="3219480"/>
              <a:ext cx="533160" cy="380880"/>
              <a:chOff x="1219320" y="3219480"/>
              <a:chExt cx="533160" cy="380880"/>
            </a:xfrm>
          </p:grpSpPr>
          <p:sp>
            <p:nvSpPr>
              <p:cNvPr id="4406" name=""/>
              <p:cNvSpPr/>
              <p:nvPr/>
            </p:nvSpPr>
            <p:spPr>
              <a:xfrm>
                <a:off x="1219320" y="3219480"/>
                <a:ext cx="533160" cy="380880"/>
              </a:xfrm>
              <a:prstGeom prst="rect">
                <a:avLst/>
              </a:prstGeom>
              <a:gradFill rotWithShape="0">
                <a:gsLst>
                  <a:gs pos="0">
                    <a:srgbClr val="2f2f75"/>
                  </a:gs>
                  <a:gs pos="100000">
                    <a:srgbClr val="6666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07" name=""/>
              <p:cNvGrpSpPr/>
              <p:nvPr/>
            </p:nvGrpSpPr>
            <p:grpSpPr>
              <a:xfrm>
                <a:off x="1289520" y="3293280"/>
                <a:ext cx="399240" cy="247680"/>
                <a:chOff x="1289520" y="3293280"/>
                <a:chExt cx="399240" cy="247680"/>
              </a:xfrm>
            </p:grpSpPr>
            <p:sp>
              <p:nvSpPr>
                <p:cNvPr id="4408" name=""/>
                <p:cNvSpPr/>
                <p:nvPr/>
              </p:nvSpPr>
              <p:spPr>
                <a:xfrm>
                  <a:off x="1351800" y="3293280"/>
                  <a:ext cx="277200" cy="24768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9" name=""/>
                <p:cNvSpPr/>
                <p:nvPr/>
              </p:nvSpPr>
              <p:spPr>
                <a:xfrm flipH="1">
                  <a:off x="1344240" y="3293280"/>
                  <a:ext cx="276480" cy="24768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0" name=""/>
                <p:cNvSpPr/>
                <p:nvPr/>
              </p:nvSpPr>
              <p:spPr>
                <a:xfrm>
                  <a:off x="1613880" y="3297240"/>
                  <a:ext cx="6912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1" name=""/>
                <p:cNvSpPr/>
                <p:nvPr/>
              </p:nvSpPr>
              <p:spPr>
                <a:xfrm>
                  <a:off x="1622880" y="3538800"/>
                  <a:ext cx="6588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2" name=""/>
                <p:cNvSpPr/>
                <p:nvPr/>
              </p:nvSpPr>
              <p:spPr>
                <a:xfrm>
                  <a:off x="1299240" y="3297240"/>
                  <a:ext cx="6300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3" name=""/>
                <p:cNvSpPr/>
                <p:nvPr/>
              </p:nvSpPr>
              <p:spPr>
                <a:xfrm>
                  <a:off x="1289520" y="3538800"/>
                  <a:ext cx="6444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14" name=""/>
            <p:cNvGrpSpPr/>
            <p:nvPr/>
          </p:nvGrpSpPr>
          <p:grpSpPr>
            <a:xfrm>
              <a:off x="7467480" y="3192480"/>
              <a:ext cx="533520" cy="380880"/>
              <a:chOff x="7467480" y="3192480"/>
              <a:chExt cx="533520" cy="380880"/>
            </a:xfrm>
          </p:grpSpPr>
          <p:sp>
            <p:nvSpPr>
              <p:cNvPr id="4415" name=""/>
              <p:cNvSpPr/>
              <p:nvPr/>
            </p:nvSpPr>
            <p:spPr>
              <a:xfrm flipH="1">
                <a:off x="7467480" y="3192480"/>
                <a:ext cx="533520" cy="380880"/>
              </a:xfrm>
              <a:prstGeom prst="rect">
                <a:avLst/>
              </a:prstGeom>
              <a:gradFill rotWithShape="0">
                <a:gsLst>
                  <a:gs pos="0">
                    <a:srgbClr val="2f2f75"/>
                  </a:gs>
                  <a:gs pos="100000">
                    <a:srgbClr val="6666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16" name=""/>
              <p:cNvGrpSpPr/>
              <p:nvPr/>
            </p:nvGrpSpPr>
            <p:grpSpPr>
              <a:xfrm>
                <a:off x="7531200" y="3266280"/>
                <a:ext cx="399240" cy="247680"/>
                <a:chOff x="7531200" y="3266280"/>
                <a:chExt cx="399240" cy="247680"/>
              </a:xfrm>
            </p:grpSpPr>
            <p:sp>
              <p:nvSpPr>
                <p:cNvPr id="4417" name=""/>
                <p:cNvSpPr/>
                <p:nvPr/>
              </p:nvSpPr>
              <p:spPr>
                <a:xfrm flipH="1">
                  <a:off x="7590960" y="3266280"/>
                  <a:ext cx="277200" cy="24768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8" name=""/>
                <p:cNvSpPr/>
                <p:nvPr/>
              </p:nvSpPr>
              <p:spPr>
                <a:xfrm>
                  <a:off x="7599240" y="3266280"/>
                  <a:ext cx="276480" cy="24768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9" name=""/>
                <p:cNvSpPr/>
                <p:nvPr/>
              </p:nvSpPr>
              <p:spPr>
                <a:xfrm flipH="1">
                  <a:off x="7536960" y="3270240"/>
                  <a:ext cx="6912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0" name=""/>
                <p:cNvSpPr/>
                <p:nvPr/>
              </p:nvSpPr>
              <p:spPr>
                <a:xfrm flipH="1">
                  <a:off x="7531200" y="3511800"/>
                  <a:ext cx="6588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1" name=""/>
                <p:cNvSpPr/>
                <p:nvPr/>
              </p:nvSpPr>
              <p:spPr>
                <a:xfrm flipH="1">
                  <a:off x="7857720" y="3270240"/>
                  <a:ext cx="6300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2" name=""/>
                <p:cNvSpPr/>
                <p:nvPr/>
              </p:nvSpPr>
              <p:spPr>
                <a:xfrm flipH="1">
                  <a:off x="7866000" y="3511800"/>
                  <a:ext cx="6444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423" name=""/>
          <p:cNvGrpSpPr/>
          <p:nvPr/>
        </p:nvGrpSpPr>
        <p:grpSpPr>
          <a:xfrm>
            <a:off x="1828800" y="3860640"/>
            <a:ext cx="5562720" cy="1263960"/>
            <a:chOff x="1828800" y="3860640"/>
            <a:chExt cx="5562720" cy="1263960"/>
          </a:xfrm>
        </p:grpSpPr>
        <p:grpSp>
          <p:nvGrpSpPr>
            <p:cNvPr id="4424" name=""/>
            <p:cNvGrpSpPr/>
            <p:nvPr/>
          </p:nvGrpSpPr>
          <p:grpSpPr>
            <a:xfrm>
              <a:off x="1828800" y="3887640"/>
              <a:ext cx="735120" cy="479520"/>
              <a:chOff x="1828800" y="3887640"/>
              <a:chExt cx="735120" cy="479520"/>
            </a:xfrm>
          </p:grpSpPr>
          <p:grpSp>
            <p:nvGrpSpPr>
              <p:cNvPr id="4425" name=""/>
              <p:cNvGrpSpPr/>
              <p:nvPr/>
            </p:nvGrpSpPr>
            <p:grpSpPr>
              <a:xfrm>
                <a:off x="1829880" y="3949200"/>
                <a:ext cx="464040" cy="417960"/>
                <a:chOff x="1829880" y="3949200"/>
                <a:chExt cx="464040" cy="417960"/>
              </a:xfrm>
            </p:grpSpPr>
            <p:sp>
              <p:nvSpPr>
                <p:cNvPr id="4426" name=""/>
                <p:cNvSpPr/>
                <p:nvPr/>
              </p:nvSpPr>
              <p:spPr>
                <a:xfrm>
                  <a:off x="1829880" y="3949200"/>
                  <a:ext cx="464040" cy="41796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7" name=""/>
                <p:cNvSpPr/>
                <p:nvPr/>
              </p:nvSpPr>
              <p:spPr>
                <a:xfrm>
                  <a:off x="1829880" y="3949200"/>
                  <a:ext cx="464040" cy="41796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8" name=""/>
              <p:cNvGrpSpPr/>
              <p:nvPr/>
            </p:nvGrpSpPr>
            <p:grpSpPr>
              <a:xfrm>
                <a:off x="2293920" y="3963600"/>
                <a:ext cx="267480" cy="403560"/>
                <a:chOff x="2293920" y="3963600"/>
                <a:chExt cx="267480" cy="403560"/>
              </a:xfrm>
            </p:grpSpPr>
            <p:sp>
              <p:nvSpPr>
                <p:cNvPr id="4429" name=""/>
                <p:cNvSpPr/>
                <p:nvPr/>
              </p:nvSpPr>
              <p:spPr>
                <a:xfrm>
                  <a:off x="2293920" y="3963600"/>
                  <a:ext cx="267480" cy="40356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0" name=""/>
                <p:cNvSpPr/>
                <p:nvPr/>
              </p:nvSpPr>
              <p:spPr>
                <a:xfrm>
                  <a:off x="2293920" y="3963600"/>
                  <a:ext cx="267480" cy="40356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1" name=""/>
              <p:cNvGrpSpPr/>
              <p:nvPr/>
            </p:nvGrpSpPr>
            <p:grpSpPr>
              <a:xfrm>
                <a:off x="1828800" y="3887640"/>
                <a:ext cx="735120" cy="168120"/>
                <a:chOff x="1828800" y="3887640"/>
                <a:chExt cx="735120" cy="168120"/>
              </a:xfrm>
            </p:grpSpPr>
            <p:sp>
              <p:nvSpPr>
                <p:cNvPr id="4432" name=""/>
                <p:cNvSpPr/>
                <p:nvPr/>
              </p:nvSpPr>
              <p:spPr>
                <a:xfrm>
                  <a:off x="1828800" y="3887640"/>
                  <a:ext cx="735120" cy="16812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3" name=""/>
                <p:cNvSpPr/>
                <p:nvPr/>
              </p:nvSpPr>
              <p:spPr>
                <a:xfrm>
                  <a:off x="1828800" y="3887640"/>
                  <a:ext cx="735120" cy="16812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34" name=""/>
              <p:cNvSpPr/>
              <p:nvPr/>
            </p:nvSpPr>
            <p:spPr>
              <a:xfrm>
                <a:off x="1857960" y="3987000"/>
                <a:ext cx="391680" cy="33804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1857960" y="4077360"/>
                <a:ext cx="391680" cy="2476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1857960" y="3987000"/>
                <a:ext cx="389520" cy="22068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37" name=""/>
              <p:cNvGrpSpPr/>
              <p:nvPr/>
            </p:nvGrpSpPr>
            <p:grpSpPr>
              <a:xfrm>
                <a:off x="1885320" y="4020120"/>
                <a:ext cx="191160" cy="81720"/>
                <a:chOff x="1885320" y="4020120"/>
                <a:chExt cx="191160" cy="81720"/>
              </a:xfrm>
            </p:grpSpPr>
            <p:sp>
              <p:nvSpPr>
                <p:cNvPr id="4438" name=""/>
                <p:cNvSpPr/>
                <p:nvPr/>
              </p:nvSpPr>
              <p:spPr>
                <a:xfrm>
                  <a:off x="1885320" y="4020120"/>
                  <a:ext cx="191160" cy="8172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9" name=""/>
                <p:cNvSpPr/>
                <p:nvPr/>
              </p:nvSpPr>
              <p:spPr>
                <a:xfrm>
                  <a:off x="1885320" y="4020120"/>
                  <a:ext cx="191160" cy="8172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0" name=""/>
              <p:cNvGrpSpPr/>
              <p:nvPr/>
            </p:nvGrpSpPr>
            <p:grpSpPr>
              <a:xfrm>
                <a:off x="1883160" y="4107240"/>
                <a:ext cx="119520" cy="122040"/>
                <a:chOff x="1883160" y="4107240"/>
                <a:chExt cx="119520" cy="122040"/>
              </a:xfrm>
            </p:grpSpPr>
            <p:sp>
              <p:nvSpPr>
                <p:cNvPr id="4441" name=""/>
                <p:cNvSpPr/>
                <p:nvPr/>
              </p:nvSpPr>
              <p:spPr>
                <a:xfrm>
                  <a:off x="1883160" y="4107240"/>
                  <a:ext cx="119520" cy="12204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2" name=""/>
                <p:cNvSpPr/>
                <p:nvPr/>
              </p:nvSpPr>
              <p:spPr>
                <a:xfrm>
                  <a:off x="1883160" y="4107240"/>
                  <a:ext cx="119520" cy="12204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43" name=""/>
            <p:cNvGrpSpPr/>
            <p:nvPr/>
          </p:nvGrpSpPr>
          <p:grpSpPr>
            <a:xfrm>
              <a:off x="2438280" y="4492800"/>
              <a:ext cx="990720" cy="631800"/>
              <a:chOff x="2438280" y="4492800"/>
              <a:chExt cx="990720" cy="631800"/>
            </a:xfrm>
          </p:grpSpPr>
          <p:grpSp>
            <p:nvGrpSpPr>
              <p:cNvPr id="4444" name=""/>
              <p:cNvGrpSpPr/>
              <p:nvPr/>
            </p:nvGrpSpPr>
            <p:grpSpPr>
              <a:xfrm>
                <a:off x="2439720" y="4574160"/>
                <a:ext cx="624960" cy="550440"/>
                <a:chOff x="2439720" y="4574160"/>
                <a:chExt cx="624960" cy="550440"/>
              </a:xfrm>
            </p:grpSpPr>
            <p:sp>
              <p:nvSpPr>
                <p:cNvPr id="4445" name=""/>
                <p:cNvSpPr/>
                <p:nvPr/>
              </p:nvSpPr>
              <p:spPr>
                <a:xfrm>
                  <a:off x="2439720" y="4574160"/>
                  <a:ext cx="624960" cy="55044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6" name=""/>
                <p:cNvSpPr/>
                <p:nvPr/>
              </p:nvSpPr>
              <p:spPr>
                <a:xfrm>
                  <a:off x="2439720" y="4574160"/>
                  <a:ext cx="624960" cy="55044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7" name=""/>
              <p:cNvGrpSpPr/>
              <p:nvPr/>
            </p:nvGrpSpPr>
            <p:grpSpPr>
              <a:xfrm>
                <a:off x="3065040" y="4592880"/>
                <a:ext cx="360360" cy="531720"/>
                <a:chOff x="3065040" y="4592880"/>
                <a:chExt cx="360360" cy="531720"/>
              </a:xfrm>
            </p:grpSpPr>
            <p:sp>
              <p:nvSpPr>
                <p:cNvPr id="4448" name=""/>
                <p:cNvSpPr/>
                <p:nvPr/>
              </p:nvSpPr>
              <p:spPr>
                <a:xfrm>
                  <a:off x="3065040" y="4592880"/>
                  <a:ext cx="360360" cy="53172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9" name=""/>
                <p:cNvSpPr/>
                <p:nvPr/>
              </p:nvSpPr>
              <p:spPr>
                <a:xfrm>
                  <a:off x="3065040" y="4592880"/>
                  <a:ext cx="360360" cy="53172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0" name=""/>
              <p:cNvGrpSpPr/>
              <p:nvPr/>
            </p:nvGrpSpPr>
            <p:grpSpPr>
              <a:xfrm>
                <a:off x="2438280" y="4492800"/>
                <a:ext cx="990720" cy="221760"/>
                <a:chOff x="2438280" y="4492800"/>
                <a:chExt cx="990720" cy="221760"/>
              </a:xfrm>
            </p:grpSpPr>
            <p:sp>
              <p:nvSpPr>
                <p:cNvPr id="4451" name=""/>
                <p:cNvSpPr/>
                <p:nvPr/>
              </p:nvSpPr>
              <p:spPr>
                <a:xfrm>
                  <a:off x="2438280" y="4492800"/>
                  <a:ext cx="990720" cy="22176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2" name=""/>
                <p:cNvSpPr/>
                <p:nvPr/>
              </p:nvSpPr>
              <p:spPr>
                <a:xfrm>
                  <a:off x="2438280" y="4492800"/>
                  <a:ext cx="990720" cy="22176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3" name=""/>
              <p:cNvSpPr/>
              <p:nvPr/>
            </p:nvSpPr>
            <p:spPr>
              <a:xfrm>
                <a:off x="2477520" y="4623840"/>
                <a:ext cx="527760" cy="44532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2477520" y="4742640"/>
                <a:ext cx="527760" cy="32616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2477520" y="4623840"/>
                <a:ext cx="525240" cy="29088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56" name=""/>
              <p:cNvGrpSpPr/>
              <p:nvPr/>
            </p:nvGrpSpPr>
            <p:grpSpPr>
              <a:xfrm>
                <a:off x="2514240" y="4667040"/>
                <a:ext cx="257760" cy="107640"/>
                <a:chOff x="2514240" y="4667040"/>
                <a:chExt cx="257760" cy="107640"/>
              </a:xfrm>
            </p:grpSpPr>
            <p:sp>
              <p:nvSpPr>
                <p:cNvPr id="4457" name=""/>
                <p:cNvSpPr/>
                <p:nvPr/>
              </p:nvSpPr>
              <p:spPr>
                <a:xfrm>
                  <a:off x="2514240" y="4667040"/>
                  <a:ext cx="257760" cy="10764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8" name=""/>
                <p:cNvSpPr/>
                <p:nvPr/>
              </p:nvSpPr>
              <p:spPr>
                <a:xfrm>
                  <a:off x="2514240" y="4667040"/>
                  <a:ext cx="257760" cy="10764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9" name=""/>
              <p:cNvGrpSpPr/>
              <p:nvPr/>
            </p:nvGrpSpPr>
            <p:grpSpPr>
              <a:xfrm>
                <a:off x="2511720" y="4781880"/>
                <a:ext cx="161280" cy="160920"/>
                <a:chOff x="2511720" y="4781880"/>
                <a:chExt cx="161280" cy="160920"/>
              </a:xfrm>
            </p:grpSpPr>
            <p:sp>
              <p:nvSpPr>
                <p:cNvPr id="4460" name=""/>
                <p:cNvSpPr/>
                <p:nvPr/>
              </p:nvSpPr>
              <p:spPr>
                <a:xfrm>
                  <a:off x="2511720" y="4781880"/>
                  <a:ext cx="161280" cy="16092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1" name=""/>
                <p:cNvSpPr/>
                <p:nvPr/>
              </p:nvSpPr>
              <p:spPr>
                <a:xfrm>
                  <a:off x="2511720" y="4781880"/>
                  <a:ext cx="161280" cy="16092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62" name=""/>
            <p:cNvGrpSpPr/>
            <p:nvPr/>
          </p:nvGrpSpPr>
          <p:grpSpPr>
            <a:xfrm>
              <a:off x="6656400" y="3860640"/>
              <a:ext cx="735120" cy="479520"/>
              <a:chOff x="6656400" y="3860640"/>
              <a:chExt cx="735120" cy="479520"/>
            </a:xfrm>
          </p:grpSpPr>
          <p:grpSp>
            <p:nvGrpSpPr>
              <p:cNvPr id="4463" name=""/>
              <p:cNvGrpSpPr/>
              <p:nvPr/>
            </p:nvGrpSpPr>
            <p:grpSpPr>
              <a:xfrm>
                <a:off x="6926400" y="3922200"/>
                <a:ext cx="464040" cy="417960"/>
                <a:chOff x="6926400" y="3922200"/>
                <a:chExt cx="464040" cy="417960"/>
              </a:xfrm>
            </p:grpSpPr>
            <p:sp>
              <p:nvSpPr>
                <p:cNvPr id="4464" name=""/>
                <p:cNvSpPr/>
                <p:nvPr/>
              </p:nvSpPr>
              <p:spPr>
                <a:xfrm flipH="1">
                  <a:off x="6926040" y="3922200"/>
                  <a:ext cx="464040" cy="41796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5" name=""/>
                <p:cNvSpPr/>
                <p:nvPr/>
              </p:nvSpPr>
              <p:spPr>
                <a:xfrm flipH="1">
                  <a:off x="6926040" y="3922200"/>
                  <a:ext cx="464040" cy="41796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6" name=""/>
              <p:cNvGrpSpPr/>
              <p:nvPr/>
            </p:nvGrpSpPr>
            <p:grpSpPr>
              <a:xfrm>
                <a:off x="6658920" y="3936600"/>
                <a:ext cx="267480" cy="403560"/>
                <a:chOff x="6658920" y="3936600"/>
                <a:chExt cx="267480" cy="403560"/>
              </a:xfrm>
            </p:grpSpPr>
            <p:sp>
              <p:nvSpPr>
                <p:cNvPr id="4467" name=""/>
                <p:cNvSpPr/>
                <p:nvPr/>
              </p:nvSpPr>
              <p:spPr>
                <a:xfrm flipH="1">
                  <a:off x="6658560" y="3936600"/>
                  <a:ext cx="267480" cy="40356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8" name=""/>
                <p:cNvSpPr/>
                <p:nvPr/>
              </p:nvSpPr>
              <p:spPr>
                <a:xfrm flipH="1">
                  <a:off x="6658560" y="3936600"/>
                  <a:ext cx="267480" cy="40356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9" name=""/>
              <p:cNvGrpSpPr/>
              <p:nvPr/>
            </p:nvGrpSpPr>
            <p:grpSpPr>
              <a:xfrm>
                <a:off x="6656400" y="3860640"/>
                <a:ext cx="735120" cy="168120"/>
                <a:chOff x="6656400" y="3860640"/>
                <a:chExt cx="735120" cy="168120"/>
              </a:xfrm>
            </p:grpSpPr>
            <p:sp>
              <p:nvSpPr>
                <p:cNvPr id="4470" name=""/>
                <p:cNvSpPr/>
                <p:nvPr/>
              </p:nvSpPr>
              <p:spPr>
                <a:xfrm flipH="1">
                  <a:off x="6656400" y="3860640"/>
                  <a:ext cx="735120" cy="16812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1" name=""/>
                <p:cNvSpPr/>
                <p:nvPr/>
              </p:nvSpPr>
              <p:spPr>
                <a:xfrm flipH="1">
                  <a:off x="6656400" y="3860640"/>
                  <a:ext cx="735120" cy="16812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72" name=""/>
              <p:cNvSpPr/>
              <p:nvPr/>
            </p:nvSpPr>
            <p:spPr>
              <a:xfrm flipH="1">
                <a:off x="6970680" y="3960000"/>
                <a:ext cx="391680" cy="33804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 flipH="1">
                <a:off x="6970680" y="4050360"/>
                <a:ext cx="391680" cy="24768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 flipH="1">
                <a:off x="6972840" y="3960000"/>
                <a:ext cx="389520" cy="22068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75" name=""/>
              <p:cNvGrpSpPr/>
              <p:nvPr/>
            </p:nvGrpSpPr>
            <p:grpSpPr>
              <a:xfrm>
                <a:off x="7143840" y="3993120"/>
                <a:ext cx="191160" cy="81720"/>
                <a:chOff x="7143840" y="3993120"/>
                <a:chExt cx="191160" cy="81720"/>
              </a:xfrm>
            </p:grpSpPr>
            <p:sp>
              <p:nvSpPr>
                <p:cNvPr id="4476" name=""/>
                <p:cNvSpPr/>
                <p:nvPr/>
              </p:nvSpPr>
              <p:spPr>
                <a:xfrm flipH="1">
                  <a:off x="7143480" y="3993120"/>
                  <a:ext cx="191160" cy="8172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7" name=""/>
                <p:cNvSpPr/>
                <p:nvPr/>
              </p:nvSpPr>
              <p:spPr>
                <a:xfrm flipH="1">
                  <a:off x="7143480" y="3993120"/>
                  <a:ext cx="191160" cy="8172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8" name=""/>
              <p:cNvGrpSpPr/>
              <p:nvPr/>
            </p:nvGrpSpPr>
            <p:grpSpPr>
              <a:xfrm>
                <a:off x="7217640" y="4080240"/>
                <a:ext cx="119520" cy="122040"/>
                <a:chOff x="7217640" y="4080240"/>
                <a:chExt cx="119520" cy="122040"/>
              </a:xfrm>
            </p:grpSpPr>
            <p:sp>
              <p:nvSpPr>
                <p:cNvPr id="4479" name=""/>
                <p:cNvSpPr/>
                <p:nvPr/>
              </p:nvSpPr>
              <p:spPr>
                <a:xfrm flipH="1">
                  <a:off x="7217640" y="4080240"/>
                  <a:ext cx="119520" cy="12204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0" name=""/>
                <p:cNvSpPr/>
                <p:nvPr/>
              </p:nvSpPr>
              <p:spPr>
                <a:xfrm flipH="1">
                  <a:off x="7217640" y="4080240"/>
                  <a:ext cx="119520" cy="12204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81" name=""/>
            <p:cNvGrpSpPr/>
            <p:nvPr/>
          </p:nvGrpSpPr>
          <p:grpSpPr>
            <a:xfrm>
              <a:off x="5790960" y="4465800"/>
              <a:ext cx="990360" cy="631800"/>
              <a:chOff x="5790960" y="4465800"/>
              <a:chExt cx="990360" cy="631800"/>
            </a:xfrm>
          </p:grpSpPr>
          <p:grpSp>
            <p:nvGrpSpPr>
              <p:cNvPr id="4482" name=""/>
              <p:cNvGrpSpPr/>
              <p:nvPr/>
            </p:nvGrpSpPr>
            <p:grpSpPr>
              <a:xfrm>
                <a:off x="6154920" y="4547160"/>
                <a:ext cx="624960" cy="550440"/>
                <a:chOff x="6154920" y="4547160"/>
                <a:chExt cx="624960" cy="550440"/>
              </a:xfrm>
            </p:grpSpPr>
            <p:sp>
              <p:nvSpPr>
                <p:cNvPr id="4483" name=""/>
                <p:cNvSpPr/>
                <p:nvPr/>
              </p:nvSpPr>
              <p:spPr>
                <a:xfrm flipH="1">
                  <a:off x="6154920" y="4547160"/>
                  <a:ext cx="624960" cy="55044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4" name=""/>
                <p:cNvSpPr/>
                <p:nvPr/>
              </p:nvSpPr>
              <p:spPr>
                <a:xfrm flipH="1">
                  <a:off x="6154920" y="4547160"/>
                  <a:ext cx="624960" cy="55044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5" name=""/>
              <p:cNvGrpSpPr/>
              <p:nvPr/>
            </p:nvGrpSpPr>
            <p:grpSpPr>
              <a:xfrm>
                <a:off x="5794560" y="4565880"/>
                <a:ext cx="360360" cy="531720"/>
                <a:chOff x="5794560" y="4565880"/>
                <a:chExt cx="360360" cy="531720"/>
              </a:xfrm>
            </p:grpSpPr>
            <p:sp>
              <p:nvSpPr>
                <p:cNvPr id="4486" name=""/>
                <p:cNvSpPr/>
                <p:nvPr/>
              </p:nvSpPr>
              <p:spPr>
                <a:xfrm flipH="1">
                  <a:off x="5794200" y="4565880"/>
                  <a:ext cx="360360" cy="53172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7" name=""/>
                <p:cNvSpPr/>
                <p:nvPr/>
              </p:nvSpPr>
              <p:spPr>
                <a:xfrm flipH="1">
                  <a:off x="5794200" y="4565880"/>
                  <a:ext cx="360360" cy="53172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8" name=""/>
              <p:cNvGrpSpPr/>
              <p:nvPr/>
            </p:nvGrpSpPr>
            <p:grpSpPr>
              <a:xfrm>
                <a:off x="5790960" y="4465800"/>
                <a:ext cx="990360" cy="221760"/>
                <a:chOff x="5790960" y="4465800"/>
                <a:chExt cx="990360" cy="221760"/>
              </a:xfrm>
            </p:grpSpPr>
            <p:sp>
              <p:nvSpPr>
                <p:cNvPr id="4489" name=""/>
                <p:cNvSpPr/>
                <p:nvPr/>
              </p:nvSpPr>
              <p:spPr>
                <a:xfrm flipH="1">
                  <a:off x="5790600" y="4465800"/>
                  <a:ext cx="990360" cy="22176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0" name=""/>
                <p:cNvSpPr/>
                <p:nvPr/>
              </p:nvSpPr>
              <p:spPr>
                <a:xfrm flipH="1">
                  <a:off x="5790600" y="4465800"/>
                  <a:ext cx="990360" cy="22176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91" name=""/>
              <p:cNvSpPr/>
              <p:nvPr/>
            </p:nvSpPr>
            <p:spPr>
              <a:xfrm flipH="1">
                <a:off x="6214320" y="4596840"/>
                <a:ext cx="527760" cy="44532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 flipH="1">
                <a:off x="6214320" y="4715640"/>
                <a:ext cx="527760" cy="32616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 flipH="1">
                <a:off x="6217200" y="4596840"/>
                <a:ext cx="524880" cy="29088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noFill/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94" name=""/>
              <p:cNvGrpSpPr/>
              <p:nvPr/>
            </p:nvGrpSpPr>
            <p:grpSpPr>
              <a:xfrm>
                <a:off x="6447600" y="4640040"/>
                <a:ext cx="257760" cy="107640"/>
                <a:chOff x="6447600" y="4640040"/>
                <a:chExt cx="257760" cy="107640"/>
              </a:xfrm>
            </p:grpSpPr>
            <p:sp>
              <p:nvSpPr>
                <p:cNvPr id="4495" name=""/>
                <p:cNvSpPr/>
                <p:nvPr/>
              </p:nvSpPr>
              <p:spPr>
                <a:xfrm flipH="1">
                  <a:off x="6447600" y="4640040"/>
                  <a:ext cx="257760" cy="10764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6" name=""/>
                <p:cNvSpPr/>
                <p:nvPr/>
              </p:nvSpPr>
              <p:spPr>
                <a:xfrm flipH="1">
                  <a:off x="6447600" y="4640040"/>
                  <a:ext cx="257760" cy="10764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7" name=""/>
              <p:cNvGrpSpPr/>
              <p:nvPr/>
            </p:nvGrpSpPr>
            <p:grpSpPr>
              <a:xfrm>
                <a:off x="6546960" y="4754880"/>
                <a:ext cx="160920" cy="160920"/>
                <a:chOff x="6546960" y="4754880"/>
                <a:chExt cx="160920" cy="160920"/>
              </a:xfrm>
            </p:grpSpPr>
            <p:sp>
              <p:nvSpPr>
                <p:cNvPr id="4498" name=""/>
                <p:cNvSpPr/>
                <p:nvPr/>
              </p:nvSpPr>
              <p:spPr>
                <a:xfrm flipH="1">
                  <a:off x="6546600" y="4754880"/>
                  <a:ext cx="160920" cy="16092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9" name=""/>
                <p:cNvSpPr/>
                <p:nvPr/>
              </p:nvSpPr>
              <p:spPr>
                <a:xfrm flipH="1">
                  <a:off x="6546600" y="4754880"/>
                  <a:ext cx="160920" cy="16092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500" name=""/>
          <p:cNvGrpSpPr/>
          <p:nvPr/>
        </p:nvGrpSpPr>
        <p:grpSpPr>
          <a:xfrm>
            <a:off x="2209680" y="5105520"/>
            <a:ext cx="511200" cy="330120"/>
            <a:chOff x="2209680" y="5105520"/>
            <a:chExt cx="511200" cy="330120"/>
          </a:xfrm>
        </p:grpSpPr>
        <p:grpSp>
          <p:nvGrpSpPr>
            <p:cNvPr id="4501" name=""/>
            <p:cNvGrpSpPr/>
            <p:nvPr/>
          </p:nvGrpSpPr>
          <p:grpSpPr>
            <a:xfrm>
              <a:off x="2210400" y="5148000"/>
              <a:ext cx="322560" cy="287640"/>
              <a:chOff x="2210400" y="5148000"/>
              <a:chExt cx="322560" cy="287640"/>
            </a:xfrm>
          </p:grpSpPr>
          <p:sp>
            <p:nvSpPr>
              <p:cNvPr id="4502" name=""/>
              <p:cNvSpPr/>
              <p:nvPr/>
            </p:nvSpPr>
            <p:spPr>
              <a:xfrm>
                <a:off x="2210400" y="51480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2210400" y="51480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04" name=""/>
            <p:cNvGrpSpPr/>
            <p:nvPr/>
          </p:nvGrpSpPr>
          <p:grpSpPr>
            <a:xfrm>
              <a:off x="2532960" y="5157720"/>
              <a:ext cx="186120" cy="277920"/>
              <a:chOff x="2532960" y="5157720"/>
              <a:chExt cx="186120" cy="277920"/>
            </a:xfrm>
          </p:grpSpPr>
          <p:sp>
            <p:nvSpPr>
              <p:cNvPr id="4505" name=""/>
              <p:cNvSpPr/>
              <p:nvPr/>
            </p:nvSpPr>
            <p:spPr>
              <a:xfrm>
                <a:off x="2532960" y="51577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2532960" y="51577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07" name=""/>
            <p:cNvGrpSpPr/>
            <p:nvPr/>
          </p:nvGrpSpPr>
          <p:grpSpPr>
            <a:xfrm>
              <a:off x="2209680" y="5105520"/>
              <a:ext cx="511200" cy="115920"/>
              <a:chOff x="2209680" y="5105520"/>
              <a:chExt cx="511200" cy="115920"/>
            </a:xfrm>
          </p:grpSpPr>
          <p:sp>
            <p:nvSpPr>
              <p:cNvPr id="4508" name=""/>
              <p:cNvSpPr/>
              <p:nvPr/>
            </p:nvSpPr>
            <p:spPr>
              <a:xfrm>
                <a:off x="2209680" y="51055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2209680" y="51055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10" name=""/>
            <p:cNvSpPr/>
            <p:nvPr/>
          </p:nvSpPr>
          <p:spPr>
            <a:xfrm>
              <a:off x="2229840" y="517392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2229840" y="523584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2229840" y="517392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13" name=""/>
            <p:cNvGrpSpPr/>
            <p:nvPr/>
          </p:nvGrpSpPr>
          <p:grpSpPr>
            <a:xfrm>
              <a:off x="2248920" y="5196600"/>
              <a:ext cx="132840" cy="56160"/>
              <a:chOff x="2248920" y="5196600"/>
              <a:chExt cx="132840" cy="56160"/>
            </a:xfrm>
          </p:grpSpPr>
          <p:sp>
            <p:nvSpPr>
              <p:cNvPr id="4514" name=""/>
              <p:cNvSpPr/>
              <p:nvPr/>
            </p:nvSpPr>
            <p:spPr>
              <a:xfrm>
                <a:off x="2248920" y="51966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2248920" y="51966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16" name=""/>
            <p:cNvGrpSpPr/>
            <p:nvPr/>
          </p:nvGrpSpPr>
          <p:grpSpPr>
            <a:xfrm>
              <a:off x="2247480" y="5256720"/>
              <a:ext cx="83160" cy="83880"/>
              <a:chOff x="2247480" y="5256720"/>
              <a:chExt cx="83160" cy="83880"/>
            </a:xfrm>
          </p:grpSpPr>
          <p:sp>
            <p:nvSpPr>
              <p:cNvPr id="4517" name=""/>
              <p:cNvSpPr/>
              <p:nvPr/>
            </p:nvSpPr>
            <p:spPr>
              <a:xfrm>
                <a:off x="2247480" y="52567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2247480" y="52567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19" name=""/>
          <p:cNvGrpSpPr/>
          <p:nvPr/>
        </p:nvGrpSpPr>
        <p:grpSpPr>
          <a:xfrm>
            <a:off x="1371600" y="4419720"/>
            <a:ext cx="511200" cy="330120"/>
            <a:chOff x="1371600" y="4419720"/>
            <a:chExt cx="511200" cy="330120"/>
          </a:xfrm>
        </p:grpSpPr>
        <p:grpSp>
          <p:nvGrpSpPr>
            <p:cNvPr id="4520" name=""/>
            <p:cNvGrpSpPr/>
            <p:nvPr/>
          </p:nvGrpSpPr>
          <p:grpSpPr>
            <a:xfrm>
              <a:off x="1372320" y="4462200"/>
              <a:ext cx="322560" cy="287640"/>
              <a:chOff x="1372320" y="4462200"/>
              <a:chExt cx="322560" cy="287640"/>
            </a:xfrm>
          </p:grpSpPr>
          <p:sp>
            <p:nvSpPr>
              <p:cNvPr id="4521" name=""/>
              <p:cNvSpPr/>
              <p:nvPr/>
            </p:nvSpPr>
            <p:spPr>
              <a:xfrm>
                <a:off x="1372320" y="44622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1372320" y="44622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23" name=""/>
            <p:cNvGrpSpPr/>
            <p:nvPr/>
          </p:nvGrpSpPr>
          <p:grpSpPr>
            <a:xfrm>
              <a:off x="1694880" y="4471920"/>
              <a:ext cx="186120" cy="277920"/>
              <a:chOff x="1694880" y="4471920"/>
              <a:chExt cx="186120" cy="277920"/>
            </a:xfrm>
          </p:grpSpPr>
          <p:sp>
            <p:nvSpPr>
              <p:cNvPr id="4524" name=""/>
              <p:cNvSpPr/>
              <p:nvPr/>
            </p:nvSpPr>
            <p:spPr>
              <a:xfrm>
                <a:off x="1694880" y="44719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1694880" y="44719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26" name=""/>
            <p:cNvGrpSpPr/>
            <p:nvPr/>
          </p:nvGrpSpPr>
          <p:grpSpPr>
            <a:xfrm>
              <a:off x="1371600" y="4419720"/>
              <a:ext cx="511200" cy="115920"/>
              <a:chOff x="1371600" y="4419720"/>
              <a:chExt cx="511200" cy="115920"/>
            </a:xfrm>
          </p:grpSpPr>
          <p:sp>
            <p:nvSpPr>
              <p:cNvPr id="4527" name=""/>
              <p:cNvSpPr/>
              <p:nvPr/>
            </p:nvSpPr>
            <p:spPr>
              <a:xfrm>
                <a:off x="1371600" y="44197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1371600" y="44197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29" name=""/>
            <p:cNvSpPr/>
            <p:nvPr/>
          </p:nvSpPr>
          <p:spPr>
            <a:xfrm>
              <a:off x="1391760" y="448812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1391760" y="455004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1391760" y="448812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32" name=""/>
            <p:cNvGrpSpPr/>
            <p:nvPr/>
          </p:nvGrpSpPr>
          <p:grpSpPr>
            <a:xfrm>
              <a:off x="1410840" y="4510800"/>
              <a:ext cx="132840" cy="56160"/>
              <a:chOff x="1410840" y="4510800"/>
              <a:chExt cx="132840" cy="56160"/>
            </a:xfrm>
          </p:grpSpPr>
          <p:sp>
            <p:nvSpPr>
              <p:cNvPr id="4533" name=""/>
              <p:cNvSpPr/>
              <p:nvPr/>
            </p:nvSpPr>
            <p:spPr>
              <a:xfrm>
                <a:off x="1410840" y="45108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1410840" y="45108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35" name=""/>
            <p:cNvGrpSpPr/>
            <p:nvPr/>
          </p:nvGrpSpPr>
          <p:grpSpPr>
            <a:xfrm>
              <a:off x="1409400" y="4570920"/>
              <a:ext cx="83160" cy="83880"/>
              <a:chOff x="1409400" y="4570920"/>
              <a:chExt cx="83160" cy="83880"/>
            </a:xfrm>
          </p:grpSpPr>
          <p:sp>
            <p:nvSpPr>
              <p:cNvPr id="4536" name=""/>
              <p:cNvSpPr/>
              <p:nvPr/>
            </p:nvSpPr>
            <p:spPr>
              <a:xfrm>
                <a:off x="1409400" y="45709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1409400" y="45709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38" name=""/>
          <p:cNvGrpSpPr/>
          <p:nvPr/>
        </p:nvGrpSpPr>
        <p:grpSpPr>
          <a:xfrm>
            <a:off x="1600200" y="4952880"/>
            <a:ext cx="507960" cy="330480"/>
            <a:chOff x="1600200" y="4952880"/>
            <a:chExt cx="507960" cy="330480"/>
          </a:xfrm>
        </p:grpSpPr>
        <p:grpSp>
          <p:nvGrpSpPr>
            <p:cNvPr id="4539" name=""/>
            <p:cNvGrpSpPr/>
            <p:nvPr/>
          </p:nvGrpSpPr>
          <p:grpSpPr>
            <a:xfrm>
              <a:off x="1600920" y="4995360"/>
              <a:ext cx="320400" cy="288000"/>
              <a:chOff x="1600920" y="4995360"/>
              <a:chExt cx="320400" cy="288000"/>
            </a:xfrm>
          </p:grpSpPr>
          <p:sp>
            <p:nvSpPr>
              <p:cNvPr id="4540" name=""/>
              <p:cNvSpPr/>
              <p:nvPr/>
            </p:nvSpPr>
            <p:spPr>
              <a:xfrm>
                <a:off x="1600920" y="4995360"/>
                <a:ext cx="32040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1600920" y="4995360"/>
                <a:ext cx="32040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42" name=""/>
            <p:cNvGrpSpPr/>
            <p:nvPr/>
          </p:nvGrpSpPr>
          <p:grpSpPr>
            <a:xfrm>
              <a:off x="1921680" y="5005080"/>
              <a:ext cx="184680" cy="278280"/>
              <a:chOff x="1921680" y="5005080"/>
              <a:chExt cx="184680" cy="278280"/>
            </a:xfrm>
          </p:grpSpPr>
          <p:sp>
            <p:nvSpPr>
              <p:cNvPr id="4543" name=""/>
              <p:cNvSpPr/>
              <p:nvPr/>
            </p:nvSpPr>
            <p:spPr>
              <a:xfrm>
                <a:off x="1921680" y="5005080"/>
                <a:ext cx="18468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1921680" y="5005080"/>
                <a:ext cx="18468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45" name=""/>
            <p:cNvGrpSpPr/>
            <p:nvPr/>
          </p:nvGrpSpPr>
          <p:grpSpPr>
            <a:xfrm>
              <a:off x="1600200" y="4952880"/>
              <a:ext cx="507960" cy="115920"/>
              <a:chOff x="1600200" y="4952880"/>
              <a:chExt cx="507960" cy="115920"/>
            </a:xfrm>
          </p:grpSpPr>
          <p:sp>
            <p:nvSpPr>
              <p:cNvPr id="4546" name=""/>
              <p:cNvSpPr/>
              <p:nvPr/>
            </p:nvSpPr>
            <p:spPr>
              <a:xfrm>
                <a:off x="1600200" y="495288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1600200" y="495288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548" name=""/>
            <p:cNvSpPr/>
            <p:nvPr/>
          </p:nvSpPr>
          <p:spPr>
            <a:xfrm>
              <a:off x="1620360" y="5021280"/>
              <a:ext cx="270720" cy="2329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1620360" y="5083560"/>
              <a:ext cx="2707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1620360" y="5021280"/>
              <a:ext cx="269280" cy="1522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51" name=""/>
            <p:cNvGrpSpPr/>
            <p:nvPr/>
          </p:nvGrpSpPr>
          <p:grpSpPr>
            <a:xfrm>
              <a:off x="1639080" y="5043960"/>
              <a:ext cx="132120" cy="56160"/>
              <a:chOff x="1639080" y="5043960"/>
              <a:chExt cx="132120" cy="56160"/>
            </a:xfrm>
          </p:grpSpPr>
          <p:sp>
            <p:nvSpPr>
              <p:cNvPr id="4552" name=""/>
              <p:cNvSpPr/>
              <p:nvPr/>
            </p:nvSpPr>
            <p:spPr>
              <a:xfrm>
                <a:off x="1639080" y="504396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1639080" y="504396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54" name=""/>
            <p:cNvGrpSpPr/>
            <p:nvPr/>
          </p:nvGrpSpPr>
          <p:grpSpPr>
            <a:xfrm>
              <a:off x="1637640" y="5104080"/>
              <a:ext cx="82440" cy="84240"/>
              <a:chOff x="1637640" y="5104080"/>
              <a:chExt cx="82440" cy="84240"/>
            </a:xfrm>
          </p:grpSpPr>
          <p:sp>
            <p:nvSpPr>
              <p:cNvPr id="4555" name=""/>
              <p:cNvSpPr/>
              <p:nvPr/>
            </p:nvSpPr>
            <p:spPr>
              <a:xfrm>
                <a:off x="1637640" y="5104080"/>
                <a:ext cx="8244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1637640" y="5104080"/>
                <a:ext cx="8244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57" name=""/>
          <p:cNvSpPr/>
          <p:nvPr/>
        </p:nvSpPr>
        <p:spPr>
          <a:xfrm>
            <a:off x="2980080" y="6248520"/>
            <a:ext cx="33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fferentiated Service Network(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8" name=""/>
          <p:cNvSpPr/>
          <p:nvPr/>
        </p:nvSpPr>
        <p:spPr>
          <a:xfrm>
            <a:off x="230040" y="411480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EEE 802.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9" name=""/>
          <p:cNvSpPr/>
          <p:nvPr/>
        </p:nvSpPr>
        <p:spPr>
          <a:xfrm>
            <a:off x="838080" y="3124080"/>
            <a:ext cx="398520" cy="2034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0" name=""/>
          <p:cNvSpPr/>
          <p:nvPr/>
        </p:nvSpPr>
        <p:spPr>
          <a:xfrm>
            <a:off x="457200" y="838080"/>
            <a:ext cx="8381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ckets passing through AP and switch are allotted resources based on 802.1p marking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1" name=""/>
          <p:cNvSpPr/>
          <p:nvPr/>
        </p:nvSpPr>
        <p:spPr>
          <a:xfrm>
            <a:off x="1757520" y="3600360"/>
            <a:ext cx="258480" cy="3333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2" name=""/>
          <p:cNvSpPr/>
          <p:nvPr/>
        </p:nvSpPr>
        <p:spPr>
          <a:xfrm>
            <a:off x="2401920" y="4254480"/>
            <a:ext cx="208080" cy="29844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3" name=""/>
          <p:cNvSpPr/>
          <p:nvPr/>
        </p:nvSpPr>
        <p:spPr>
          <a:xfrm>
            <a:off x="3303720" y="5010120"/>
            <a:ext cx="506160" cy="476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4" name=""/>
          <p:cNvSpPr/>
          <p:nvPr/>
        </p:nvSpPr>
        <p:spPr>
          <a:xfrm>
            <a:off x="3886200" y="5315040"/>
            <a:ext cx="1295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5" name=""/>
          <p:cNvSpPr/>
          <p:nvPr/>
        </p:nvSpPr>
        <p:spPr>
          <a:xfrm flipV="1">
            <a:off x="5334120" y="4952880"/>
            <a:ext cx="533160" cy="5335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6" name=""/>
          <p:cNvSpPr/>
          <p:nvPr/>
        </p:nvSpPr>
        <p:spPr>
          <a:xfrm flipV="1">
            <a:off x="6593040" y="4267080"/>
            <a:ext cx="188640" cy="2476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7" name=""/>
          <p:cNvSpPr/>
          <p:nvPr/>
        </p:nvSpPr>
        <p:spPr>
          <a:xfrm flipV="1">
            <a:off x="7261200" y="3574800"/>
            <a:ext cx="235080" cy="322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8" name=""/>
          <p:cNvSpPr/>
          <p:nvPr/>
        </p:nvSpPr>
        <p:spPr>
          <a:xfrm flipV="1">
            <a:off x="8004240" y="3123720"/>
            <a:ext cx="301680" cy="1666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9" name=""/>
          <p:cNvSpPr/>
          <p:nvPr/>
        </p:nvSpPr>
        <p:spPr>
          <a:xfrm>
            <a:off x="457200" y="1143000"/>
            <a:ext cx="8381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ckets passing through RSVP capable routers are allotted resources based on classification information conveyed in RSVP messag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0" name=""/>
          <p:cNvSpPr/>
          <p:nvPr/>
        </p:nvSpPr>
        <p:spPr>
          <a:xfrm>
            <a:off x="457200" y="1676520"/>
            <a:ext cx="8381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ckets passing through Diff-Serv network are allotted resources based on DS-field (TOS) marking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71" name=""/>
          <p:cNvGrpSpPr/>
          <p:nvPr/>
        </p:nvGrpSpPr>
        <p:grpSpPr>
          <a:xfrm>
            <a:off x="1219320" y="3187800"/>
            <a:ext cx="6781680" cy="407880"/>
            <a:chOff x="1219320" y="3187800"/>
            <a:chExt cx="6781680" cy="407880"/>
          </a:xfrm>
        </p:grpSpPr>
        <p:grpSp>
          <p:nvGrpSpPr>
            <p:cNvPr id="4572" name=""/>
            <p:cNvGrpSpPr/>
            <p:nvPr/>
          </p:nvGrpSpPr>
          <p:grpSpPr>
            <a:xfrm>
              <a:off x="1219320" y="3214800"/>
              <a:ext cx="533160" cy="380880"/>
              <a:chOff x="1219320" y="3214800"/>
              <a:chExt cx="533160" cy="380880"/>
            </a:xfrm>
          </p:grpSpPr>
          <p:sp>
            <p:nvSpPr>
              <p:cNvPr id="4573" name=""/>
              <p:cNvSpPr/>
              <p:nvPr/>
            </p:nvSpPr>
            <p:spPr>
              <a:xfrm>
                <a:off x="1219320" y="3214800"/>
                <a:ext cx="533160" cy="380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74" name=""/>
              <p:cNvGrpSpPr/>
              <p:nvPr/>
            </p:nvGrpSpPr>
            <p:grpSpPr>
              <a:xfrm>
                <a:off x="1289520" y="3288600"/>
                <a:ext cx="399240" cy="247680"/>
                <a:chOff x="1289520" y="3288600"/>
                <a:chExt cx="399240" cy="247680"/>
              </a:xfrm>
            </p:grpSpPr>
            <p:sp>
              <p:nvSpPr>
                <p:cNvPr id="4575" name=""/>
                <p:cNvSpPr/>
                <p:nvPr/>
              </p:nvSpPr>
              <p:spPr>
                <a:xfrm>
                  <a:off x="1351800" y="3288600"/>
                  <a:ext cx="277200" cy="24768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6" name=""/>
                <p:cNvSpPr/>
                <p:nvPr/>
              </p:nvSpPr>
              <p:spPr>
                <a:xfrm flipH="1">
                  <a:off x="1344240" y="3288600"/>
                  <a:ext cx="276480" cy="24768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7" name=""/>
                <p:cNvSpPr/>
                <p:nvPr/>
              </p:nvSpPr>
              <p:spPr>
                <a:xfrm>
                  <a:off x="1613880" y="3292560"/>
                  <a:ext cx="6912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8" name=""/>
                <p:cNvSpPr/>
                <p:nvPr/>
              </p:nvSpPr>
              <p:spPr>
                <a:xfrm>
                  <a:off x="1622880" y="3534120"/>
                  <a:ext cx="6588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9" name=""/>
                <p:cNvSpPr/>
                <p:nvPr/>
              </p:nvSpPr>
              <p:spPr>
                <a:xfrm>
                  <a:off x="1299240" y="3292560"/>
                  <a:ext cx="6300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0" name=""/>
                <p:cNvSpPr/>
                <p:nvPr/>
              </p:nvSpPr>
              <p:spPr>
                <a:xfrm>
                  <a:off x="1289520" y="3534120"/>
                  <a:ext cx="6444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81" name=""/>
            <p:cNvGrpSpPr/>
            <p:nvPr/>
          </p:nvGrpSpPr>
          <p:grpSpPr>
            <a:xfrm>
              <a:off x="7467480" y="3187800"/>
              <a:ext cx="533520" cy="380880"/>
              <a:chOff x="7467480" y="3187800"/>
              <a:chExt cx="533520" cy="380880"/>
            </a:xfrm>
          </p:grpSpPr>
          <p:sp>
            <p:nvSpPr>
              <p:cNvPr id="4582" name=""/>
              <p:cNvSpPr/>
              <p:nvPr/>
            </p:nvSpPr>
            <p:spPr>
              <a:xfrm flipH="1">
                <a:off x="7467480" y="3187800"/>
                <a:ext cx="533520" cy="3808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83" name=""/>
              <p:cNvGrpSpPr/>
              <p:nvPr/>
            </p:nvGrpSpPr>
            <p:grpSpPr>
              <a:xfrm>
                <a:off x="7531200" y="3261600"/>
                <a:ext cx="399240" cy="247680"/>
                <a:chOff x="7531200" y="3261600"/>
                <a:chExt cx="399240" cy="247680"/>
              </a:xfrm>
            </p:grpSpPr>
            <p:sp>
              <p:nvSpPr>
                <p:cNvPr id="4584" name=""/>
                <p:cNvSpPr/>
                <p:nvPr/>
              </p:nvSpPr>
              <p:spPr>
                <a:xfrm flipH="1">
                  <a:off x="7590960" y="3261600"/>
                  <a:ext cx="277200" cy="24768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5" name=""/>
                <p:cNvSpPr/>
                <p:nvPr/>
              </p:nvSpPr>
              <p:spPr>
                <a:xfrm>
                  <a:off x="7599240" y="3261600"/>
                  <a:ext cx="276480" cy="24768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6" name=""/>
                <p:cNvSpPr/>
                <p:nvPr/>
              </p:nvSpPr>
              <p:spPr>
                <a:xfrm flipH="1">
                  <a:off x="7536960" y="3265560"/>
                  <a:ext cx="6912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7" name=""/>
                <p:cNvSpPr/>
                <p:nvPr/>
              </p:nvSpPr>
              <p:spPr>
                <a:xfrm flipH="1">
                  <a:off x="7531200" y="3507120"/>
                  <a:ext cx="6588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8" name=""/>
                <p:cNvSpPr/>
                <p:nvPr/>
              </p:nvSpPr>
              <p:spPr>
                <a:xfrm flipH="1">
                  <a:off x="7857720" y="3265560"/>
                  <a:ext cx="6300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9" name=""/>
                <p:cNvSpPr/>
                <p:nvPr/>
              </p:nvSpPr>
              <p:spPr>
                <a:xfrm flipH="1">
                  <a:off x="7866000" y="3507120"/>
                  <a:ext cx="6444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590" name=""/>
          <p:cNvGrpSpPr/>
          <p:nvPr/>
        </p:nvGrpSpPr>
        <p:grpSpPr>
          <a:xfrm>
            <a:off x="1841400" y="3849840"/>
            <a:ext cx="5562720" cy="1263240"/>
            <a:chOff x="1841400" y="3849840"/>
            <a:chExt cx="5562720" cy="1263240"/>
          </a:xfrm>
        </p:grpSpPr>
        <p:grpSp>
          <p:nvGrpSpPr>
            <p:cNvPr id="4591" name=""/>
            <p:cNvGrpSpPr/>
            <p:nvPr/>
          </p:nvGrpSpPr>
          <p:grpSpPr>
            <a:xfrm>
              <a:off x="1841400" y="3876480"/>
              <a:ext cx="735120" cy="479160"/>
              <a:chOff x="1841400" y="3876480"/>
              <a:chExt cx="735120" cy="479160"/>
            </a:xfrm>
          </p:grpSpPr>
          <p:grpSp>
            <p:nvGrpSpPr>
              <p:cNvPr id="4592" name=""/>
              <p:cNvGrpSpPr/>
              <p:nvPr/>
            </p:nvGrpSpPr>
            <p:grpSpPr>
              <a:xfrm>
                <a:off x="1842480" y="3938040"/>
                <a:ext cx="464040" cy="417600"/>
                <a:chOff x="1842480" y="3938040"/>
                <a:chExt cx="464040" cy="417600"/>
              </a:xfrm>
            </p:grpSpPr>
            <p:sp>
              <p:nvSpPr>
                <p:cNvPr id="4593" name=""/>
                <p:cNvSpPr/>
                <p:nvPr/>
              </p:nvSpPr>
              <p:spPr>
                <a:xfrm>
                  <a:off x="1842480" y="3938040"/>
                  <a:ext cx="464040" cy="41760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4" name=""/>
                <p:cNvSpPr/>
                <p:nvPr/>
              </p:nvSpPr>
              <p:spPr>
                <a:xfrm>
                  <a:off x="1842480" y="3938040"/>
                  <a:ext cx="464040" cy="41760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5" name=""/>
              <p:cNvGrpSpPr/>
              <p:nvPr/>
            </p:nvGrpSpPr>
            <p:grpSpPr>
              <a:xfrm>
                <a:off x="2306520" y="3952440"/>
                <a:ext cx="267480" cy="403200"/>
                <a:chOff x="2306520" y="3952440"/>
                <a:chExt cx="267480" cy="403200"/>
              </a:xfrm>
            </p:grpSpPr>
            <p:sp>
              <p:nvSpPr>
                <p:cNvPr id="4596" name=""/>
                <p:cNvSpPr/>
                <p:nvPr/>
              </p:nvSpPr>
              <p:spPr>
                <a:xfrm>
                  <a:off x="2306520" y="3952440"/>
                  <a:ext cx="267480" cy="40320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7" name=""/>
                <p:cNvSpPr/>
                <p:nvPr/>
              </p:nvSpPr>
              <p:spPr>
                <a:xfrm>
                  <a:off x="2306520" y="3952440"/>
                  <a:ext cx="267480" cy="40320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8" name=""/>
              <p:cNvGrpSpPr/>
              <p:nvPr/>
            </p:nvGrpSpPr>
            <p:grpSpPr>
              <a:xfrm>
                <a:off x="1841400" y="3876480"/>
                <a:ext cx="735120" cy="168120"/>
                <a:chOff x="1841400" y="3876480"/>
                <a:chExt cx="735120" cy="168120"/>
              </a:xfrm>
            </p:grpSpPr>
            <p:sp>
              <p:nvSpPr>
                <p:cNvPr id="4599" name=""/>
                <p:cNvSpPr/>
                <p:nvPr/>
              </p:nvSpPr>
              <p:spPr>
                <a:xfrm>
                  <a:off x="1841400" y="3876480"/>
                  <a:ext cx="735120" cy="16812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0" name=""/>
                <p:cNvSpPr/>
                <p:nvPr/>
              </p:nvSpPr>
              <p:spPr>
                <a:xfrm>
                  <a:off x="1841400" y="3876480"/>
                  <a:ext cx="735120" cy="16812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01" name=""/>
              <p:cNvSpPr/>
              <p:nvPr/>
            </p:nvSpPr>
            <p:spPr>
              <a:xfrm>
                <a:off x="1870560" y="3975840"/>
                <a:ext cx="391680" cy="3376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1870560" y="4065840"/>
                <a:ext cx="391680" cy="24732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solidFill>
                <a:srgbClr val="ffcc99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1870560" y="3975840"/>
                <a:ext cx="389520" cy="22068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solidFill>
                <a:srgbClr val="ffcc99"/>
              </a:solidFill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604" name=""/>
              <p:cNvGrpSpPr/>
              <p:nvPr/>
            </p:nvGrpSpPr>
            <p:grpSpPr>
              <a:xfrm>
                <a:off x="1897920" y="4008600"/>
                <a:ext cx="191160" cy="81720"/>
                <a:chOff x="1897920" y="4008600"/>
                <a:chExt cx="191160" cy="81720"/>
              </a:xfrm>
            </p:grpSpPr>
            <p:sp>
              <p:nvSpPr>
                <p:cNvPr id="4605" name=""/>
                <p:cNvSpPr/>
                <p:nvPr/>
              </p:nvSpPr>
              <p:spPr>
                <a:xfrm>
                  <a:off x="1897920" y="4008600"/>
                  <a:ext cx="191160" cy="8172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6" name=""/>
                <p:cNvSpPr/>
                <p:nvPr/>
              </p:nvSpPr>
              <p:spPr>
                <a:xfrm>
                  <a:off x="1897920" y="4008600"/>
                  <a:ext cx="191160" cy="8172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7" name=""/>
              <p:cNvGrpSpPr/>
              <p:nvPr/>
            </p:nvGrpSpPr>
            <p:grpSpPr>
              <a:xfrm>
                <a:off x="1895760" y="4095720"/>
                <a:ext cx="119520" cy="122040"/>
                <a:chOff x="1895760" y="4095720"/>
                <a:chExt cx="119520" cy="122040"/>
              </a:xfrm>
            </p:grpSpPr>
            <p:sp>
              <p:nvSpPr>
                <p:cNvPr id="4608" name=""/>
                <p:cNvSpPr/>
                <p:nvPr/>
              </p:nvSpPr>
              <p:spPr>
                <a:xfrm>
                  <a:off x="1895760" y="4095720"/>
                  <a:ext cx="119520" cy="12204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9" name=""/>
                <p:cNvSpPr/>
                <p:nvPr/>
              </p:nvSpPr>
              <p:spPr>
                <a:xfrm>
                  <a:off x="1895760" y="4095720"/>
                  <a:ext cx="119520" cy="12204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10" name=""/>
            <p:cNvGrpSpPr/>
            <p:nvPr/>
          </p:nvGrpSpPr>
          <p:grpSpPr>
            <a:xfrm>
              <a:off x="2450880" y="4481640"/>
              <a:ext cx="990720" cy="631440"/>
              <a:chOff x="2450880" y="4481640"/>
              <a:chExt cx="990720" cy="631440"/>
            </a:xfrm>
          </p:grpSpPr>
          <p:grpSp>
            <p:nvGrpSpPr>
              <p:cNvPr id="4611" name=""/>
              <p:cNvGrpSpPr/>
              <p:nvPr/>
            </p:nvGrpSpPr>
            <p:grpSpPr>
              <a:xfrm>
                <a:off x="2452320" y="4562640"/>
                <a:ext cx="624960" cy="550080"/>
                <a:chOff x="2452320" y="4562640"/>
                <a:chExt cx="624960" cy="550080"/>
              </a:xfrm>
            </p:grpSpPr>
            <p:sp>
              <p:nvSpPr>
                <p:cNvPr id="4612" name=""/>
                <p:cNvSpPr/>
                <p:nvPr/>
              </p:nvSpPr>
              <p:spPr>
                <a:xfrm>
                  <a:off x="2452320" y="4562640"/>
                  <a:ext cx="624960" cy="550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3" name=""/>
                <p:cNvSpPr/>
                <p:nvPr/>
              </p:nvSpPr>
              <p:spPr>
                <a:xfrm>
                  <a:off x="2452320" y="4562640"/>
                  <a:ext cx="624960" cy="550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4" name=""/>
              <p:cNvGrpSpPr/>
              <p:nvPr/>
            </p:nvGrpSpPr>
            <p:grpSpPr>
              <a:xfrm>
                <a:off x="3077640" y="4581720"/>
                <a:ext cx="360360" cy="531360"/>
                <a:chOff x="3077640" y="4581720"/>
                <a:chExt cx="360360" cy="531360"/>
              </a:xfrm>
            </p:grpSpPr>
            <p:sp>
              <p:nvSpPr>
                <p:cNvPr id="4615" name=""/>
                <p:cNvSpPr/>
                <p:nvPr/>
              </p:nvSpPr>
              <p:spPr>
                <a:xfrm>
                  <a:off x="3077640" y="4581720"/>
                  <a:ext cx="360360" cy="53136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6" name=""/>
                <p:cNvSpPr/>
                <p:nvPr/>
              </p:nvSpPr>
              <p:spPr>
                <a:xfrm>
                  <a:off x="3077640" y="4581720"/>
                  <a:ext cx="360360" cy="53136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7" name=""/>
              <p:cNvGrpSpPr/>
              <p:nvPr/>
            </p:nvGrpSpPr>
            <p:grpSpPr>
              <a:xfrm>
                <a:off x="2450880" y="4481640"/>
                <a:ext cx="990720" cy="221400"/>
                <a:chOff x="2450880" y="4481640"/>
                <a:chExt cx="990720" cy="221400"/>
              </a:xfrm>
            </p:grpSpPr>
            <p:sp>
              <p:nvSpPr>
                <p:cNvPr id="4618" name=""/>
                <p:cNvSpPr/>
                <p:nvPr/>
              </p:nvSpPr>
              <p:spPr>
                <a:xfrm>
                  <a:off x="2450880" y="4481640"/>
                  <a:ext cx="990720" cy="22140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9" name=""/>
                <p:cNvSpPr/>
                <p:nvPr/>
              </p:nvSpPr>
              <p:spPr>
                <a:xfrm>
                  <a:off x="2450880" y="4481640"/>
                  <a:ext cx="990720" cy="22140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20" name=""/>
              <p:cNvSpPr/>
              <p:nvPr/>
            </p:nvSpPr>
            <p:spPr>
              <a:xfrm>
                <a:off x="2490120" y="4612320"/>
                <a:ext cx="527760" cy="44496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2490120" y="4731120"/>
                <a:ext cx="527760" cy="32616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solidFill>
                <a:srgbClr val="ffcc99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2490120" y="4612320"/>
                <a:ext cx="525240" cy="29088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solidFill>
                <a:srgbClr val="ffcc99"/>
              </a:solidFill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623" name=""/>
              <p:cNvGrpSpPr/>
              <p:nvPr/>
            </p:nvGrpSpPr>
            <p:grpSpPr>
              <a:xfrm>
                <a:off x="2526840" y="4655880"/>
                <a:ext cx="257760" cy="107640"/>
                <a:chOff x="2526840" y="4655880"/>
                <a:chExt cx="257760" cy="107640"/>
              </a:xfrm>
            </p:grpSpPr>
            <p:sp>
              <p:nvSpPr>
                <p:cNvPr id="4624" name=""/>
                <p:cNvSpPr/>
                <p:nvPr/>
              </p:nvSpPr>
              <p:spPr>
                <a:xfrm>
                  <a:off x="2526840" y="4655880"/>
                  <a:ext cx="257760" cy="10764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5" name=""/>
                <p:cNvSpPr/>
                <p:nvPr/>
              </p:nvSpPr>
              <p:spPr>
                <a:xfrm>
                  <a:off x="2526840" y="4655880"/>
                  <a:ext cx="257760" cy="10764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6" name=""/>
              <p:cNvGrpSpPr/>
              <p:nvPr/>
            </p:nvGrpSpPr>
            <p:grpSpPr>
              <a:xfrm>
                <a:off x="2524320" y="4770720"/>
                <a:ext cx="161280" cy="160560"/>
                <a:chOff x="2524320" y="4770720"/>
                <a:chExt cx="161280" cy="160560"/>
              </a:xfrm>
            </p:grpSpPr>
            <p:sp>
              <p:nvSpPr>
                <p:cNvPr id="4627" name=""/>
                <p:cNvSpPr/>
                <p:nvPr/>
              </p:nvSpPr>
              <p:spPr>
                <a:xfrm>
                  <a:off x="2524320" y="4770720"/>
                  <a:ext cx="161280" cy="1605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8" name=""/>
                <p:cNvSpPr/>
                <p:nvPr/>
              </p:nvSpPr>
              <p:spPr>
                <a:xfrm>
                  <a:off x="2524320" y="4770720"/>
                  <a:ext cx="161280" cy="1605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29" name=""/>
            <p:cNvGrpSpPr/>
            <p:nvPr/>
          </p:nvGrpSpPr>
          <p:grpSpPr>
            <a:xfrm>
              <a:off x="6669000" y="3849840"/>
              <a:ext cx="735120" cy="479160"/>
              <a:chOff x="6669000" y="3849840"/>
              <a:chExt cx="735120" cy="479160"/>
            </a:xfrm>
          </p:grpSpPr>
          <p:grpSp>
            <p:nvGrpSpPr>
              <p:cNvPr id="4630" name=""/>
              <p:cNvGrpSpPr/>
              <p:nvPr/>
            </p:nvGrpSpPr>
            <p:grpSpPr>
              <a:xfrm>
                <a:off x="6939000" y="3911400"/>
                <a:ext cx="464040" cy="417600"/>
                <a:chOff x="6939000" y="3911400"/>
                <a:chExt cx="464040" cy="417600"/>
              </a:xfrm>
            </p:grpSpPr>
            <p:sp>
              <p:nvSpPr>
                <p:cNvPr id="4631" name=""/>
                <p:cNvSpPr/>
                <p:nvPr/>
              </p:nvSpPr>
              <p:spPr>
                <a:xfrm flipH="1">
                  <a:off x="6938640" y="3911400"/>
                  <a:ext cx="464040" cy="41760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2" name=""/>
                <p:cNvSpPr/>
                <p:nvPr/>
              </p:nvSpPr>
              <p:spPr>
                <a:xfrm flipH="1">
                  <a:off x="6938640" y="3911400"/>
                  <a:ext cx="464040" cy="41760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3" name=""/>
              <p:cNvGrpSpPr/>
              <p:nvPr/>
            </p:nvGrpSpPr>
            <p:grpSpPr>
              <a:xfrm>
                <a:off x="6671520" y="3925800"/>
                <a:ext cx="267480" cy="403200"/>
                <a:chOff x="6671520" y="3925800"/>
                <a:chExt cx="267480" cy="403200"/>
              </a:xfrm>
            </p:grpSpPr>
            <p:sp>
              <p:nvSpPr>
                <p:cNvPr id="4634" name=""/>
                <p:cNvSpPr/>
                <p:nvPr/>
              </p:nvSpPr>
              <p:spPr>
                <a:xfrm flipH="1">
                  <a:off x="6671160" y="3925800"/>
                  <a:ext cx="267480" cy="40320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5" name=""/>
                <p:cNvSpPr/>
                <p:nvPr/>
              </p:nvSpPr>
              <p:spPr>
                <a:xfrm flipH="1">
                  <a:off x="6671160" y="3925800"/>
                  <a:ext cx="267480" cy="40320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6" name=""/>
              <p:cNvGrpSpPr/>
              <p:nvPr/>
            </p:nvGrpSpPr>
            <p:grpSpPr>
              <a:xfrm>
                <a:off x="6669000" y="3849840"/>
                <a:ext cx="735120" cy="168120"/>
                <a:chOff x="6669000" y="3849840"/>
                <a:chExt cx="735120" cy="168120"/>
              </a:xfrm>
            </p:grpSpPr>
            <p:sp>
              <p:nvSpPr>
                <p:cNvPr id="4637" name=""/>
                <p:cNvSpPr/>
                <p:nvPr/>
              </p:nvSpPr>
              <p:spPr>
                <a:xfrm flipH="1">
                  <a:off x="6669000" y="3849840"/>
                  <a:ext cx="735120" cy="16812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8" name=""/>
                <p:cNvSpPr/>
                <p:nvPr/>
              </p:nvSpPr>
              <p:spPr>
                <a:xfrm flipH="1">
                  <a:off x="6669000" y="3849840"/>
                  <a:ext cx="735120" cy="16812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39" name=""/>
              <p:cNvSpPr/>
              <p:nvPr/>
            </p:nvSpPr>
            <p:spPr>
              <a:xfrm flipH="1">
                <a:off x="6983280" y="3949200"/>
                <a:ext cx="391680" cy="33768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 flipH="1">
                <a:off x="6983280" y="4039200"/>
                <a:ext cx="391680" cy="24732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solidFill>
                <a:srgbClr val="ffcc99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 flipH="1">
                <a:off x="6985440" y="3949200"/>
                <a:ext cx="389520" cy="22068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solidFill>
                <a:srgbClr val="ffcc99"/>
              </a:solidFill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642" name=""/>
              <p:cNvGrpSpPr/>
              <p:nvPr/>
            </p:nvGrpSpPr>
            <p:grpSpPr>
              <a:xfrm>
                <a:off x="7156440" y="3981960"/>
                <a:ext cx="191160" cy="81720"/>
                <a:chOff x="7156440" y="3981960"/>
                <a:chExt cx="191160" cy="81720"/>
              </a:xfrm>
            </p:grpSpPr>
            <p:sp>
              <p:nvSpPr>
                <p:cNvPr id="4643" name=""/>
                <p:cNvSpPr/>
                <p:nvPr/>
              </p:nvSpPr>
              <p:spPr>
                <a:xfrm flipH="1">
                  <a:off x="7156080" y="3981960"/>
                  <a:ext cx="191160" cy="8172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4" name=""/>
                <p:cNvSpPr/>
                <p:nvPr/>
              </p:nvSpPr>
              <p:spPr>
                <a:xfrm flipH="1">
                  <a:off x="7156080" y="3981960"/>
                  <a:ext cx="191160" cy="8172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5" name=""/>
              <p:cNvGrpSpPr/>
              <p:nvPr/>
            </p:nvGrpSpPr>
            <p:grpSpPr>
              <a:xfrm>
                <a:off x="7230240" y="4069080"/>
                <a:ext cx="119520" cy="122040"/>
                <a:chOff x="7230240" y="4069080"/>
                <a:chExt cx="119520" cy="122040"/>
              </a:xfrm>
            </p:grpSpPr>
            <p:sp>
              <p:nvSpPr>
                <p:cNvPr id="4646" name=""/>
                <p:cNvSpPr/>
                <p:nvPr/>
              </p:nvSpPr>
              <p:spPr>
                <a:xfrm flipH="1">
                  <a:off x="7230240" y="4069080"/>
                  <a:ext cx="119520" cy="12204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7" name=""/>
                <p:cNvSpPr/>
                <p:nvPr/>
              </p:nvSpPr>
              <p:spPr>
                <a:xfrm flipH="1">
                  <a:off x="7230240" y="4069080"/>
                  <a:ext cx="119520" cy="12204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48" name=""/>
            <p:cNvGrpSpPr/>
            <p:nvPr/>
          </p:nvGrpSpPr>
          <p:grpSpPr>
            <a:xfrm>
              <a:off x="5803560" y="4454640"/>
              <a:ext cx="990360" cy="631440"/>
              <a:chOff x="5803560" y="4454640"/>
              <a:chExt cx="990360" cy="631440"/>
            </a:xfrm>
          </p:grpSpPr>
          <p:grpSp>
            <p:nvGrpSpPr>
              <p:cNvPr id="4649" name=""/>
              <p:cNvGrpSpPr/>
              <p:nvPr/>
            </p:nvGrpSpPr>
            <p:grpSpPr>
              <a:xfrm>
                <a:off x="6167520" y="4535640"/>
                <a:ext cx="624960" cy="550080"/>
                <a:chOff x="6167520" y="4535640"/>
                <a:chExt cx="624960" cy="550080"/>
              </a:xfrm>
            </p:grpSpPr>
            <p:sp>
              <p:nvSpPr>
                <p:cNvPr id="4650" name=""/>
                <p:cNvSpPr/>
                <p:nvPr/>
              </p:nvSpPr>
              <p:spPr>
                <a:xfrm flipH="1">
                  <a:off x="6167520" y="4535640"/>
                  <a:ext cx="624960" cy="550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1" name=""/>
                <p:cNvSpPr/>
                <p:nvPr/>
              </p:nvSpPr>
              <p:spPr>
                <a:xfrm flipH="1">
                  <a:off x="6167520" y="4535640"/>
                  <a:ext cx="624960" cy="550080"/>
                </a:xfrm>
                <a:custGeom>
                  <a:avLst/>
                  <a:gdLst/>
                  <a:ahLst/>
                  <a:rect l="l" t="t" r="r" b="b"/>
                  <a:pathLst>
                    <a:path w="713" h="643">
                      <a:moveTo>
                        <a:pt x="0" y="0"/>
                      </a:moveTo>
                      <a:lnTo>
                        <a:pt x="0" y="425"/>
                      </a:lnTo>
                      <a:lnTo>
                        <a:pt x="713" y="643"/>
                      </a:lnTo>
                      <a:lnTo>
                        <a:pt x="713" y="16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2" name=""/>
              <p:cNvGrpSpPr/>
              <p:nvPr/>
            </p:nvGrpSpPr>
            <p:grpSpPr>
              <a:xfrm>
                <a:off x="5807160" y="4554720"/>
                <a:ext cx="360360" cy="531360"/>
                <a:chOff x="5807160" y="4554720"/>
                <a:chExt cx="360360" cy="531360"/>
              </a:xfrm>
            </p:grpSpPr>
            <p:sp>
              <p:nvSpPr>
                <p:cNvPr id="4653" name=""/>
                <p:cNvSpPr/>
                <p:nvPr/>
              </p:nvSpPr>
              <p:spPr>
                <a:xfrm flipH="1">
                  <a:off x="5806800" y="4554720"/>
                  <a:ext cx="360360" cy="53136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4" name=""/>
                <p:cNvSpPr/>
                <p:nvPr/>
              </p:nvSpPr>
              <p:spPr>
                <a:xfrm flipH="1">
                  <a:off x="5806800" y="4554720"/>
                  <a:ext cx="360360" cy="531360"/>
                </a:xfrm>
                <a:custGeom>
                  <a:avLst/>
                  <a:gdLst/>
                  <a:ahLst/>
                  <a:rect l="l" t="t" r="r" b="b"/>
                  <a:pathLst>
                    <a:path w="411" h="621">
                      <a:moveTo>
                        <a:pt x="0" y="144"/>
                      </a:moveTo>
                      <a:lnTo>
                        <a:pt x="0" y="621"/>
                      </a:lnTo>
                      <a:lnTo>
                        <a:pt x="411" y="423"/>
                      </a:lnTo>
                      <a:lnTo>
                        <a:pt x="411" y="0"/>
                      </a:lnTo>
                      <a:lnTo>
                        <a:pt x="0" y="144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5" name=""/>
              <p:cNvGrpSpPr/>
              <p:nvPr/>
            </p:nvGrpSpPr>
            <p:grpSpPr>
              <a:xfrm>
                <a:off x="5803560" y="4454640"/>
                <a:ext cx="990360" cy="221400"/>
                <a:chOff x="5803560" y="4454640"/>
                <a:chExt cx="990360" cy="221400"/>
              </a:xfrm>
            </p:grpSpPr>
            <p:sp>
              <p:nvSpPr>
                <p:cNvPr id="4656" name=""/>
                <p:cNvSpPr/>
                <p:nvPr/>
              </p:nvSpPr>
              <p:spPr>
                <a:xfrm flipH="1">
                  <a:off x="5803200" y="4454640"/>
                  <a:ext cx="990360" cy="22140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7" name=""/>
                <p:cNvSpPr/>
                <p:nvPr/>
              </p:nvSpPr>
              <p:spPr>
                <a:xfrm flipH="1">
                  <a:off x="5803200" y="4454640"/>
                  <a:ext cx="990360" cy="221400"/>
                </a:xfrm>
                <a:custGeom>
                  <a:avLst/>
                  <a:gdLst/>
                  <a:ahLst/>
                  <a:rect l="l" t="t" r="r" b="b"/>
                  <a:pathLst>
                    <a:path w="1130" h="259">
                      <a:moveTo>
                        <a:pt x="0" y="93"/>
                      </a:moveTo>
                      <a:lnTo>
                        <a:pt x="715" y="259"/>
                      </a:lnTo>
                      <a:lnTo>
                        <a:pt x="1130" y="121"/>
                      </a:lnTo>
                      <a:lnTo>
                        <a:pt x="430" y="0"/>
                      </a:lnTo>
                      <a:lnTo>
                        <a:pt x="0" y="93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58" name=""/>
              <p:cNvSpPr/>
              <p:nvPr/>
            </p:nvSpPr>
            <p:spPr>
              <a:xfrm flipH="1">
                <a:off x="6226920" y="4585320"/>
                <a:ext cx="527760" cy="444960"/>
              </a:xfrm>
              <a:custGeom>
                <a:avLst/>
                <a:gdLst/>
                <a:ahLst/>
                <a:rect l="l" t="t" r="r" b="b"/>
                <a:pathLst>
                  <a:path w="602" h="520">
                    <a:moveTo>
                      <a:pt x="0" y="0"/>
                    </a:moveTo>
                    <a:lnTo>
                      <a:pt x="0" y="340"/>
                    </a:lnTo>
                    <a:lnTo>
                      <a:pt x="602" y="520"/>
                    </a:lnTo>
                    <a:lnTo>
                      <a:pt x="602" y="1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 flipH="1">
                <a:off x="6226920" y="4704120"/>
                <a:ext cx="527760" cy="326160"/>
              </a:xfrm>
              <a:custGeom>
                <a:avLst/>
                <a:gdLst/>
                <a:ahLst/>
                <a:rect l="l" t="t" r="r" b="b"/>
                <a:pathLst>
                  <a:path w="602" h="381">
                    <a:moveTo>
                      <a:pt x="602" y="0"/>
                    </a:moveTo>
                    <a:lnTo>
                      <a:pt x="602" y="381"/>
                    </a:lnTo>
                    <a:lnTo>
                      <a:pt x="0" y="203"/>
                    </a:lnTo>
                  </a:path>
                </a:pathLst>
              </a:custGeom>
              <a:solidFill>
                <a:srgbClr val="ffcc99"/>
              </a:soli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 flipH="1">
                <a:off x="6229800" y="4585320"/>
                <a:ext cx="524880" cy="290880"/>
              </a:xfrm>
              <a:custGeom>
                <a:avLst/>
                <a:gdLst/>
                <a:ahLst/>
                <a:rect l="l" t="t" r="r" b="b"/>
                <a:pathLst>
                  <a:path w="599" h="340">
                    <a:moveTo>
                      <a:pt x="599" y="137"/>
                    </a:moveTo>
                    <a:lnTo>
                      <a:pt x="0" y="0"/>
                    </a:lnTo>
                    <a:lnTo>
                      <a:pt x="0" y="340"/>
                    </a:lnTo>
                  </a:path>
                </a:pathLst>
              </a:custGeom>
              <a:solidFill>
                <a:srgbClr val="ffcc99"/>
              </a:solidFill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661" name=""/>
              <p:cNvGrpSpPr/>
              <p:nvPr/>
            </p:nvGrpSpPr>
            <p:grpSpPr>
              <a:xfrm>
                <a:off x="6460200" y="4628880"/>
                <a:ext cx="257760" cy="107640"/>
                <a:chOff x="6460200" y="4628880"/>
                <a:chExt cx="257760" cy="107640"/>
              </a:xfrm>
            </p:grpSpPr>
            <p:sp>
              <p:nvSpPr>
                <p:cNvPr id="4662" name=""/>
                <p:cNvSpPr/>
                <p:nvPr/>
              </p:nvSpPr>
              <p:spPr>
                <a:xfrm flipH="1">
                  <a:off x="6460200" y="4628880"/>
                  <a:ext cx="257760" cy="10764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3" name=""/>
                <p:cNvSpPr/>
                <p:nvPr/>
              </p:nvSpPr>
              <p:spPr>
                <a:xfrm flipH="1">
                  <a:off x="6460200" y="4628880"/>
                  <a:ext cx="257760" cy="107640"/>
                </a:xfrm>
                <a:custGeom>
                  <a:avLst/>
                  <a:gdLst/>
                  <a:ahLst/>
                  <a:rect l="l" t="t" r="r" b="b"/>
                  <a:pathLst>
                    <a:path w="294" h="126">
                      <a:moveTo>
                        <a:pt x="0" y="0"/>
                      </a:moveTo>
                      <a:lnTo>
                        <a:pt x="0" y="56"/>
                      </a:lnTo>
                      <a:lnTo>
                        <a:pt x="294" y="126"/>
                      </a:lnTo>
                      <a:lnTo>
                        <a:pt x="294" y="6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4" name=""/>
              <p:cNvGrpSpPr/>
              <p:nvPr/>
            </p:nvGrpSpPr>
            <p:grpSpPr>
              <a:xfrm>
                <a:off x="6559560" y="4743720"/>
                <a:ext cx="160920" cy="160560"/>
                <a:chOff x="6559560" y="4743720"/>
                <a:chExt cx="160920" cy="160560"/>
              </a:xfrm>
            </p:grpSpPr>
            <p:sp>
              <p:nvSpPr>
                <p:cNvPr id="4665" name=""/>
                <p:cNvSpPr/>
                <p:nvPr/>
              </p:nvSpPr>
              <p:spPr>
                <a:xfrm flipH="1">
                  <a:off x="6559200" y="4743720"/>
                  <a:ext cx="160920" cy="1605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6" name=""/>
                <p:cNvSpPr/>
                <p:nvPr/>
              </p:nvSpPr>
              <p:spPr>
                <a:xfrm flipH="1">
                  <a:off x="6559200" y="4743720"/>
                  <a:ext cx="160920" cy="160560"/>
                </a:xfrm>
                <a:custGeom>
                  <a:avLst/>
                  <a:gdLst/>
                  <a:ahLst/>
                  <a:rect l="l" t="t" r="r" b="b"/>
                  <a:pathLst>
                    <a:path w="184" h="188">
                      <a:moveTo>
                        <a:pt x="0" y="134"/>
                      </a:moveTo>
                      <a:lnTo>
                        <a:pt x="184" y="188"/>
                      </a:lnTo>
                      <a:lnTo>
                        <a:pt x="184" y="47"/>
                      </a:lnTo>
                      <a:lnTo>
                        <a:pt x="0" y="0"/>
                      </a:lnTo>
                      <a:lnTo>
                        <a:pt x="0" y="134"/>
                      </a:lnTo>
                    </a:path>
                  </a:pathLst>
                </a:custGeom>
                <a:solidFill>
                  <a:srgbClr val="ffcc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667" name=""/>
          <p:cNvSpPr/>
          <p:nvPr/>
        </p:nvSpPr>
        <p:spPr>
          <a:xfrm>
            <a:off x="1746000" y="30481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/SB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8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710560" cy="7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What to Expect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69" name="PlaceHolder 2"/>
          <p:cNvSpPr>
            <a:spLocks noGrp="1"/>
          </p:cNvSpPr>
          <p:nvPr>
            <p:ph/>
          </p:nvPr>
        </p:nvSpPr>
        <p:spPr>
          <a:xfrm>
            <a:off x="152280" y="1441440"/>
            <a:ext cx="8763120" cy="495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n-greedy traffic control (e.g. shaping) always applied immediate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eedy traffic control (priority boost) applied after network approv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ess overridden by network administra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st effort until th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lication will be notified upon network approval/den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nial of reservation does not prohibit sending, just means no QoS assur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0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8481960" cy="7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Service Types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71" name="PlaceHolder 2"/>
          <p:cNvSpPr>
            <a:spLocks noGrp="1"/>
          </p:cNvSpPr>
          <p:nvPr>
            <p:ph/>
          </p:nvPr>
        </p:nvSpPr>
        <p:spPr>
          <a:xfrm>
            <a:off x="336240" y="1415520"/>
            <a:ext cx="8480520" cy="500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st effort = DCSP of 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ault flo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typically requested by applic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w prio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ically borrows from other flow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olled load = DCSP of 5 or 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ts service equivalent to lightly load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um prio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aranteed service  = DCSP of 5 or 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aranteed delay boun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est prio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2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848196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RSVP Token Bucket Parameters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7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4520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ken bucket specification (TSpec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ken rat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479600" indent="-44460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ytes of IP datagrams per second (1 bytes per second to 40 terabytes per second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cket depth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479600" indent="-44460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ytes (1 byte to 250 gigabytes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eak traffic rat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479600" indent="-44460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ytes of IP datagrams per second (1 byte per second to 40 terabytes per second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policed un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yt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ximum packet siz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yt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ource specification (RSpec) – for guaranteed servi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quired service rat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479600" indent="-44460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reater than or equal to token rat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ack term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479600" indent="-444600">
              <a:lnSpc>
                <a:spcPct val="80000"/>
              </a:lnSpc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fference between desired delay and the delay obtained using the required service rat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58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QoS for Qualitative Applications</a:t>
            </a:r>
            <a:endParaRPr b="1" lang="en-US" sz="3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5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502840" cy="563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qualitative QoS, traffic is marked for high priority without negotiating with the network = DCSP of 5 or 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a-priori knowledge of traffic rou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knowledge of traffic volu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, use IEEE 802.1p mar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6" name="PlaceHolder 1"/>
          <p:cNvSpPr>
            <a:spLocks noGrp="1"/>
          </p:cNvSpPr>
          <p:nvPr>
            <p:ph/>
          </p:nvPr>
        </p:nvSpPr>
        <p:spPr>
          <a:xfrm>
            <a:off x="380520" y="934560"/>
            <a:ext cx="8502840" cy="546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twork management applications call TC API = DCSP of 7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igure priority, shaping on behalf of app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79600" indent="-4446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assification according to port, address, protoc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n loop - must be based on estimates of traffic patterns, statistics, and heuristic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, use average rate, peak rate, and burst si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7" name=""/>
          <p:cNvSpPr/>
          <p:nvPr/>
        </p:nvSpPr>
        <p:spPr>
          <a:xfrm>
            <a:off x="2251080" y="2336760"/>
            <a:ext cx="2835360" cy="18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78" name=""/>
          <p:cNvGrpSpPr/>
          <p:nvPr/>
        </p:nvGrpSpPr>
        <p:grpSpPr>
          <a:xfrm>
            <a:off x="3733920" y="3048120"/>
            <a:ext cx="1294920" cy="2590560"/>
            <a:chOff x="3733920" y="3048120"/>
            <a:chExt cx="1294920" cy="2590560"/>
          </a:xfrm>
        </p:grpSpPr>
        <p:sp>
          <p:nvSpPr>
            <p:cNvPr id="4679" name=""/>
            <p:cNvSpPr/>
            <p:nvPr/>
          </p:nvSpPr>
          <p:spPr>
            <a:xfrm>
              <a:off x="4303440" y="3507840"/>
              <a:ext cx="72540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3733920" y="3048120"/>
              <a:ext cx="0" cy="259056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81" name=""/>
          <p:cNvGrpSpPr/>
          <p:nvPr/>
        </p:nvGrpSpPr>
        <p:grpSpPr>
          <a:xfrm>
            <a:off x="3657600" y="1463760"/>
            <a:ext cx="3908520" cy="1058760"/>
            <a:chOff x="3657600" y="1463760"/>
            <a:chExt cx="3908520" cy="1058760"/>
          </a:xfrm>
        </p:grpSpPr>
        <p:sp>
          <p:nvSpPr>
            <p:cNvPr id="4682" name=""/>
            <p:cNvSpPr/>
            <p:nvPr/>
          </p:nvSpPr>
          <p:spPr>
            <a:xfrm>
              <a:off x="5383080" y="1463760"/>
              <a:ext cx="21830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3657600" y="1860480"/>
              <a:ext cx="0" cy="662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84" name=""/>
          <p:cNvSpPr/>
          <p:nvPr/>
        </p:nvSpPr>
        <p:spPr>
          <a:xfrm>
            <a:off x="2590920" y="3581280"/>
            <a:ext cx="2044440" cy="762120"/>
          </a:xfrm>
          <a:prstGeom prst="rect">
            <a:avLst/>
          </a:prstGeom>
          <a:gradFill rotWithShape="0">
            <a:gsLst>
              <a:gs pos="0">
                <a:srgbClr val="75393b"/>
              </a:gs>
              <a:gs pos="100000">
                <a:srgbClr val="ff7c8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5" name=""/>
          <p:cNvSpPr/>
          <p:nvPr/>
        </p:nvSpPr>
        <p:spPr>
          <a:xfrm>
            <a:off x="2590920" y="5638680"/>
            <a:ext cx="2044440" cy="642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tC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6" name=""/>
          <p:cNvSpPr/>
          <p:nvPr/>
        </p:nvSpPr>
        <p:spPr>
          <a:xfrm>
            <a:off x="699120" y="196524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Sock2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7" name=""/>
          <p:cNvSpPr/>
          <p:nvPr/>
        </p:nvSpPr>
        <p:spPr>
          <a:xfrm>
            <a:off x="2646360" y="1368360"/>
            <a:ext cx="2044800" cy="642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oS-aware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8" name=""/>
          <p:cNvSpPr/>
          <p:nvPr/>
        </p:nvSpPr>
        <p:spPr>
          <a:xfrm>
            <a:off x="228600" y="3505320"/>
            <a:ext cx="2835360" cy="144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89" name=""/>
          <p:cNvGrpSpPr/>
          <p:nvPr/>
        </p:nvGrpSpPr>
        <p:grpSpPr>
          <a:xfrm>
            <a:off x="2590920" y="2438280"/>
            <a:ext cx="4952520" cy="990720"/>
            <a:chOff x="2590920" y="2438280"/>
            <a:chExt cx="4952520" cy="990720"/>
          </a:xfrm>
        </p:grpSpPr>
        <p:sp>
          <p:nvSpPr>
            <p:cNvPr id="4690" name=""/>
            <p:cNvSpPr/>
            <p:nvPr/>
          </p:nvSpPr>
          <p:spPr>
            <a:xfrm>
              <a:off x="5056200" y="2438280"/>
              <a:ext cx="2487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2590920" y="3047760"/>
              <a:ext cx="0" cy="3812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92" name=""/>
          <p:cNvSpPr/>
          <p:nvPr/>
        </p:nvSpPr>
        <p:spPr>
          <a:xfrm>
            <a:off x="2666880" y="2514600"/>
            <a:ext cx="2044800" cy="642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oS S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3" name=""/>
          <p:cNvSpPr/>
          <p:nvPr/>
        </p:nvSpPr>
        <p:spPr>
          <a:xfrm>
            <a:off x="-1440" y="3124080"/>
            <a:ext cx="24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ffic Control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4" name=""/>
          <p:cNvSpPr/>
          <p:nvPr/>
        </p:nvSpPr>
        <p:spPr>
          <a:xfrm>
            <a:off x="2362320" y="4495680"/>
            <a:ext cx="2666880" cy="6858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cket Schedul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5" name=""/>
          <p:cNvSpPr/>
          <p:nvPr/>
        </p:nvSpPr>
        <p:spPr>
          <a:xfrm>
            <a:off x="457200" y="53341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C SA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6" name=""/>
          <p:cNvSpPr/>
          <p:nvPr/>
        </p:nvSpPr>
        <p:spPr>
          <a:xfrm>
            <a:off x="2209680" y="5486400"/>
            <a:ext cx="1067040" cy="76320"/>
          </a:xfrm>
          <a:prstGeom prst="rightArrow">
            <a:avLst>
              <a:gd name="adj1" fmla="val 50000"/>
              <a:gd name="adj2" fmla="val 349528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7" name=""/>
          <p:cNvSpPr/>
          <p:nvPr/>
        </p:nvSpPr>
        <p:spPr>
          <a:xfrm>
            <a:off x="838080" y="434340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8" name=""/>
          <p:cNvSpPr/>
          <p:nvPr/>
        </p:nvSpPr>
        <p:spPr>
          <a:xfrm>
            <a:off x="152280" y="4114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DI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9" name=""/>
          <p:cNvGrpSpPr/>
          <p:nvPr/>
        </p:nvGrpSpPr>
        <p:grpSpPr>
          <a:xfrm>
            <a:off x="7315200" y="1467000"/>
            <a:ext cx="1066320" cy="2037600"/>
            <a:chOff x="7315200" y="1467000"/>
            <a:chExt cx="1066320" cy="2037600"/>
          </a:xfrm>
        </p:grpSpPr>
        <p:sp>
          <p:nvSpPr>
            <p:cNvPr id="4700" name=""/>
            <p:cNvSpPr/>
            <p:nvPr/>
          </p:nvSpPr>
          <p:spPr>
            <a:xfrm>
              <a:off x="7786440" y="1467000"/>
              <a:ext cx="595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7315200" y="2230560"/>
              <a:ext cx="0" cy="1274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02" name=""/>
          <p:cNvSpPr/>
          <p:nvPr/>
        </p:nvSpPr>
        <p:spPr>
          <a:xfrm>
            <a:off x="6248520" y="3581280"/>
            <a:ext cx="2044440" cy="762120"/>
          </a:xfrm>
          <a:prstGeom prst="rect">
            <a:avLst/>
          </a:prstGeom>
          <a:gradFill rotWithShape="0">
            <a:gsLst>
              <a:gs pos="0">
                <a:srgbClr val="75393b"/>
              </a:gs>
              <a:gs pos="100000">
                <a:srgbClr val="ff7c8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3" name=""/>
          <p:cNvSpPr/>
          <p:nvPr/>
        </p:nvSpPr>
        <p:spPr>
          <a:xfrm>
            <a:off x="6269040" y="5641920"/>
            <a:ext cx="2044800" cy="642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tC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4" name=""/>
          <p:cNvSpPr/>
          <p:nvPr/>
        </p:nvSpPr>
        <p:spPr>
          <a:xfrm>
            <a:off x="6324480" y="1371600"/>
            <a:ext cx="2044800" cy="642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oS-aware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05" name=""/>
          <p:cNvGrpSpPr/>
          <p:nvPr/>
        </p:nvGrpSpPr>
        <p:grpSpPr>
          <a:xfrm>
            <a:off x="7315200" y="4343400"/>
            <a:ext cx="1294920" cy="1295280"/>
            <a:chOff x="7315200" y="4343400"/>
            <a:chExt cx="1294920" cy="1295280"/>
          </a:xfrm>
        </p:grpSpPr>
        <p:sp>
          <p:nvSpPr>
            <p:cNvPr id="4706" name=""/>
            <p:cNvSpPr/>
            <p:nvPr/>
          </p:nvSpPr>
          <p:spPr>
            <a:xfrm>
              <a:off x="7884720" y="4573080"/>
              <a:ext cx="725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7315200" y="4343400"/>
              <a:ext cx="0" cy="12952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08" name=""/>
          <p:cNvSpPr/>
          <p:nvPr/>
        </p:nvSpPr>
        <p:spPr>
          <a:xfrm>
            <a:off x="304920" y="2362320"/>
            <a:ext cx="213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ckets tagged with DSCP by RSV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9" name=""/>
          <p:cNvSpPr/>
          <p:nvPr/>
        </p:nvSpPr>
        <p:spPr>
          <a:xfrm>
            <a:off x="2057400" y="2438280"/>
            <a:ext cx="1143000" cy="76320"/>
          </a:xfrm>
          <a:prstGeom prst="rightArrow">
            <a:avLst>
              <a:gd name="adj1" fmla="val 50000"/>
              <a:gd name="adj2" fmla="val 374410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0" name=""/>
          <p:cNvSpPr/>
          <p:nvPr/>
        </p:nvSpPr>
        <p:spPr>
          <a:xfrm>
            <a:off x="5105520" y="1981080"/>
            <a:ext cx="1828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ackets tagged with DSCP by Application can be 802.1p or 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1" name=""/>
          <p:cNvSpPr/>
          <p:nvPr/>
        </p:nvSpPr>
        <p:spPr>
          <a:xfrm>
            <a:off x="6553080" y="2209680"/>
            <a:ext cx="609840" cy="76320"/>
          </a:xfrm>
          <a:prstGeom prst="rightArrow">
            <a:avLst>
              <a:gd name="adj1" fmla="val 50000"/>
              <a:gd name="adj2" fmla="val 199764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2" name=""/>
          <p:cNvSpPr/>
          <p:nvPr/>
        </p:nvSpPr>
        <p:spPr>
          <a:xfrm>
            <a:off x="1219320" y="68580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SVP Signaled Quantitative and Qualitative: Guaranteed or Controlled Load or B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3" name=""/>
          <p:cNvSpPr/>
          <p:nvPr/>
        </p:nvSpPr>
        <p:spPr>
          <a:xfrm>
            <a:off x="6019920" y="68580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n-RSVP Signaled Qualitative: 802.1p or B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634240" cy="7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Signaling Scenario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02840" cy="498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66640" indent="-56664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itative applic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cate the type of service they ne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antify resources at that servic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twork devices along the rou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reque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eck for resource availabil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apply policy chec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install state to recognize flow (RSVP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rove/deny reque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65120">
              <a:lnSpc>
                <a:spcPct val="8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just resource availability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70680" y="2440080"/>
            <a:ext cx="198360" cy="12747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605480" y="3809880"/>
            <a:ext cx="1440" cy="59868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286080" y="2438280"/>
            <a:ext cx="152280" cy="144792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523960" y="2437920"/>
            <a:ext cx="762120" cy="76212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685880" y="4343040"/>
            <a:ext cx="155520" cy="609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838160" y="3429000"/>
            <a:ext cx="384480" cy="8380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448000" y="4038120"/>
            <a:ext cx="15552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152360" y="3809520"/>
            <a:ext cx="38448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609560" y="3352320"/>
            <a:ext cx="30816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2374920" y="4419360"/>
            <a:ext cx="225360" cy="609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09200" y="2057400"/>
            <a:ext cx="304920" cy="304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 rot="20268600">
            <a:off x="5191200" y="4133880"/>
            <a:ext cx="1084320" cy="329040"/>
          </a:xfrm>
          <a:custGeom>
            <a:avLst/>
            <a:gdLst/>
            <a:ahLst/>
            <a:rect l="l" t="t" r="r" b="b"/>
            <a:pathLst>
              <a:path w="656" h="197">
                <a:moveTo>
                  <a:pt x="0" y="196"/>
                </a:moveTo>
                <a:lnTo>
                  <a:pt x="401" y="145"/>
                </a:lnTo>
                <a:lnTo>
                  <a:pt x="312" y="71"/>
                </a:lnTo>
                <a:lnTo>
                  <a:pt x="655" y="0"/>
                </a:lnTo>
                <a:lnTo>
                  <a:pt x="254" y="52"/>
                </a:lnTo>
                <a:lnTo>
                  <a:pt x="346" y="129"/>
                </a:lnTo>
                <a:lnTo>
                  <a:pt x="0" y="196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990880" y="3439800"/>
            <a:ext cx="218880" cy="352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1117080" y="1873080"/>
            <a:ext cx="274680" cy="511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847440" y="2305080"/>
            <a:ext cx="415800" cy="18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798120" y="2614680"/>
            <a:ext cx="490680" cy="214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1762200" y="2743200"/>
            <a:ext cx="255600" cy="334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182680" y="268560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381400" y="2771280"/>
            <a:ext cx="126720" cy="36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838160" y="3049560"/>
            <a:ext cx="735120" cy="479520"/>
            <a:chOff x="1838160" y="3049560"/>
            <a:chExt cx="735120" cy="479520"/>
          </a:xfrm>
        </p:grpSpPr>
        <p:grpSp>
          <p:nvGrpSpPr>
            <p:cNvPr id="69" name=""/>
            <p:cNvGrpSpPr/>
            <p:nvPr/>
          </p:nvGrpSpPr>
          <p:grpSpPr>
            <a:xfrm>
              <a:off x="1839240" y="3111120"/>
              <a:ext cx="464040" cy="417960"/>
              <a:chOff x="1839240" y="3111120"/>
              <a:chExt cx="464040" cy="417960"/>
            </a:xfrm>
          </p:grpSpPr>
          <p:sp>
            <p:nvSpPr>
              <p:cNvPr id="70" name=""/>
              <p:cNvSpPr/>
              <p:nvPr/>
            </p:nvSpPr>
            <p:spPr>
              <a:xfrm>
                <a:off x="1839240" y="311112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839240" y="311112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2303280" y="3125520"/>
              <a:ext cx="267480" cy="403560"/>
              <a:chOff x="2303280" y="3125520"/>
              <a:chExt cx="267480" cy="403560"/>
            </a:xfrm>
          </p:grpSpPr>
          <p:sp>
            <p:nvSpPr>
              <p:cNvPr id="73" name=""/>
              <p:cNvSpPr/>
              <p:nvPr/>
            </p:nvSpPr>
            <p:spPr>
              <a:xfrm>
                <a:off x="2303280" y="312552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303280" y="312552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838160" y="3049560"/>
              <a:ext cx="735120" cy="168120"/>
              <a:chOff x="1838160" y="3049560"/>
              <a:chExt cx="735120" cy="168120"/>
            </a:xfrm>
          </p:grpSpPr>
          <p:sp>
            <p:nvSpPr>
              <p:cNvPr id="76" name=""/>
              <p:cNvSpPr/>
              <p:nvPr/>
            </p:nvSpPr>
            <p:spPr>
              <a:xfrm>
                <a:off x="1838160" y="304956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838160" y="304956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1867320" y="3148920"/>
              <a:ext cx="391680" cy="33804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867320" y="3239280"/>
              <a:ext cx="391680" cy="24768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67320" y="3148920"/>
              <a:ext cx="389520" cy="2206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1894680" y="3182040"/>
              <a:ext cx="191160" cy="81720"/>
              <a:chOff x="1894680" y="3182040"/>
              <a:chExt cx="191160" cy="81720"/>
            </a:xfrm>
          </p:grpSpPr>
          <p:sp>
            <p:nvSpPr>
              <p:cNvPr id="82" name=""/>
              <p:cNvSpPr/>
              <p:nvPr/>
            </p:nvSpPr>
            <p:spPr>
              <a:xfrm>
                <a:off x="1894680" y="318204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894680" y="318204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1892520" y="3269160"/>
              <a:ext cx="119520" cy="122040"/>
              <a:chOff x="1892520" y="3269160"/>
              <a:chExt cx="119520" cy="122040"/>
            </a:xfrm>
          </p:grpSpPr>
          <p:sp>
            <p:nvSpPr>
              <p:cNvPr id="85" name=""/>
              <p:cNvSpPr/>
              <p:nvPr/>
            </p:nvSpPr>
            <p:spPr>
              <a:xfrm>
                <a:off x="1892520" y="326916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892520" y="326916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444600" y="2598840"/>
            <a:ext cx="512640" cy="546120"/>
            <a:chOff x="444600" y="2598840"/>
            <a:chExt cx="512640" cy="546120"/>
          </a:xfrm>
        </p:grpSpPr>
        <p:grpSp>
          <p:nvGrpSpPr>
            <p:cNvPr id="88" name=""/>
            <p:cNvGrpSpPr/>
            <p:nvPr/>
          </p:nvGrpSpPr>
          <p:grpSpPr>
            <a:xfrm>
              <a:off x="444600" y="2951280"/>
              <a:ext cx="176040" cy="193680"/>
              <a:chOff x="444600" y="2951280"/>
              <a:chExt cx="176040" cy="193680"/>
            </a:xfrm>
          </p:grpSpPr>
          <p:sp>
            <p:nvSpPr>
              <p:cNvPr id="89" name=""/>
              <p:cNvSpPr/>
              <p:nvPr/>
            </p:nvSpPr>
            <p:spPr>
              <a:xfrm>
                <a:off x="444600" y="295128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44600" y="295128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444600" y="2879640"/>
              <a:ext cx="512640" cy="176400"/>
              <a:chOff x="444600" y="2879640"/>
              <a:chExt cx="512640" cy="176400"/>
            </a:xfrm>
          </p:grpSpPr>
          <p:sp>
            <p:nvSpPr>
              <p:cNvPr id="92" name=""/>
              <p:cNvSpPr/>
              <p:nvPr/>
            </p:nvSpPr>
            <p:spPr>
              <a:xfrm>
                <a:off x="444600" y="287964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44600" y="287964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620640" y="2967840"/>
              <a:ext cx="336600" cy="176760"/>
              <a:chOff x="620640" y="2967840"/>
              <a:chExt cx="336600" cy="176760"/>
            </a:xfrm>
          </p:grpSpPr>
          <p:sp>
            <p:nvSpPr>
              <p:cNvPr id="95" name=""/>
              <p:cNvSpPr/>
              <p:nvPr/>
            </p:nvSpPr>
            <p:spPr>
              <a:xfrm>
                <a:off x="620640" y="296784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20640" y="296784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636480" y="305136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809280" y="2988720"/>
              <a:ext cx="131760" cy="89640"/>
              <a:chOff x="809280" y="2988720"/>
              <a:chExt cx="131760" cy="8964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809280" y="2988720"/>
                <a:ext cx="131760" cy="89640"/>
                <a:chOff x="809280" y="2988720"/>
                <a:chExt cx="131760" cy="896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809280" y="298872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809280" y="298872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" name=""/>
              <p:cNvSpPr/>
              <p:nvPr/>
            </p:nvSpPr>
            <p:spPr>
              <a:xfrm flipH="1">
                <a:off x="809280" y="301968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55720" y="303588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55720" y="300960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465120" y="2598840"/>
              <a:ext cx="308520" cy="301680"/>
              <a:chOff x="465120" y="2598840"/>
              <a:chExt cx="308520" cy="301680"/>
            </a:xfrm>
          </p:grpSpPr>
          <p:sp>
            <p:nvSpPr>
              <p:cNvPr id="106" name=""/>
              <p:cNvSpPr/>
              <p:nvPr/>
            </p:nvSpPr>
            <p:spPr>
              <a:xfrm>
                <a:off x="465120" y="259884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65120" y="259884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520920" y="2677680"/>
              <a:ext cx="100440" cy="331200"/>
              <a:chOff x="520920" y="2677680"/>
              <a:chExt cx="100440" cy="331200"/>
            </a:xfrm>
          </p:grpSpPr>
          <p:sp>
            <p:nvSpPr>
              <p:cNvPr id="109" name=""/>
              <p:cNvSpPr/>
              <p:nvPr/>
            </p:nvSpPr>
            <p:spPr>
              <a:xfrm>
                <a:off x="520920" y="267768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20920" y="267768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20920" y="2609640"/>
              <a:ext cx="417240" cy="122400"/>
              <a:chOff x="520920" y="2609640"/>
              <a:chExt cx="417240" cy="122400"/>
            </a:xfrm>
          </p:grpSpPr>
          <p:sp>
            <p:nvSpPr>
              <p:cNvPr id="112" name=""/>
              <p:cNvSpPr/>
              <p:nvPr/>
            </p:nvSpPr>
            <p:spPr>
              <a:xfrm>
                <a:off x="520920" y="260964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20920" y="260964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655560" y="2944080"/>
              <a:ext cx="220320" cy="66960"/>
              <a:chOff x="655560" y="2944080"/>
              <a:chExt cx="220320" cy="66960"/>
            </a:xfrm>
          </p:grpSpPr>
          <p:sp>
            <p:nvSpPr>
              <p:cNvPr id="115" name=""/>
              <p:cNvSpPr/>
              <p:nvPr/>
            </p:nvSpPr>
            <p:spPr>
              <a:xfrm>
                <a:off x="655560" y="294408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55560" y="294408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621360" y="2656440"/>
              <a:ext cx="316440" cy="353160"/>
              <a:chOff x="621360" y="2656440"/>
              <a:chExt cx="316440" cy="35316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60" y="265644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1360" y="265644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667440" y="2696400"/>
              <a:ext cx="230760" cy="257400"/>
              <a:chOff x="667440" y="2696400"/>
              <a:chExt cx="230760" cy="257400"/>
            </a:xfrm>
          </p:grpSpPr>
          <p:sp>
            <p:nvSpPr>
              <p:cNvPr id="121" name=""/>
              <p:cNvSpPr/>
              <p:nvPr/>
            </p:nvSpPr>
            <p:spPr>
              <a:xfrm>
                <a:off x="667440" y="269640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67440" y="269640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676440" y="271404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6440" y="271404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9840" y="277092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2520" y="275220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0600" y="1924200"/>
            <a:ext cx="512640" cy="546120"/>
            <a:chOff x="390600" y="1924200"/>
            <a:chExt cx="512640" cy="546120"/>
          </a:xfrm>
        </p:grpSpPr>
        <p:grpSp>
          <p:nvGrpSpPr>
            <p:cNvPr id="128" name=""/>
            <p:cNvGrpSpPr/>
            <p:nvPr/>
          </p:nvGrpSpPr>
          <p:grpSpPr>
            <a:xfrm>
              <a:off x="390600" y="2276640"/>
              <a:ext cx="176040" cy="193680"/>
              <a:chOff x="390600" y="2276640"/>
              <a:chExt cx="176040" cy="193680"/>
            </a:xfrm>
          </p:grpSpPr>
          <p:sp>
            <p:nvSpPr>
              <p:cNvPr id="129" name=""/>
              <p:cNvSpPr/>
              <p:nvPr/>
            </p:nvSpPr>
            <p:spPr>
              <a:xfrm>
                <a:off x="390600" y="227664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90600" y="227664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90600" y="2205000"/>
              <a:ext cx="512640" cy="176400"/>
              <a:chOff x="390600" y="2205000"/>
              <a:chExt cx="512640" cy="176400"/>
            </a:xfrm>
          </p:grpSpPr>
          <p:sp>
            <p:nvSpPr>
              <p:cNvPr id="132" name=""/>
              <p:cNvSpPr/>
              <p:nvPr/>
            </p:nvSpPr>
            <p:spPr>
              <a:xfrm>
                <a:off x="390600" y="220500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0600" y="220500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566640" y="2293200"/>
              <a:ext cx="336600" cy="176760"/>
              <a:chOff x="566640" y="2293200"/>
              <a:chExt cx="336600" cy="176760"/>
            </a:xfrm>
          </p:grpSpPr>
          <p:sp>
            <p:nvSpPr>
              <p:cNvPr id="135" name=""/>
              <p:cNvSpPr/>
              <p:nvPr/>
            </p:nvSpPr>
            <p:spPr>
              <a:xfrm>
                <a:off x="566640" y="229320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66640" y="229320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582480" y="237672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755280" y="2314080"/>
              <a:ext cx="131760" cy="89640"/>
              <a:chOff x="755280" y="2314080"/>
              <a:chExt cx="131760" cy="89640"/>
            </a:xfrm>
          </p:grpSpPr>
          <p:grpSp>
            <p:nvGrpSpPr>
              <p:cNvPr id="139" name=""/>
              <p:cNvGrpSpPr/>
              <p:nvPr/>
            </p:nvGrpSpPr>
            <p:grpSpPr>
              <a:xfrm>
                <a:off x="755280" y="2314080"/>
                <a:ext cx="131760" cy="89640"/>
                <a:chOff x="755280" y="2314080"/>
                <a:chExt cx="131760" cy="896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755280" y="231408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55280" y="231408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" name=""/>
              <p:cNvSpPr/>
              <p:nvPr/>
            </p:nvSpPr>
            <p:spPr>
              <a:xfrm flipH="1">
                <a:off x="755280" y="234504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01720" y="236124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01720" y="233496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411120" y="1924200"/>
              <a:ext cx="308520" cy="301680"/>
              <a:chOff x="411120" y="1924200"/>
              <a:chExt cx="308520" cy="301680"/>
            </a:xfrm>
          </p:grpSpPr>
          <p:sp>
            <p:nvSpPr>
              <p:cNvPr id="146" name=""/>
              <p:cNvSpPr/>
              <p:nvPr/>
            </p:nvSpPr>
            <p:spPr>
              <a:xfrm>
                <a:off x="411120" y="192420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11120" y="192420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6920" y="2003040"/>
              <a:ext cx="100440" cy="331200"/>
              <a:chOff x="466920" y="2003040"/>
              <a:chExt cx="100440" cy="331200"/>
            </a:xfrm>
          </p:grpSpPr>
          <p:sp>
            <p:nvSpPr>
              <p:cNvPr id="149" name=""/>
              <p:cNvSpPr/>
              <p:nvPr/>
            </p:nvSpPr>
            <p:spPr>
              <a:xfrm>
                <a:off x="466920" y="200304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6920" y="200304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66920" y="1935000"/>
              <a:ext cx="417240" cy="122400"/>
              <a:chOff x="466920" y="1935000"/>
              <a:chExt cx="417240" cy="122400"/>
            </a:xfrm>
          </p:grpSpPr>
          <p:sp>
            <p:nvSpPr>
              <p:cNvPr id="152" name=""/>
              <p:cNvSpPr/>
              <p:nvPr/>
            </p:nvSpPr>
            <p:spPr>
              <a:xfrm>
                <a:off x="466920" y="193500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66920" y="193500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601560" y="2269440"/>
              <a:ext cx="220320" cy="66960"/>
              <a:chOff x="601560" y="2269440"/>
              <a:chExt cx="220320" cy="66960"/>
            </a:xfrm>
          </p:grpSpPr>
          <p:sp>
            <p:nvSpPr>
              <p:cNvPr id="155" name=""/>
              <p:cNvSpPr/>
              <p:nvPr/>
            </p:nvSpPr>
            <p:spPr>
              <a:xfrm>
                <a:off x="601560" y="226944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01560" y="226944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567360" y="1981800"/>
              <a:ext cx="316440" cy="353160"/>
              <a:chOff x="567360" y="1981800"/>
              <a:chExt cx="316440" cy="353160"/>
            </a:xfrm>
          </p:grpSpPr>
          <p:sp>
            <p:nvSpPr>
              <p:cNvPr id="158" name=""/>
              <p:cNvSpPr/>
              <p:nvPr/>
            </p:nvSpPr>
            <p:spPr>
              <a:xfrm>
                <a:off x="567360" y="198180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67360" y="198180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613440" y="2021760"/>
              <a:ext cx="230760" cy="257400"/>
              <a:chOff x="613440" y="2021760"/>
              <a:chExt cx="230760" cy="257400"/>
            </a:xfrm>
          </p:grpSpPr>
          <p:sp>
            <p:nvSpPr>
              <p:cNvPr id="161" name=""/>
              <p:cNvSpPr/>
              <p:nvPr/>
            </p:nvSpPr>
            <p:spPr>
              <a:xfrm>
                <a:off x="613440" y="202176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13440" y="202176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622440" y="203940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2440" y="203940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5840" y="209628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8520" y="207756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915840" y="1569960"/>
            <a:ext cx="511200" cy="546120"/>
            <a:chOff x="915840" y="1569960"/>
            <a:chExt cx="511200" cy="546120"/>
          </a:xfrm>
        </p:grpSpPr>
        <p:grpSp>
          <p:nvGrpSpPr>
            <p:cNvPr id="168" name=""/>
            <p:cNvGrpSpPr/>
            <p:nvPr/>
          </p:nvGrpSpPr>
          <p:grpSpPr>
            <a:xfrm>
              <a:off x="915840" y="1922400"/>
              <a:ext cx="175320" cy="193680"/>
              <a:chOff x="915840" y="1922400"/>
              <a:chExt cx="175320" cy="193680"/>
            </a:xfrm>
          </p:grpSpPr>
          <p:sp>
            <p:nvSpPr>
              <p:cNvPr id="169" name=""/>
              <p:cNvSpPr/>
              <p:nvPr/>
            </p:nvSpPr>
            <p:spPr>
              <a:xfrm>
                <a:off x="915840" y="1922400"/>
                <a:ext cx="17532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15840" y="1922400"/>
                <a:ext cx="17532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915840" y="1850760"/>
              <a:ext cx="511200" cy="176400"/>
              <a:chOff x="915840" y="1850760"/>
              <a:chExt cx="511200" cy="176400"/>
            </a:xfrm>
          </p:grpSpPr>
          <p:sp>
            <p:nvSpPr>
              <p:cNvPr id="172" name=""/>
              <p:cNvSpPr/>
              <p:nvPr/>
            </p:nvSpPr>
            <p:spPr>
              <a:xfrm>
                <a:off x="915840" y="185076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915840" y="185076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1091160" y="1938960"/>
              <a:ext cx="335520" cy="176760"/>
              <a:chOff x="1091160" y="1938960"/>
              <a:chExt cx="335520" cy="176760"/>
            </a:xfrm>
          </p:grpSpPr>
          <p:sp>
            <p:nvSpPr>
              <p:cNvPr id="175" name=""/>
              <p:cNvSpPr/>
              <p:nvPr/>
            </p:nvSpPr>
            <p:spPr>
              <a:xfrm>
                <a:off x="1091160" y="193896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091160" y="193896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1107000" y="2022480"/>
              <a:ext cx="6732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1279080" y="1959840"/>
              <a:ext cx="131760" cy="89640"/>
              <a:chOff x="1279080" y="1959840"/>
              <a:chExt cx="131760" cy="8964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1279440" y="1959840"/>
                <a:ext cx="131400" cy="89640"/>
                <a:chOff x="1279440" y="1959840"/>
                <a:chExt cx="131400" cy="896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1279440" y="195984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279440" y="195984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" name=""/>
              <p:cNvSpPr/>
              <p:nvPr/>
            </p:nvSpPr>
            <p:spPr>
              <a:xfrm flipH="1">
                <a:off x="1279080" y="1990800"/>
                <a:ext cx="1314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325520" y="2007000"/>
                <a:ext cx="4608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325520" y="1980720"/>
                <a:ext cx="4608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936360" y="1569960"/>
              <a:ext cx="307800" cy="301680"/>
              <a:chOff x="936360" y="1569960"/>
              <a:chExt cx="307800" cy="301680"/>
            </a:xfrm>
          </p:grpSpPr>
          <p:sp>
            <p:nvSpPr>
              <p:cNvPr id="186" name=""/>
              <p:cNvSpPr/>
              <p:nvPr/>
            </p:nvSpPr>
            <p:spPr>
              <a:xfrm>
                <a:off x="936360" y="1569960"/>
                <a:ext cx="30780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936360" y="1569960"/>
                <a:ext cx="30780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991800" y="1648800"/>
              <a:ext cx="100080" cy="331200"/>
              <a:chOff x="991800" y="1648800"/>
              <a:chExt cx="100080" cy="331200"/>
            </a:xfrm>
          </p:grpSpPr>
          <p:sp>
            <p:nvSpPr>
              <p:cNvPr id="189" name=""/>
              <p:cNvSpPr/>
              <p:nvPr/>
            </p:nvSpPr>
            <p:spPr>
              <a:xfrm>
                <a:off x="991800" y="1648800"/>
                <a:ext cx="10008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91800" y="1648800"/>
                <a:ext cx="10008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991800" y="1580760"/>
              <a:ext cx="416160" cy="122400"/>
              <a:chOff x="991800" y="1580760"/>
              <a:chExt cx="416160" cy="122400"/>
            </a:xfrm>
          </p:grpSpPr>
          <p:sp>
            <p:nvSpPr>
              <p:cNvPr id="192" name=""/>
              <p:cNvSpPr/>
              <p:nvPr/>
            </p:nvSpPr>
            <p:spPr>
              <a:xfrm>
                <a:off x="991800" y="158076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991800" y="158076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1126080" y="1915200"/>
              <a:ext cx="219600" cy="66960"/>
              <a:chOff x="1126080" y="1915200"/>
              <a:chExt cx="219600" cy="66960"/>
            </a:xfrm>
          </p:grpSpPr>
          <p:sp>
            <p:nvSpPr>
              <p:cNvPr id="195" name=""/>
              <p:cNvSpPr/>
              <p:nvPr/>
            </p:nvSpPr>
            <p:spPr>
              <a:xfrm>
                <a:off x="1126080" y="1915200"/>
                <a:ext cx="21960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126080" y="1915200"/>
                <a:ext cx="21960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1092240" y="1627560"/>
              <a:ext cx="315720" cy="353160"/>
              <a:chOff x="1092240" y="1627560"/>
              <a:chExt cx="315720" cy="353160"/>
            </a:xfrm>
          </p:grpSpPr>
          <p:sp>
            <p:nvSpPr>
              <p:cNvPr id="198" name=""/>
              <p:cNvSpPr/>
              <p:nvPr/>
            </p:nvSpPr>
            <p:spPr>
              <a:xfrm>
                <a:off x="1092240" y="1627560"/>
                <a:ext cx="31572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092240" y="1627560"/>
                <a:ext cx="31572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1137960" y="1667520"/>
              <a:ext cx="230040" cy="257400"/>
              <a:chOff x="1137960" y="1667520"/>
              <a:chExt cx="230040" cy="257400"/>
            </a:xfrm>
          </p:grpSpPr>
          <p:sp>
            <p:nvSpPr>
              <p:cNvPr id="201" name=""/>
              <p:cNvSpPr/>
              <p:nvPr/>
            </p:nvSpPr>
            <p:spPr>
              <a:xfrm>
                <a:off x="1137960" y="1667520"/>
                <a:ext cx="23004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137960" y="1667520"/>
                <a:ext cx="23004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1146960" y="168516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46960" y="168516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70360" y="174204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93040" y="1723320"/>
              <a:ext cx="1278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 flipH="1" flipV="1">
            <a:off x="2430360" y="3449160"/>
            <a:ext cx="255600" cy="335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855880" y="333828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228680" y="2381400"/>
            <a:ext cx="533520" cy="380880"/>
            <a:chOff x="1228680" y="2381400"/>
            <a:chExt cx="533520" cy="380880"/>
          </a:xfrm>
        </p:grpSpPr>
        <p:sp>
          <p:nvSpPr>
            <p:cNvPr id="210" name=""/>
            <p:cNvSpPr/>
            <p:nvPr/>
          </p:nvSpPr>
          <p:spPr>
            <a:xfrm>
              <a:off x="1228680" y="2381400"/>
              <a:ext cx="533520" cy="380880"/>
            </a:xfrm>
            <a:prstGeom prst="rect">
              <a:avLst/>
            </a:prstGeom>
            <a:gradFill rotWithShape="0">
              <a:gsLst>
                <a:gs pos="0">
                  <a:srgbClr val="2f2f75"/>
                </a:gs>
                <a:gs pos="100000">
                  <a:srgbClr val="66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1299240" y="2455200"/>
              <a:ext cx="399240" cy="247680"/>
              <a:chOff x="1299240" y="2455200"/>
              <a:chExt cx="399240" cy="247680"/>
            </a:xfrm>
          </p:grpSpPr>
          <p:sp>
            <p:nvSpPr>
              <p:cNvPr id="212" name=""/>
              <p:cNvSpPr/>
              <p:nvPr/>
            </p:nvSpPr>
            <p:spPr>
              <a:xfrm>
                <a:off x="1361520" y="2455200"/>
                <a:ext cx="27720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1353960" y="2455200"/>
                <a:ext cx="27648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623600" y="2459160"/>
                <a:ext cx="6912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632600" y="2700720"/>
                <a:ext cx="65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08960" y="2459160"/>
                <a:ext cx="63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99240" y="2700720"/>
                <a:ext cx="64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" name=""/>
          <p:cNvSpPr/>
          <p:nvPr/>
        </p:nvSpPr>
        <p:spPr>
          <a:xfrm flipV="1" rot="1331400">
            <a:off x="3030480" y="4234680"/>
            <a:ext cx="1084320" cy="329040"/>
          </a:xfrm>
          <a:custGeom>
            <a:avLst/>
            <a:gdLst/>
            <a:ahLst/>
            <a:rect l="l" t="t" r="r" b="b"/>
            <a:pathLst>
              <a:path w="656" h="197">
                <a:moveTo>
                  <a:pt x="0" y="196"/>
                </a:moveTo>
                <a:lnTo>
                  <a:pt x="401" y="145"/>
                </a:lnTo>
                <a:lnTo>
                  <a:pt x="312" y="71"/>
                </a:lnTo>
                <a:lnTo>
                  <a:pt x="655" y="0"/>
                </a:lnTo>
                <a:lnTo>
                  <a:pt x="254" y="52"/>
                </a:lnTo>
                <a:lnTo>
                  <a:pt x="346" y="129"/>
                </a:lnTo>
                <a:lnTo>
                  <a:pt x="0" y="196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591000" y="4286160"/>
            <a:ext cx="2021760" cy="1428480"/>
            <a:chOff x="3591000" y="4286160"/>
            <a:chExt cx="2021760" cy="1428480"/>
          </a:xfrm>
        </p:grpSpPr>
        <p:grpSp>
          <p:nvGrpSpPr>
            <p:cNvPr id="220" name=""/>
            <p:cNvGrpSpPr/>
            <p:nvPr/>
          </p:nvGrpSpPr>
          <p:grpSpPr>
            <a:xfrm>
              <a:off x="3591000" y="4286160"/>
              <a:ext cx="2021760" cy="1428480"/>
              <a:chOff x="3591000" y="4286160"/>
              <a:chExt cx="2021760" cy="142848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4784040" y="4413960"/>
                <a:ext cx="828720" cy="1229040"/>
                <a:chOff x="4784040" y="4413960"/>
                <a:chExt cx="828720" cy="1229040"/>
              </a:xfrm>
            </p:grpSpPr>
            <p:grpSp>
              <p:nvGrpSpPr>
                <p:cNvPr id="222" name=""/>
                <p:cNvGrpSpPr/>
                <p:nvPr/>
              </p:nvGrpSpPr>
              <p:grpSpPr>
                <a:xfrm>
                  <a:off x="5108400" y="4413960"/>
                  <a:ext cx="504360" cy="988200"/>
                  <a:chOff x="5108400" y="4413960"/>
                  <a:chExt cx="504360" cy="988200"/>
                </a:xfrm>
              </p:grpSpPr>
              <p:grpSp>
                <p:nvGrpSpPr>
                  <p:cNvPr id="223" name=""/>
                  <p:cNvGrpSpPr/>
                  <p:nvPr/>
                </p:nvGrpSpPr>
                <p:grpSpPr>
                  <a:xfrm>
                    <a:off x="5245560" y="4551480"/>
                    <a:ext cx="367200" cy="712800"/>
                    <a:chOff x="5245560" y="4551480"/>
                    <a:chExt cx="367200" cy="712800"/>
                  </a:xfrm>
                </p:grpSpPr>
                <p:grpSp>
                  <p:nvGrpSpPr>
                    <p:cNvPr id="224" name=""/>
                    <p:cNvGrpSpPr/>
                    <p:nvPr/>
                  </p:nvGrpSpPr>
                  <p:grpSpPr>
                    <a:xfrm>
                      <a:off x="5245560" y="4551480"/>
                      <a:ext cx="367200" cy="712800"/>
                      <a:chOff x="5245560" y="4551480"/>
                      <a:chExt cx="367200" cy="712800"/>
                    </a:xfrm>
                  </p:grpSpPr>
                  <p:grpSp>
                    <p:nvGrpSpPr>
                      <p:cNvPr id="225" name=""/>
                      <p:cNvGrpSpPr/>
                      <p:nvPr/>
                    </p:nvGrpSpPr>
                    <p:grpSpPr>
                      <a:xfrm>
                        <a:off x="5342760" y="4597200"/>
                        <a:ext cx="270000" cy="579600"/>
                        <a:chOff x="5342760" y="4597200"/>
                        <a:chExt cx="270000" cy="579600"/>
                      </a:xfrm>
                    </p:grpSpPr>
                    <p:grpSp>
                      <p:nvGrpSpPr>
                        <p:cNvPr id="226" name=""/>
                        <p:cNvGrpSpPr/>
                        <p:nvPr/>
                      </p:nvGrpSpPr>
                      <p:grpSpPr>
                        <a:xfrm>
                          <a:off x="5375880" y="4597200"/>
                          <a:ext cx="236880" cy="579600"/>
                          <a:chOff x="5375880" y="4597200"/>
                          <a:chExt cx="236880" cy="579600"/>
                        </a:xfrm>
                      </p:grpSpPr>
                      <p:sp>
                        <p:nvSpPr>
                          <p:cNvPr id="227" name=""/>
                          <p:cNvSpPr/>
                          <p:nvPr/>
                        </p:nvSpPr>
                        <p:spPr>
                          <a:xfrm>
                            <a:off x="5509440" y="4949280"/>
                            <a:ext cx="103320" cy="13896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8" name=""/>
                          <p:cNvSpPr/>
                          <p:nvPr/>
                        </p:nvSpPr>
                        <p:spPr>
                          <a:xfrm>
                            <a:off x="5405760" y="4993920"/>
                            <a:ext cx="137880" cy="18288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9" name=""/>
                          <p:cNvSpPr/>
                          <p:nvPr/>
                        </p:nvSpPr>
                        <p:spPr>
                          <a:xfrm>
                            <a:off x="5474880" y="4726800"/>
                            <a:ext cx="104760" cy="13896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30" name=""/>
                          <p:cNvSpPr/>
                          <p:nvPr/>
                        </p:nvSpPr>
                        <p:spPr>
                          <a:xfrm>
                            <a:off x="5375880" y="4597200"/>
                            <a:ext cx="137880" cy="18288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31" name=""/>
                          <p:cNvSpPr/>
                          <p:nvPr/>
                        </p:nvSpPr>
                        <p:spPr>
                          <a:xfrm>
                            <a:off x="5474880" y="4726800"/>
                            <a:ext cx="93960" cy="326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0" h="207">
                                <a:moveTo>
                                  <a:pt x="59" y="206"/>
                                </a:moveTo>
                                <a:lnTo>
                                  <a:pt x="34" y="206"/>
                                </a:lnTo>
                                <a:lnTo>
                                  <a:pt x="0" y="0"/>
                                </a:lnTo>
                                <a:lnTo>
                                  <a:pt x="35" y="17"/>
                                </a:lnTo>
                                <a:lnTo>
                                  <a:pt x="36" y="116"/>
                                </a:lnTo>
                                <a:lnTo>
                                  <a:pt x="59" y="206"/>
                                </a:lnTo>
                              </a:path>
                            </a:pathLst>
                          </a:custGeom>
                          <a:solidFill>
                            <a:srgbClr val="00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>
                          <a:off x="5342760" y="4772160"/>
                          <a:ext cx="201240" cy="273240"/>
                        </a:xfrm>
                        <a:prstGeom prst="ellipse">
                          <a:avLst/>
                        </a:prstGeom>
                        <a:solidFill>
                          <a:srgbClr val="00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>
                          <a:off x="5342760" y="4949280"/>
                          <a:ext cx="135360" cy="184680"/>
                        </a:xfrm>
                        <a:prstGeom prst="ellipse">
                          <a:avLst/>
                        </a:prstGeom>
                        <a:solidFill>
                          <a:srgbClr val="00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>
                          <a:off x="5386680" y="4693320"/>
                          <a:ext cx="103680" cy="348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6" h="221">
                              <a:moveTo>
                                <a:pt x="58" y="36"/>
                              </a:moveTo>
                              <a:lnTo>
                                <a:pt x="50" y="83"/>
                              </a:lnTo>
                              <a:lnTo>
                                <a:pt x="65" y="190"/>
                              </a:lnTo>
                              <a:lnTo>
                                <a:pt x="38" y="220"/>
                              </a:lnTo>
                              <a:lnTo>
                                <a:pt x="0" y="93"/>
                              </a:lnTo>
                              <a:lnTo>
                                <a:pt x="31" y="0"/>
                              </a:lnTo>
                              <a:lnTo>
                                <a:pt x="58" y="36"/>
                              </a:lnTo>
                            </a:path>
                          </a:pathLst>
                        </a:custGeom>
                        <a:solidFill>
                          <a:srgbClr val="00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35" name=""/>
                      <p:cNvSpPr/>
                      <p:nvPr/>
                    </p:nvSpPr>
                    <p:spPr>
                      <a:xfrm>
                        <a:off x="5342760" y="5126760"/>
                        <a:ext cx="104040" cy="13752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6" name=""/>
                      <p:cNvSpPr/>
                      <p:nvPr/>
                    </p:nvSpPr>
                    <p:spPr>
                      <a:xfrm>
                        <a:off x="5245560" y="4551480"/>
                        <a:ext cx="135000" cy="18324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7" name=""/>
                      <p:cNvSpPr/>
                      <p:nvPr/>
                    </p:nvSpPr>
                    <p:spPr>
                      <a:xfrm>
                        <a:off x="5377320" y="5090400"/>
                        <a:ext cx="72360" cy="50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32">
                            <a:moveTo>
                              <a:pt x="45" y="18"/>
                            </a:moveTo>
                            <a:lnTo>
                              <a:pt x="32" y="31"/>
                            </a:lnTo>
                            <a:lnTo>
                              <a:pt x="0" y="14"/>
                            </a:lnTo>
                            <a:lnTo>
                              <a:pt x="32" y="0"/>
                            </a:lnTo>
                            <a:lnTo>
                              <a:pt x="45" y="18"/>
                            </a:lnTo>
                          </a:path>
                        </a:pathLst>
                      </a:custGeom>
                      <a:solidFill>
                        <a:srgbClr val="00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" bIns="3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366880" y="4649040"/>
                      <a:ext cx="31320" cy="10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64">
                          <a:moveTo>
                            <a:pt x="9" y="0"/>
                          </a:moveTo>
                          <a:lnTo>
                            <a:pt x="19" y="0"/>
                          </a:lnTo>
                          <a:lnTo>
                            <a:pt x="15" y="63"/>
                          </a:lnTo>
                          <a:lnTo>
                            <a:pt x="0" y="5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108400" y="4413960"/>
                    <a:ext cx="338400" cy="894600"/>
                    <a:chOff x="5108400" y="4413960"/>
                    <a:chExt cx="338400" cy="89460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140080" y="4950000"/>
                      <a:ext cx="272160" cy="35856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5174640" y="4682520"/>
                      <a:ext cx="272160" cy="36324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5108400" y="4413960"/>
                      <a:ext cx="204840" cy="27792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245200" y="4597200"/>
                      <a:ext cx="100440" cy="13752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174640" y="4557960"/>
                      <a:ext cx="180720" cy="32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203">
                          <a:moveTo>
                            <a:pt x="80" y="8"/>
                          </a:moveTo>
                          <a:lnTo>
                            <a:pt x="79" y="35"/>
                          </a:lnTo>
                          <a:lnTo>
                            <a:pt x="106" y="78"/>
                          </a:lnTo>
                          <a:lnTo>
                            <a:pt x="114" y="82"/>
                          </a:lnTo>
                          <a:lnTo>
                            <a:pt x="73" y="202"/>
                          </a:lnTo>
                          <a:lnTo>
                            <a:pt x="0" y="0"/>
                          </a:lnTo>
                          <a:lnTo>
                            <a:pt x="80" y="8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5267520" y="5024520"/>
                      <a:ext cx="113040" cy="7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46">
                          <a:moveTo>
                            <a:pt x="62" y="6"/>
                          </a:moveTo>
                          <a:lnTo>
                            <a:pt x="71" y="21"/>
                          </a:lnTo>
                          <a:lnTo>
                            <a:pt x="0" y="45"/>
                          </a:lnTo>
                          <a:lnTo>
                            <a:pt x="1" y="0"/>
                          </a:lnTo>
                          <a:lnTo>
                            <a:pt x="62" y="6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5108400" y="5217480"/>
                    <a:ext cx="141480" cy="1846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5209200" y="5193720"/>
                    <a:ext cx="72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8">
                        <a:moveTo>
                          <a:pt x="17" y="57"/>
                        </a:moveTo>
                        <a:lnTo>
                          <a:pt x="45" y="38"/>
                        </a:lnTo>
                        <a:lnTo>
                          <a:pt x="13" y="0"/>
                        </a:lnTo>
                        <a:lnTo>
                          <a:pt x="0" y="19"/>
                        </a:lnTo>
                        <a:lnTo>
                          <a:pt x="17" y="57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8" name=""/>
                <p:cNvSpPr/>
                <p:nvPr/>
              </p:nvSpPr>
              <p:spPr>
                <a:xfrm>
                  <a:off x="4784040" y="5415480"/>
                  <a:ext cx="169920" cy="2275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944600" y="5415480"/>
                  <a:ext cx="136800" cy="18648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036040" y="5345640"/>
                  <a:ext cx="136800" cy="18648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900320" y="5309280"/>
                  <a:ext cx="303840" cy="265680"/>
                </a:xfrm>
                <a:custGeom>
                  <a:avLst/>
                  <a:gdLst/>
                  <a:ahLst/>
                  <a:rect l="l" t="t" r="r" b="b"/>
                  <a:pathLst>
                    <a:path w="193" h="168">
                      <a:moveTo>
                        <a:pt x="177" y="48"/>
                      </a:moveTo>
                      <a:lnTo>
                        <a:pt x="161" y="59"/>
                      </a:lnTo>
                      <a:lnTo>
                        <a:pt x="109" y="128"/>
                      </a:lnTo>
                      <a:lnTo>
                        <a:pt x="97" y="156"/>
                      </a:lnTo>
                      <a:lnTo>
                        <a:pt x="40" y="156"/>
                      </a:lnTo>
                      <a:lnTo>
                        <a:pt x="28" y="167"/>
                      </a:lnTo>
                      <a:lnTo>
                        <a:pt x="0" y="118"/>
                      </a:lnTo>
                      <a:lnTo>
                        <a:pt x="128" y="0"/>
                      </a:lnTo>
                      <a:lnTo>
                        <a:pt x="192" y="28"/>
                      </a:lnTo>
                      <a:lnTo>
                        <a:pt x="177" y="48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591000" y="4428360"/>
                <a:ext cx="487800" cy="836640"/>
                <a:chOff x="3591000" y="4428360"/>
                <a:chExt cx="487800" cy="836640"/>
              </a:xfrm>
            </p:grpSpPr>
            <p:grpSp>
              <p:nvGrpSpPr>
                <p:cNvPr id="253" name=""/>
                <p:cNvGrpSpPr/>
                <p:nvPr/>
              </p:nvGrpSpPr>
              <p:grpSpPr>
                <a:xfrm>
                  <a:off x="3591000" y="4551480"/>
                  <a:ext cx="254520" cy="494640"/>
                  <a:chOff x="3591000" y="4551480"/>
                  <a:chExt cx="254520" cy="49464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3591000" y="4727160"/>
                    <a:ext cx="103680" cy="1389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3609720" y="4864320"/>
                    <a:ext cx="136440" cy="18180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3644280" y="4551480"/>
                    <a:ext cx="201240" cy="27360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3625560" y="4749120"/>
                    <a:ext cx="7056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90">
                        <a:moveTo>
                          <a:pt x="25" y="0"/>
                        </a:moveTo>
                        <a:lnTo>
                          <a:pt x="0" y="18"/>
                        </a:lnTo>
                        <a:lnTo>
                          <a:pt x="1" y="71"/>
                        </a:lnTo>
                        <a:lnTo>
                          <a:pt x="10" y="89"/>
                        </a:lnTo>
                        <a:lnTo>
                          <a:pt x="44" y="71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8" name=""/>
                <p:cNvGrpSpPr/>
                <p:nvPr/>
              </p:nvGrpSpPr>
              <p:grpSpPr>
                <a:xfrm>
                  <a:off x="3675960" y="4428360"/>
                  <a:ext cx="402840" cy="836640"/>
                  <a:chOff x="3675960" y="4428360"/>
                  <a:chExt cx="402840" cy="83664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3812760" y="4458240"/>
                    <a:ext cx="266040" cy="36684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3675960" y="4727520"/>
                    <a:ext cx="136800" cy="1846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709080" y="4864680"/>
                    <a:ext cx="207720" cy="2703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778200" y="4994640"/>
                    <a:ext cx="204480" cy="2703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3795480" y="4644720"/>
                    <a:ext cx="176400" cy="23220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3957480" y="4428360"/>
                    <a:ext cx="108720" cy="1342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3855240" y="4596120"/>
                    <a:ext cx="12420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71">
                        <a:moveTo>
                          <a:pt x="0" y="19"/>
                        </a:moveTo>
                        <a:lnTo>
                          <a:pt x="10" y="53"/>
                        </a:lnTo>
                        <a:lnTo>
                          <a:pt x="78" y="70"/>
                        </a:lnTo>
                        <a:lnTo>
                          <a:pt x="78" y="24"/>
                        </a:lnTo>
                        <a:lnTo>
                          <a:pt x="3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3719880" y="4820760"/>
                    <a:ext cx="147960" cy="2466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56">
                        <a:moveTo>
                          <a:pt x="58" y="0"/>
                        </a:moveTo>
                        <a:lnTo>
                          <a:pt x="0" y="39"/>
                        </a:lnTo>
                        <a:lnTo>
                          <a:pt x="23" y="70"/>
                        </a:lnTo>
                        <a:lnTo>
                          <a:pt x="27" y="146"/>
                        </a:lnTo>
                        <a:lnTo>
                          <a:pt x="42" y="155"/>
                        </a:lnTo>
                        <a:lnTo>
                          <a:pt x="90" y="107"/>
                        </a:lnTo>
                        <a:lnTo>
                          <a:pt x="93" y="16"/>
                        </a:lnTo>
                        <a:lnTo>
                          <a:pt x="58" y="0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7" name=""/>
                <p:cNvSpPr/>
                <p:nvPr/>
              </p:nvSpPr>
              <p:spPr>
                <a:xfrm>
                  <a:off x="3948480" y="4516920"/>
                  <a:ext cx="73800" cy="105480"/>
                </a:xfrm>
                <a:custGeom>
                  <a:avLst/>
                  <a:gdLst/>
                  <a:ahLst/>
                  <a:rect l="l" t="t" r="r" b="b"/>
                  <a:pathLst>
                    <a:path w="47" h="67">
                      <a:moveTo>
                        <a:pt x="0" y="36"/>
                      </a:moveTo>
                      <a:lnTo>
                        <a:pt x="18" y="0"/>
                      </a:lnTo>
                      <a:lnTo>
                        <a:pt x="46" y="36"/>
                      </a:lnTo>
                      <a:lnTo>
                        <a:pt x="24" y="66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3841560" y="4286160"/>
                <a:ext cx="1471680" cy="1428480"/>
                <a:chOff x="3841560" y="4286160"/>
                <a:chExt cx="1471680" cy="142848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4309560" y="4328640"/>
                  <a:ext cx="336960" cy="45216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607280" y="4286160"/>
                  <a:ext cx="275760" cy="36216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873320" y="4683240"/>
                  <a:ext cx="439920" cy="5821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011480" y="4950360"/>
                  <a:ext cx="499320" cy="6739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744440" y="5041080"/>
                  <a:ext cx="370080" cy="4932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77560" y="5086800"/>
                  <a:ext cx="271080" cy="3571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41560" y="4773240"/>
                  <a:ext cx="270720" cy="36216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973680" y="4413960"/>
                  <a:ext cx="442800" cy="5886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377240" y="5127840"/>
                  <a:ext cx="438120" cy="5868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44600" y="4458600"/>
                  <a:ext cx="332280" cy="4536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842000" y="4286160"/>
                  <a:ext cx="307080" cy="40644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959640" y="4396680"/>
                  <a:ext cx="1279080" cy="1132560"/>
                </a:xfrm>
                <a:custGeom>
                  <a:avLst/>
                  <a:gdLst/>
                  <a:ahLst/>
                  <a:rect l="l" t="t" r="r" b="b"/>
                  <a:pathLst>
                    <a:path w="812" h="716">
                      <a:moveTo>
                        <a:pt x="249" y="71"/>
                      </a:moveTo>
                      <a:lnTo>
                        <a:pt x="284" y="20"/>
                      </a:lnTo>
                      <a:lnTo>
                        <a:pt x="435" y="23"/>
                      </a:lnTo>
                      <a:lnTo>
                        <a:pt x="542" y="0"/>
                      </a:lnTo>
                      <a:lnTo>
                        <a:pt x="676" y="85"/>
                      </a:lnTo>
                      <a:lnTo>
                        <a:pt x="746" y="62"/>
                      </a:lnTo>
                      <a:lnTo>
                        <a:pt x="782" y="71"/>
                      </a:lnTo>
                      <a:lnTo>
                        <a:pt x="789" y="283"/>
                      </a:lnTo>
                      <a:lnTo>
                        <a:pt x="811" y="318"/>
                      </a:lnTo>
                      <a:lnTo>
                        <a:pt x="747" y="482"/>
                      </a:lnTo>
                      <a:lnTo>
                        <a:pt x="680" y="369"/>
                      </a:lnTo>
                      <a:lnTo>
                        <a:pt x="661" y="429"/>
                      </a:lnTo>
                      <a:lnTo>
                        <a:pt x="566" y="652"/>
                      </a:lnTo>
                      <a:lnTo>
                        <a:pt x="244" y="715"/>
                      </a:lnTo>
                      <a:lnTo>
                        <a:pt x="79" y="671"/>
                      </a:lnTo>
                      <a:lnTo>
                        <a:pt x="27" y="530"/>
                      </a:lnTo>
                      <a:lnTo>
                        <a:pt x="27" y="387"/>
                      </a:lnTo>
                      <a:lnTo>
                        <a:pt x="0" y="268"/>
                      </a:lnTo>
                      <a:lnTo>
                        <a:pt x="249" y="71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1" name=""/>
            <p:cNvGrpSpPr/>
            <p:nvPr/>
          </p:nvGrpSpPr>
          <p:grpSpPr>
            <a:xfrm>
              <a:off x="3909240" y="4474440"/>
              <a:ext cx="1265400" cy="865080"/>
              <a:chOff x="3909240" y="4474440"/>
              <a:chExt cx="1265400" cy="865080"/>
            </a:xfrm>
          </p:grpSpPr>
          <p:sp>
            <p:nvSpPr>
              <p:cNvPr id="282" name=""/>
              <p:cNvSpPr/>
              <p:nvPr/>
            </p:nvSpPr>
            <p:spPr>
              <a:xfrm>
                <a:off x="3909240" y="4474440"/>
                <a:ext cx="1265400" cy="5378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909240" y="4803120"/>
                <a:ext cx="1233360" cy="5364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4" name=""/>
          <p:cNvGrpSpPr/>
          <p:nvPr/>
        </p:nvGrpSpPr>
        <p:grpSpPr>
          <a:xfrm>
            <a:off x="5038560" y="4514760"/>
            <a:ext cx="511200" cy="330120"/>
            <a:chOff x="5038560" y="4514760"/>
            <a:chExt cx="511200" cy="330120"/>
          </a:xfrm>
        </p:grpSpPr>
        <p:grpSp>
          <p:nvGrpSpPr>
            <p:cNvPr id="285" name=""/>
            <p:cNvGrpSpPr/>
            <p:nvPr/>
          </p:nvGrpSpPr>
          <p:grpSpPr>
            <a:xfrm>
              <a:off x="5039280" y="4557240"/>
              <a:ext cx="322560" cy="287640"/>
              <a:chOff x="5039280" y="4557240"/>
              <a:chExt cx="322560" cy="287640"/>
            </a:xfrm>
          </p:grpSpPr>
          <p:sp>
            <p:nvSpPr>
              <p:cNvPr id="286" name=""/>
              <p:cNvSpPr/>
              <p:nvPr/>
            </p:nvSpPr>
            <p:spPr>
              <a:xfrm>
                <a:off x="5039280" y="455724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039280" y="455724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5361840" y="4566960"/>
              <a:ext cx="186120" cy="277920"/>
              <a:chOff x="5361840" y="4566960"/>
              <a:chExt cx="186120" cy="277920"/>
            </a:xfrm>
          </p:grpSpPr>
          <p:sp>
            <p:nvSpPr>
              <p:cNvPr id="289" name=""/>
              <p:cNvSpPr/>
              <p:nvPr/>
            </p:nvSpPr>
            <p:spPr>
              <a:xfrm>
                <a:off x="5361840" y="456696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361840" y="456696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038560" y="4514760"/>
              <a:ext cx="511200" cy="115920"/>
              <a:chOff x="5038560" y="4514760"/>
              <a:chExt cx="511200" cy="115920"/>
            </a:xfrm>
          </p:grpSpPr>
          <p:sp>
            <p:nvSpPr>
              <p:cNvPr id="292" name=""/>
              <p:cNvSpPr/>
              <p:nvPr/>
            </p:nvSpPr>
            <p:spPr>
              <a:xfrm>
                <a:off x="5038560" y="451476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038560" y="451476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5058720" y="458316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58720" y="464508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58720" y="458316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5077800" y="4605840"/>
              <a:ext cx="132840" cy="56160"/>
              <a:chOff x="5077800" y="4605840"/>
              <a:chExt cx="132840" cy="56160"/>
            </a:xfrm>
          </p:grpSpPr>
          <p:sp>
            <p:nvSpPr>
              <p:cNvPr id="298" name=""/>
              <p:cNvSpPr/>
              <p:nvPr/>
            </p:nvSpPr>
            <p:spPr>
              <a:xfrm>
                <a:off x="5077800" y="460584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077800" y="460584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5076360" y="4665960"/>
              <a:ext cx="83160" cy="83880"/>
              <a:chOff x="5076360" y="4665960"/>
              <a:chExt cx="83160" cy="83880"/>
            </a:xfrm>
          </p:grpSpPr>
          <p:sp>
            <p:nvSpPr>
              <p:cNvPr id="301" name=""/>
              <p:cNvSpPr/>
              <p:nvPr/>
            </p:nvSpPr>
            <p:spPr>
              <a:xfrm>
                <a:off x="5076360" y="466596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076360" y="466596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3895560" y="4971960"/>
            <a:ext cx="508320" cy="330120"/>
            <a:chOff x="3895560" y="4971960"/>
            <a:chExt cx="508320" cy="330120"/>
          </a:xfrm>
        </p:grpSpPr>
        <p:grpSp>
          <p:nvGrpSpPr>
            <p:cNvPr id="304" name=""/>
            <p:cNvGrpSpPr/>
            <p:nvPr/>
          </p:nvGrpSpPr>
          <p:grpSpPr>
            <a:xfrm>
              <a:off x="3896280" y="5014440"/>
              <a:ext cx="320760" cy="287640"/>
              <a:chOff x="3896280" y="5014440"/>
              <a:chExt cx="320760" cy="287640"/>
            </a:xfrm>
          </p:grpSpPr>
          <p:sp>
            <p:nvSpPr>
              <p:cNvPr id="305" name=""/>
              <p:cNvSpPr/>
              <p:nvPr/>
            </p:nvSpPr>
            <p:spPr>
              <a:xfrm>
                <a:off x="3896280" y="5014440"/>
                <a:ext cx="3207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896280" y="5014440"/>
                <a:ext cx="3207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4217040" y="5024160"/>
              <a:ext cx="185040" cy="277920"/>
              <a:chOff x="4217040" y="5024160"/>
              <a:chExt cx="185040" cy="277920"/>
            </a:xfrm>
          </p:grpSpPr>
          <p:sp>
            <p:nvSpPr>
              <p:cNvPr id="308" name=""/>
              <p:cNvSpPr/>
              <p:nvPr/>
            </p:nvSpPr>
            <p:spPr>
              <a:xfrm>
                <a:off x="4217040" y="5024160"/>
                <a:ext cx="18504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217040" y="5024160"/>
                <a:ext cx="18504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3895560" y="4971960"/>
              <a:ext cx="508320" cy="115920"/>
              <a:chOff x="3895560" y="4971960"/>
              <a:chExt cx="508320" cy="115920"/>
            </a:xfrm>
          </p:grpSpPr>
          <p:sp>
            <p:nvSpPr>
              <p:cNvPr id="311" name=""/>
              <p:cNvSpPr/>
              <p:nvPr/>
            </p:nvSpPr>
            <p:spPr>
              <a:xfrm>
                <a:off x="3895560" y="4971960"/>
                <a:ext cx="50832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895560" y="4971960"/>
                <a:ext cx="50832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3915720" y="5040360"/>
              <a:ext cx="2707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15720" y="5102280"/>
              <a:ext cx="2707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15720" y="5040360"/>
              <a:ext cx="2692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3934440" y="5063040"/>
              <a:ext cx="132120" cy="56160"/>
              <a:chOff x="3934440" y="5063040"/>
              <a:chExt cx="132120" cy="56160"/>
            </a:xfrm>
          </p:grpSpPr>
          <p:sp>
            <p:nvSpPr>
              <p:cNvPr id="317" name=""/>
              <p:cNvSpPr/>
              <p:nvPr/>
            </p:nvSpPr>
            <p:spPr>
              <a:xfrm>
                <a:off x="3934440" y="506304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934440" y="506304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3933000" y="5123160"/>
              <a:ext cx="82440" cy="83880"/>
              <a:chOff x="3933000" y="5123160"/>
              <a:chExt cx="82440" cy="83880"/>
            </a:xfrm>
          </p:grpSpPr>
          <p:sp>
            <p:nvSpPr>
              <p:cNvPr id="320" name=""/>
              <p:cNvSpPr/>
              <p:nvPr/>
            </p:nvSpPr>
            <p:spPr>
              <a:xfrm>
                <a:off x="3933000" y="5123160"/>
                <a:ext cx="8244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933000" y="5123160"/>
                <a:ext cx="8244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4429080" y="4667400"/>
            <a:ext cx="511200" cy="330120"/>
            <a:chOff x="4429080" y="4667400"/>
            <a:chExt cx="511200" cy="330120"/>
          </a:xfrm>
        </p:grpSpPr>
        <p:grpSp>
          <p:nvGrpSpPr>
            <p:cNvPr id="323" name=""/>
            <p:cNvGrpSpPr/>
            <p:nvPr/>
          </p:nvGrpSpPr>
          <p:grpSpPr>
            <a:xfrm>
              <a:off x="4429800" y="4709880"/>
              <a:ext cx="322560" cy="287640"/>
              <a:chOff x="4429800" y="4709880"/>
              <a:chExt cx="322560" cy="287640"/>
            </a:xfrm>
          </p:grpSpPr>
          <p:sp>
            <p:nvSpPr>
              <p:cNvPr id="324" name=""/>
              <p:cNvSpPr/>
              <p:nvPr/>
            </p:nvSpPr>
            <p:spPr>
              <a:xfrm>
                <a:off x="4429800" y="47098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429800" y="47098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4752360" y="4719600"/>
              <a:ext cx="186120" cy="277920"/>
              <a:chOff x="4752360" y="4719600"/>
              <a:chExt cx="186120" cy="277920"/>
            </a:xfrm>
          </p:grpSpPr>
          <p:sp>
            <p:nvSpPr>
              <p:cNvPr id="327" name=""/>
              <p:cNvSpPr/>
              <p:nvPr/>
            </p:nvSpPr>
            <p:spPr>
              <a:xfrm>
                <a:off x="4752360" y="47196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752360" y="47196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4429080" y="4667400"/>
              <a:ext cx="511200" cy="115920"/>
              <a:chOff x="4429080" y="4667400"/>
              <a:chExt cx="511200" cy="11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4429080" y="46674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429080" y="46674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4449240" y="473580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49240" y="479772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49240" y="473580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4468320" y="4758480"/>
              <a:ext cx="132840" cy="56160"/>
              <a:chOff x="4468320" y="4758480"/>
              <a:chExt cx="132840" cy="56160"/>
            </a:xfrm>
          </p:grpSpPr>
          <p:sp>
            <p:nvSpPr>
              <p:cNvPr id="336" name=""/>
              <p:cNvSpPr/>
              <p:nvPr/>
            </p:nvSpPr>
            <p:spPr>
              <a:xfrm>
                <a:off x="4468320" y="47584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468320" y="47584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4466880" y="4818600"/>
              <a:ext cx="83160" cy="83880"/>
              <a:chOff x="4466880" y="4818600"/>
              <a:chExt cx="83160" cy="83880"/>
            </a:xfrm>
          </p:grpSpPr>
          <p:sp>
            <p:nvSpPr>
              <p:cNvPr id="339" name=""/>
              <p:cNvSpPr/>
              <p:nvPr/>
            </p:nvSpPr>
            <p:spPr>
              <a:xfrm>
                <a:off x="4466880" y="48186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466880" y="48186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1" name=""/>
          <p:cNvGrpSpPr/>
          <p:nvPr/>
        </p:nvGrpSpPr>
        <p:grpSpPr>
          <a:xfrm>
            <a:off x="2448000" y="3654360"/>
            <a:ext cx="990360" cy="631800"/>
            <a:chOff x="2448000" y="3654360"/>
            <a:chExt cx="990360" cy="631800"/>
          </a:xfrm>
        </p:grpSpPr>
        <p:grpSp>
          <p:nvGrpSpPr>
            <p:cNvPr id="342" name=""/>
            <p:cNvGrpSpPr/>
            <p:nvPr/>
          </p:nvGrpSpPr>
          <p:grpSpPr>
            <a:xfrm>
              <a:off x="2449440" y="3735720"/>
              <a:ext cx="624960" cy="550440"/>
              <a:chOff x="2449440" y="3735720"/>
              <a:chExt cx="624960" cy="550440"/>
            </a:xfrm>
          </p:grpSpPr>
          <p:sp>
            <p:nvSpPr>
              <p:cNvPr id="343" name=""/>
              <p:cNvSpPr/>
              <p:nvPr/>
            </p:nvSpPr>
            <p:spPr>
              <a:xfrm>
                <a:off x="2449440" y="373572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449440" y="373572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3074400" y="3754440"/>
              <a:ext cx="360360" cy="531720"/>
              <a:chOff x="3074400" y="3754440"/>
              <a:chExt cx="360360" cy="531720"/>
            </a:xfrm>
          </p:grpSpPr>
          <p:sp>
            <p:nvSpPr>
              <p:cNvPr id="346" name=""/>
              <p:cNvSpPr/>
              <p:nvPr/>
            </p:nvSpPr>
            <p:spPr>
              <a:xfrm>
                <a:off x="3074400" y="375444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074400" y="375444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2448000" y="3654360"/>
              <a:ext cx="990360" cy="221760"/>
              <a:chOff x="2448000" y="3654360"/>
              <a:chExt cx="990360" cy="221760"/>
            </a:xfrm>
          </p:grpSpPr>
          <p:sp>
            <p:nvSpPr>
              <p:cNvPr id="349" name=""/>
              <p:cNvSpPr/>
              <p:nvPr/>
            </p:nvSpPr>
            <p:spPr>
              <a:xfrm>
                <a:off x="2448000" y="3654360"/>
                <a:ext cx="99036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448000" y="3654360"/>
                <a:ext cx="99036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2487240" y="3785400"/>
              <a:ext cx="527760" cy="4453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87240" y="3904200"/>
              <a:ext cx="527760" cy="32616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87240" y="3785400"/>
              <a:ext cx="524880" cy="2908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2523960" y="3828600"/>
              <a:ext cx="257760" cy="107640"/>
              <a:chOff x="2523960" y="3828600"/>
              <a:chExt cx="257760" cy="107640"/>
            </a:xfrm>
          </p:grpSpPr>
          <p:sp>
            <p:nvSpPr>
              <p:cNvPr id="355" name=""/>
              <p:cNvSpPr/>
              <p:nvPr/>
            </p:nvSpPr>
            <p:spPr>
              <a:xfrm>
                <a:off x="2523960" y="382860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523960" y="382860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2521440" y="3943440"/>
              <a:ext cx="160920" cy="160920"/>
              <a:chOff x="2521440" y="3943440"/>
              <a:chExt cx="160920" cy="160920"/>
            </a:xfrm>
          </p:grpSpPr>
          <p:sp>
            <p:nvSpPr>
              <p:cNvPr id="358" name=""/>
              <p:cNvSpPr/>
              <p:nvPr/>
            </p:nvSpPr>
            <p:spPr>
              <a:xfrm>
                <a:off x="2521440" y="3943440"/>
                <a:ext cx="16092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521440" y="3943440"/>
                <a:ext cx="16092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0" name=""/>
          <p:cNvGrpSpPr/>
          <p:nvPr/>
        </p:nvGrpSpPr>
        <p:grpSpPr>
          <a:xfrm>
            <a:off x="3666960" y="4438800"/>
            <a:ext cx="511200" cy="330120"/>
            <a:chOff x="3666960" y="4438800"/>
            <a:chExt cx="511200" cy="330120"/>
          </a:xfrm>
        </p:grpSpPr>
        <p:grpSp>
          <p:nvGrpSpPr>
            <p:cNvPr id="361" name=""/>
            <p:cNvGrpSpPr/>
            <p:nvPr/>
          </p:nvGrpSpPr>
          <p:grpSpPr>
            <a:xfrm>
              <a:off x="3667680" y="4481280"/>
              <a:ext cx="322560" cy="287640"/>
              <a:chOff x="3667680" y="4481280"/>
              <a:chExt cx="322560" cy="287640"/>
            </a:xfrm>
          </p:grpSpPr>
          <p:sp>
            <p:nvSpPr>
              <p:cNvPr id="362" name=""/>
              <p:cNvSpPr/>
              <p:nvPr/>
            </p:nvSpPr>
            <p:spPr>
              <a:xfrm>
                <a:off x="3667680" y="44812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667680" y="44812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3990240" y="4491000"/>
              <a:ext cx="186120" cy="277920"/>
              <a:chOff x="3990240" y="4491000"/>
              <a:chExt cx="186120" cy="277920"/>
            </a:xfrm>
          </p:grpSpPr>
          <p:sp>
            <p:nvSpPr>
              <p:cNvPr id="365" name=""/>
              <p:cNvSpPr/>
              <p:nvPr/>
            </p:nvSpPr>
            <p:spPr>
              <a:xfrm>
                <a:off x="3990240" y="44910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990240" y="44910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3666960" y="4438800"/>
              <a:ext cx="511200" cy="115920"/>
              <a:chOff x="3666960" y="4438800"/>
              <a:chExt cx="511200" cy="115920"/>
            </a:xfrm>
          </p:grpSpPr>
          <p:sp>
            <p:nvSpPr>
              <p:cNvPr id="368" name=""/>
              <p:cNvSpPr/>
              <p:nvPr/>
            </p:nvSpPr>
            <p:spPr>
              <a:xfrm>
                <a:off x="3666960" y="44388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666960" y="44388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3687120" y="450720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87120" y="456912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87120" y="450720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3706200" y="4529880"/>
              <a:ext cx="132840" cy="56160"/>
              <a:chOff x="3706200" y="4529880"/>
              <a:chExt cx="132840" cy="56160"/>
            </a:xfrm>
          </p:grpSpPr>
          <p:sp>
            <p:nvSpPr>
              <p:cNvPr id="374" name=""/>
              <p:cNvSpPr/>
              <p:nvPr/>
            </p:nvSpPr>
            <p:spPr>
              <a:xfrm>
                <a:off x="3706200" y="45298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06200" y="45298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3704760" y="4590000"/>
              <a:ext cx="83160" cy="83880"/>
              <a:chOff x="3704760" y="4590000"/>
              <a:chExt cx="83160" cy="83880"/>
            </a:xfrm>
          </p:grpSpPr>
          <p:sp>
            <p:nvSpPr>
              <p:cNvPr id="377" name=""/>
              <p:cNvSpPr/>
              <p:nvPr/>
            </p:nvSpPr>
            <p:spPr>
              <a:xfrm>
                <a:off x="3704760" y="45900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704760" y="45900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9" name=""/>
          <p:cNvGrpSpPr/>
          <p:nvPr/>
        </p:nvGrpSpPr>
        <p:grpSpPr>
          <a:xfrm>
            <a:off x="4581360" y="5124600"/>
            <a:ext cx="511200" cy="330120"/>
            <a:chOff x="4581360" y="5124600"/>
            <a:chExt cx="511200" cy="330120"/>
          </a:xfrm>
        </p:grpSpPr>
        <p:grpSp>
          <p:nvGrpSpPr>
            <p:cNvPr id="380" name=""/>
            <p:cNvGrpSpPr/>
            <p:nvPr/>
          </p:nvGrpSpPr>
          <p:grpSpPr>
            <a:xfrm>
              <a:off x="4582080" y="5167080"/>
              <a:ext cx="322560" cy="287640"/>
              <a:chOff x="4582080" y="5167080"/>
              <a:chExt cx="322560" cy="287640"/>
            </a:xfrm>
          </p:grpSpPr>
          <p:sp>
            <p:nvSpPr>
              <p:cNvPr id="381" name=""/>
              <p:cNvSpPr/>
              <p:nvPr/>
            </p:nvSpPr>
            <p:spPr>
              <a:xfrm>
                <a:off x="4582080" y="51670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582080" y="51670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4904640" y="5176800"/>
              <a:ext cx="186120" cy="277920"/>
              <a:chOff x="4904640" y="5176800"/>
              <a:chExt cx="186120" cy="277920"/>
            </a:xfrm>
          </p:grpSpPr>
          <p:sp>
            <p:nvSpPr>
              <p:cNvPr id="384" name=""/>
              <p:cNvSpPr/>
              <p:nvPr/>
            </p:nvSpPr>
            <p:spPr>
              <a:xfrm>
                <a:off x="4904640" y="51768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904640" y="51768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4581360" y="5124600"/>
              <a:ext cx="511200" cy="115920"/>
              <a:chOff x="4581360" y="5124600"/>
              <a:chExt cx="511200" cy="115920"/>
            </a:xfrm>
          </p:grpSpPr>
          <p:sp>
            <p:nvSpPr>
              <p:cNvPr id="387" name=""/>
              <p:cNvSpPr/>
              <p:nvPr/>
            </p:nvSpPr>
            <p:spPr>
              <a:xfrm>
                <a:off x="4581360" y="51246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581360" y="51246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4601520" y="519300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601520" y="525492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601520" y="519300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4620600" y="5215680"/>
              <a:ext cx="132840" cy="56160"/>
              <a:chOff x="4620600" y="5215680"/>
              <a:chExt cx="132840" cy="56160"/>
            </a:xfrm>
          </p:grpSpPr>
          <p:sp>
            <p:nvSpPr>
              <p:cNvPr id="393" name=""/>
              <p:cNvSpPr/>
              <p:nvPr/>
            </p:nvSpPr>
            <p:spPr>
              <a:xfrm>
                <a:off x="4620600" y="52156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620600" y="52156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4619160" y="5275800"/>
              <a:ext cx="83160" cy="83880"/>
              <a:chOff x="4619160" y="5275800"/>
              <a:chExt cx="83160" cy="83880"/>
            </a:xfrm>
          </p:grpSpPr>
          <p:sp>
            <p:nvSpPr>
              <p:cNvPr id="396" name=""/>
              <p:cNvSpPr/>
              <p:nvPr/>
            </p:nvSpPr>
            <p:spPr>
              <a:xfrm>
                <a:off x="4619160" y="52758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619160" y="52758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 flipH="1" flipV="1">
            <a:off x="6028920" y="3412800"/>
            <a:ext cx="219240" cy="352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7846920" y="1846080"/>
            <a:ext cx="274680" cy="510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7975440" y="2278080"/>
            <a:ext cx="416160" cy="187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950240" y="2587680"/>
            <a:ext cx="490320" cy="214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7248600" y="2743200"/>
            <a:ext cx="255600" cy="334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7052760" y="265860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6730560" y="2744280"/>
            <a:ext cx="127080" cy="36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665760" y="3022560"/>
            <a:ext cx="735120" cy="479520"/>
            <a:chOff x="6665760" y="3022560"/>
            <a:chExt cx="735120" cy="479520"/>
          </a:xfrm>
        </p:grpSpPr>
        <p:grpSp>
          <p:nvGrpSpPr>
            <p:cNvPr id="406" name=""/>
            <p:cNvGrpSpPr/>
            <p:nvPr/>
          </p:nvGrpSpPr>
          <p:grpSpPr>
            <a:xfrm>
              <a:off x="6935760" y="3084120"/>
              <a:ext cx="464040" cy="417960"/>
              <a:chOff x="6935760" y="3084120"/>
              <a:chExt cx="464040" cy="417960"/>
            </a:xfrm>
          </p:grpSpPr>
          <p:sp>
            <p:nvSpPr>
              <p:cNvPr id="407" name=""/>
              <p:cNvSpPr/>
              <p:nvPr/>
            </p:nvSpPr>
            <p:spPr>
              <a:xfrm flipH="1">
                <a:off x="6935400" y="308412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6935400" y="308412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6668280" y="3098520"/>
              <a:ext cx="267480" cy="403560"/>
              <a:chOff x="6668280" y="3098520"/>
              <a:chExt cx="267480" cy="403560"/>
            </a:xfrm>
          </p:grpSpPr>
          <p:sp>
            <p:nvSpPr>
              <p:cNvPr id="410" name=""/>
              <p:cNvSpPr/>
              <p:nvPr/>
            </p:nvSpPr>
            <p:spPr>
              <a:xfrm flipH="1">
                <a:off x="6667920" y="309852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6667920" y="309852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6665760" y="3022560"/>
              <a:ext cx="735120" cy="168120"/>
              <a:chOff x="6665760" y="3022560"/>
              <a:chExt cx="735120" cy="168120"/>
            </a:xfrm>
          </p:grpSpPr>
          <p:sp>
            <p:nvSpPr>
              <p:cNvPr id="413" name=""/>
              <p:cNvSpPr/>
              <p:nvPr/>
            </p:nvSpPr>
            <p:spPr>
              <a:xfrm flipH="1">
                <a:off x="6665760" y="302256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6665760" y="302256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 flipH="1">
              <a:off x="6980040" y="3121920"/>
              <a:ext cx="391680" cy="33804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6980040" y="3212280"/>
              <a:ext cx="391680" cy="24768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982200" y="3121920"/>
              <a:ext cx="389520" cy="2206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7153200" y="3155040"/>
              <a:ext cx="191160" cy="81720"/>
              <a:chOff x="7153200" y="3155040"/>
              <a:chExt cx="191160" cy="8172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7152840" y="315504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7152840" y="315504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7227000" y="3242160"/>
              <a:ext cx="119520" cy="122040"/>
              <a:chOff x="7227000" y="3242160"/>
              <a:chExt cx="119520" cy="122040"/>
            </a:xfrm>
          </p:grpSpPr>
          <p:sp>
            <p:nvSpPr>
              <p:cNvPr id="422" name=""/>
              <p:cNvSpPr/>
              <p:nvPr/>
            </p:nvSpPr>
            <p:spPr>
              <a:xfrm flipH="1">
                <a:off x="7227000" y="324216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7227000" y="324216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4" name=""/>
          <p:cNvGrpSpPr/>
          <p:nvPr/>
        </p:nvGrpSpPr>
        <p:grpSpPr>
          <a:xfrm>
            <a:off x="8282160" y="2571840"/>
            <a:ext cx="512640" cy="546120"/>
            <a:chOff x="8282160" y="2571840"/>
            <a:chExt cx="512640" cy="546120"/>
          </a:xfrm>
        </p:grpSpPr>
        <p:grpSp>
          <p:nvGrpSpPr>
            <p:cNvPr id="425" name=""/>
            <p:cNvGrpSpPr/>
            <p:nvPr/>
          </p:nvGrpSpPr>
          <p:grpSpPr>
            <a:xfrm>
              <a:off x="8618760" y="2924280"/>
              <a:ext cx="176040" cy="193680"/>
              <a:chOff x="8618760" y="2924280"/>
              <a:chExt cx="176040" cy="193680"/>
            </a:xfrm>
          </p:grpSpPr>
          <p:sp>
            <p:nvSpPr>
              <p:cNvPr id="426" name=""/>
              <p:cNvSpPr/>
              <p:nvPr/>
            </p:nvSpPr>
            <p:spPr>
              <a:xfrm flipH="1">
                <a:off x="8618400" y="292428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8618400" y="292428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8282160" y="2852640"/>
              <a:ext cx="512640" cy="176400"/>
              <a:chOff x="8282160" y="2852640"/>
              <a:chExt cx="512640" cy="176400"/>
            </a:xfrm>
          </p:grpSpPr>
          <p:sp>
            <p:nvSpPr>
              <p:cNvPr id="429" name=""/>
              <p:cNvSpPr/>
              <p:nvPr/>
            </p:nvSpPr>
            <p:spPr>
              <a:xfrm flipH="1">
                <a:off x="8282160" y="285264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8282160" y="285264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8282160" y="2940840"/>
              <a:ext cx="336600" cy="176760"/>
              <a:chOff x="8282160" y="2940840"/>
              <a:chExt cx="336600" cy="176760"/>
            </a:xfrm>
          </p:grpSpPr>
          <p:sp>
            <p:nvSpPr>
              <p:cNvPr id="432" name=""/>
              <p:cNvSpPr/>
              <p:nvPr/>
            </p:nvSpPr>
            <p:spPr>
              <a:xfrm flipH="1">
                <a:off x="8281800" y="294084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8281800" y="294084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 flipH="1">
              <a:off x="8535240" y="302436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8298360" y="2961720"/>
              <a:ext cx="131760" cy="89640"/>
              <a:chOff x="8298360" y="2961720"/>
              <a:chExt cx="131760" cy="89640"/>
            </a:xfrm>
          </p:grpSpPr>
          <p:grpSp>
            <p:nvGrpSpPr>
              <p:cNvPr id="436" name=""/>
              <p:cNvGrpSpPr/>
              <p:nvPr/>
            </p:nvGrpSpPr>
            <p:grpSpPr>
              <a:xfrm>
                <a:off x="8298360" y="2961720"/>
                <a:ext cx="131760" cy="89640"/>
                <a:chOff x="8298360" y="2961720"/>
                <a:chExt cx="131760" cy="89640"/>
              </a:xfrm>
            </p:grpSpPr>
            <p:sp>
              <p:nvSpPr>
                <p:cNvPr id="437" name=""/>
                <p:cNvSpPr/>
                <p:nvPr/>
              </p:nvSpPr>
              <p:spPr>
                <a:xfrm flipH="1">
                  <a:off x="8298360" y="296172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flipH="1">
                  <a:off x="8298360" y="296172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9" name=""/>
              <p:cNvSpPr/>
              <p:nvPr/>
            </p:nvSpPr>
            <p:spPr>
              <a:xfrm>
                <a:off x="8298360" y="299268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8336880" y="300888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8336880" y="298260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8465760" y="2571840"/>
              <a:ext cx="308520" cy="301680"/>
              <a:chOff x="8465760" y="2571840"/>
              <a:chExt cx="308520" cy="301680"/>
            </a:xfrm>
          </p:grpSpPr>
          <p:sp>
            <p:nvSpPr>
              <p:cNvPr id="443" name=""/>
              <p:cNvSpPr/>
              <p:nvPr/>
            </p:nvSpPr>
            <p:spPr>
              <a:xfrm flipH="1">
                <a:off x="8465400" y="257184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8465400" y="257184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8618040" y="2650680"/>
              <a:ext cx="100440" cy="331200"/>
              <a:chOff x="8618040" y="2650680"/>
              <a:chExt cx="100440" cy="331200"/>
            </a:xfrm>
          </p:grpSpPr>
          <p:sp>
            <p:nvSpPr>
              <p:cNvPr id="446" name=""/>
              <p:cNvSpPr/>
              <p:nvPr/>
            </p:nvSpPr>
            <p:spPr>
              <a:xfrm flipH="1">
                <a:off x="8617680" y="265068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8617680" y="265068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8301240" y="2582640"/>
              <a:ext cx="417240" cy="122400"/>
              <a:chOff x="8301240" y="2582640"/>
              <a:chExt cx="417240" cy="122400"/>
            </a:xfrm>
          </p:grpSpPr>
          <p:sp>
            <p:nvSpPr>
              <p:cNvPr id="449" name=""/>
              <p:cNvSpPr/>
              <p:nvPr/>
            </p:nvSpPr>
            <p:spPr>
              <a:xfrm flipH="1">
                <a:off x="8300880" y="258264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8300880" y="258264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8363520" y="2917080"/>
              <a:ext cx="220320" cy="66960"/>
              <a:chOff x="8363520" y="2917080"/>
              <a:chExt cx="220320" cy="66960"/>
            </a:xfrm>
          </p:grpSpPr>
          <p:sp>
            <p:nvSpPr>
              <p:cNvPr id="452" name=""/>
              <p:cNvSpPr/>
              <p:nvPr/>
            </p:nvSpPr>
            <p:spPr>
              <a:xfrm flipH="1">
                <a:off x="8363520" y="291708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>
                <a:off x="8363520" y="291708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8301600" y="2629440"/>
              <a:ext cx="316440" cy="353160"/>
              <a:chOff x="8301600" y="2629440"/>
              <a:chExt cx="316440" cy="353160"/>
            </a:xfrm>
          </p:grpSpPr>
          <p:sp>
            <p:nvSpPr>
              <p:cNvPr id="455" name=""/>
              <p:cNvSpPr/>
              <p:nvPr/>
            </p:nvSpPr>
            <p:spPr>
              <a:xfrm flipH="1">
                <a:off x="8301240" y="262944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8301240" y="262944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8341200" y="2669400"/>
              <a:ext cx="230760" cy="257400"/>
              <a:chOff x="8341200" y="2669400"/>
              <a:chExt cx="230760" cy="257400"/>
            </a:xfrm>
          </p:grpSpPr>
          <p:sp>
            <p:nvSpPr>
              <p:cNvPr id="458" name=""/>
              <p:cNvSpPr/>
              <p:nvPr/>
            </p:nvSpPr>
            <p:spPr>
              <a:xfrm flipH="1">
                <a:off x="8340840" y="266940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8340840" y="266940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0" name=""/>
            <p:cNvSpPr/>
            <p:nvPr/>
          </p:nvSpPr>
          <p:spPr>
            <a:xfrm flipH="1">
              <a:off x="8359200" y="268704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8359200" y="268704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8520840" y="274392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8388720" y="272520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8335440" y="1897200"/>
            <a:ext cx="513000" cy="546120"/>
            <a:chOff x="8335440" y="1897200"/>
            <a:chExt cx="513000" cy="546120"/>
          </a:xfrm>
        </p:grpSpPr>
        <p:grpSp>
          <p:nvGrpSpPr>
            <p:cNvPr id="465" name=""/>
            <p:cNvGrpSpPr/>
            <p:nvPr/>
          </p:nvGrpSpPr>
          <p:grpSpPr>
            <a:xfrm>
              <a:off x="8672400" y="2249640"/>
              <a:ext cx="176040" cy="193680"/>
              <a:chOff x="8672400" y="2249640"/>
              <a:chExt cx="176040" cy="193680"/>
            </a:xfrm>
          </p:grpSpPr>
          <p:sp>
            <p:nvSpPr>
              <p:cNvPr id="466" name=""/>
              <p:cNvSpPr/>
              <p:nvPr/>
            </p:nvSpPr>
            <p:spPr>
              <a:xfrm flipH="1">
                <a:off x="8672040" y="224964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8672040" y="224964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8335440" y="2178000"/>
              <a:ext cx="513000" cy="176400"/>
              <a:chOff x="8335440" y="2178000"/>
              <a:chExt cx="513000" cy="176400"/>
            </a:xfrm>
          </p:grpSpPr>
          <p:sp>
            <p:nvSpPr>
              <p:cNvPr id="469" name=""/>
              <p:cNvSpPr/>
              <p:nvPr/>
            </p:nvSpPr>
            <p:spPr>
              <a:xfrm flipH="1">
                <a:off x="8335080" y="217800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H="1">
                <a:off x="8335080" y="217800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8335440" y="2266200"/>
              <a:ext cx="336960" cy="176760"/>
              <a:chOff x="8335440" y="2266200"/>
              <a:chExt cx="336960" cy="176760"/>
            </a:xfrm>
          </p:grpSpPr>
          <p:sp>
            <p:nvSpPr>
              <p:cNvPr id="472" name=""/>
              <p:cNvSpPr/>
              <p:nvPr/>
            </p:nvSpPr>
            <p:spPr>
              <a:xfrm flipH="1">
                <a:off x="8335440" y="226620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8335440" y="226620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 flipH="1">
              <a:off x="8588880" y="234972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8351640" y="2287080"/>
              <a:ext cx="131760" cy="89640"/>
              <a:chOff x="8351640" y="2287080"/>
              <a:chExt cx="131760" cy="8964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8351640" y="2287080"/>
                <a:ext cx="131760" cy="89640"/>
                <a:chOff x="8351640" y="2287080"/>
                <a:chExt cx="131760" cy="89640"/>
              </a:xfrm>
            </p:grpSpPr>
            <p:sp>
              <p:nvSpPr>
                <p:cNvPr id="477" name=""/>
                <p:cNvSpPr/>
                <p:nvPr/>
              </p:nvSpPr>
              <p:spPr>
                <a:xfrm flipH="1">
                  <a:off x="8351640" y="228708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>
                  <a:off x="8351640" y="228708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9" name=""/>
              <p:cNvSpPr/>
              <p:nvPr/>
            </p:nvSpPr>
            <p:spPr>
              <a:xfrm>
                <a:off x="8351640" y="231804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8390160" y="233424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8390160" y="230796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8519040" y="1897200"/>
              <a:ext cx="308880" cy="301680"/>
              <a:chOff x="8519040" y="1897200"/>
              <a:chExt cx="308880" cy="301680"/>
            </a:xfrm>
          </p:grpSpPr>
          <p:sp>
            <p:nvSpPr>
              <p:cNvPr id="483" name=""/>
              <p:cNvSpPr/>
              <p:nvPr/>
            </p:nvSpPr>
            <p:spPr>
              <a:xfrm flipH="1">
                <a:off x="8519040" y="189720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8519040" y="189720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8671680" y="1976040"/>
              <a:ext cx="100440" cy="331200"/>
              <a:chOff x="8671680" y="1976040"/>
              <a:chExt cx="100440" cy="331200"/>
            </a:xfrm>
          </p:grpSpPr>
          <p:sp>
            <p:nvSpPr>
              <p:cNvPr id="486" name=""/>
              <p:cNvSpPr/>
              <p:nvPr/>
            </p:nvSpPr>
            <p:spPr>
              <a:xfrm flipH="1">
                <a:off x="8671320" y="197604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8671320" y="197604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8354520" y="1908000"/>
              <a:ext cx="417600" cy="122400"/>
              <a:chOff x="8354520" y="1908000"/>
              <a:chExt cx="417600" cy="122400"/>
            </a:xfrm>
          </p:grpSpPr>
          <p:sp>
            <p:nvSpPr>
              <p:cNvPr id="489" name=""/>
              <p:cNvSpPr/>
              <p:nvPr/>
            </p:nvSpPr>
            <p:spPr>
              <a:xfrm flipH="1">
                <a:off x="8354520" y="190800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8354520" y="190800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8417160" y="2242440"/>
              <a:ext cx="220320" cy="66960"/>
              <a:chOff x="8417160" y="2242440"/>
              <a:chExt cx="220320" cy="66960"/>
            </a:xfrm>
          </p:grpSpPr>
          <p:sp>
            <p:nvSpPr>
              <p:cNvPr id="492" name=""/>
              <p:cNvSpPr/>
              <p:nvPr/>
            </p:nvSpPr>
            <p:spPr>
              <a:xfrm flipH="1">
                <a:off x="8417160" y="224244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8417160" y="224244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8354520" y="1954800"/>
              <a:ext cx="316800" cy="353160"/>
              <a:chOff x="8354520" y="1954800"/>
              <a:chExt cx="316800" cy="353160"/>
            </a:xfrm>
          </p:grpSpPr>
          <p:sp>
            <p:nvSpPr>
              <p:cNvPr id="495" name=""/>
              <p:cNvSpPr/>
              <p:nvPr/>
            </p:nvSpPr>
            <p:spPr>
              <a:xfrm flipH="1">
                <a:off x="8354520" y="195480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8354520" y="195480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8394480" y="1994760"/>
              <a:ext cx="230760" cy="257400"/>
              <a:chOff x="8394480" y="1994760"/>
              <a:chExt cx="230760" cy="257400"/>
            </a:xfrm>
          </p:grpSpPr>
          <p:sp>
            <p:nvSpPr>
              <p:cNvPr id="498" name=""/>
              <p:cNvSpPr/>
              <p:nvPr/>
            </p:nvSpPr>
            <p:spPr>
              <a:xfrm flipH="1">
                <a:off x="8394120" y="199476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8394120" y="199476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 flipH="1">
              <a:off x="8412840" y="201240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8412840" y="201240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8574120" y="206928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8442000" y="205056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7812000" y="1542960"/>
            <a:ext cx="511200" cy="546120"/>
            <a:chOff x="7812000" y="1542960"/>
            <a:chExt cx="511200" cy="546120"/>
          </a:xfrm>
        </p:grpSpPr>
        <p:grpSp>
          <p:nvGrpSpPr>
            <p:cNvPr id="505" name=""/>
            <p:cNvGrpSpPr/>
            <p:nvPr/>
          </p:nvGrpSpPr>
          <p:grpSpPr>
            <a:xfrm>
              <a:off x="8147880" y="1895400"/>
              <a:ext cx="175320" cy="193680"/>
              <a:chOff x="8147880" y="1895400"/>
              <a:chExt cx="175320" cy="193680"/>
            </a:xfrm>
          </p:grpSpPr>
          <p:sp>
            <p:nvSpPr>
              <p:cNvPr id="506" name=""/>
              <p:cNvSpPr/>
              <p:nvPr/>
            </p:nvSpPr>
            <p:spPr>
              <a:xfrm flipH="1">
                <a:off x="8147520" y="1895400"/>
                <a:ext cx="17532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8147520" y="1895400"/>
                <a:ext cx="17532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8" name=""/>
            <p:cNvGrpSpPr/>
            <p:nvPr/>
          </p:nvGrpSpPr>
          <p:grpSpPr>
            <a:xfrm>
              <a:off x="7812000" y="1823760"/>
              <a:ext cx="511200" cy="176400"/>
              <a:chOff x="7812000" y="1823760"/>
              <a:chExt cx="511200" cy="176400"/>
            </a:xfrm>
          </p:grpSpPr>
          <p:sp>
            <p:nvSpPr>
              <p:cNvPr id="509" name=""/>
              <p:cNvSpPr/>
              <p:nvPr/>
            </p:nvSpPr>
            <p:spPr>
              <a:xfrm flipH="1">
                <a:off x="7812000" y="182376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7812000" y="182376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7812360" y="1911960"/>
              <a:ext cx="335520" cy="176760"/>
              <a:chOff x="7812360" y="1911960"/>
              <a:chExt cx="335520" cy="176760"/>
            </a:xfrm>
          </p:grpSpPr>
          <p:sp>
            <p:nvSpPr>
              <p:cNvPr id="512" name=""/>
              <p:cNvSpPr/>
              <p:nvPr/>
            </p:nvSpPr>
            <p:spPr>
              <a:xfrm flipH="1">
                <a:off x="7812360" y="191196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812360" y="191196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flipH="1">
              <a:off x="8064360" y="1995480"/>
              <a:ext cx="6732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7828200" y="1932840"/>
              <a:ext cx="131760" cy="89640"/>
              <a:chOff x="7828200" y="1932840"/>
              <a:chExt cx="131760" cy="89640"/>
            </a:xfrm>
          </p:grpSpPr>
          <p:grpSp>
            <p:nvGrpSpPr>
              <p:cNvPr id="516" name=""/>
              <p:cNvGrpSpPr/>
              <p:nvPr/>
            </p:nvGrpSpPr>
            <p:grpSpPr>
              <a:xfrm>
                <a:off x="7828200" y="1932840"/>
                <a:ext cx="131400" cy="89640"/>
                <a:chOff x="7828200" y="1932840"/>
                <a:chExt cx="131400" cy="89640"/>
              </a:xfrm>
            </p:grpSpPr>
            <p:sp>
              <p:nvSpPr>
                <p:cNvPr id="517" name=""/>
                <p:cNvSpPr/>
                <p:nvPr/>
              </p:nvSpPr>
              <p:spPr>
                <a:xfrm flipH="1">
                  <a:off x="7827840" y="193284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H="1">
                  <a:off x="7827840" y="193284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9" name=""/>
              <p:cNvSpPr/>
              <p:nvPr/>
            </p:nvSpPr>
            <p:spPr>
              <a:xfrm>
                <a:off x="7828560" y="1963800"/>
                <a:ext cx="1314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7867440" y="1980000"/>
                <a:ext cx="4608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7867440" y="1953720"/>
                <a:ext cx="4608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7994880" y="1542960"/>
              <a:ext cx="307800" cy="301680"/>
              <a:chOff x="7994880" y="1542960"/>
              <a:chExt cx="307800" cy="301680"/>
            </a:xfrm>
          </p:grpSpPr>
          <p:sp>
            <p:nvSpPr>
              <p:cNvPr id="523" name=""/>
              <p:cNvSpPr/>
              <p:nvPr/>
            </p:nvSpPr>
            <p:spPr>
              <a:xfrm flipH="1">
                <a:off x="7994520" y="1542960"/>
                <a:ext cx="30780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7994520" y="1542960"/>
                <a:ext cx="30780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8147160" y="1621800"/>
              <a:ext cx="100080" cy="331200"/>
              <a:chOff x="8147160" y="1621800"/>
              <a:chExt cx="100080" cy="331200"/>
            </a:xfrm>
          </p:grpSpPr>
          <p:sp>
            <p:nvSpPr>
              <p:cNvPr id="526" name=""/>
              <p:cNvSpPr/>
              <p:nvPr/>
            </p:nvSpPr>
            <p:spPr>
              <a:xfrm flipH="1">
                <a:off x="8147160" y="1621800"/>
                <a:ext cx="10008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8147160" y="1621800"/>
                <a:ext cx="10008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7831080" y="1553760"/>
              <a:ext cx="416160" cy="122400"/>
              <a:chOff x="7831080" y="1553760"/>
              <a:chExt cx="416160" cy="122400"/>
            </a:xfrm>
          </p:grpSpPr>
          <p:sp>
            <p:nvSpPr>
              <p:cNvPr id="529" name=""/>
              <p:cNvSpPr/>
              <p:nvPr/>
            </p:nvSpPr>
            <p:spPr>
              <a:xfrm flipH="1">
                <a:off x="7831080" y="155376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7831080" y="155376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7893360" y="1888200"/>
              <a:ext cx="219600" cy="66960"/>
              <a:chOff x="7893360" y="1888200"/>
              <a:chExt cx="219600" cy="66960"/>
            </a:xfrm>
          </p:grpSpPr>
          <p:sp>
            <p:nvSpPr>
              <p:cNvPr id="532" name=""/>
              <p:cNvSpPr/>
              <p:nvPr/>
            </p:nvSpPr>
            <p:spPr>
              <a:xfrm flipH="1">
                <a:off x="7893360" y="1888200"/>
                <a:ext cx="21960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7893360" y="1888200"/>
                <a:ext cx="21960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7831080" y="1600560"/>
              <a:ext cx="315720" cy="353160"/>
              <a:chOff x="7831080" y="1600560"/>
              <a:chExt cx="315720" cy="353160"/>
            </a:xfrm>
          </p:grpSpPr>
          <p:sp>
            <p:nvSpPr>
              <p:cNvPr id="535" name=""/>
              <p:cNvSpPr/>
              <p:nvPr/>
            </p:nvSpPr>
            <p:spPr>
              <a:xfrm flipH="1">
                <a:off x="7830720" y="1600560"/>
                <a:ext cx="31572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7830720" y="1600560"/>
                <a:ext cx="31572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7871040" y="1640520"/>
              <a:ext cx="230040" cy="257400"/>
              <a:chOff x="7871040" y="1640520"/>
              <a:chExt cx="230040" cy="257400"/>
            </a:xfrm>
          </p:grpSpPr>
          <p:sp>
            <p:nvSpPr>
              <p:cNvPr id="538" name=""/>
              <p:cNvSpPr/>
              <p:nvPr/>
            </p:nvSpPr>
            <p:spPr>
              <a:xfrm flipH="1">
                <a:off x="7870680" y="1640520"/>
                <a:ext cx="23004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7870680" y="1640520"/>
                <a:ext cx="23004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 flipH="1">
              <a:off x="7889040" y="165816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7889040" y="165816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8049960" y="171504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7917840" y="1696320"/>
              <a:ext cx="1278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 flipV="1">
            <a:off x="6553080" y="3422160"/>
            <a:ext cx="255600" cy="335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6380280" y="3311280"/>
            <a:ext cx="288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7476840" y="2354400"/>
            <a:ext cx="533160" cy="380880"/>
            <a:chOff x="7476840" y="2354400"/>
            <a:chExt cx="533160" cy="380880"/>
          </a:xfrm>
        </p:grpSpPr>
        <p:sp>
          <p:nvSpPr>
            <p:cNvPr id="547" name=""/>
            <p:cNvSpPr/>
            <p:nvPr/>
          </p:nvSpPr>
          <p:spPr>
            <a:xfrm flipH="1">
              <a:off x="7476480" y="2354400"/>
              <a:ext cx="533160" cy="380880"/>
            </a:xfrm>
            <a:prstGeom prst="rect">
              <a:avLst/>
            </a:prstGeom>
            <a:gradFill rotWithShape="0">
              <a:gsLst>
                <a:gs pos="0">
                  <a:srgbClr val="2f2f75"/>
                </a:gs>
                <a:gs pos="100000">
                  <a:srgbClr val="66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7540560" y="2428200"/>
              <a:ext cx="399240" cy="247680"/>
              <a:chOff x="7540560" y="2428200"/>
              <a:chExt cx="399240" cy="247680"/>
            </a:xfrm>
          </p:grpSpPr>
          <p:sp>
            <p:nvSpPr>
              <p:cNvPr id="549" name=""/>
              <p:cNvSpPr/>
              <p:nvPr/>
            </p:nvSpPr>
            <p:spPr>
              <a:xfrm flipH="1">
                <a:off x="7600320" y="2428200"/>
                <a:ext cx="27720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608600" y="2428200"/>
                <a:ext cx="27648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7546320" y="2432160"/>
                <a:ext cx="6912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7540560" y="2673720"/>
                <a:ext cx="65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7867080" y="2432160"/>
                <a:ext cx="63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7875360" y="2673720"/>
                <a:ext cx="64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5" name=""/>
          <p:cNvGrpSpPr/>
          <p:nvPr/>
        </p:nvGrpSpPr>
        <p:grpSpPr>
          <a:xfrm>
            <a:off x="5800680" y="3627360"/>
            <a:ext cx="990720" cy="631800"/>
            <a:chOff x="5800680" y="3627360"/>
            <a:chExt cx="990720" cy="631800"/>
          </a:xfrm>
        </p:grpSpPr>
        <p:grpSp>
          <p:nvGrpSpPr>
            <p:cNvPr id="556" name=""/>
            <p:cNvGrpSpPr/>
            <p:nvPr/>
          </p:nvGrpSpPr>
          <p:grpSpPr>
            <a:xfrm>
              <a:off x="6165000" y="3708720"/>
              <a:ext cx="624960" cy="550440"/>
              <a:chOff x="6165000" y="3708720"/>
              <a:chExt cx="624960" cy="550440"/>
            </a:xfrm>
          </p:grpSpPr>
          <p:sp>
            <p:nvSpPr>
              <p:cNvPr id="557" name=""/>
              <p:cNvSpPr/>
              <p:nvPr/>
            </p:nvSpPr>
            <p:spPr>
              <a:xfrm flipH="1">
                <a:off x="6165000" y="370872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6165000" y="370872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5804280" y="3727440"/>
              <a:ext cx="360360" cy="531720"/>
              <a:chOff x="5804280" y="3727440"/>
              <a:chExt cx="360360" cy="531720"/>
            </a:xfrm>
          </p:grpSpPr>
          <p:sp>
            <p:nvSpPr>
              <p:cNvPr id="560" name=""/>
              <p:cNvSpPr/>
              <p:nvPr/>
            </p:nvSpPr>
            <p:spPr>
              <a:xfrm flipH="1">
                <a:off x="5803920" y="372744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5803920" y="372744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5800680" y="3627360"/>
              <a:ext cx="990720" cy="221760"/>
              <a:chOff x="5800680" y="3627360"/>
              <a:chExt cx="990720" cy="221760"/>
            </a:xfrm>
          </p:grpSpPr>
          <p:sp>
            <p:nvSpPr>
              <p:cNvPr id="563" name=""/>
              <p:cNvSpPr/>
              <p:nvPr/>
            </p:nvSpPr>
            <p:spPr>
              <a:xfrm flipH="1">
                <a:off x="5800680" y="3627360"/>
                <a:ext cx="99072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5800680" y="3627360"/>
                <a:ext cx="99072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 flipH="1">
              <a:off x="6224400" y="3758400"/>
              <a:ext cx="527760" cy="4453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6224400" y="3877200"/>
              <a:ext cx="527760" cy="32616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226560" y="3758400"/>
              <a:ext cx="525240" cy="2908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6457680" y="3801600"/>
              <a:ext cx="257760" cy="107640"/>
              <a:chOff x="6457680" y="3801600"/>
              <a:chExt cx="257760" cy="107640"/>
            </a:xfrm>
          </p:grpSpPr>
          <p:sp>
            <p:nvSpPr>
              <p:cNvPr id="569" name=""/>
              <p:cNvSpPr/>
              <p:nvPr/>
            </p:nvSpPr>
            <p:spPr>
              <a:xfrm flipH="1">
                <a:off x="6457680" y="380160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6457680" y="380160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6556680" y="3916440"/>
              <a:ext cx="161280" cy="160920"/>
              <a:chOff x="6556680" y="3916440"/>
              <a:chExt cx="161280" cy="160920"/>
            </a:xfrm>
          </p:grpSpPr>
          <p:sp>
            <p:nvSpPr>
              <p:cNvPr id="572" name=""/>
              <p:cNvSpPr/>
              <p:nvPr/>
            </p:nvSpPr>
            <p:spPr>
              <a:xfrm flipH="1">
                <a:off x="6556680" y="3916440"/>
                <a:ext cx="16128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6556680" y="3916440"/>
                <a:ext cx="16128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4" name=""/>
          <p:cNvGrpSpPr/>
          <p:nvPr/>
        </p:nvGrpSpPr>
        <p:grpSpPr>
          <a:xfrm>
            <a:off x="1838160" y="1752480"/>
            <a:ext cx="381240" cy="381240"/>
            <a:chOff x="1838160" y="1752480"/>
            <a:chExt cx="381240" cy="381240"/>
          </a:xfrm>
        </p:grpSpPr>
        <p:grpSp>
          <p:nvGrpSpPr>
            <p:cNvPr id="575" name=""/>
            <p:cNvGrpSpPr/>
            <p:nvPr/>
          </p:nvGrpSpPr>
          <p:grpSpPr>
            <a:xfrm>
              <a:off x="1838160" y="1998720"/>
              <a:ext cx="130680" cy="135000"/>
              <a:chOff x="1838160" y="1998720"/>
              <a:chExt cx="130680" cy="135000"/>
            </a:xfrm>
          </p:grpSpPr>
          <p:sp>
            <p:nvSpPr>
              <p:cNvPr id="576" name=""/>
              <p:cNvSpPr/>
              <p:nvPr/>
            </p:nvSpPr>
            <p:spPr>
              <a:xfrm>
                <a:off x="1838160" y="1998720"/>
                <a:ext cx="130680" cy="13500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838160" y="1998720"/>
                <a:ext cx="130680" cy="13500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1838160" y="1948680"/>
              <a:ext cx="381240" cy="123120"/>
              <a:chOff x="1838160" y="1948680"/>
              <a:chExt cx="381240" cy="123120"/>
            </a:xfrm>
          </p:grpSpPr>
          <p:sp>
            <p:nvSpPr>
              <p:cNvPr id="579" name=""/>
              <p:cNvSpPr/>
              <p:nvPr/>
            </p:nvSpPr>
            <p:spPr>
              <a:xfrm>
                <a:off x="1838160" y="1948680"/>
                <a:ext cx="381240" cy="12312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38160" y="1948680"/>
                <a:ext cx="381240" cy="12312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"/>
            <p:cNvGrpSpPr/>
            <p:nvPr/>
          </p:nvGrpSpPr>
          <p:grpSpPr>
            <a:xfrm>
              <a:off x="1968840" y="2010240"/>
              <a:ext cx="250200" cy="123480"/>
              <a:chOff x="1968840" y="2010240"/>
              <a:chExt cx="250200" cy="123480"/>
            </a:xfrm>
          </p:grpSpPr>
          <p:sp>
            <p:nvSpPr>
              <p:cNvPr id="582" name=""/>
              <p:cNvSpPr/>
              <p:nvPr/>
            </p:nvSpPr>
            <p:spPr>
              <a:xfrm>
                <a:off x="1968840" y="2010240"/>
                <a:ext cx="250200" cy="12348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68840" y="2010240"/>
                <a:ext cx="250200" cy="12348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1980720" y="2068200"/>
              <a:ext cx="50040" cy="2808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2109600" y="2024640"/>
              <a:ext cx="97920" cy="62640"/>
              <a:chOff x="2109600" y="2024640"/>
              <a:chExt cx="97920" cy="62640"/>
            </a:xfrm>
          </p:grpSpPr>
          <p:grpSp>
            <p:nvGrpSpPr>
              <p:cNvPr id="586" name=""/>
              <p:cNvGrpSpPr/>
              <p:nvPr/>
            </p:nvGrpSpPr>
            <p:grpSpPr>
              <a:xfrm>
                <a:off x="2109600" y="2024640"/>
                <a:ext cx="97920" cy="62640"/>
                <a:chOff x="2109600" y="2024640"/>
                <a:chExt cx="97920" cy="6264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2109600" y="2024640"/>
                  <a:ext cx="97920" cy="62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109600" y="2024640"/>
                  <a:ext cx="97920" cy="62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9" name=""/>
              <p:cNvSpPr/>
              <p:nvPr/>
            </p:nvSpPr>
            <p:spPr>
              <a:xfrm flipH="1">
                <a:off x="2109600" y="2046240"/>
                <a:ext cx="9792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144160" y="2057400"/>
                <a:ext cx="34560" cy="1404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144160" y="2039040"/>
                <a:ext cx="34560" cy="1296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1853640" y="1752480"/>
              <a:ext cx="229680" cy="210600"/>
              <a:chOff x="1853640" y="1752480"/>
              <a:chExt cx="229680" cy="210600"/>
            </a:xfrm>
          </p:grpSpPr>
          <p:sp>
            <p:nvSpPr>
              <p:cNvPr id="593" name=""/>
              <p:cNvSpPr/>
              <p:nvPr/>
            </p:nvSpPr>
            <p:spPr>
              <a:xfrm>
                <a:off x="1853640" y="1752480"/>
                <a:ext cx="229680" cy="21060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853640" y="1752480"/>
                <a:ext cx="229680" cy="21060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1894680" y="1807560"/>
              <a:ext cx="74520" cy="231120"/>
              <a:chOff x="1894680" y="1807560"/>
              <a:chExt cx="74520" cy="231120"/>
            </a:xfrm>
          </p:grpSpPr>
          <p:sp>
            <p:nvSpPr>
              <p:cNvPr id="596" name=""/>
              <p:cNvSpPr/>
              <p:nvPr/>
            </p:nvSpPr>
            <p:spPr>
              <a:xfrm>
                <a:off x="1894680" y="1807560"/>
                <a:ext cx="74520" cy="23112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4680" y="1807560"/>
                <a:ext cx="74520" cy="23112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1894680" y="1760040"/>
              <a:ext cx="310320" cy="85320"/>
              <a:chOff x="1894680" y="1760040"/>
              <a:chExt cx="310320" cy="85320"/>
            </a:xfrm>
          </p:grpSpPr>
          <p:sp>
            <p:nvSpPr>
              <p:cNvPr id="599" name=""/>
              <p:cNvSpPr/>
              <p:nvPr/>
            </p:nvSpPr>
            <p:spPr>
              <a:xfrm>
                <a:off x="1894680" y="1760040"/>
                <a:ext cx="310320" cy="8532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894680" y="1760040"/>
                <a:ext cx="310320" cy="8532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1994760" y="1993320"/>
              <a:ext cx="163800" cy="46440"/>
              <a:chOff x="1994760" y="1993320"/>
              <a:chExt cx="163800" cy="46440"/>
            </a:xfrm>
          </p:grpSpPr>
          <p:sp>
            <p:nvSpPr>
              <p:cNvPr id="602" name=""/>
              <p:cNvSpPr/>
              <p:nvPr/>
            </p:nvSpPr>
            <p:spPr>
              <a:xfrm>
                <a:off x="1994760" y="1993320"/>
                <a:ext cx="163800" cy="4644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994760" y="1993320"/>
                <a:ext cx="163800" cy="4644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1969560" y="1792800"/>
              <a:ext cx="235440" cy="246600"/>
              <a:chOff x="1969560" y="1792800"/>
              <a:chExt cx="235440" cy="246600"/>
            </a:xfrm>
          </p:grpSpPr>
          <p:sp>
            <p:nvSpPr>
              <p:cNvPr id="605" name=""/>
              <p:cNvSpPr/>
              <p:nvPr/>
            </p:nvSpPr>
            <p:spPr>
              <a:xfrm>
                <a:off x="1969560" y="1792800"/>
                <a:ext cx="235440" cy="24660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969560" y="1792800"/>
                <a:ext cx="235440" cy="24660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2003760" y="1820520"/>
              <a:ext cx="171720" cy="179640"/>
              <a:chOff x="2003760" y="1820520"/>
              <a:chExt cx="171720" cy="179640"/>
            </a:xfrm>
          </p:grpSpPr>
          <p:sp>
            <p:nvSpPr>
              <p:cNvPr id="608" name=""/>
              <p:cNvSpPr/>
              <p:nvPr/>
            </p:nvSpPr>
            <p:spPr>
              <a:xfrm>
                <a:off x="2003760" y="1820520"/>
                <a:ext cx="171720" cy="1796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003760" y="1820520"/>
                <a:ext cx="171720" cy="1796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0" name=""/>
            <p:cNvSpPr/>
            <p:nvPr/>
          </p:nvSpPr>
          <p:spPr>
            <a:xfrm>
              <a:off x="2010600" y="1833120"/>
              <a:ext cx="151200" cy="15228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010600" y="1833120"/>
              <a:ext cx="151200" cy="15228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028240" y="1872720"/>
              <a:ext cx="1404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044800" y="1859400"/>
              <a:ext cx="95400" cy="1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1738080" y="13399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B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2219400" y="4267080"/>
            <a:ext cx="511200" cy="330480"/>
            <a:chOff x="2219400" y="4267080"/>
            <a:chExt cx="511200" cy="330480"/>
          </a:xfrm>
        </p:grpSpPr>
        <p:grpSp>
          <p:nvGrpSpPr>
            <p:cNvPr id="616" name=""/>
            <p:cNvGrpSpPr/>
            <p:nvPr/>
          </p:nvGrpSpPr>
          <p:grpSpPr>
            <a:xfrm>
              <a:off x="2220120" y="4309560"/>
              <a:ext cx="322560" cy="288000"/>
              <a:chOff x="2220120" y="4309560"/>
              <a:chExt cx="322560" cy="288000"/>
            </a:xfrm>
          </p:grpSpPr>
          <p:sp>
            <p:nvSpPr>
              <p:cNvPr id="617" name=""/>
              <p:cNvSpPr/>
              <p:nvPr/>
            </p:nvSpPr>
            <p:spPr>
              <a:xfrm>
                <a:off x="2220120" y="4309560"/>
                <a:ext cx="32256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220120" y="4309560"/>
                <a:ext cx="32256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2542680" y="4319280"/>
              <a:ext cx="186120" cy="278280"/>
              <a:chOff x="2542680" y="4319280"/>
              <a:chExt cx="186120" cy="278280"/>
            </a:xfrm>
          </p:grpSpPr>
          <p:sp>
            <p:nvSpPr>
              <p:cNvPr id="620" name=""/>
              <p:cNvSpPr/>
              <p:nvPr/>
            </p:nvSpPr>
            <p:spPr>
              <a:xfrm>
                <a:off x="2542680" y="4319280"/>
                <a:ext cx="18612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542680" y="4319280"/>
                <a:ext cx="18612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2219400" y="4267080"/>
              <a:ext cx="511200" cy="115920"/>
              <a:chOff x="2219400" y="4267080"/>
              <a:chExt cx="511200" cy="115920"/>
            </a:xfrm>
          </p:grpSpPr>
          <p:sp>
            <p:nvSpPr>
              <p:cNvPr id="623" name=""/>
              <p:cNvSpPr/>
              <p:nvPr/>
            </p:nvSpPr>
            <p:spPr>
              <a:xfrm>
                <a:off x="2219400" y="426708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219400" y="426708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2239560" y="4335480"/>
              <a:ext cx="272520" cy="2329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239560" y="439776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39560" y="4335480"/>
              <a:ext cx="271080" cy="1522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2258640" y="4358160"/>
              <a:ext cx="132840" cy="56160"/>
              <a:chOff x="2258640" y="4358160"/>
              <a:chExt cx="132840" cy="56160"/>
            </a:xfrm>
          </p:grpSpPr>
          <p:sp>
            <p:nvSpPr>
              <p:cNvPr id="629" name=""/>
              <p:cNvSpPr/>
              <p:nvPr/>
            </p:nvSpPr>
            <p:spPr>
              <a:xfrm>
                <a:off x="2258640" y="435816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258640" y="435816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2257200" y="4418280"/>
              <a:ext cx="83160" cy="84240"/>
              <a:chOff x="2257200" y="4418280"/>
              <a:chExt cx="83160" cy="84240"/>
            </a:xfrm>
          </p:grpSpPr>
          <p:sp>
            <p:nvSpPr>
              <p:cNvPr id="632" name=""/>
              <p:cNvSpPr/>
              <p:nvPr/>
            </p:nvSpPr>
            <p:spPr>
              <a:xfrm>
                <a:off x="2257200" y="4418280"/>
                <a:ext cx="8316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257200" y="4418280"/>
                <a:ext cx="8316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4" name=""/>
          <p:cNvGrpSpPr/>
          <p:nvPr/>
        </p:nvGrpSpPr>
        <p:grpSpPr>
          <a:xfrm>
            <a:off x="1380960" y="3581280"/>
            <a:ext cx="511200" cy="330480"/>
            <a:chOff x="1380960" y="3581280"/>
            <a:chExt cx="511200" cy="330480"/>
          </a:xfrm>
        </p:grpSpPr>
        <p:grpSp>
          <p:nvGrpSpPr>
            <p:cNvPr id="635" name=""/>
            <p:cNvGrpSpPr/>
            <p:nvPr/>
          </p:nvGrpSpPr>
          <p:grpSpPr>
            <a:xfrm>
              <a:off x="1381680" y="3623760"/>
              <a:ext cx="322560" cy="288000"/>
              <a:chOff x="1381680" y="3623760"/>
              <a:chExt cx="322560" cy="288000"/>
            </a:xfrm>
          </p:grpSpPr>
          <p:sp>
            <p:nvSpPr>
              <p:cNvPr id="636" name=""/>
              <p:cNvSpPr/>
              <p:nvPr/>
            </p:nvSpPr>
            <p:spPr>
              <a:xfrm>
                <a:off x="1381680" y="3623760"/>
                <a:ext cx="32256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381680" y="3623760"/>
                <a:ext cx="32256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1704240" y="3633480"/>
              <a:ext cx="186120" cy="278280"/>
              <a:chOff x="1704240" y="3633480"/>
              <a:chExt cx="186120" cy="278280"/>
            </a:xfrm>
          </p:grpSpPr>
          <p:sp>
            <p:nvSpPr>
              <p:cNvPr id="639" name=""/>
              <p:cNvSpPr/>
              <p:nvPr/>
            </p:nvSpPr>
            <p:spPr>
              <a:xfrm>
                <a:off x="1704240" y="3633480"/>
                <a:ext cx="18612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704240" y="3633480"/>
                <a:ext cx="18612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1380960" y="3581280"/>
              <a:ext cx="511200" cy="115920"/>
              <a:chOff x="1380960" y="3581280"/>
              <a:chExt cx="511200" cy="115920"/>
            </a:xfrm>
          </p:grpSpPr>
          <p:sp>
            <p:nvSpPr>
              <p:cNvPr id="642" name=""/>
              <p:cNvSpPr/>
              <p:nvPr/>
            </p:nvSpPr>
            <p:spPr>
              <a:xfrm>
                <a:off x="1380960" y="358128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380960" y="358128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4" name=""/>
            <p:cNvSpPr/>
            <p:nvPr/>
          </p:nvSpPr>
          <p:spPr>
            <a:xfrm>
              <a:off x="1401120" y="3649680"/>
              <a:ext cx="272520" cy="2329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01120" y="371196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01120" y="3649680"/>
              <a:ext cx="271080" cy="1522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7" name=""/>
            <p:cNvGrpSpPr/>
            <p:nvPr/>
          </p:nvGrpSpPr>
          <p:grpSpPr>
            <a:xfrm>
              <a:off x="1420200" y="3672360"/>
              <a:ext cx="132840" cy="56160"/>
              <a:chOff x="1420200" y="3672360"/>
              <a:chExt cx="132840" cy="56160"/>
            </a:xfrm>
          </p:grpSpPr>
          <p:sp>
            <p:nvSpPr>
              <p:cNvPr id="648" name=""/>
              <p:cNvSpPr/>
              <p:nvPr/>
            </p:nvSpPr>
            <p:spPr>
              <a:xfrm>
                <a:off x="1420200" y="367236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420200" y="367236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1418760" y="3732480"/>
              <a:ext cx="83160" cy="84240"/>
              <a:chOff x="1418760" y="3732480"/>
              <a:chExt cx="83160" cy="84240"/>
            </a:xfrm>
          </p:grpSpPr>
          <p:sp>
            <p:nvSpPr>
              <p:cNvPr id="651" name=""/>
              <p:cNvSpPr/>
              <p:nvPr/>
            </p:nvSpPr>
            <p:spPr>
              <a:xfrm>
                <a:off x="1418760" y="3732480"/>
                <a:ext cx="8316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418760" y="3732480"/>
                <a:ext cx="8316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3" name=""/>
          <p:cNvGrpSpPr/>
          <p:nvPr/>
        </p:nvGrpSpPr>
        <p:grpSpPr>
          <a:xfrm>
            <a:off x="1609560" y="4114800"/>
            <a:ext cx="508320" cy="330120"/>
            <a:chOff x="1609560" y="4114800"/>
            <a:chExt cx="508320" cy="330120"/>
          </a:xfrm>
        </p:grpSpPr>
        <p:grpSp>
          <p:nvGrpSpPr>
            <p:cNvPr id="654" name=""/>
            <p:cNvGrpSpPr/>
            <p:nvPr/>
          </p:nvGrpSpPr>
          <p:grpSpPr>
            <a:xfrm>
              <a:off x="1610280" y="4157280"/>
              <a:ext cx="320760" cy="287640"/>
              <a:chOff x="1610280" y="4157280"/>
              <a:chExt cx="320760" cy="287640"/>
            </a:xfrm>
          </p:grpSpPr>
          <p:sp>
            <p:nvSpPr>
              <p:cNvPr id="655" name=""/>
              <p:cNvSpPr/>
              <p:nvPr/>
            </p:nvSpPr>
            <p:spPr>
              <a:xfrm>
                <a:off x="1610280" y="4157280"/>
                <a:ext cx="3207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610280" y="4157280"/>
                <a:ext cx="3207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1931040" y="4167000"/>
              <a:ext cx="185040" cy="277920"/>
              <a:chOff x="1931040" y="4167000"/>
              <a:chExt cx="185040" cy="277920"/>
            </a:xfrm>
          </p:grpSpPr>
          <p:sp>
            <p:nvSpPr>
              <p:cNvPr id="658" name=""/>
              <p:cNvSpPr/>
              <p:nvPr/>
            </p:nvSpPr>
            <p:spPr>
              <a:xfrm>
                <a:off x="1931040" y="4167000"/>
                <a:ext cx="18504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931040" y="4167000"/>
                <a:ext cx="18504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1609560" y="4114800"/>
              <a:ext cx="508320" cy="115920"/>
              <a:chOff x="1609560" y="4114800"/>
              <a:chExt cx="508320" cy="115920"/>
            </a:xfrm>
          </p:grpSpPr>
          <p:sp>
            <p:nvSpPr>
              <p:cNvPr id="661" name=""/>
              <p:cNvSpPr/>
              <p:nvPr/>
            </p:nvSpPr>
            <p:spPr>
              <a:xfrm>
                <a:off x="1609560" y="4114800"/>
                <a:ext cx="50832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609560" y="4114800"/>
                <a:ext cx="50832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>
              <a:off x="1629720" y="4183200"/>
              <a:ext cx="2707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629720" y="4245120"/>
              <a:ext cx="2707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29720" y="4183200"/>
              <a:ext cx="2692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6" name=""/>
            <p:cNvGrpSpPr/>
            <p:nvPr/>
          </p:nvGrpSpPr>
          <p:grpSpPr>
            <a:xfrm>
              <a:off x="1648440" y="4205880"/>
              <a:ext cx="132120" cy="56160"/>
              <a:chOff x="1648440" y="4205880"/>
              <a:chExt cx="132120" cy="56160"/>
            </a:xfrm>
          </p:grpSpPr>
          <p:sp>
            <p:nvSpPr>
              <p:cNvPr id="667" name=""/>
              <p:cNvSpPr/>
              <p:nvPr/>
            </p:nvSpPr>
            <p:spPr>
              <a:xfrm>
                <a:off x="1648440" y="420588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648440" y="420588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1647000" y="4266000"/>
              <a:ext cx="82440" cy="83880"/>
              <a:chOff x="1647000" y="4266000"/>
              <a:chExt cx="82440" cy="83880"/>
            </a:xfrm>
          </p:grpSpPr>
          <p:sp>
            <p:nvSpPr>
              <p:cNvPr id="670" name=""/>
              <p:cNvSpPr/>
              <p:nvPr/>
            </p:nvSpPr>
            <p:spPr>
              <a:xfrm>
                <a:off x="1647000" y="4266000"/>
                <a:ext cx="8244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647000" y="4266000"/>
                <a:ext cx="8244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2" name=""/>
          <p:cNvSpPr/>
          <p:nvPr/>
        </p:nvSpPr>
        <p:spPr>
          <a:xfrm>
            <a:off x="3057480" y="1905120"/>
            <a:ext cx="685800" cy="555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276800" y="3276720"/>
            <a:ext cx="685800" cy="555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724360" y="1905120"/>
            <a:ext cx="685800" cy="555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898360" y="160020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903760" y="5867280"/>
            <a:ext cx="33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fferentiated Service Network(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39400" y="327672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EEE 802.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755360" y="2209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3165480" y="2336760"/>
            <a:ext cx="28353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4648320" y="2989440"/>
            <a:ext cx="3831840" cy="2649240"/>
            <a:chOff x="4648320" y="2989440"/>
            <a:chExt cx="3831840" cy="2649240"/>
          </a:xfrm>
        </p:grpSpPr>
        <p:sp>
          <p:nvSpPr>
            <p:cNvPr id="681" name=""/>
            <p:cNvSpPr/>
            <p:nvPr/>
          </p:nvSpPr>
          <p:spPr>
            <a:xfrm>
              <a:off x="6333840" y="3459240"/>
              <a:ext cx="21463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.  QoS service provider sends RSVP PATH message to net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648320" y="2989440"/>
              <a:ext cx="0" cy="26492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4572000" y="1463760"/>
            <a:ext cx="3908520" cy="1058760"/>
            <a:chOff x="4572000" y="1463760"/>
            <a:chExt cx="3908520" cy="1058760"/>
          </a:xfrm>
        </p:grpSpPr>
        <p:sp>
          <p:nvSpPr>
            <p:cNvPr id="684" name=""/>
            <p:cNvSpPr/>
            <p:nvPr/>
          </p:nvSpPr>
          <p:spPr>
            <a:xfrm>
              <a:off x="6297480" y="1463760"/>
              <a:ext cx="218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.  Application indicates that it is a QoS send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572000" y="1860480"/>
              <a:ext cx="0" cy="6620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05320" y="3581280"/>
            <a:ext cx="2044440" cy="762120"/>
          </a:xfrm>
          <a:prstGeom prst="rect">
            <a:avLst/>
          </a:prstGeom>
          <a:gradFill rotWithShape="0">
            <a:gsLst>
              <a:gs pos="0">
                <a:srgbClr val="75393b"/>
              </a:gs>
              <a:gs pos="100000">
                <a:srgbClr val="ff7c8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505320" y="5638680"/>
            <a:ext cx="2044440" cy="642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tC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613520" y="196524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Sock2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560760" y="1368360"/>
            <a:ext cx="2044800" cy="642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oS-aware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143000" y="3505320"/>
            <a:ext cx="2835360" cy="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505320" y="2438280"/>
            <a:ext cx="4952520" cy="990720"/>
            <a:chOff x="3505320" y="2438280"/>
            <a:chExt cx="4952520" cy="990720"/>
          </a:xfrm>
        </p:grpSpPr>
        <p:sp>
          <p:nvSpPr>
            <p:cNvPr id="692" name=""/>
            <p:cNvSpPr/>
            <p:nvPr/>
          </p:nvSpPr>
          <p:spPr>
            <a:xfrm>
              <a:off x="5970600" y="2438280"/>
              <a:ext cx="248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2.  QoS SP invokes non-greedy traffic contro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05320" y="3047760"/>
              <a:ext cx="0" cy="3812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3581280" y="2514600"/>
            <a:ext cx="2044800" cy="642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oS S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84360" y="3108240"/>
            <a:ext cx="24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ffic Control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505320" y="4495680"/>
            <a:ext cx="2133360" cy="6858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cket Schedu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371600" y="53341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C SA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24080" y="5486400"/>
            <a:ext cx="1067040" cy="76320"/>
          </a:xfrm>
          <a:prstGeom prst="rightArrow">
            <a:avLst>
              <a:gd name="adj1" fmla="val 50000"/>
              <a:gd name="adj2" fmla="val 349528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905120" y="4343400"/>
            <a:ext cx="617220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066680" y="4114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DI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6060960" y="3278160"/>
            <a:ext cx="198720" cy="12747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4595400" y="4648320"/>
            <a:ext cx="1800" cy="59832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3276720" y="3276360"/>
            <a:ext cx="152280" cy="14475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2514600" y="3276720"/>
            <a:ext cx="762120" cy="7617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1676520" y="5181480"/>
            <a:ext cx="155520" cy="609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1828800" y="4266720"/>
            <a:ext cx="384120" cy="838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2438280" y="4876920"/>
            <a:ext cx="15552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1143000" y="4648320"/>
            <a:ext cx="38412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1600200" y="4191120"/>
            <a:ext cx="30780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2364840" y="5257440"/>
            <a:ext cx="225720" cy="609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1599840" y="2895480"/>
            <a:ext cx="304920" cy="304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 flipV="1" rot="20268600">
            <a:off x="5181480" y="4971960"/>
            <a:ext cx="1084320" cy="329040"/>
          </a:xfrm>
          <a:custGeom>
            <a:avLst/>
            <a:gdLst/>
            <a:ahLst/>
            <a:rect l="l" t="t" r="r" b="b"/>
            <a:pathLst>
              <a:path w="656" h="197">
                <a:moveTo>
                  <a:pt x="0" y="196"/>
                </a:moveTo>
                <a:lnTo>
                  <a:pt x="401" y="145"/>
                </a:lnTo>
                <a:lnTo>
                  <a:pt x="312" y="71"/>
                </a:lnTo>
                <a:lnTo>
                  <a:pt x="655" y="0"/>
                </a:lnTo>
                <a:lnTo>
                  <a:pt x="254" y="52"/>
                </a:lnTo>
                <a:lnTo>
                  <a:pt x="346" y="129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981160" y="4277880"/>
            <a:ext cx="219240" cy="352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1107720" y="2711520"/>
            <a:ext cx="274680" cy="511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838080" y="3142800"/>
            <a:ext cx="416160" cy="187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789120" y="3452760"/>
            <a:ext cx="490320" cy="214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1752480" y="3580920"/>
            <a:ext cx="255600" cy="335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2173320" y="352404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2371680" y="3609720"/>
            <a:ext cx="127080" cy="36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1828800" y="3887640"/>
            <a:ext cx="735120" cy="479520"/>
            <a:chOff x="1828800" y="3887640"/>
            <a:chExt cx="735120" cy="479520"/>
          </a:xfrm>
        </p:grpSpPr>
        <p:grpSp>
          <p:nvGrpSpPr>
            <p:cNvPr id="721" name=""/>
            <p:cNvGrpSpPr/>
            <p:nvPr/>
          </p:nvGrpSpPr>
          <p:grpSpPr>
            <a:xfrm>
              <a:off x="1829880" y="3949200"/>
              <a:ext cx="464040" cy="417960"/>
              <a:chOff x="1829880" y="3949200"/>
              <a:chExt cx="464040" cy="417960"/>
            </a:xfrm>
          </p:grpSpPr>
          <p:sp>
            <p:nvSpPr>
              <p:cNvPr id="722" name=""/>
              <p:cNvSpPr/>
              <p:nvPr/>
            </p:nvSpPr>
            <p:spPr>
              <a:xfrm>
                <a:off x="1829880" y="3949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829880" y="3949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2293920" y="3963600"/>
              <a:ext cx="267480" cy="403560"/>
              <a:chOff x="2293920" y="3963600"/>
              <a:chExt cx="267480" cy="403560"/>
            </a:xfrm>
          </p:grpSpPr>
          <p:sp>
            <p:nvSpPr>
              <p:cNvPr id="725" name=""/>
              <p:cNvSpPr/>
              <p:nvPr/>
            </p:nvSpPr>
            <p:spPr>
              <a:xfrm>
                <a:off x="2293920" y="3963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293920" y="3963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1828800" y="3887640"/>
              <a:ext cx="735120" cy="168120"/>
              <a:chOff x="1828800" y="3887640"/>
              <a:chExt cx="735120" cy="168120"/>
            </a:xfrm>
          </p:grpSpPr>
          <p:sp>
            <p:nvSpPr>
              <p:cNvPr id="728" name=""/>
              <p:cNvSpPr/>
              <p:nvPr/>
            </p:nvSpPr>
            <p:spPr>
              <a:xfrm>
                <a:off x="1828800" y="3887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828800" y="3887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0" name=""/>
            <p:cNvSpPr/>
            <p:nvPr/>
          </p:nvSpPr>
          <p:spPr>
            <a:xfrm>
              <a:off x="1857960" y="3987000"/>
              <a:ext cx="391680" cy="33804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857960" y="4077360"/>
              <a:ext cx="391680" cy="24768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857960" y="3987000"/>
              <a:ext cx="389520" cy="2206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3" name=""/>
            <p:cNvGrpSpPr/>
            <p:nvPr/>
          </p:nvGrpSpPr>
          <p:grpSpPr>
            <a:xfrm>
              <a:off x="1885320" y="4020120"/>
              <a:ext cx="191160" cy="81720"/>
              <a:chOff x="1885320" y="4020120"/>
              <a:chExt cx="191160" cy="81720"/>
            </a:xfrm>
          </p:grpSpPr>
          <p:sp>
            <p:nvSpPr>
              <p:cNvPr id="734" name=""/>
              <p:cNvSpPr/>
              <p:nvPr/>
            </p:nvSpPr>
            <p:spPr>
              <a:xfrm>
                <a:off x="1885320" y="4020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885320" y="4020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1883160" y="4107240"/>
              <a:ext cx="119520" cy="122040"/>
              <a:chOff x="1883160" y="4107240"/>
              <a:chExt cx="119520" cy="122040"/>
            </a:xfrm>
          </p:grpSpPr>
          <p:sp>
            <p:nvSpPr>
              <p:cNvPr id="737" name=""/>
              <p:cNvSpPr/>
              <p:nvPr/>
            </p:nvSpPr>
            <p:spPr>
              <a:xfrm>
                <a:off x="1883160" y="4107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883160" y="4107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9" name=""/>
          <p:cNvGrpSpPr/>
          <p:nvPr/>
        </p:nvGrpSpPr>
        <p:grpSpPr>
          <a:xfrm>
            <a:off x="434880" y="3436920"/>
            <a:ext cx="513000" cy="546120"/>
            <a:chOff x="434880" y="3436920"/>
            <a:chExt cx="513000" cy="546120"/>
          </a:xfrm>
        </p:grpSpPr>
        <p:grpSp>
          <p:nvGrpSpPr>
            <p:cNvPr id="740" name=""/>
            <p:cNvGrpSpPr/>
            <p:nvPr/>
          </p:nvGrpSpPr>
          <p:grpSpPr>
            <a:xfrm>
              <a:off x="434880" y="3789360"/>
              <a:ext cx="176040" cy="193680"/>
              <a:chOff x="434880" y="3789360"/>
              <a:chExt cx="176040" cy="193680"/>
            </a:xfrm>
          </p:grpSpPr>
          <p:sp>
            <p:nvSpPr>
              <p:cNvPr id="741" name=""/>
              <p:cNvSpPr/>
              <p:nvPr/>
            </p:nvSpPr>
            <p:spPr>
              <a:xfrm>
                <a:off x="434880" y="3789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34880" y="3789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434880" y="3717720"/>
              <a:ext cx="513000" cy="176400"/>
              <a:chOff x="434880" y="3717720"/>
              <a:chExt cx="513000" cy="176400"/>
            </a:xfrm>
          </p:grpSpPr>
          <p:sp>
            <p:nvSpPr>
              <p:cNvPr id="744" name=""/>
              <p:cNvSpPr/>
              <p:nvPr/>
            </p:nvSpPr>
            <p:spPr>
              <a:xfrm>
                <a:off x="434880" y="371772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34880" y="371772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"/>
            <p:cNvGrpSpPr/>
            <p:nvPr/>
          </p:nvGrpSpPr>
          <p:grpSpPr>
            <a:xfrm>
              <a:off x="610920" y="3805920"/>
              <a:ext cx="336960" cy="176760"/>
              <a:chOff x="610920" y="3805920"/>
              <a:chExt cx="336960" cy="176760"/>
            </a:xfrm>
          </p:grpSpPr>
          <p:sp>
            <p:nvSpPr>
              <p:cNvPr id="747" name=""/>
              <p:cNvSpPr/>
              <p:nvPr/>
            </p:nvSpPr>
            <p:spPr>
              <a:xfrm>
                <a:off x="610920" y="380592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10920" y="380592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49" name=""/>
            <p:cNvSpPr/>
            <p:nvPr/>
          </p:nvSpPr>
          <p:spPr>
            <a:xfrm>
              <a:off x="626760" y="388944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799920" y="3826800"/>
              <a:ext cx="131760" cy="89640"/>
              <a:chOff x="799920" y="3826800"/>
              <a:chExt cx="131760" cy="89640"/>
            </a:xfrm>
          </p:grpSpPr>
          <p:grpSp>
            <p:nvGrpSpPr>
              <p:cNvPr id="751" name=""/>
              <p:cNvGrpSpPr/>
              <p:nvPr/>
            </p:nvGrpSpPr>
            <p:grpSpPr>
              <a:xfrm>
                <a:off x="799920" y="3826800"/>
                <a:ext cx="131760" cy="89640"/>
                <a:chOff x="799920" y="3826800"/>
                <a:chExt cx="131760" cy="8964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799920" y="3826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799920" y="3826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4" name=""/>
              <p:cNvSpPr/>
              <p:nvPr/>
            </p:nvSpPr>
            <p:spPr>
              <a:xfrm flipH="1">
                <a:off x="799920" y="385776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46360" y="387396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846360" y="384768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455400" y="3436920"/>
              <a:ext cx="308880" cy="301680"/>
              <a:chOff x="455400" y="3436920"/>
              <a:chExt cx="308880" cy="301680"/>
            </a:xfrm>
          </p:grpSpPr>
          <p:sp>
            <p:nvSpPr>
              <p:cNvPr id="758" name=""/>
              <p:cNvSpPr/>
              <p:nvPr/>
            </p:nvSpPr>
            <p:spPr>
              <a:xfrm>
                <a:off x="455400" y="343692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55400" y="343692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511200" y="3515760"/>
              <a:ext cx="100440" cy="331200"/>
              <a:chOff x="511200" y="3515760"/>
              <a:chExt cx="100440" cy="331200"/>
            </a:xfrm>
          </p:grpSpPr>
          <p:sp>
            <p:nvSpPr>
              <p:cNvPr id="761" name=""/>
              <p:cNvSpPr/>
              <p:nvPr/>
            </p:nvSpPr>
            <p:spPr>
              <a:xfrm>
                <a:off x="511200" y="3515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11200" y="3515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511200" y="3447720"/>
              <a:ext cx="417600" cy="122400"/>
              <a:chOff x="511200" y="3447720"/>
              <a:chExt cx="417600" cy="122400"/>
            </a:xfrm>
          </p:grpSpPr>
          <p:sp>
            <p:nvSpPr>
              <p:cNvPr id="764" name=""/>
              <p:cNvSpPr/>
              <p:nvPr/>
            </p:nvSpPr>
            <p:spPr>
              <a:xfrm>
                <a:off x="511200" y="344772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11200" y="344772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645840" y="3782160"/>
              <a:ext cx="220320" cy="66960"/>
              <a:chOff x="645840" y="3782160"/>
              <a:chExt cx="220320" cy="66960"/>
            </a:xfrm>
          </p:grpSpPr>
          <p:sp>
            <p:nvSpPr>
              <p:cNvPr id="767" name=""/>
              <p:cNvSpPr/>
              <p:nvPr/>
            </p:nvSpPr>
            <p:spPr>
              <a:xfrm>
                <a:off x="645840" y="3782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45840" y="3782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612000" y="3494520"/>
              <a:ext cx="316800" cy="353160"/>
              <a:chOff x="612000" y="3494520"/>
              <a:chExt cx="316800" cy="353160"/>
            </a:xfrm>
          </p:grpSpPr>
          <p:sp>
            <p:nvSpPr>
              <p:cNvPr id="770" name=""/>
              <p:cNvSpPr/>
              <p:nvPr/>
            </p:nvSpPr>
            <p:spPr>
              <a:xfrm>
                <a:off x="612000" y="349452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612000" y="349452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"/>
            <p:cNvGrpSpPr/>
            <p:nvPr/>
          </p:nvGrpSpPr>
          <p:grpSpPr>
            <a:xfrm>
              <a:off x="658080" y="3534480"/>
              <a:ext cx="230760" cy="257400"/>
              <a:chOff x="658080" y="3534480"/>
              <a:chExt cx="230760" cy="257400"/>
            </a:xfrm>
          </p:grpSpPr>
          <p:sp>
            <p:nvSpPr>
              <p:cNvPr id="773" name=""/>
              <p:cNvSpPr/>
              <p:nvPr/>
            </p:nvSpPr>
            <p:spPr>
              <a:xfrm>
                <a:off x="658080" y="3534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58080" y="3534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>
              <a:off x="666720" y="3552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66720" y="3552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90480" y="360900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13160" y="359028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906480" y="2408400"/>
            <a:ext cx="511200" cy="545760"/>
            <a:chOff x="906480" y="2408400"/>
            <a:chExt cx="511200" cy="545760"/>
          </a:xfrm>
        </p:grpSpPr>
        <p:grpSp>
          <p:nvGrpSpPr>
            <p:cNvPr id="780" name=""/>
            <p:cNvGrpSpPr/>
            <p:nvPr/>
          </p:nvGrpSpPr>
          <p:grpSpPr>
            <a:xfrm>
              <a:off x="906480" y="2760480"/>
              <a:ext cx="175320" cy="193320"/>
              <a:chOff x="906480" y="2760480"/>
              <a:chExt cx="175320" cy="193320"/>
            </a:xfrm>
          </p:grpSpPr>
          <p:sp>
            <p:nvSpPr>
              <p:cNvPr id="781" name=""/>
              <p:cNvSpPr/>
              <p:nvPr/>
            </p:nvSpPr>
            <p:spPr>
              <a:xfrm>
                <a:off x="906480" y="2760480"/>
                <a:ext cx="175320" cy="19332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906480" y="2760480"/>
                <a:ext cx="175320" cy="19332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906480" y="2689200"/>
              <a:ext cx="511200" cy="176400"/>
              <a:chOff x="906480" y="2689200"/>
              <a:chExt cx="511200" cy="176400"/>
            </a:xfrm>
          </p:grpSpPr>
          <p:sp>
            <p:nvSpPr>
              <p:cNvPr id="784" name=""/>
              <p:cNvSpPr/>
              <p:nvPr/>
            </p:nvSpPr>
            <p:spPr>
              <a:xfrm>
                <a:off x="906480" y="2689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906480" y="2689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1081800" y="2777400"/>
              <a:ext cx="335520" cy="176760"/>
              <a:chOff x="1081800" y="2777400"/>
              <a:chExt cx="335520" cy="176760"/>
            </a:xfrm>
          </p:grpSpPr>
          <p:sp>
            <p:nvSpPr>
              <p:cNvPr id="787" name=""/>
              <p:cNvSpPr/>
              <p:nvPr/>
            </p:nvSpPr>
            <p:spPr>
              <a:xfrm>
                <a:off x="1081800" y="2777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081800" y="2777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89" name=""/>
            <p:cNvSpPr/>
            <p:nvPr/>
          </p:nvSpPr>
          <p:spPr>
            <a:xfrm>
              <a:off x="1097640" y="2860560"/>
              <a:ext cx="6732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90" name=""/>
            <p:cNvGrpSpPr/>
            <p:nvPr/>
          </p:nvGrpSpPr>
          <p:grpSpPr>
            <a:xfrm>
              <a:off x="1269720" y="2797920"/>
              <a:ext cx="131760" cy="89640"/>
              <a:chOff x="1269720" y="2797920"/>
              <a:chExt cx="131760" cy="89640"/>
            </a:xfrm>
          </p:grpSpPr>
          <p:grpSp>
            <p:nvGrpSpPr>
              <p:cNvPr id="791" name=""/>
              <p:cNvGrpSpPr/>
              <p:nvPr/>
            </p:nvGrpSpPr>
            <p:grpSpPr>
              <a:xfrm>
                <a:off x="1270080" y="2797920"/>
                <a:ext cx="131400" cy="89640"/>
                <a:chOff x="1270080" y="2797920"/>
                <a:chExt cx="131400" cy="89640"/>
              </a:xfrm>
            </p:grpSpPr>
            <p:sp>
              <p:nvSpPr>
                <p:cNvPr id="792" name=""/>
                <p:cNvSpPr/>
                <p:nvPr/>
              </p:nvSpPr>
              <p:spPr>
                <a:xfrm>
                  <a:off x="1270080" y="279792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1270080" y="279792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4" name=""/>
              <p:cNvSpPr/>
              <p:nvPr/>
            </p:nvSpPr>
            <p:spPr>
              <a:xfrm flipH="1">
                <a:off x="1269720" y="2828880"/>
                <a:ext cx="1314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316160" y="2845080"/>
                <a:ext cx="4608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316160" y="2818800"/>
                <a:ext cx="4608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927000" y="2408400"/>
              <a:ext cx="307800" cy="301320"/>
              <a:chOff x="927000" y="2408400"/>
              <a:chExt cx="307800" cy="301320"/>
            </a:xfrm>
          </p:grpSpPr>
          <p:sp>
            <p:nvSpPr>
              <p:cNvPr id="798" name=""/>
              <p:cNvSpPr/>
              <p:nvPr/>
            </p:nvSpPr>
            <p:spPr>
              <a:xfrm>
                <a:off x="927000" y="2408400"/>
                <a:ext cx="307800" cy="30132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927000" y="2408400"/>
                <a:ext cx="307800" cy="30132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982440" y="2487240"/>
              <a:ext cx="100080" cy="330840"/>
              <a:chOff x="982440" y="2487240"/>
              <a:chExt cx="100080" cy="330840"/>
            </a:xfrm>
          </p:grpSpPr>
          <p:sp>
            <p:nvSpPr>
              <p:cNvPr id="801" name=""/>
              <p:cNvSpPr/>
              <p:nvPr/>
            </p:nvSpPr>
            <p:spPr>
              <a:xfrm>
                <a:off x="982440" y="2487240"/>
                <a:ext cx="100080" cy="33084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982440" y="2487240"/>
                <a:ext cx="100080" cy="33084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982440" y="2419200"/>
              <a:ext cx="416160" cy="122400"/>
              <a:chOff x="982440" y="2419200"/>
              <a:chExt cx="416160" cy="122400"/>
            </a:xfrm>
          </p:grpSpPr>
          <p:sp>
            <p:nvSpPr>
              <p:cNvPr id="804" name=""/>
              <p:cNvSpPr/>
              <p:nvPr/>
            </p:nvSpPr>
            <p:spPr>
              <a:xfrm>
                <a:off x="982440" y="2419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982440" y="2419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1116720" y="2753280"/>
              <a:ext cx="219600" cy="66600"/>
              <a:chOff x="1116720" y="2753280"/>
              <a:chExt cx="219600" cy="66600"/>
            </a:xfrm>
          </p:grpSpPr>
          <p:sp>
            <p:nvSpPr>
              <p:cNvPr id="807" name=""/>
              <p:cNvSpPr/>
              <p:nvPr/>
            </p:nvSpPr>
            <p:spPr>
              <a:xfrm>
                <a:off x="1116720" y="2753280"/>
                <a:ext cx="219600" cy="6660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116720" y="2753280"/>
                <a:ext cx="219600" cy="6660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1082880" y="2466000"/>
              <a:ext cx="315720" cy="352800"/>
              <a:chOff x="1082880" y="2466000"/>
              <a:chExt cx="315720" cy="352800"/>
            </a:xfrm>
          </p:grpSpPr>
          <p:sp>
            <p:nvSpPr>
              <p:cNvPr id="810" name=""/>
              <p:cNvSpPr/>
              <p:nvPr/>
            </p:nvSpPr>
            <p:spPr>
              <a:xfrm>
                <a:off x="1082880" y="2466000"/>
                <a:ext cx="315720" cy="35280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082880" y="2466000"/>
                <a:ext cx="315720" cy="35280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1128600" y="2505960"/>
              <a:ext cx="230040" cy="257040"/>
              <a:chOff x="1128600" y="2505960"/>
              <a:chExt cx="230040" cy="257040"/>
            </a:xfrm>
          </p:grpSpPr>
          <p:sp>
            <p:nvSpPr>
              <p:cNvPr id="813" name=""/>
              <p:cNvSpPr/>
              <p:nvPr/>
            </p:nvSpPr>
            <p:spPr>
              <a:xfrm>
                <a:off x="1128600" y="2505960"/>
                <a:ext cx="230040" cy="2570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128600" y="2505960"/>
                <a:ext cx="230040" cy="2570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1137600" y="2523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137600" y="2523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161000" y="258048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183680" y="2561760"/>
              <a:ext cx="1278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 flipH="1" flipV="1">
            <a:off x="2421000" y="4287960"/>
            <a:ext cx="255600" cy="334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2846520" y="4176360"/>
            <a:ext cx="288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1219320" y="3219480"/>
            <a:ext cx="533160" cy="380880"/>
            <a:chOff x="1219320" y="3219480"/>
            <a:chExt cx="533160" cy="380880"/>
          </a:xfrm>
        </p:grpSpPr>
        <p:sp>
          <p:nvSpPr>
            <p:cNvPr id="822" name=""/>
            <p:cNvSpPr/>
            <p:nvPr/>
          </p:nvSpPr>
          <p:spPr>
            <a:xfrm>
              <a:off x="1219320" y="3219480"/>
              <a:ext cx="533160" cy="380880"/>
            </a:xfrm>
            <a:prstGeom prst="rect">
              <a:avLst/>
            </a:prstGeom>
            <a:gradFill rotWithShape="0">
              <a:gsLst>
                <a:gs pos="0">
                  <a:srgbClr val="2f2f75"/>
                </a:gs>
                <a:gs pos="100000">
                  <a:srgbClr val="66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3" name=""/>
            <p:cNvGrpSpPr/>
            <p:nvPr/>
          </p:nvGrpSpPr>
          <p:grpSpPr>
            <a:xfrm>
              <a:off x="1289520" y="3293280"/>
              <a:ext cx="399240" cy="247680"/>
              <a:chOff x="1289520" y="3293280"/>
              <a:chExt cx="399240" cy="247680"/>
            </a:xfrm>
          </p:grpSpPr>
          <p:sp>
            <p:nvSpPr>
              <p:cNvPr id="824" name=""/>
              <p:cNvSpPr/>
              <p:nvPr/>
            </p:nvSpPr>
            <p:spPr>
              <a:xfrm>
                <a:off x="1351800" y="3293280"/>
                <a:ext cx="27720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1344240" y="3293280"/>
                <a:ext cx="27648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613880" y="3297240"/>
                <a:ext cx="6912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622880" y="3538800"/>
                <a:ext cx="65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299240" y="3297240"/>
                <a:ext cx="63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289520" y="3538800"/>
                <a:ext cx="64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0" name=""/>
          <p:cNvSpPr/>
          <p:nvPr/>
        </p:nvSpPr>
        <p:spPr>
          <a:xfrm flipV="1" rot="1331400">
            <a:off x="3021120" y="5072760"/>
            <a:ext cx="1084320" cy="329040"/>
          </a:xfrm>
          <a:custGeom>
            <a:avLst/>
            <a:gdLst/>
            <a:ahLst/>
            <a:rect l="l" t="t" r="r" b="b"/>
            <a:pathLst>
              <a:path w="656" h="197">
                <a:moveTo>
                  <a:pt x="0" y="196"/>
                </a:moveTo>
                <a:lnTo>
                  <a:pt x="401" y="145"/>
                </a:lnTo>
                <a:lnTo>
                  <a:pt x="312" y="71"/>
                </a:lnTo>
                <a:lnTo>
                  <a:pt x="655" y="0"/>
                </a:lnTo>
                <a:lnTo>
                  <a:pt x="254" y="52"/>
                </a:lnTo>
                <a:lnTo>
                  <a:pt x="346" y="129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3581280" y="4800600"/>
            <a:ext cx="2022120" cy="1428480"/>
            <a:chOff x="3581280" y="4800600"/>
            <a:chExt cx="2022120" cy="1428480"/>
          </a:xfrm>
        </p:grpSpPr>
        <p:grpSp>
          <p:nvGrpSpPr>
            <p:cNvPr id="832" name=""/>
            <p:cNvGrpSpPr/>
            <p:nvPr/>
          </p:nvGrpSpPr>
          <p:grpSpPr>
            <a:xfrm>
              <a:off x="3581280" y="4800600"/>
              <a:ext cx="2022120" cy="1428480"/>
              <a:chOff x="3581280" y="4800600"/>
              <a:chExt cx="2022120" cy="1428480"/>
            </a:xfrm>
          </p:grpSpPr>
          <p:grpSp>
            <p:nvGrpSpPr>
              <p:cNvPr id="833" name=""/>
              <p:cNvGrpSpPr/>
              <p:nvPr/>
            </p:nvGrpSpPr>
            <p:grpSpPr>
              <a:xfrm>
                <a:off x="4774680" y="4928400"/>
                <a:ext cx="828720" cy="1229040"/>
                <a:chOff x="4774680" y="4928400"/>
                <a:chExt cx="828720" cy="1229040"/>
              </a:xfrm>
            </p:grpSpPr>
            <p:grpSp>
              <p:nvGrpSpPr>
                <p:cNvPr id="834" name=""/>
                <p:cNvGrpSpPr/>
                <p:nvPr/>
              </p:nvGrpSpPr>
              <p:grpSpPr>
                <a:xfrm>
                  <a:off x="5099040" y="4928400"/>
                  <a:ext cx="504360" cy="988200"/>
                  <a:chOff x="5099040" y="4928400"/>
                  <a:chExt cx="504360" cy="988200"/>
                </a:xfrm>
              </p:grpSpPr>
              <p:grpSp>
                <p:nvGrpSpPr>
                  <p:cNvPr id="835" name=""/>
                  <p:cNvGrpSpPr/>
                  <p:nvPr/>
                </p:nvGrpSpPr>
                <p:grpSpPr>
                  <a:xfrm>
                    <a:off x="5236200" y="5065920"/>
                    <a:ext cx="367200" cy="712800"/>
                    <a:chOff x="5236200" y="5065920"/>
                    <a:chExt cx="367200" cy="712800"/>
                  </a:xfrm>
                </p:grpSpPr>
                <p:grpSp>
                  <p:nvGrpSpPr>
                    <p:cNvPr id="836" name=""/>
                    <p:cNvGrpSpPr/>
                    <p:nvPr/>
                  </p:nvGrpSpPr>
                  <p:grpSpPr>
                    <a:xfrm>
                      <a:off x="5236200" y="5065920"/>
                      <a:ext cx="367200" cy="712800"/>
                      <a:chOff x="5236200" y="5065920"/>
                      <a:chExt cx="367200" cy="712800"/>
                    </a:xfrm>
                  </p:grpSpPr>
                  <p:grpSp>
                    <p:nvGrpSpPr>
                      <p:cNvPr id="837" name=""/>
                      <p:cNvGrpSpPr/>
                      <p:nvPr/>
                    </p:nvGrpSpPr>
                    <p:grpSpPr>
                      <a:xfrm>
                        <a:off x="5333400" y="5111640"/>
                        <a:ext cx="270000" cy="579600"/>
                        <a:chOff x="5333400" y="5111640"/>
                        <a:chExt cx="270000" cy="579600"/>
                      </a:xfrm>
                    </p:grpSpPr>
                    <p:grpSp>
                      <p:nvGrpSpPr>
                        <p:cNvPr id="838" name=""/>
                        <p:cNvGrpSpPr/>
                        <p:nvPr/>
                      </p:nvGrpSpPr>
                      <p:grpSpPr>
                        <a:xfrm>
                          <a:off x="5366520" y="5111640"/>
                          <a:ext cx="236880" cy="579600"/>
                          <a:chOff x="5366520" y="5111640"/>
                          <a:chExt cx="236880" cy="579600"/>
                        </a:xfrm>
                      </p:grpSpPr>
                      <p:sp>
                        <p:nvSpPr>
                          <p:cNvPr id="839" name=""/>
                          <p:cNvSpPr/>
                          <p:nvPr/>
                        </p:nvSpPr>
                        <p:spPr>
                          <a:xfrm>
                            <a:off x="5500080" y="5463720"/>
                            <a:ext cx="103320" cy="13896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40" name=""/>
                          <p:cNvSpPr/>
                          <p:nvPr/>
                        </p:nvSpPr>
                        <p:spPr>
                          <a:xfrm>
                            <a:off x="5396400" y="5508360"/>
                            <a:ext cx="137880" cy="18288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41" name=""/>
                          <p:cNvSpPr/>
                          <p:nvPr/>
                        </p:nvSpPr>
                        <p:spPr>
                          <a:xfrm>
                            <a:off x="5465520" y="5241240"/>
                            <a:ext cx="104760" cy="13896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42" name=""/>
                          <p:cNvSpPr/>
                          <p:nvPr/>
                        </p:nvSpPr>
                        <p:spPr>
                          <a:xfrm>
                            <a:off x="5366520" y="5111640"/>
                            <a:ext cx="137880" cy="18288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43" name=""/>
                          <p:cNvSpPr/>
                          <p:nvPr/>
                        </p:nvSpPr>
                        <p:spPr>
                          <a:xfrm>
                            <a:off x="5465520" y="5241240"/>
                            <a:ext cx="93960" cy="326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0" h="207">
                                <a:moveTo>
                                  <a:pt x="59" y="206"/>
                                </a:moveTo>
                                <a:lnTo>
                                  <a:pt x="34" y="206"/>
                                </a:lnTo>
                                <a:lnTo>
                                  <a:pt x="0" y="0"/>
                                </a:lnTo>
                                <a:lnTo>
                                  <a:pt x="35" y="17"/>
                                </a:lnTo>
                                <a:lnTo>
                                  <a:pt x="36" y="116"/>
                                </a:lnTo>
                                <a:lnTo>
                                  <a:pt x="59" y="206"/>
                                </a:lnTo>
                              </a:path>
                            </a:pathLst>
                          </a:custGeom>
                          <a:solidFill>
                            <a:srgbClr val="00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844" name=""/>
                        <p:cNvSpPr/>
                        <p:nvPr/>
                      </p:nvSpPr>
                      <p:spPr>
                        <a:xfrm>
                          <a:off x="5333400" y="5286600"/>
                          <a:ext cx="201240" cy="273240"/>
                        </a:xfrm>
                        <a:prstGeom prst="ellipse">
                          <a:avLst/>
                        </a:prstGeom>
                        <a:solidFill>
                          <a:srgbClr val="00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5" name=""/>
                        <p:cNvSpPr/>
                        <p:nvPr/>
                      </p:nvSpPr>
                      <p:spPr>
                        <a:xfrm>
                          <a:off x="5333400" y="5463720"/>
                          <a:ext cx="135360" cy="184680"/>
                        </a:xfrm>
                        <a:prstGeom prst="ellipse">
                          <a:avLst/>
                        </a:prstGeom>
                        <a:solidFill>
                          <a:srgbClr val="00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6" name=""/>
                        <p:cNvSpPr/>
                        <p:nvPr/>
                      </p:nvSpPr>
                      <p:spPr>
                        <a:xfrm>
                          <a:off x="5377320" y="5207760"/>
                          <a:ext cx="103680" cy="348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6" h="221">
                              <a:moveTo>
                                <a:pt x="58" y="36"/>
                              </a:moveTo>
                              <a:lnTo>
                                <a:pt x="50" y="83"/>
                              </a:lnTo>
                              <a:lnTo>
                                <a:pt x="65" y="190"/>
                              </a:lnTo>
                              <a:lnTo>
                                <a:pt x="38" y="220"/>
                              </a:lnTo>
                              <a:lnTo>
                                <a:pt x="0" y="93"/>
                              </a:lnTo>
                              <a:lnTo>
                                <a:pt x="31" y="0"/>
                              </a:lnTo>
                              <a:lnTo>
                                <a:pt x="58" y="36"/>
                              </a:lnTo>
                            </a:path>
                          </a:pathLst>
                        </a:custGeom>
                        <a:solidFill>
                          <a:srgbClr val="00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847" name=""/>
                      <p:cNvSpPr/>
                      <p:nvPr/>
                    </p:nvSpPr>
                    <p:spPr>
                      <a:xfrm>
                        <a:off x="5333400" y="5641200"/>
                        <a:ext cx="104040" cy="13752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8" name=""/>
                      <p:cNvSpPr/>
                      <p:nvPr/>
                    </p:nvSpPr>
                    <p:spPr>
                      <a:xfrm>
                        <a:off x="5236200" y="5065920"/>
                        <a:ext cx="135000" cy="18324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9" name=""/>
                      <p:cNvSpPr/>
                      <p:nvPr/>
                    </p:nvSpPr>
                    <p:spPr>
                      <a:xfrm>
                        <a:off x="5367960" y="5604840"/>
                        <a:ext cx="72360" cy="50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32">
                            <a:moveTo>
                              <a:pt x="45" y="18"/>
                            </a:moveTo>
                            <a:lnTo>
                              <a:pt x="32" y="31"/>
                            </a:lnTo>
                            <a:lnTo>
                              <a:pt x="0" y="14"/>
                            </a:lnTo>
                            <a:lnTo>
                              <a:pt x="32" y="0"/>
                            </a:lnTo>
                            <a:lnTo>
                              <a:pt x="45" y="18"/>
                            </a:lnTo>
                          </a:path>
                        </a:pathLst>
                      </a:custGeom>
                      <a:solidFill>
                        <a:srgbClr val="00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" bIns="3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50" name=""/>
                    <p:cNvSpPr/>
                    <p:nvPr/>
                  </p:nvSpPr>
                  <p:spPr>
                    <a:xfrm>
                      <a:off x="5357520" y="5163480"/>
                      <a:ext cx="31320" cy="10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64">
                          <a:moveTo>
                            <a:pt x="9" y="0"/>
                          </a:moveTo>
                          <a:lnTo>
                            <a:pt x="19" y="0"/>
                          </a:lnTo>
                          <a:lnTo>
                            <a:pt x="15" y="63"/>
                          </a:lnTo>
                          <a:lnTo>
                            <a:pt x="0" y="5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51" name=""/>
                  <p:cNvGrpSpPr/>
                  <p:nvPr/>
                </p:nvGrpSpPr>
                <p:grpSpPr>
                  <a:xfrm>
                    <a:off x="5099040" y="4928400"/>
                    <a:ext cx="338400" cy="894600"/>
                    <a:chOff x="5099040" y="4928400"/>
                    <a:chExt cx="338400" cy="894600"/>
                  </a:xfrm>
                </p:grpSpPr>
                <p:sp>
                  <p:nvSpPr>
                    <p:cNvPr id="852" name=""/>
                    <p:cNvSpPr/>
                    <p:nvPr/>
                  </p:nvSpPr>
                  <p:spPr>
                    <a:xfrm>
                      <a:off x="5130720" y="5464440"/>
                      <a:ext cx="272160" cy="35856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>
                      <a:off x="5165280" y="5196960"/>
                      <a:ext cx="272160" cy="36324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4" name=""/>
                    <p:cNvSpPr/>
                    <p:nvPr/>
                  </p:nvSpPr>
                  <p:spPr>
                    <a:xfrm>
                      <a:off x="5099040" y="4928400"/>
                      <a:ext cx="204840" cy="27792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5" name=""/>
                    <p:cNvSpPr/>
                    <p:nvPr/>
                  </p:nvSpPr>
                  <p:spPr>
                    <a:xfrm>
                      <a:off x="5235840" y="5111640"/>
                      <a:ext cx="100440" cy="13752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6" name=""/>
                    <p:cNvSpPr/>
                    <p:nvPr/>
                  </p:nvSpPr>
                  <p:spPr>
                    <a:xfrm>
                      <a:off x="5165280" y="5072400"/>
                      <a:ext cx="180720" cy="32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203">
                          <a:moveTo>
                            <a:pt x="80" y="8"/>
                          </a:moveTo>
                          <a:lnTo>
                            <a:pt x="79" y="35"/>
                          </a:lnTo>
                          <a:lnTo>
                            <a:pt x="106" y="78"/>
                          </a:lnTo>
                          <a:lnTo>
                            <a:pt x="114" y="82"/>
                          </a:lnTo>
                          <a:lnTo>
                            <a:pt x="73" y="202"/>
                          </a:lnTo>
                          <a:lnTo>
                            <a:pt x="0" y="0"/>
                          </a:lnTo>
                          <a:lnTo>
                            <a:pt x="80" y="8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7" name=""/>
                    <p:cNvSpPr/>
                    <p:nvPr/>
                  </p:nvSpPr>
                  <p:spPr>
                    <a:xfrm>
                      <a:off x="5258160" y="5538960"/>
                      <a:ext cx="113040" cy="7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46">
                          <a:moveTo>
                            <a:pt x="62" y="6"/>
                          </a:moveTo>
                          <a:lnTo>
                            <a:pt x="71" y="21"/>
                          </a:lnTo>
                          <a:lnTo>
                            <a:pt x="0" y="45"/>
                          </a:lnTo>
                          <a:lnTo>
                            <a:pt x="1" y="0"/>
                          </a:lnTo>
                          <a:lnTo>
                            <a:pt x="62" y="6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58" name=""/>
                  <p:cNvSpPr/>
                  <p:nvPr/>
                </p:nvSpPr>
                <p:spPr>
                  <a:xfrm>
                    <a:off x="5099040" y="5731920"/>
                    <a:ext cx="141480" cy="1846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5199840" y="5708160"/>
                    <a:ext cx="72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8">
                        <a:moveTo>
                          <a:pt x="17" y="57"/>
                        </a:moveTo>
                        <a:lnTo>
                          <a:pt x="45" y="38"/>
                        </a:lnTo>
                        <a:lnTo>
                          <a:pt x="13" y="0"/>
                        </a:lnTo>
                        <a:lnTo>
                          <a:pt x="0" y="19"/>
                        </a:lnTo>
                        <a:lnTo>
                          <a:pt x="17" y="57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0" name=""/>
                <p:cNvSpPr/>
                <p:nvPr/>
              </p:nvSpPr>
              <p:spPr>
                <a:xfrm>
                  <a:off x="4774680" y="5929920"/>
                  <a:ext cx="169920" cy="2275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4935240" y="5929920"/>
                  <a:ext cx="136800" cy="18648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5026680" y="5860080"/>
                  <a:ext cx="136800" cy="18648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4890960" y="5823720"/>
                  <a:ext cx="303840" cy="265680"/>
                </a:xfrm>
                <a:custGeom>
                  <a:avLst/>
                  <a:gdLst/>
                  <a:ahLst/>
                  <a:rect l="l" t="t" r="r" b="b"/>
                  <a:pathLst>
                    <a:path w="193" h="168">
                      <a:moveTo>
                        <a:pt x="177" y="48"/>
                      </a:moveTo>
                      <a:lnTo>
                        <a:pt x="161" y="59"/>
                      </a:lnTo>
                      <a:lnTo>
                        <a:pt x="109" y="128"/>
                      </a:lnTo>
                      <a:lnTo>
                        <a:pt x="97" y="156"/>
                      </a:lnTo>
                      <a:lnTo>
                        <a:pt x="40" y="156"/>
                      </a:lnTo>
                      <a:lnTo>
                        <a:pt x="28" y="167"/>
                      </a:lnTo>
                      <a:lnTo>
                        <a:pt x="0" y="118"/>
                      </a:lnTo>
                      <a:lnTo>
                        <a:pt x="128" y="0"/>
                      </a:lnTo>
                      <a:lnTo>
                        <a:pt x="192" y="28"/>
                      </a:lnTo>
                      <a:lnTo>
                        <a:pt x="177" y="48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4" name=""/>
              <p:cNvGrpSpPr/>
              <p:nvPr/>
            </p:nvGrpSpPr>
            <p:grpSpPr>
              <a:xfrm>
                <a:off x="3581280" y="4942800"/>
                <a:ext cx="487800" cy="836640"/>
                <a:chOff x="3581280" y="4942800"/>
                <a:chExt cx="487800" cy="836640"/>
              </a:xfrm>
            </p:grpSpPr>
            <p:grpSp>
              <p:nvGrpSpPr>
                <p:cNvPr id="865" name=""/>
                <p:cNvGrpSpPr/>
                <p:nvPr/>
              </p:nvGrpSpPr>
              <p:grpSpPr>
                <a:xfrm>
                  <a:off x="3581280" y="5065920"/>
                  <a:ext cx="254520" cy="494640"/>
                  <a:chOff x="3581280" y="5065920"/>
                  <a:chExt cx="254520" cy="494640"/>
                </a:xfrm>
              </p:grpSpPr>
              <p:sp>
                <p:nvSpPr>
                  <p:cNvPr id="866" name=""/>
                  <p:cNvSpPr/>
                  <p:nvPr/>
                </p:nvSpPr>
                <p:spPr>
                  <a:xfrm>
                    <a:off x="3581280" y="5241600"/>
                    <a:ext cx="103680" cy="1389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3600000" y="5378760"/>
                    <a:ext cx="136440" cy="18180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3634560" y="5065920"/>
                    <a:ext cx="201240" cy="27360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3615840" y="5263560"/>
                    <a:ext cx="7056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90">
                        <a:moveTo>
                          <a:pt x="25" y="0"/>
                        </a:moveTo>
                        <a:lnTo>
                          <a:pt x="0" y="18"/>
                        </a:lnTo>
                        <a:lnTo>
                          <a:pt x="1" y="71"/>
                        </a:lnTo>
                        <a:lnTo>
                          <a:pt x="10" y="89"/>
                        </a:lnTo>
                        <a:lnTo>
                          <a:pt x="44" y="71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0" name=""/>
                <p:cNvGrpSpPr/>
                <p:nvPr/>
              </p:nvGrpSpPr>
              <p:grpSpPr>
                <a:xfrm>
                  <a:off x="3666240" y="4942800"/>
                  <a:ext cx="402840" cy="836640"/>
                  <a:chOff x="3666240" y="4942800"/>
                  <a:chExt cx="402840" cy="836640"/>
                </a:xfrm>
              </p:grpSpPr>
              <p:sp>
                <p:nvSpPr>
                  <p:cNvPr id="871" name=""/>
                  <p:cNvSpPr/>
                  <p:nvPr/>
                </p:nvSpPr>
                <p:spPr>
                  <a:xfrm>
                    <a:off x="3803040" y="4972680"/>
                    <a:ext cx="266040" cy="36684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3666240" y="5241960"/>
                    <a:ext cx="136800" cy="1846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3699360" y="5379120"/>
                    <a:ext cx="207720" cy="2703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3768480" y="5509080"/>
                    <a:ext cx="204480" cy="2703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3785760" y="5159160"/>
                    <a:ext cx="176400" cy="23220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3947760" y="4942800"/>
                    <a:ext cx="108720" cy="1342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3845520" y="5110560"/>
                    <a:ext cx="12420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71">
                        <a:moveTo>
                          <a:pt x="0" y="19"/>
                        </a:moveTo>
                        <a:lnTo>
                          <a:pt x="10" y="53"/>
                        </a:lnTo>
                        <a:lnTo>
                          <a:pt x="78" y="70"/>
                        </a:lnTo>
                        <a:lnTo>
                          <a:pt x="78" y="24"/>
                        </a:lnTo>
                        <a:lnTo>
                          <a:pt x="3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3710160" y="5335200"/>
                    <a:ext cx="147960" cy="2466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56">
                        <a:moveTo>
                          <a:pt x="58" y="0"/>
                        </a:moveTo>
                        <a:lnTo>
                          <a:pt x="0" y="39"/>
                        </a:lnTo>
                        <a:lnTo>
                          <a:pt x="23" y="70"/>
                        </a:lnTo>
                        <a:lnTo>
                          <a:pt x="27" y="146"/>
                        </a:lnTo>
                        <a:lnTo>
                          <a:pt x="42" y="155"/>
                        </a:lnTo>
                        <a:lnTo>
                          <a:pt x="90" y="107"/>
                        </a:lnTo>
                        <a:lnTo>
                          <a:pt x="93" y="16"/>
                        </a:lnTo>
                        <a:lnTo>
                          <a:pt x="58" y="0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9" name=""/>
                <p:cNvSpPr/>
                <p:nvPr/>
              </p:nvSpPr>
              <p:spPr>
                <a:xfrm>
                  <a:off x="3938760" y="5031360"/>
                  <a:ext cx="73800" cy="105480"/>
                </a:xfrm>
                <a:custGeom>
                  <a:avLst/>
                  <a:gdLst/>
                  <a:ahLst/>
                  <a:rect l="l" t="t" r="r" b="b"/>
                  <a:pathLst>
                    <a:path w="47" h="67">
                      <a:moveTo>
                        <a:pt x="0" y="36"/>
                      </a:moveTo>
                      <a:lnTo>
                        <a:pt x="18" y="0"/>
                      </a:lnTo>
                      <a:lnTo>
                        <a:pt x="46" y="36"/>
                      </a:lnTo>
                      <a:lnTo>
                        <a:pt x="24" y="66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3831840" y="4800600"/>
                <a:ext cx="1472040" cy="1428480"/>
                <a:chOff x="3831840" y="4800600"/>
                <a:chExt cx="1472040" cy="142848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4299840" y="4843080"/>
                  <a:ext cx="336960" cy="45216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4597560" y="4800600"/>
                  <a:ext cx="275760" cy="36216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4863960" y="5197680"/>
                  <a:ext cx="439920" cy="5821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4001760" y="5464800"/>
                  <a:ext cx="499680" cy="6739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4735080" y="5555520"/>
                  <a:ext cx="370080" cy="4932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3867840" y="5601240"/>
                  <a:ext cx="271080" cy="3571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3831840" y="5287680"/>
                  <a:ext cx="270720" cy="36216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3963960" y="4928400"/>
                  <a:ext cx="443160" cy="5886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4367520" y="5642280"/>
                  <a:ext cx="438120" cy="5868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4935240" y="4973040"/>
                  <a:ext cx="332280" cy="4536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832640" y="4800600"/>
                  <a:ext cx="307080" cy="40644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3949920" y="4911120"/>
                  <a:ext cx="1279440" cy="1132560"/>
                </a:xfrm>
                <a:custGeom>
                  <a:avLst/>
                  <a:gdLst/>
                  <a:ahLst/>
                  <a:rect l="l" t="t" r="r" b="b"/>
                  <a:pathLst>
                    <a:path w="812" h="716">
                      <a:moveTo>
                        <a:pt x="249" y="71"/>
                      </a:moveTo>
                      <a:lnTo>
                        <a:pt x="284" y="20"/>
                      </a:lnTo>
                      <a:lnTo>
                        <a:pt x="435" y="23"/>
                      </a:lnTo>
                      <a:lnTo>
                        <a:pt x="542" y="0"/>
                      </a:lnTo>
                      <a:lnTo>
                        <a:pt x="676" y="85"/>
                      </a:lnTo>
                      <a:lnTo>
                        <a:pt x="746" y="62"/>
                      </a:lnTo>
                      <a:lnTo>
                        <a:pt x="782" y="71"/>
                      </a:lnTo>
                      <a:lnTo>
                        <a:pt x="789" y="283"/>
                      </a:lnTo>
                      <a:lnTo>
                        <a:pt x="811" y="318"/>
                      </a:lnTo>
                      <a:lnTo>
                        <a:pt x="747" y="482"/>
                      </a:lnTo>
                      <a:lnTo>
                        <a:pt x="680" y="369"/>
                      </a:lnTo>
                      <a:lnTo>
                        <a:pt x="661" y="429"/>
                      </a:lnTo>
                      <a:lnTo>
                        <a:pt x="566" y="652"/>
                      </a:lnTo>
                      <a:lnTo>
                        <a:pt x="244" y="715"/>
                      </a:lnTo>
                      <a:lnTo>
                        <a:pt x="79" y="671"/>
                      </a:lnTo>
                      <a:lnTo>
                        <a:pt x="27" y="530"/>
                      </a:lnTo>
                      <a:lnTo>
                        <a:pt x="27" y="387"/>
                      </a:lnTo>
                      <a:lnTo>
                        <a:pt x="0" y="268"/>
                      </a:lnTo>
                      <a:lnTo>
                        <a:pt x="249" y="71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3" name=""/>
            <p:cNvGrpSpPr/>
            <p:nvPr/>
          </p:nvGrpSpPr>
          <p:grpSpPr>
            <a:xfrm>
              <a:off x="3899520" y="4988880"/>
              <a:ext cx="1265760" cy="865080"/>
              <a:chOff x="3899520" y="4988880"/>
              <a:chExt cx="1265760" cy="865080"/>
            </a:xfrm>
          </p:grpSpPr>
          <p:sp>
            <p:nvSpPr>
              <p:cNvPr id="894" name=""/>
              <p:cNvSpPr/>
              <p:nvPr/>
            </p:nvSpPr>
            <p:spPr>
              <a:xfrm>
                <a:off x="3899520" y="4988880"/>
                <a:ext cx="1265760" cy="5378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899520" y="5317560"/>
                <a:ext cx="1233720" cy="5364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6" name=""/>
          <p:cNvGrpSpPr/>
          <p:nvPr/>
        </p:nvGrpSpPr>
        <p:grpSpPr>
          <a:xfrm>
            <a:off x="4952880" y="5257800"/>
            <a:ext cx="511200" cy="330120"/>
            <a:chOff x="4952880" y="5257800"/>
            <a:chExt cx="511200" cy="330120"/>
          </a:xfrm>
        </p:grpSpPr>
        <p:grpSp>
          <p:nvGrpSpPr>
            <p:cNvPr id="897" name=""/>
            <p:cNvGrpSpPr/>
            <p:nvPr/>
          </p:nvGrpSpPr>
          <p:grpSpPr>
            <a:xfrm>
              <a:off x="4953600" y="5300280"/>
              <a:ext cx="322560" cy="287640"/>
              <a:chOff x="4953600" y="5300280"/>
              <a:chExt cx="322560" cy="287640"/>
            </a:xfrm>
          </p:grpSpPr>
          <p:sp>
            <p:nvSpPr>
              <p:cNvPr id="898" name=""/>
              <p:cNvSpPr/>
              <p:nvPr/>
            </p:nvSpPr>
            <p:spPr>
              <a:xfrm>
                <a:off x="4953600" y="53002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953600" y="53002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0" name=""/>
            <p:cNvGrpSpPr/>
            <p:nvPr/>
          </p:nvGrpSpPr>
          <p:grpSpPr>
            <a:xfrm>
              <a:off x="5276160" y="5310000"/>
              <a:ext cx="186120" cy="277920"/>
              <a:chOff x="5276160" y="5310000"/>
              <a:chExt cx="186120" cy="277920"/>
            </a:xfrm>
          </p:grpSpPr>
          <p:sp>
            <p:nvSpPr>
              <p:cNvPr id="901" name=""/>
              <p:cNvSpPr/>
              <p:nvPr/>
            </p:nvSpPr>
            <p:spPr>
              <a:xfrm>
                <a:off x="5276160" y="53100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276160" y="53100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4952880" y="5257800"/>
              <a:ext cx="511200" cy="115920"/>
              <a:chOff x="4952880" y="5257800"/>
              <a:chExt cx="511200" cy="115920"/>
            </a:xfrm>
          </p:grpSpPr>
          <p:sp>
            <p:nvSpPr>
              <p:cNvPr id="904" name=""/>
              <p:cNvSpPr/>
              <p:nvPr/>
            </p:nvSpPr>
            <p:spPr>
              <a:xfrm>
                <a:off x="4952880" y="52578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952880" y="52578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>
              <a:off x="4973040" y="532620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973040" y="538812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973040" y="532620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09" name=""/>
            <p:cNvGrpSpPr/>
            <p:nvPr/>
          </p:nvGrpSpPr>
          <p:grpSpPr>
            <a:xfrm>
              <a:off x="4992120" y="5348880"/>
              <a:ext cx="132840" cy="56160"/>
              <a:chOff x="4992120" y="5348880"/>
              <a:chExt cx="132840" cy="56160"/>
            </a:xfrm>
          </p:grpSpPr>
          <p:sp>
            <p:nvSpPr>
              <p:cNvPr id="910" name=""/>
              <p:cNvSpPr/>
              <p:nvPr/>
            </p:nvSpPr>
            <p:spPr>
              <a:xfrm>
                <a:off x="4992120" y="53488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992120" y="53488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4990680" y="5409000"/>
              <a:ext cx="83160" cy="83880"/>
              <a:chOff x="4990680" y="5409000"/>
              <a:chExt cx="83160" cy="83880"/>
            </a:xfrm>
          </p:grpSpPr>
          <p:sp>
            <p:nvSpPr>
              <p:cNvPr id="913" name=""/>
              <p:cNvSpPr/>
              <p:nvPr/>
            </p:nvSpPr>
            <p:spPr>
              <a:xfrm>
                <a:off x="4990680" y="54090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990680" y="54090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5" name=""/>
          <p:cNvGrpSpPr/>
          <p:nvPr/>
        </p:nvGrpSpPr>
        <p:grpSpPr>
          <a:xfrm>
            <a:off x="3962520" y="5715000"/>
            <a:ext cx="507960" cy="330120"/>
            <a:chOff x="3962520" y="5715000"/>
            <a:chExt cx="507960" cy="330120"/>
          </a:xfrm>
        </p:grpSpPr>
        <p:grpSp>
          <p:nvGrpSpPr>
            <p:cNvPr id="916" name=""/>
            <p:cNvGrpSpPr/>
            <p:nvPr/>
          </p:nvGrpSpPr>
          <p:grpSpPr>
            <a:xfrm>
              <a:off x="3963240" y="5757480"/>
              <a:ext cx="320400" cy="287640"/>
              <a:chOff x="3963240" y="5757480"/>
              <a:chExt cx="320400" cy="287640"/>
            </a:xfrm>
          </p:grpSpPr>
          <p:sp>
            <p:nvSpPr>
              <p:cNvPr id="917" name=""/>
              <p:cNvSpPr/>
              <p:nvPr/>
            </p:nvSpPr>
            <p:spPr>
              <a:xfrm>
                <a:off x="3963240" y="5757480"/>
                <a:ext cx="32040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963240" y="5757480"/>
                <a:ext cx="32040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4284000" y="5767200"/>
              <a:ext cx="184680" cy="277920"/>
              <a:chOff x="4284000" y="5767200"/>
              <a:chExt cx="184680" cy="277920"/>
            </a:xfrm>
          </p:grpSpPr>
          <p:sp>
            <p:nvSpPr>
              <p:cNvPr id="920" name=""/>
              <p:cNvSpPr/>
              <p:nvPr/>
            </p:nvSpPr>
            <p:spPr>
              <a:xfrm>
                <a:off x="4284000" y="5767200"/>
                <a:ext cx="18468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284000" y="5767200"/>
                <a:ext cx="18468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3962520" y="5715000"/>
              <a:ext cx="507960" cy="115920"/>
              <a:chOff x="3962520" y="5715000"/>
              <a:chExt cx="507960" cy="115920"/>
            </a:xfrm>
          </p:grpSpPr>
          <p:sp>
            <p:nvSpPr>
              <p:cNvPr id="923" name=""/>
              <p:cNvSpPr/>
              <p:nvPr/>
            </p:nvSpPr>
            <p:spPr>
              <a:xfrm>
                <a:off x="3962520" y="571500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962520" y="571500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3982680" y="5783400"/>
              <a:ext cx="2707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982680" y="5845320"/>
              <a:ext cx="2707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982680" y="5783400"/>
              <a:ext cx="2692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8" name=""/>
            <p:cNvGrpSpPr/>
            <p:nvPr/>
          </p:nvGrpSpPr>
          <p:grpSpPr>
            <a:xfrm>
              <a:off x="4001400" y="5806080"/>
              <a:ext cx="132120" cy="56160"/>
              <a:chOff x="4001400" y="5806080"/>
              <a:chExt cx="132120" cy="56160"/>
            </a:xfrm>
          </p:grpSpPr>
          <p:sp>
            <p:nvSpPr>
              <p:cNvPr id="929" name=""/>
              <p:cNvSpPr/>
              <p:nvPr/>
            </p:nvSpPr>
            <p:spPr>
              <a:xfrm>
                <a:off x="4001400" y="580608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001400" y="580608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3999960" y="5866200"/>
              <a:ext cx="82440" cy="83880"/>
              <a:chOff x="3999960" y="5866200"/>
              <a:chExt cx="82440" cy="83880"/>
            </a:xfrm>
          </p:grpSpPr>
          <p:sp>
            <p:nvSpPr>
              <p:cNvPr id="932" name=""/>
              <p:cNvSpPr/>
              <p:nvPr/>
            </p:nvSpPr>
            <p:spPr>
              <a:xfrm>
                <a:off x="3999960" y="5866200"/>
                <a:ext cx="8244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999960" y="5866200"/>
                <a:ext cx="8244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4" name=""/>
          <p:cNvGrpSpPr/>
          <p:nvPr/>
        </p:nvGrpSpPr>
        <p:grpSpPr>
          <a:xfrm>
            <a:off x="4343400" y="5334120"/>
            <a:ext cx="511200" cy="330120"/>
            <a:chOff x="4343400" y="5334120"/>
            <a:chExt cx="511200" cy="330120"/>
          </a:xfrm>
        </p:grpSpPr>
        <p:grpSp>
          <p:nvGrpSpPr>
            <p:cNvPr id="935" name=""/>
            <p:cNvGrpSpPr/>
            <p:nvPr/>
          </p:nvGrpSpPr>
          <p:grpSpPr>
            <a:xfrm>
              <a:off x="4344120" y="5376600"/>
              <a:ext cx="322560" cy="287640"/>
              <a:chOff x="4344120" y="5376600"/>
              <a:chExt cx="322560" cy="287640"/>
            </a:xfrm>
          </p:grpSpPr>
          <p:sp>
            <p:nvSpPr>
              <p:cNvPr id="936" name=""/>
              <p:cNvSpPr/>
              <p:nvPr/>
            </p:nvSpPr>
            <p:spPr>
              <a:xfrm>
                <a:off x="4344120" y="53766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344120" y="53766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666680" y="5386320"/>
              <a:ext cx="186120" cy="277920"/>
              <a:chOff x="4666680" y="5386320"/>
              <a:chExt cx="186120" cy="277920"/>
            </a:xfrm>
          </p:grpSpPr>
          <p:sp>
            <p:nvSpPr>
              <p:cNvPr id="939" name=""/>
              <p:cNvSpPr/>
              <p:nvPr/>
            </p:nvSpPr>
            <p:spPr>
              <a:xfrm>
                <a:off x="4666680" y="53863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666680" y="53863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4343400" y="5334120"/>
              <a:ext cx="511200" cy="115920"/>
              <a:chOff x="4343400" y="5334120"/>
              <a:chExt cx="511200" cy="115920"/>
            </a:xfrm>
          </p:grpSpPr>
          <p:sp>
            <p:nvSpPr>
              <p:cNvPr id="942" name=""/>
              <p:cNvSpPr/>
              <p:nvPr/>
            </p:nvSpPr>
            <p:spPr>
              <a:xfrm>
                <a:off x="4343400" y="53341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343400" y="53341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4363560" y="540252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63560" y="546444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363560" y="540252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47" name=""/>
            <p:cNvGrpSpPr/>
            <p:nvPr/>
          </p:nvGrpSpPr>
          <p:grpSpPr>
            <a:xfrm>
              <a:off x="4382640" y="5425200"/>
              <a:ext cx="132840" cy="56160"/>
              <a:chOff x="4382640" y="5425200"/>
              <a:chExt cx="132840" cy="56160"/>
            </a:xfrm>
          </p:grpSpPr>
          <p:sp>
            <p:nvSpPr>
              <p:cNvPr id="948" name=""/>
              <p:cNvSpPr/>
              <p:nvPr/>
            </p:nvSpPr>
            <p:spPr>
              <a:xfrm>
                <a:off x="4382640" y="54252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382640" y="54252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4381200" y="5485320"/>
              <a:ext cx="83160" cy="83880"/>
              <a:chOff x="4381200" y="5485320"/>
              <a:chExt cx="83160" cy="83880"/>
            </a:xfrm>
          </p:grpSpPr>
          <p:sp>
            <p:nvSpPr>
              <p:cNvPr id="951" name=""/>
              <p:cNvSpPr/>
              <p:nvPr/>
            </p:nvSpPr>
            <p:spPr>
              <a:xfrm>
                <a:off x="4381200" y="54853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4381200" y="54853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3" name=""/>
          <p:cNvGrpSpPr/>
          <p:nvPr/>
        </p:nvGrpSpPr>
        <p:grpSpPr>
          <a:xfrm>
            <a:off x="2438280" y="4492800"/>
            <a:ext cx="990720" cy="631800"/>
            <a:chOff x="2438280" y="4492800"/>
            <a:chExt cx="990720" cy="631800"/>
          </a:xfrm>
        </p:grpSpPr>
        <p:grpSp>
          <p:nvGrpSpPr>
            <p:cNvPr id="954" name=""/>
            <p:cNvGrpSpPr/>
            <p:nvPr/>
          </p:nvGrpSpPr>
          <p:grpSpPr>
            <a:xfrm>
              <a:off x="2439720" y="4574160"/>
              <a:ext cx="624960" cy="550440"/>
              <a:chOff x="2439720" y="4574160"/>
              <a:chExt cx="624960" cy="550440"/>
            </a:xfrm>
          </p:grpSpPr>
          <p:sp>
            <p:nvSpPr>
              <p:cNvPr id="955" name=""/>
              <p:cNvSpPr/>
              <p:nvPr/>
            </p:nvSpPr>
            <p:spPr>
              <a:xfrm>
                <a:off x="2439720" y="4574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2439720" y="4574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3065040" y="4592880"/>
              <a:ext cx="360360" cy="531720"/>
              <a:chOff x="3065040" y="4592880"/>
              <a:chExt cx="360360" cy="531720"/>
            </a:xfrm>
          </p:grpSpPr>
          <p:sp>
            <p:nvSpPr>
              <p:cNvPr id="958" name=""/>
              <p:cNvSpPr/>
              <p:nvPr/>
            </p:nvSpPr>
            <p:spPr>
              <a:xfrm>
                <a:off x="3065040" y="4592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65040" y="4592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0" name=""/>
            <p:cNvGrpSpPr/>
            <p:nvPr/>
          </p:nvGrpSpPr>
          <p:grpSpPr>
            <a:xfrm>
              <a:off x="2438280" y="4492800"/>
              <a:ext cx="990720" cy="221760"/>
              <a:chOff x="2438280" y="4492800"/>
              <a:chExt cx="990720" cy="221760"/>
            </a:xfrm>
          </p:grpSpPr>
          <p:sp>
            <p:nvSpPr>
              <p:cNvPr id="961" name=""/>
              <p:cNvSpPr/>
              <p:nvPr/>
            </p:nvSpPr>
            <p:spPr>
              <a:xfrm>
                <a:off x="2438280" y="4492800"/>
                <a:ext cx="99072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438280" y="4492800"/>
                <a:ext cx="99072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3" name=""/>
            <p:cNvSpPr/>
            <p:nvPr/>
          </p:nvSpPr>
          <p:spPr>
            <a:xfrm>
              <a:off x="2477520" y="4623840"/>
              <a:ext cx="527760" cy="4453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77520" y="4742640"/>
              <a:ext cx="527760" cy="32616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477520" y="4623840"/>
              <a:ext cx="525240" cy="2908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66" name=""/>
            <p:cNvGrpSpPr/>
            <p:nvPr/>
          </p:nvGrpSpPr>
          <p:grpSpPr>
            <a:xfrm>
              <a:off x="2514240" y="4667040"/>
              <a:ext cx="257760" cy="107640"/>
              <a:chOff x="2514240" y="4667040"/>
              <a:chExt cx="257760" cy="107640"/>
            </a:xfrm>
          </p:grpSpPr>
          <p:sp>
            <p:nvSpPr>
              <p:cNvPr id="967" name=""/>
              <p:cNvSpPr/>
              <p:nvPr/>
            </p:nvSpPr>
            <p:spPr>
              <a:xfrm>
                <a:off x="2514240" y="4667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514240" y="4667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"/>
            <p:cNvGrpSpPr/>
            <p:nvPr/>
          </p:nvGrpSpPr>
          <p:grpSpPr>
            <a:xfrm>
              <a:off x="2511720" y="4781880"/>
              <a:ext cx="161280" cy="160920"/>
              <a:chOff x="2511720" y="4781880"/>
              <a:chExt cx="161280" cy="160920"/>
            </a:xfrm>
          </p:grpSpPr>
          <p:sp>
            <p:nvSpPr>
              <p:cNvPr id="970" name=""/>
              <p:cNvSpPr/>
              <p:nvPr/>
            </p:nvSpPr>
            <p:spPr>
              <a:xfrm>
                <a:off x="2511720" y="4781880"/>
                <a:ext cx="16128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2511720" y="4781880"/>
                <a:ext cx="16128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2" name=""/>
          <p:cNvGrpSpPr/>
          <p:nvPr/>
        </p:nvGrpSpPr>
        <p:grpSpPr>
          <a:xfrm>
            <a:off x="3657600" y="5276880"/>
            <a:ext cx="511200" cy="330120"/>
            <a:chOff x="3657600" y="5276880"/>
            <a:chExt cx="511200" cy="330120"/>
          </a:xfrm>
        </p:grpSpPr>
        <p:grpSp>
          <p:nvGrpSpPr>
            <p:cNvPr id="973" name=""/>
            <p:cNvGrpSpPr/>
            <p:nvPr/>
          </p:nvGrpSpPr>
          <p:grpSpPr>
            <a:xfrm>
              <a:off x="3658320" y="5319360"/>
              <a:ext cx="322560" cy="287640"/>
              <a:chOff x="3658320" y="5319360"/>
              <a:chExt cx="322560" cy="287640"/>
            </a:xfrm>
          </p:grpSpPr>
          <p:sp>
            <p:nvSpPr>
              <p:cNvPr id="974" name=""/>
              <p:cNvSpPr/>
              <p:nvPr/>
            </p:nvSpPr>
            <p:spPr>
              <a:xfrm>
                <a:off x="3658320" y="531936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658320" y="531936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"/>
            <p:cNvGrpSpPr/>
            <p:nvPr/>
          </p:nvGrpSpPr>
          <p:grpSpPr>
            <a:xfrm>
              <a:off x="3980880" y="5329080"/>
              <a:ext cx="186120" cy="277920"/>
              <a:chOff x="3980880" y="5329080"/>
              <a:chExt cx="186120" cy="277920"/>
            </a:xfrm>
          </p:grpSpPr>
          <p:sp>
            <p:nvSpPr>
              <p:cNvPr id="977" name=""/>
              <p:cNvSpPr/>
              <p:nvPr/>
            </p:nvSpPr>
            <p:spPr>
              <a:xfrm>
                <a:off x="3980880" y="532908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980880" y="532908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3657600" y="5276880"/>
              <a:ext cx="511200" cy="115920"/>
              <a:chOff x="3657600" y="5276880"/>
              <a:chExt cx="511200" cy="115920"/>
            </a:xfrm>
          </p:grpSpPr>
          <p:sp>
            <p:nvSpPr>
              <p:cNvPr id="980" name=""/>
              <p:cNvSpPr/>
              <p:nvPr/>
            </p:nvSpPr>
            <p:spPr>
              <a:xfrm>
                <a:off x="3657600" y="527688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657600" y="527688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2" name=""/>
            <p:cNvSpPr/>
            <p:nvPr/>
          </p:nvSpPr>
          <p:spPr>
            <a:xfrm>
              <a:off x="3677760" y="534528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677760" y="540720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677760" y="534528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85" name=""/>
            <p:cNvGrpSpPr/>
            <p:nvPr/>
          </p:nvGrpSpPr>
          <p:grpSpPr>
            <a:xfrm>
              <a:off x="3696840" y="5367960"/>
              <a:ext cx="132840" cy="56160"/>
              <a:chOff x="3696840" y="5367960"/>
              <a:chExt cx="132840" cy="56160"/>
            </a:xfrm>
          </p:grpSpPr>
          <p:sp>
            <p:nvSpPr>
              <p:cNvPr id="986" name=""/>
              <p:cNvSpPr/>
              <p:nvPr/>
            </p:nvSpPr>
            <p:spPr>
              <a:xfrm>
                <a:off x="3696840" y="536796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3696840" y="536796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3695400" y="5428080"/>
              <a:ext cx="83160" cy="83880"/>
              <a:chOff x="3695400" y="5428080"/>
              <a:chExt cx="83160" cy="83880"/>
            </a:xfrm>
          </p:grpSpPr>
          <p:sp>
            <p:nvSpPr>
              <p:cNvPr id="989" name=""/>
              <p:cNvSpPr/>
              <p:nvPr/>
            </p:nvSpPr>
            <p:spPr>
              <a:xfrm>
                <a:off x="3695400" y="542808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695400" y="542808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1" name=""/>
          <p:cNvGrpSpPr/>
          <p:nvPr/>
        </p:nvGrpSpPr>
        <p:grpSpPr>
          <a:xfrm>
            <a:off x="4648320" y="5638680"/>
            <a:ext cx="511200" cy="330480"/>
            <a:chOff x="4648320" y="5638680"/>
            <a:chExt cx="511200" cy="330480"/>
          </a:xfrm>
        </p:grpSpPr>
        <p:grpSp>
          <p:nvGrpSpPr>
            <p:cNvPr id="992" name=""/>
            <p:cNvGrpSpPr/>
            <p:nvPr/>
          </p:nvGrpSpPr>
          <p:grpSpPr>
            <a:xfrm>
              <a:off x="4649040" y="5681160"/>
              <a:ext cx="322560" cy="288000"/>
              <a:chOff x="4649040" y="5681160"/>
              <a:chExt cx="322560" cy="288000"/>
            </a:xfrm>
          </p:grpSpPr>
          <p:sp>
            <p:nvSpPr>
              <p:cNvPr id="993" name=""/>
              <p:cNvSpPr/>
              <p:nvPr/>
            </p:nvSpPr>
            <p:spPr>
              <a:xfrm>
                <a:off x="4649040" y="5681160"/>
                <a:ext cx="32256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649040" y="5681160"/>
                <a:ext cx="32256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5" name=""/>
            <p:cNvGrpSpPr/>
            <p:nvPr/>
          </p:nvGrpSpPr>
          <p:grpSpPr>
            <a:xfrm>
              <a:off x="4971600" y="5690880"/>
              <a:ext cx="186120" cy="278280"/>
              <a:chOff x="4971600" y="5690880"/>
              <a:chExt cx="186120" cy="278280"/>
            </a:xfrm>
          </p:grpSpPr>
          <p:sp>
            <p:nvSpPr>
              <p:cNvPr id="996" name=""/>
              <p:cNvSpPr/>
              <p:nvPr/>
            </p:nvSpPr>
            <p:spPr>
              <a:xfrm>
                <a:off x="4971600" y="5690880"/>
                <a:ext cx="18612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4971600" y="5690880"/>
                <a:ext cx="18612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98" name=""/>
            <p:cNvGrpSpPr/>
            <p:nvPr/>
          </p:nvGrpSpPr>
          <p:grpSpPr>
            <a:xfrm>
              <a:off x="4648320" y="5638680"/>
              <a:ext cx="511200" cy="115920"/>
              <a:chOff x="4648320" y="5638680"/>
              <a:chExt cx="511200" cy="115920"/>
            </a:xfrm>
          </p:grpSpPr>
          <p:sp>
            <p:nvSpPr>
              <p:cNvPr id="999" name=""/>
              <p:cNvSpPr/>
              <p:nvPr/>
            </p:nvSpPr>
            <p:spPr>
              <a:xfrm>
                <a:off x="4648320" y="563868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648320" y="563868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4668480" y="5707080"/>
              <a:ext cx="272520" cy="2329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668480" y="576936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668480" y="5707080"/>
              <a:ext cx="271080" cy="1522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4687560" y="5729760"/>
              <a:ext cx="132840" cy="56160"/>
              <a:chOff x="4687560" y="5729760"/>
              <a:chExt cx="132840" cy="56160"/>
            </a:xfrm>
          </p:grpSpPr>
          <p:sp>
            <p:nvSpPr>
              <p:cNvPr id="1005" name=""/>
              <p:cNvSpPr/>
              <p:nvPr/>
            </p:nvSpPr>
            <p:spPr>
              <a:xfrm>
                <a:off x="4687560" y="572976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687560" y="572976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4686120" y="5789880"/>
              <a:ext cx="83160" cy="84240"/>
              <a:chOff x="4686120" y="5789880"/>
              <a:chExt cx="83160" cy="84240"/>
            </a:xfrm>
          </p:grpSpPr>
          <p:sp>
            <p:nvSpPr>
              <p:cNvPr id="1008" name=""/>
              <p:cNvSpPr/>
              <p:nvPr/>
            </p:nvSpPr>
            <p:spPr>
              <a:xfrm>
                <a:off x="4686120" y="5789880"/>
                <a:ext cx="8316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4686120" y="5789880"/>
                <a:ext cx="8316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0" name=""/>
          <p:cNvSpPr/>
          <p:nvPr/>
        </p:nvSpPr>
        <p:spPr>
          <a:xfrm flipH="1" flipV="1">
            <a:off x="6019920" y="4250880"/>
            <a:ext cx="218880" cy="352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7837560" y="2684520"/>
            <a:ext cx="274680" cy="511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7966080" y="3115800"/>
            <a:ext cx="415800" cy="187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940520" y="3425760"/>
            <a:ext cx="490680" cy="214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7238880" y="3580920"/>
            <a:ext cx="255600" cy="335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H="1" flipV="1">
            <a:off x="7043400" y="349704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H="1" flipV="1">
            <a:off x="6721200" y="3582720"/>
            <a:ext cx="127080" cy="36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6656400" y="3860640"/>
            <a:ext cx="735120" cy="479520"/>
            <a:chOff x="6656400" y="3860640"/>
            <a:chExt cx="735120" cy="479520"/>
          </a:xfrm>
        </p:grpSpPr>
        <p:grpSp>
          <p:nvGrpSpPr>
            <p:cNvPr id="1018" name=""/>
            <p:cNvGrpSpPr/>
            <p:nvPr/>
          </p:nvGrpSpPr>
          <p:grpSpPr>
            <a:xfrm>
              <a:off x="6926400" y="3922200"/>
              <a:ext cx="464040" cy="417960"/>
              <a:chOff x="6926400" y="3922200"/>
              <a:chExt cx="464040" cy="417960"/>
            </a:xfrm>
          </p:grpSpPr>
          <p:sp>
            <p:nvSpPr>
              <p:cNvPr id="1019" name=""/>
              <p:cNvSpPr/>
              <p:nvPr/>
            </p:nvSpPr>
            <p:spPr>
              <a:xfrm flipH="1">
                <a:off x="6926040" y="3922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H="1">
                <a:off x="6926040" y="3922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6658920" y="3936600"/>
              <a:ext cx="267480" cy="403560"/>
              <a:chOff x="6658920" y="3936600"/>
              <a:chExt cx="267480" cy="403560"/>
            </a:xfrm>
          </p:grpSpPr>
          <p:sp>
            <p:nvSpPr>
              <p:cNvPr id="1022" name=""/>
              <p:cNvSpPr/>
              <p:nvPr/>
            </p:nvSpPr>
            <p:spPr>
              <a:xfrm flipH="1">
                <a:off x="6658560" y="3936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6658560" y="3936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6656400" y="3860640"/>
              <a:ext cx="735120" cy="168120"/>
              <a:chOff x="6656400" y="3860640"/>
              <a:chExt cx="735120" cy="168120"/>
            </a:xfrm>
          </p:grpSpPr>
          <p:sp>
            <p:nvSpPr>
              <p:cNvPr id="1025" name=""/>
              <p:cNvSpPr/>
              <p:nvPr/>
            </p:nvSpPr>
            <p:spPr>
              <a:xfrm flipH="1">
                <a:off x="6656400" y="3860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H="1">
                <a:off x="6656400" y="3860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27" name=""/>
            <p:cNvSpPr/>
            <p:nvPr/>
          </p:nvSpPr>
          <p:spPr>
            <a:xfrm flipH="1">
              <a:off x="6970680" y="3960000"/>
              <a:ext cx="391680" cy="33804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6970680" y="4050360"/>
              <a:ext cx="391680" cy="24768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6972840" y="3960000"/>
              <a:ext cx="389520" cy="2206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30" name=""/>
            <p:cNvGrpSpPr/>
            <p:nvPr/>
          </p:nvGrpSpPr>
          <p:grpSpPr>
            <a:xfrm>
              <a:off x="7143840" y="3993120"/>
              <a:ext cx="191160" cy="81720"/>
              <a:chOff x="7143840" y="3993120"/>
              <a:chExt cx="191160" cy="81720"/>
            </a:xfrm>
          </p:grpSpPr>
          <p:sp>
            <p:nvSpPr>
              <p:cNvPr id="1031" name=""/>
              <p:cNvSpPr/>
              <p:nvPr/>
            </p:nvSpPr>
            <p:spPr>
              <a:xfrm flipH="1">
                <a:off x="7143480" y="3993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H="1">
                <a:off x="7143480" y="3993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7217640" y="4080240"/>
              <a:ext cx="119520" cy="122040"/>
              <a:chOff x="7217640" y="4080240"/>
              <a:chExt cx="119520" cy="122040"/>
            </a:xfrm>
          </p:grpSpPr>
          <p:sp>
            <p:nvSpPr>
              <p:cNvPr id="1034" name=""/>
              <p:cNvSpPr/>
              <p:nvPr/>
            </p:nvSpPr>
            <p:spPr>
              <a:xfrm flipH="1">
                <a:off x="7217640" y="4080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>
                <a:off x="7217640" y="4080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6" name=""/>
          <p:cNvGrpSpPr/>
          <p:nvPr/>
        </p:nvGrpSpPr>
        <p:grpSpPr>
          <a:xfrm>
            <a:off x="8272440" y="3409920"/>
            <a:ext cx="512640" cy="546120"/>
            <a:chOff x="8272440" y="3409920"/>
            <a:chExt cx="512640" cy="546120"/>
          </a:xfrm>
        </p:grpSpPr>
        <p:grpSp>
          <p:nvGrpSpPr>
            <p:cNvPr id="1037" name=""/>
            <p:cNvGrpSpPr/>
            <p:nvPr/>
          </p:nvGrpSpPr>
          <p:grpSpPr>
            <a:xfrm>
              <a:off x="8609040" y="3762360"/>
              <a:ext cx="176040" cy="193680"/>
              <a:chOff x="8609040" y="3762360"/>
              <a:chExt cx="176040" cy="193680"/>
            </a:xfrm>
          </p:grpSpPr>
          <p:sp>
            <p:nvSpPr>
              <p:cNvPr id="1038" name=""/>
              <p:cNvSpPr/>
              <p:nvPr/>
            </p:nvSpPr>
            <p:spPr>
              <a:xfrm flipH="1">
                <a:off x="8608680" y="3762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H="1">
                <a:off x="8608680" y="3762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0" name=""/>
            <p:cNvGrpSpPr/>
            <p:nvPr/>
          </p:nvGrpSpPr>
          <p:grpSpPr>
            <a:xfrm>
              <a:off x="8272440" y="3690720"/>
              <a:ext cx="512640" cy="176400"/>
              <a:chOff x="8272440" y="3690720"/>
              <a:chExt cx="512640" cy="176400"/>
            </a:xfrm>
          </p:grpSpPr>
          <p:sp>
            <p:nvSpPr>
              <p:cNvPr id="1041" name=""/>
              <p:cNvSpPr/>
              <p:nvPr/>
            </p:nvSpPr>
            <p:spPr>
              <a:xfrm flipH="1">
                <a:off x="8272440" y="369072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>
                <a:off x="8272440" y="369072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3" name=""/>
            <p:cNvGrpSpPr/>
            <p:nvPr/>
          </p:nvGrpSpPr>
          <p:grpSpPr>
            <a:xfrm>
              <a:off x="8272440" y="3778920"/>
              <a:ext cx="336600" cy="176760"/>
              <a:chOff x="8272440" y="3778920"/>
              <a:chExt cx="336600" cy="176760"/>
            </a:xfrm>
          </p:grpSpPr>
          <p:sp>
            <p:nvSpPr>
              <p:cNvPr id="1044" name=""/>
              <p:cNvSpPr/>
              <p:nvPr/>
            </p:nvSpPr>
            <p:spPr>
              <a:xfrm flipH="1">
                <a:off x="8272080" y="377892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H="1">
                <a:off x="8272080" y="377892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46" name=""/>
            <p:cNvSpPr/>
            <p:nvPr/>
          </p:nvSpPr>
          <p:spPr>
            <a:xfrm flipH="1">
              <a:off x="8525520" y="386244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7" name=""/>
            <p:cNvGrpSpPr/>
            <p:nvPr/>
          </p:nvGrpSpPr>
          <p:grpSpPr>
            <a:xfrm>
              <a:off x="8288640" y="3799800"/>
              <a:ext cx="131760" cy="89640"/>
              <a:chOff x="8288640" y="3799800"/>
              <a:chExt cx="131760" cy="89640"/>
            </a:xfrm>
          </p:grpSpPr>
          <p:grpSp>
            <p:nvGrpSpPr>
              <p:cNvPr id="1048" name=""/>
              <p:cNvGrpSpPr/>
              <p:nvPr/>
            </p:nvGrpSpPr>
            <p:grpSpPr>
              <a:xfrm>
                <a:off x="8288640" y="3799800"/>
                <a:ext cx="131760" cy="89640"/>
                <a:chOff x="8288640" y="3799800"/>
                <a:chExt cx="131760" cy="89640"/>
              </a:xfrm>
            </p:grpSpPr>
            <p:sp>
              <p:nvSpPr>
                <p:cNvPr id="1049" name=""/>
                <p:cNvSpPr/>
                <p:nvPr/>
              </p:nvSpPr>
              <p:spPr>
                <a:xfrm flipH="1">
                  <a:off x="8288640" y="3799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 flipH="1">
                  <a:off x="8288640" y="3799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1" name=""/>
              <p:cNvSpPr/>
              <p:nvPr/>
            </p:nvSpPr>
            <p:spPr>
              <a:xfrm>
                <a:off x="8288640" y="383076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8327160" y="384696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H="1">
                <a:off x="8327160" y="382068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8456040" y="3409920"/>
              <a:ext cx="308520" cy="301680"/>
              <a:chOff x="8456040" y="3409920"/>
              <a:chExt cx="308520" cy="301680"/>
            </a:xfrm>
          </p:grpSpPr>
          <p:sp>
            <p:nvSpPr>
              <p:cNvPr id="1055" name=""/>
              <p:cNvSpPr/>
              <p:nvPr/>
            </p:nvSpPr>
            <p:spPr>
              <a:xfrm flipH="1">
                <a:off x="8455680" y="340992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H="1">
                <a:off x="8455680" y="340992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8608320" y="3488760"/>
              <a:ext cx="100440" cy="331200"/>
              <a:chOff x="8608320" y="3488760"/>
              <a:chExt cx="100440" cy="331200"/>
            </a:xfrm>
          </p:grpSpPr>
          <p:sp>
            <p:nvSpPr>
              <p:cNvPr id="1058" name=""/>
              <p:cNvSpPr/>
              <p:nvPr/>
            </p:nvSpPr>
            <p:spPr>
              <a:xfrm flipH="1">
                <a:off x="8607960" y="3488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>
                <a:off x="8607960" y="3488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8291520" y="3420720"/>
              <a:ext cx="417240" cy="122400"/>
              <a:chOff x="8291520" y="3420720"/>
              <a:chExt cx="417240" cy="122400"/>
            </a:xfrm>
          </p:grpSpPr>
          <p:sp>
            <p:nvSpPr>
              <p:cNvPr id="1061" name=""/>
              <p:cNvSpPr/>
              <p:nvPr/>
            </p:nvSpPr>
            <p:spPr>
              <a:xfrm flipH="1">
                <a:off x="8291160" y="342072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>
                <a:off x="8291160" y="342072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3" name=""/>
            <p:cNvGrpSpPr/>
            <p:nvPr/>
          </p:nvGrpSpPr>
          <p:grpSpPr>
            <a:xfrm>
              <a:off x="8353800" y="3755160"/>
              <a:ext cx="220320" cy="66960"/>
              <a:chOff x="8353800" y="3755160"/>
              <a:chExt cx="220320" cy="66960"/>
            </a:xfrm>
          </p:grpSpPr>
          <p:sp>
            <p:nvSpPr>
              <p:cNvPr id="1064" name=""/>
              <p:cNvSpPr/>
              <p:nvPr/>
            </p:nvSpPr>
            <p:spPr>
              <a:xfrm flipH="1">
                <a:off x="8353800" y="3755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8353800" y="3755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6" name=""/>
            <p:cNvGrpSpPr/>
            <p:nvPr/>
          </p:nvGrpSpPr>
          <p:grpSpPr>
            <a:xfrm>
              <a:off x="8291880" y="3467520"/>
              <a:ext cx="316440" cy="353160"/>
              <a:chOff x="8291880" y="3467520"/>
              <a:chExt cx="316440" cy="353160"/>
            </a:xfrm>
          </p:grpSpPr>
          <p:sp>
            <p:nvSpPr>
              <p:cNvPr id="1067" name=""/>
              <p:cNvSpPr/>
              <p:nvPr/>
            </p:nvSpPr>
            <p:spPr>
              <a:xfrm flipH="1">
                <a:off x="8291520" y="346752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>
                <a:off x="8291520" y="346752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9" name=""/>
            <p:cNvGrpSpPr/>
            <p:nvPr/>
          </p:nvGrpSpPr>
          <p:grpSpPr>
            <a:xfrm>
              <a:off x="8331480" y="3507480"/>
              <a:ext cx="230760" cy="257400"/>
              <a:chOff x="8331480" y="3507480"/>
              <a:chExt cx="230760" cy="257400"/>
            </a:xfrm>
          </p:grpSpPr>
          <p:sp>
            <p:nvSpPr>
              <p:cNvPr id="1070" name=""/>
              <p:cNvSpPr/>
              <p:nvPr/>
            </p:nvSpPr>
            <p:spPr>
              <a:xfrm flipH="1">
                <a:off x="8331120" y="3507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>
                <a:off x="8331120" y="3507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2" name=""/>
            <p:cNvSpPr/>
            <p:nvPr/>
          </p:nvSpPr>
          <p:spPr>
            <a:xfrm flipH="1">
              <a:off x="8349480" y="3525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8349480" y="3525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8511120" y="358200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8379000" y="356328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8326440" y="2735280"/>
            <a:ext cx="512640" cy="546120"/>
            <a:chOff x="8326440" y="2735280"/>
            <a:chExt cx="512640" cy="546120"/>
          </a:xfrm>
        </p:grpSpPr>
        <p:grpSp>
          <p:nvGrpSpPr>
            <p:cNvPr id="1077" name=""/>
            <p:cNvGrpSpPr/>
            <p:nvPr/>
          </p:nvGrpSpPr>
          <p:grpSpPr>
            <a:xfrm>
              <a:off x="8663040" y="3087720"/>
              <a:ext cx="176040" cy="193680"/>
              <a:chOff x="8663040" y="3087720"/>
              <a:chExt cx="176040" cy="193680"/>
            </a:xfrm>
          </p:grpSpPr>
          <p:sp>
            <p:nvSpPr>
              <p:cNvPr id="1078" name=""/>
              <p:cNvSpPr/>
              <p:nvPr/>
            </p:nvSpPr>
            <p:spPr>
              <a:xfrm flipH="1">
                <a:off x="8662680" y="3087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H="1">
                <a:off x="8662680" y="3087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80" name=""/>
            <p:cNvGrpSpPr/>
            <p:nvPr/>
          </p:nvGrpSpPr>
          <p:grpSpPr>
            <a:xfrm>
              <a:off x="8326440" y="3016080"/>
              <a:ext cx="512640" cy="176400"/>
              <a:chOff x="8326440" y="3016080"/>
              <a:chExt cx="512640" cy="176400"/>
            </a:xfrm>
          </p:grpSpPr>
          <p:sp>
            <p:nvSpPr>
              <p:cNvPr id="1081" name=""/>
              <p:cNvSpPr/>
              <p:nvPr/>
            </p:nvSpPr>
            <p:spPr>
              <a:xfrm flipH="1">
                <a:off x="8326440" y="301608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H="1">
                <a:off x="8326440" y="301608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83" name=""/>
            <p:cNvGrpSpPr/>
            <p:nvPr/>
          </p:nvGrpSpPr>
          <p:grpSpPr>
            <a:xfrm>
              <a:off x="8326440" y="3104280"/>
              <a:ext cx="336600" cy="176760"/>
              <a:chOff x="8326440" y="3104280"/>
              <a:chExt cx="336600" cy="176760"/>
            </a:xfrm>
          </p:grpSpPr>
          <p:sp>
            <p:nvSpPr>
              <p:cNvPr id="1084" name=""/>
              <p:cNvSpPr/>
              <p:nvPr/>
            </p:nvSpPr>
            <p:spPr>
              <a:xfrm flipH="1">
                <a:off x="8326080" y="310428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H="1">
                <a:off x="8326080" y="310428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6" name=""/>
            <p:cNvSpPr/>
            <p:nvPr/>
          </p:nvSpPr>
          <p:spPr>
            <a:xfrm flipH="1">
              <a:off x="8579520" y="318780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7" name=""/>
            <p:cNvGrpSpPr/>
            <p:nvPr/>
          </p:nvGrpSpPr>
          <p:grpSpPr>
            <a:xfrm>
              <a:off x="8342640" y="3125160"/>
              <a:ext cx="131760" cy="89640"/>
              <a:chOff x="8342640" y="3125160"/>
              <a:chExt cx="131760" cy="89640"/>
            </a:xfrm>
          </p:grpSpPr>
          <p:grpSp>
            <p:nvGrpSpPr>
              <p:cNvPr id="1088" name=""/>
              <p:cNvGrpSpPr/>
              <p:nvPr/>
            </p:nvGrpSpPr>
            <p:grpSpPr>
              <a:xfrm>
                <a:off x="8342640" y="3125160"/>
                <a:ext cx="131760" cy="89640"/>
                <a:chOff x="8342640" y="3125160"/>
                <a:chExt cx="131760" cy="89640"/>
              </a:xfrm>
            </p:grpSpPr>
            <p:sp>
              <p:nvSpPr>
                <p:cNvPr id="1089" name=""/>
                <p:cNvSpPr/>
                <p:nvPr/>
              </p:nvSpPr>
              <p:spPr>
                <a:xfrm flipH="1">
                  <a:off x="8342640" y="3125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 flipH="1">
                  <a:off x="8342640" y="3125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1" name=""/>
              <p:cNvSpPr/>
              <p:nvPr/>
            </p:nvSpPr>
            <p:spPr>
              <a:xfrm>
                <a:off x="8342640" y="315612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H="1">
                <a:off x="8381160" y="317232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H="1">
                <a:off x="8381160" y="314604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8510040" y="2735280"/>
              <a:ext cx="308520" cy="301680"/>
              <a:chOff x="8510040" y="2735280"/>
              <a:chExt cx="308520" cy="301680"/>
            </a:xfrm>
          </p:grpSpPr>
          <p:sp>
            <p:nvSpPr>
              <p:cNvPr id="1095" name=""/>
              <p:cNvSpPr/>
              <p:nvPr/>
            </p:nvSpPr>
            <p:spPr>
              <a:xfrm flipH="1">
                <a:off x="8509680" y="273528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8509680" y="273528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8662320" y="2814120"/>
              <a:ext cx="100440" cy="331200"/>
              <a:chOff x="8662320" y="2814120"/>
              <a:chExt cx="100440" cy="331200"/>
            </a:xfrm>
          </p:grpSpPr>
          <p:sp>
            <p:nvSpPr>
              <p:cNvPr id="1098" name=""/>
              <p:cNvSpPr/>
              <p:nvPr/>
            </p:nvSpPr>
            <p:spPr>
              <a:xfrm flipH="1">
                <a:off x="8661960" y="2814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H="1">
                <a:off x="8661960" y="2814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8345520" y="2746080"/>
              <a:ext cx="417240" cy="122400"/>
              <a:chOff x="8345520" y="2746080"/>
              <a:chExt cx="417240" cy="122400"/>
            </a:xfrm>
          </p:grpSpPr>
          <p:sp>
            <p:nvSpPr>
              <p:cNvPr id="1101" name=""/>
              <p:cNvSpPr/>
              <p:nvPr/>
            </p:nvSpPr>
            <p:spPr>
              <a:xfrm flipH="1">
                <a:off x="8345160" y="274608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H="1">
                <a:off x="8345160" y="274608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8407800" y="3080520"/>
              <a:ext cx="220320" cy="66960"/>
              <a:chOff x="8407800" y="3080520"/>
              <a:chExt cx="220320" cy="66960"/>
            </a:xfrm>
          </p:grpSpPr>
          <p:sp>
            <p:nvSpPr>
              <p:cNvPr id="1104" name=""/>
              <p:cNvSpPr/>
              <p:nvPr/>
            </p:nvSpPr>
            <p:spPr>
              <a:xfrm flipH="1">
                <a:off x="8407800" y="3080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H="1">
                <a:off x="8407800" y="3080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8345880" y="2792880"/>
              <a:ext cx="316440" cy="353160"/>
              <a:chOff x="8345880" y="2792880"/>
              <a:chExt cx="316440" cy="353160"/>
            </a:xfrm>
          </p:grpSpPr>
          <p:sp>
            <p:nvSpPr>
              <p:cNvPr id="1107" name=""/>
              <p:cNvSpPr/>
              <p:nvPr/>
            </p:nvSpPr>
            <p:spPr>
              <a:xfrm flipH="1">
                <a:off x="8345520" y="279288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H="1">
                <a:off x="8345520" y="279288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8385480" y="2832840"/>
              <a:ext cx="230760" cy="257400"/>
              <a:chOff x="8385480" y="2832840"/>
              <a:chExt cx="230760" cy="257400"/>
            </a:xfrm>
          </p:grpSpPr>
          <p:sp>
            <p:nvSpPr>
              <p:cNvPr id="1110" name=""/>
              <p:cNvSpPr/>
              <p:nvPr/>
            </p:nvSpPr>
            <p:spPr>
              <a:xfrm flipH="1">
                <a:off x="8385120" y="2832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H="1">
                <a:off x="8385120" y="2832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12" name=""/>
            <p:cNvSpPr/>
            <p:nvPr/>
          </p:nvSpPr>
          <p:spPr>
            <a:xfrm flipH="1">
              <a:off x="8403480" y="2850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>
              <a:off x="8403480" y="2850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8565120" y="290736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8433000" y="288864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6" name=""/>
          <p:cNvGrpSpPr/>
          <p:nvPr/>
        </p:nvGrpSpPr>
        <p:grpSpPr>
          <a:xfrm>
            <a:off x="7802640" y="2381400"/>
            <a:ext cx="511200" cy="546120"/>
            <a:chOff x="7802640" y="2381400"/>
            <a:chExt cx="511200" cy="546120"/>
          </a:xfrm>
        </p:grpSpPr>
        <p:grpSp>
          <p:nvGrpSpPr>
            <p:cNvPr id="1117" name=""/>
            <p:cNvGrpSpPr/>
            <p:nvPr/>
          </p:nvGrpSpPr>
          <p:grpSpPr>
            <a:xfrm>
              <a:off x="8138520" y="2733840"/>
              <a:ext cx="175320" cy="193680"/>
              <a:chOff x="8138520" y="2733840"/>
              <a:chExt cx="175320" cy="193680"/>
            </a:xfrm>
          </p:grpSpPr>
          <p:sp>
            <p:nvSpPr>
              <p:cNvPr id="1118" name=""/>
              <p:cNvSpPr/>
              <p:nvPr/>
            </p:nvSpPr>
            <p:spPr>
              <a:xfrm flipH="1">
                <a:off x="8138160" y="2733840"/>
                <a:ext cx="17532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H="1">
                <a:off x="8138160" y="2733840"/>
                <a:ext cx="17532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20" name=""/>
            <p:cNvGrpSpPr/>
            <p:nvPr/>
          </p:nvGrpSpPr>
          <p:grpSpPr>
            <a:xfrm>
              <a:off x="7802640" y="2662200"/>
              <a:ext cx="511200" cy="176400"/>
              <a:chOff x="7802640" y="2662200"/>
              <a:chExt cx="511200" cy="176400"/>
            </a:xfrm>
          </p:grpSpPr>
          <p:sp>
            <p:nvSpPr>
              <p:cNvPr id="1121" name=""/>
              <p:cNvSpPr/>
              <p:nvPr/>
            </p:nvSpPr>
            <p:spPr>
              <a:xfrm flipH="1">
                <a:off x="7802640" y="2662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H="1">
                <a:off x="7802640" y="2662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23" name=""/>
            <p:cNvGrpSpPr/>
            <p:nvPr/>
          </p:nvGrpSpPr>
          <p:grpSpPr>
            <a:xfrm>
              <a:off x="7803000" y="2750400"/>
              <a:ext cx="335520" cy="176760"/>
              <a:chOff x="7803000" y="2750400"/>
              <a:chExt cx="335520" cy="176760"/>
            </a:xfrm>
          </p:grpSpPr>
          <p:sp>
            <p:nvSpPr>
              <p:cNvPr id="1124" name=""/>
              <p:cNvSpPr/>
              <p:nvPr/>
            </p:nvSpPr>
            <p:spPr>
              <a:xfrm flipH="1">
                <a:off x="7803000" y="2750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H="1">
                <a:off x="7803000" y="2750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26" name=""/>
            <p:cNvSpPr/>
            <p:nvPr/>
          </p:nvSpPr>
          <p:spPr>
            <a:xfrm flipH="1">
              <a:off x="8055000" y="2833920"/>
              <a:ext cx="6732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7" name=""/>
            <p:cNvGrpSpPr/>
            <p:nvPr/>
          </p:nvGrpSpPr>
          <p:grpSpPr>
            <a:xfrm>
              <a:off x="7818840" y="2771280"/>
              <a:ext cx="131760" cy="89640"/>
              <a:chOff x="7818840" y="2771280"/>
              <a:chExt cx="131760" cy="89640"/>
            </a:xfrm>
          </p:grpSpPr>
          <p:grpSp>
            <p:nvGrpSpPr>
              <p:cNvPr id="1128" name=""/>
              <p:cNvGrpSpPr/>
              <p:nvPr/>
            </p:nvGrpSpPr>
            <p:grpSpPr>
              <a:xfrm>
                <a:off x="7818840" y="2771280"/>
                <a:ext cx="131400" cy="89640"/>
                <a:chOff x="7818840" y="2771280"/>
                <a:chExt cx="131400" cy="89640"/>
              </a:xfrm>
            </p:grpSpPr>
            <p:sp>
              <p:nvSpPr>
                <p:cNvPr id="1129" name=""/>
                <p:cNvSpPr/>
                <p:nvPr/>
              </p:nvSpPr>
              <p:spPr>
                <a:xfrm flipH="1">
                  <a:off x="7818480" y="277128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flipH="1">
                  <a:off x="7818480" y="277128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1" name=""/>
              <p:cNvSpPr/>
              <p:nvPr/>
            </p:nvSpPr>
            <p:spPr>
              <a:xfrm>
                <a:off x="7819200" y="2802240"/>
                <a:ext cx="1314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flipH="1">
                <a:off x="7858080" y="2818440"/>
                <a:ext cx="4608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H="1">
                <a:off x="7858080" y="2792160"/>
                <a:ext cx="4608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7985520" y="2381400"/>
              <a:ext cx="307800" cy="301680"/>
              <a:chOff x="7985520" y="2381400"/>
              <a:chExt cx="307800" cy="301680"/>
            </a:xfrm>
          </p:grpSpPr>
          <p:sp>
            <p:nvSpPr>
              <p:cNvPr id="1135" name=""/>
              <p:cNvSpPr/>
              <p:nvPr/>
            </p:nvSpPr>
            <p:spPr>
              <a:xfrm flipH="1">
                <a:off x="7985160" y="2381400"/>
                <a:ext cx="30780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H="1">
                <a:off x="7985160" y="2381400"/>
                <a:ext cx="30780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37" name=""/>
            <p:cNvGrpSpPr/>
            <p:nvPr/>
          </p:nvGrpSpPr>
          <p:grpSpPr>
            <a:xfrm>
              <a:off x="8137800" y="2460240"/>
              <a:ext cx="100080" cy="331200"/>
              <a:chOff x="8137800" y="2460240"/>
              <a:chExt cx="100080" cy="331200"/>
            </a:xfrm>
          </p:grpSpPr>
          <p:sp>
            <p:nvSpPr>
              <p:cNvPr id="1138" name=""/>
              <p:cNvSpPr/>
              <p:nvPr/>
            </p:nvSpPr>
            <p:spPr>
              <a:xfrm flipH="1">
                <a:off x="8137800" y="2460240"/>
                <a:ext cx="10008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>
                <a:off x="8137800" y="2460240"/>
                <a:ext cx="10008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40" name=""/>
            <p:cNvGrpSpPr/>
            <p:nvPr/>
          </p:nvGrpSpPr>
          <p:grpSpPr>
            <a:xfrm>
              <a:off x="7821720" y="2392200"/>
              <a:ext cx="416160" cy="122400"/>
              <a:chOff x="7821720" y="2392200"/>
              <a:chExt cx="416160" cy="122400"/>
            </a:xfrm>
          </p:grpSpPr>
          <p:sp>
            <p:nvSpPr>
              <p:cNvPr id="1141" name=""/>
              <p:cNvSpPr/>
              <p:nvPr/>
            </p:nvSpPr>
            <p:spPr>
              <a:xfrm flipH="1">
                <a:off x="7821720" y="2392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H="1">
                <a:off x="7821720" y="2392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43" name=""/>
            <p:cNvGrpSpPr/>
            <p:nvPr/>
          </p:nvGrpSpPr>
          <p:grpSpPr>
            <a:xfrm>
              <a:off x="7884000" y="2726640"/>
              <a:ext cx="219600" cy="66960"/>
              <a:chOff x="7884000" y="2726640"/>
              <a:chExt cx="219600" cy="66960"/>
            </a:xfrm>
          </p:grpSpPr>
          <p:sp>
            <p:nvSpPr>
              <p:cNvPr id="1144" name=""/>
              <p:cNvSpPr/>
              <p:nvPr/>
            </p:nvSpPr>
            <p:spPr>
              <a:xfrm flipH="1">
                <a:off x="7884000" y="2726640"/>
                <a:ext cx="21960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H="1">
                <a:off x="7884000" y="2726640"/>
                <a:ext cx="21960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46" name=""/>
            <p:cNvGrpSpPr/>
            <p:nvPr/>
          </p:nvGrpSpPr>
          <p:grpSpPr>
            <a:xfrm>
              <a:off x="7821720" y="2439000"/>
              <a:ext cx="315720" cy="353160"/>
              <a:chOff x="7821720" y="2439000"/>
              <a:chExt cx="315720" cy="353160"/>
            </a:xfrm>
          </p:grpSpPr>
          <p:sp>
            <p:nvSpPr>
              <p:cNvPr id="1147" name=""/>
              <p:cNvSpPr/>
              <p:nvPr/>
            </p:nvSpPr>
            <p:spPr>
              <a:xfrm flipH="1">
                <a:off x="7821360" y="2439000"/>
                <a:ext cx="31572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H="1">
                <a:off x="7821360" y="2439000"/>
                <a:ext cx="31572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49" name=""/>
            <p:cNvGrpSpPr/>
            <p:nvPr/>
          </p:nvGrpSpPr>
          <p:grpSpPr>
            <a:xfrm>
              <a:off x="7861680" y="2478960"/>
              <a:ext cx="230040" cy="257400"/>
              <a:chOff x="7861680" y="2478960"/>
              <a:chExt cx="230040" cy="257400"/>
            </a:xfrm>
          </p:grpSpPr>
          <p:sp>
            <p:nvSpPr>
              <p:cNvPr id="1150" name=""/>
              <p:cNvSpPr/>
              <p:nvPr/>
            </p:nvSpPr>
            <p:spPr>
              <a:xfrm flipH="1">
                <a:off x="7861320" y="2478960"/>
                <a:ext cx="23004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H="1">
                <a:off x="7861320" y="2478960"/>
                <a:ext cx="23004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52" name=""/>
            <p:cNvSpPr/>
            <p:nvPr/>
          </p:nvSpPr>
          <p:spPr>
            <a:xfrm flipH="1">
              <a:off x="7879680" y="2496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7879680" y="2496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8040600" y="255348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7908480" y="2534760"/>
              <a:ext cx="1278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6" name=""/>
          <p:cNvSpPr/>
          <p:nvPr/>
        </p:nvSpPr>
        <p:spPr>
          <a:xfrm flipV="1">
            <a:off x="6543720" y="4260960"/>
            <a:ext cx="255600" cy="334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 flipV="1">
            <a:off x="6370200" y="414936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8" name=""/>
          <p:cNvGrpSpPr/>
          <p:nvPr/>
        </p:nvGrpSpPr>
        <p:grpSpPr>
          <a:xfrm>
            <a:off x="7467480" y="3192480"/>
            <a:ext cx="533520" cy="380880"/>
            <a:chOff x="7467480" y="3192480"/>
            <a:chExt cx="533520" cy="380880"/>
          </a:xfrm>
        </p:grpSpPr>
        <p:sp>
          <p:nvSpPr>
            <p:cNvPr id="1159" name=""/>
            <p:cNvSpPr/>
            <p:nvPr/>
          </p:nvSpPr>
          <p:spPr>
            <a:xfrm flipH="1">
              <a:off x="7467480" y="3192480"/>
              <a:ext cx="533520" cy="380880"/>
            </a:xfrm>
            <a:prstGeom prst="rect">
              <a:avLst/>
            </a:prstGeom>
            <a:gradFill rotWithShape="0">
              <a:gsLst>
                <a:gs pos="0">
                  <a:srgbClr val="2f2f75"/>
                </a:gs>
                <a:gs pos="100000">
                  <a:srgbClr val="66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60" name=""/>
            <p:cNvGrpSpPr/>
            <p:nvPr/>
          </p:nvGrpSpPr>
          <p:grpSpPr>
            <a:xfrm>
              <a:off x="7531200" y="3266280"/>
              <a:ext cx="399240" cy="247680"/>
              <a:chOff x="7531200" y="3266280"/>
              <a:chExt cx="399240" cy="247680"/>
            </a:xfrm>
          </p:grpSpPr>
          <p:sp>
            <p:nvSpPr>
              <p:cNvPr id="1161" name=""/>
              <p:cNvSpPr/>
              <p:nvPr/>
            </p:nvSpPr>
            <p:spPr>
              <a:xfrm flipH="1">
                <a:off x="7590960" y="3266280"/>
                <a:ext cx="27720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599240" y="3266280"/>
                <a:ext cx="27648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H="1">
                <a:off x="7536960" y="3270240"/>
                <a:ext cx="6912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>
                <a:off x="7531200" y="3511800"/>
                <a:ext cx="65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>
                <a:off x="7857720" y="3270240"/>
                <a:ext cx="63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H="1">
                <a:off x="7866000" y="3511800"/>
                <a:ext cx="64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7" name=""/>
          <p:cNvGrpSpPr/>
          <p:nvPr/>
        </p:nvGrpSpPr>
        <p:grpSpPr>
          <a:xfrm>
            <a:off x="5790960" y="4465800"/>
            <a:ext cx="990360" cy="631800"/>
            <a:chOff x="5790960" y="4465800"/>
            <a:chExt cx="990360" cy="631800"/>
          </a:xfrm>
        </p:grpSpPr>
        <p:grpSp>
          <p:nvGrpSpPr>
            <p:cNvPr id="1168" name=""/>
            <p:cNvGrpSpPr/>
            <p:nvPr/>
          </p:nvGrpSpPr>
          <p:grpSpPr>
            <a:xfrm>
              <a:off x="6154920" y="4547160"/>
              <a:ext cx="624960" cy="550440"/>
              <a:chOff x="6154920" y="4547160"/>
              <a:chExt cx="624960" cy="550440"/>
            </a:xfrm>
          </p:grpSpPr>
          <p:sp>
            <p:nvSpPr>
              <p:cNvPr id="1169" name=""/>
              <p:cNvSpPr/>
              <p:nvPr/>
            </p:nvSpPr>
            <p:spPr>
              <a:xfrm flipH="1">
                <a:off x="6154920" y="4547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H="1">
                <a:off x="6154920" y="4547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1" name=""/>
            <p:cNvGrpSpPr/>
            <p:nvPr/>
          </p:nvGrpSpPr>
          <p:grpSpPr>
            <a:xfrm>
              <a:off x="5794560" y="4565880"/>
              <a:ext cx="360360" cy="531720"/>
              <a:chOff x="5794560" y="4565880"/>
              <a:chExt cx="360360" cy="531720"/>
            </a:xfrm>
          </p:grpSpPr>
          <p:sp>
            <p:nvSpPr>
              <p:cNvPr id="1172" name=""/>
              <p:cNvSpPr/>
              <p:nvPr/>
            </p:nvSpPr>
            <p:spPr>
              <a:xfrm flipH="1">
                <a:off x="5794200" y="4565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H="1">
                <a:off x="5794200" y="4565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4" name=""/>
            <p:cNvGrpSpPr/>
            <p:nvPr/>
          </p:nvGrpSpPr>
          <p:grpSpPr>
            <a:xfrm>
              <a:off x="5790960" y="4465800"/>
              <a:ext cx="990360" cy="221760"/>
              <a:chOff x="5790960" y="4465800"/>
              <a:chExt cx="990360" cy="221760"/>
            </a:xfrm>
          </p:grpSpPr>
          <p:sp>
            <p:nvSpPr>
              <p:cNvPr id="1175" name=""/>
              <p:cNvSpPr/>
              <p:nvPr/>
            </p:nvSpPr>
            <p:spPr>
              <a:xfrm flipH="1">
                <a:off x="5790600" y="4465800"/>
                <a:ext cx="99036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H="1">
                <a:off x="5790600" y="4465800"/>
                <a:ext cx="99036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7" name=""/>
            <p:cNvSpPr/>
            <p:nvPr/>
          </p:nvSpPr>
          <p:spPr>
            <a:xfrm flipH="1">
              <a:off x="6214320" y="4596840"/>
              <a:ext cx="527760" cy="4453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6214320" y="4715640"/>
              <a:ext cx="527760" cy="32616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>
              <a:off x="6217200" y="4596840"/>
              <a:ext cx="524880" cy="2908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0" name=""/>
            <p:cNvGrpSpPr/>
            <p:nvPr/>
          </p:nvGrpSpPr>
          <p:grpSpPr>
            <a:xfrm>
              <a:off x="6447600" y="4640040"/>
              <a:ext cx="257760" cy="107640"/>
              <a:chOff x="6447600" y="4640040"/>
              <a:chExt cx="257760" cy="107640"/>
            </a:xfrm>
          </p:grpSpPr>
          <p:sp>
            <p:nvSpPr>
              <p:cNvPr id="1181" name=""/>
              <p:cNvSpPr/>
              <p:nvPr/>
            </p:nvSpPr>
            <p:spPr>
              <a:xfrm flipH="1">
                <a:off x="6447600" y="4640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H="1">
                <a:off x="6447600" y="4640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"/>
            <p:cNvGrpSpPr/>
            <p:nvPr/>
          </p:nvGrpSpPr>
          <p:grpSpPr>
            <a:xfrm>
              <a:off x="6546960" y="4754880"/>
              <a:ext cx="160920" cy="160920"/>
              <a:chOff x="6546960" y="4754880"/>
              <a:chExt cx="160920" cy="160920"/>
            </a:xfrm>
          </p:grpSpPr>
          <p:sp>
            <p:nvSpPr>
              <p:cNvPr id="1184" name=""/>
              <p:cNvSpPr/>
              <p:nvPr/>
            </p:nvSpPr>
            <p:spPr>
              <a:xfrm flipH="1">
                <a:off x="6546600" y="4754880"/>
                <a:ext cx="16092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H="1">
                <a:off x="6546600" y="4754880"/>
                <a:ext cx="16092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6" name=""/>
          <p:cNvGrpSpPr/>
          <p:nvPr/>
        </p:nvGrpSpPr>
        <p:grpSpPr>
          <a:xfrm>
            <a:off x="1828800" y="2590920"/>
            <a:ext cx="380880" cy="380880"/>
            <a:chOff x="1828800" y="2590920"/>
            <a:chExt cx="380880" cy="380880"/>
          </a:xfrm>
        </p:grpSpPr>
        <p:grpSp>
          <p:nvGrpSpPr>
            <p:cNvPr id="1187" name=""/>
            <p:cNvGrpSpPr/>
            <p:nvPr/>
          </p:nvGrpSpPr>
          <p:grpSpPr>
            <a:xfrm>
              <a:off x="1828800" y="2836800"/>
              <a:ext cx="130680" cy="135000"/>
              <a:chOff x="1828800" y="2836800"/>
              <a:chExt cx="130680" cy="135000"/>
            </a:xfrm>
          </p:grpSpPr>
          <p:sp>
            <p:nvSpPr>
              <p:cNvPr id="1188" name=""/>
              <p:cNvSpPr/>
              <p:nvPr/>
            </p:nvSpPr>
            <p:spPr>
              <a:xfrm>
                <a:off x="1828800" y="2836800"/>
                <a:ext cx="130680" cy="13500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828800" y="2836800"/>
                <a:ext cx="130680" cy="13500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0" name=""/>
            <p:cNvGrpSpPr/>
            <p:nvPr/>
          </p:nvGrpSpPr>
          <p:grpSpPr>
            <a:xfrm>
              <a:off x="1828800" y="2786760"/>
              <a:ext cx="380880" cy="123120"/>
              <a:chOff x="1828800" y="2786760"/>
              <a:chExt cx="380880" cy="123120"/>
            </a:xfrm>
          </p:grpSpPr>
          <p:sp>
            <p:nvSpPr>
              <p:cNvPr id="1191" name=""/>
              <p:cNvSpPr/>
              <p:nvPr/>
            </p:nvSpPr>
            <p:spPr>
              <a:xfrm>
                <a:off x="1828800" y="2786760"/>
                <a:ext cx="380880" cy="12312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828800" y="2786760"/>
                <a:ext cx="380880" cy="12312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3" name=""/>
            <p:cNvGrpSpPr/>
            <p:nvPr/>
          </p:nvGrpSpPr>
          <p:grpSpPr>
            <a:xfrm>
              <a:off x="1959480" y="2848320"/>
              <a:ext cx="250200" cy="123480"/>
              <a:chOff x="1959480" y="2848320"/>
              <a:chExt cx="250200" cy="123480"/>
            </a:xfrm>
          </p:grpSpPr>
          <p:sp>
            <p:nvSpPr>
              <p:cNvPr id="1194" name=""/>
              <p:cNvSpPr/>
              <p:nvPr/>
            </p:nvSpPr>
            <p:spPr>
              <a:xfrm>
                <a:off x="1959480" y="2848320"/>
                <a:ext cx="250200" cy="12348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959480" y="2848320"/>
                <a:ext cx="250200" cy="12348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96" name=""/>
            <p:cNvSpPr/>
            <p:nvPr/>
          </p:nvSpPr>
          <p:spPr>
            <a:xfrm>
              <a:off x="1971360" y="2906280"/>
              <a:ext cx="50040" cy="2808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97" name=""/>
            <p:cNvGrpSpPr/>
            <p:nvPr/>
          </p:nvGrpSpPr>
          <p:grpSpPr>
            <a:xfrm>
              <a:off x="2099880" y="2862720"/>
              <a:ext cx="97920" cy="62280"/>
              <a:chOff x="2099880" y="2862720"/>
              <a:chExt cx="97920" cy="62280"/>
            </a:xfrm>
          </p:grpSpPr>
          <p:grpSp>
            <p:nvGrpSpPr>
              <p:cNvPr id="1198" name=""/>
              <p:cNvGrpSpPr/>
              <p:nvPr/>
            </p:nvGrpSpPr>
            <p:grpSpPr>
              <a:xfrm>
                <a:off x="2099880" y="2862720"/>
                <a:ext cx="97920" cy="62280"/>
                <a:chOff x="2099880" y="2862720"/>
                <a:chExt cx="97920" cy="62280"/>
              </a:xfrm>
            </p:grpSpPr>
            <p:sp>
              <p:nvSpPr>
                <p:cNvPr id="1199" name=""/>
                <p:cNvSpPr/>
                <p:nvPr/>
              </p:nvSpPr>
              <p:spPr>
                <a:xfrm>
                  <a:off x="2099880" y="2862720"/>
                  <a:ext cx="97920" cy="6228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2099880" y="2862720"/>
                  <a:ext cx="97920" cy="6228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1" name=""/>
              <p:cNvSpPr/>
              <p:nvPr/>
            </p:nvSpPr>
            <p:spPr>
              <a:xfrm flipH="1">
                <a:off x="2099880" y="2884320"/>
                <a:ext cx="9792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134440" y="2895480"/>
                <a:ext cx="34560" cy="1404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134440" y="2877120"/>
                <a:ext cx="34560" cy="1296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4" name=""/>
            <p:cNvGrpSpPr/>
            <p:nvPr/>
          </p:nvGrpSpPr>
          <p:grpSpPr>
            <a:xfrm>
              <a:off x="1843920" y="2590920"/>
              <a:ext cx="229320" cy="210240"/>
              <a:chOff x="1843920" y="2590920"/>
              <a:chExt cx="229320" cy="210240"/>
            </a:xfrm>
          </p:grpSpPr>
          <p:sp>
            <p:nvSpPr>
              <p:cNvPr id="1205" name=""/>
              <p:cNvSpPr/>
              <p:nvPr/>
            </p:nvSpPr>
            <p:spPr>
              <a:xfrm>
                <a:off x="1843920" y="2590920"/>
                <a:ext cx="229320" cy="21024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843920" y="2590920"/>
                <a:ext cx="229320" cy="21024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"/>
            <p:cNvGrpSpPr/>
            <p:nvPr/>
          </p:nvGrpSpPr>
          <p:grpSpPr>
            <a:xfrm>
              <a:off x="1885320" y="2646000"/>
              <a:ext cx="74520" cy="231120"/>
              <a:chOff x="1885320" y="2646000"/>
              <a:chExt cx="74520" cy="231120"/>
            </a:xfrm>
          </p:grpSpPr>
          <p:sp>
            <p:nvSpPr>
              <p:cNvPr id="1208" name=""/>
              <p:cNvSpPr/>
              <p:nvPr/>
            </p:nvSpPr>
            <p:spPr>
              <a:xfrm>
                <a:off x="1885320" y="2646000"/>
                <a:ext cx="74520" cy="23112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885320" y="2646000"/>
                <a:ext cx="74520" cy="23112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1885320" y="2598480"/>
              <a:ext cx="309960" cy="85320"/>
              <a:chOff x="1885320" y="2598480"/>
              <a:chExt cx="309960" cy="85320"/>
            </a:xfrm>
          </p:grpSpPr>
          <p:sp>
            <p:nvSpPr>
              <p:cNvPr id="1211" name=""/>
              <p:cNvSpPr/>
              <p:nvPr/>
            </p:nvSpPr>
            <p:spPr>
              <a:xfrm>
                <a:off x="1885320" y="2598480"/>
                <a:ext cx="309960" cy="8532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885320" y="2598480"/>
                <a:ext cx="309960" cy="8532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3" name=""/>
            <p:cNvGrpSpPr/>
            <p:nvPr/>
          </p:nvGrpSpPr>
          <p:grpSpPr>
            <a:xfrm>
              <a:off x="1985400" y="2831760"/>
              <a:ext cx="163440" cy="46440"/>
              <a:chOff x="1985400" y="2831760"/>
              <a:chExt cx="163440" cy="46440"/>
            </a:xfrm>
          </p:grpSpPr>
          <p:sp>
            <p:nvSpPr>
              <p:cNvPr id="1214" name=""/>
              <p:cNvSpPr/>
              <p:nvPr/>
            </p:nvSpPr>
            <p:spPr>
              <a:xfrm>
                <a:off x="1985400" y="2831760"/>
                <a:ext cx="163440" cy="4644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985400" y="2831760"/>
                <a:ext cx="163440" cy="4644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6" name=""/>
            <p:cNvGrpSpPr/>
            <p:nvPr/>
          </p:nvGrpSpPr>
          <p:grpSpPr>
            <a:xfrm>
              <a:off x="1960200" y="2630880"/>
              <a:ext cx="235080" cy="246240"/>
              <a:chOff x="1960200" y="2630880"/>
              <a:chExt cx="235080" cy="246240"/>
            </a:xfrm>
          </p:grpSpPr>
          <p:sp>
            <p:nvSpPr>
              <p:cNvPr id="1217" name=""/>
              <p:cNvSpPr/>
              <p:nvPr/>
            </p:nvSpPr>
            <p:spPr>
              <a:xfrm>
                <a:off x="1960200" y="2630880"/>
                <a:ext cx="235080" cy="24624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960200" y="2630880"/>
                <a:ext cx="235080" cy="24624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9" name=""/>
            <p:cNvGrpSpPr/>
            <p:nvPr/>
          </p:nvGrpSpPr>
          <p:grpSpPr>
            <a:xfrm>
              <a:off x="1994400" y="2658960"/>
              <a:ext cx="171360" cy="179640"/>
              <a:chOff x="1994400" y="2658960"/>
              <a:chExt cx="171360" cy="179640"/>
            </a:xfrm>
          </p:grpSpPr>
          <p:sp>
            <p:nvSpPr>
              <p:cNvPr id="1220" name=""/>
              <p:cNvSpPr/>
              <p:nvPr/>
            </p:nvSpPr>
            <p:spPr>
              <a:xfrm>
                <a:off x="1994400" y="2658960"/>
                <a:ext cx="171360" cy="1796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994400" y="2658960"/>
                <a:ext cx="171360" cy="1796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22" name=""/>
            <p:cNvSpPr/>
            <p:nvPr/>
          </p:nvSpPr>
          <p:spPr>
            <a:xfrm>
              <a:off x="2000880" y="2671200"/>
              <a:ext cx="151200" cy="15192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000880" y="2671200"/>
              <a:ext cx="151200" cy="15192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018520" y="2710800"/>
              <a:ext cx="1404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035440" y="2697840"/>
              <a:ext cx="95400" cy="1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6" name=""/>
          <p:cNvSpPr/>
          <p:nvPr/>
        </p:nvSpPr>
        <p:spPr>
          <a:xfrm>
            <a:off x="2058840" y="25146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B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7" name=""/>
          <p:cNvGrpSpPr/>
          <p:nvPr/>
        </p:nvGrpSpPr>
        <p:grpSpPr>
          <a:xfrm>
            <a:off x="2209680" y="5105520"/>
            <a:ext cx="511200" cy="330120"/>
            <a:chOff x="2209680" y="5105520"/>
            <a:chExt cx="511200" cy="330120"/>
          </a:xfrm>
        </p:grpSpPr>
        <p:grpSp>
          <p:nvGrpSpPr>
            <p:cNvPr id="1228" name=""/>
            <p:cNvGrpSpPr/>
            <p:nvPr/>
          </p:nvGrpSpPr>
          <p:grpSpPr>
            <a:xfrm>
              <a:off x="2210400" y="5148000"/>
              <a:ext cx="322560" cy="287640"/>
              <a:chOff x="2210400" y="5148000"/>
              <a:chExt cx="322560" cy="287640"/>
            </a:xfrm>
          </p:grpSpPr>
          <p:sp>
            <p:nvSpPr>
              <p:cNvPr id="1229" name=""/>
              <p:cNvSpPr/>
              <p:nvPr/>
            </p:nvSpPr>
            <p:spPr>
              <a:xfrm>
                <a:off x="2210400" y="51480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2210400" y="51480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31" name=""/>
            <p:cNvGrpSpPr/>
            <p:nvPr/>
          </p:nvGrpSpPr>
          <p:grpSpPr>
            <a:xfrm>
              <a:off x="2532960" y="5157720"/>
              <a:ext cx="186120" cy="277920"/>
              <a:chOff x="2532960" y="5157720"/>
              <a:chExt cx="186120" cy="277920"/>
            </a:xfrm>
          </p:grpSpPr>
          <p:sp>
            <p:nvSpPr>
              <p:cNvPr id="1232" name=""/>
              <p:cNvSpPr/>
              <p:nvPr/>
            </p:nvSpPr>
            <p:spPr>
              <a:xfrm>
                <a:off x="2532960" y="51577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2532960" y="51577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2209680" y="5105520"/>
              <a:ext cx="511200" cy="115920"/>
              <a:chOff x="2209680" y="5105520"/>
              <a:chExt cx="511200" cy="115920"/>
            </a:xfrm>
          </p:grpSpPr>
          <p:sp>
            <p:nvSpPr>
              <p:cNvPr id="1235" name=""/>
              <p:cNvSpPr/>
              <p:nvPr/>
            </p:nvSpPr>
            <p:spPr>
              <a:xfrm>
                <a:off x="2209680" y="51055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2209680" y="51055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37" name=""/>
            <p:cNvSpPr/>
            <p:nvPr/>
          </p:nvSpPr>
          <p:spPr>
            <a:xfrm>
              <a:off x="2229840" y="517392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229840" y="523584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229840" y="517392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40" name=""/>
            <p:cNvGrpSpPr/>
            <p:nvPr/>
          </p:nvGrpSpPr>
          <p:grpSpPr>
            <a:xfrm>
              <a:off x="2248920" y="5196600"/>
              <a:ext cx="132840" cy="56160"/>
              <a:chOff x="2248920" y="5196600"/>
              <a:chExt cx="132840" cy="56160"/>
            </a:xfrm>
          </p:grpSpPr>
          <p:sp>
            <p:nvSpPr>
              <p:cNvPr id="1241" name=""/>
              <p:cNvSpPr/>
              <p:nvPr/>
            </p:nvSpPr>
            <p:spPr>
              <a:xfrm>
                <a:off x="2248920" y="51966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2248920" y="51966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"/>
            <p:cNvGrpSpPr/>
            <p:nvPr/>
          </p:nvGrpSpPr>
          <p:grpSpPr>
            <a:xfrm>
              <a:off x="2247480" y="5256720"/>
              <a:ext cx="83160" cy="83880"/>
              <a:chOff x="2247480" y="5256720"/>
              <a:chExt cx="83160" cy="83880"/>
            </a:xfrm>
          </p:grpSpPr>
          <p:sp>
            <p:nvSpPr>
              <p:cNvPr id="1244" name=""/>
              <p:cNvSpPr/>
              <p:nvPr/>
            </p:nvSpPr>
            <p:spPr>
              <a:xfrm>
                <a:off x="2247480" y="52567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247480" y="52567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6" name=""/>
          <p:cNvGrpSpPr/>
          <p:nvPr/>
        </p:nvGrpSpPr>
        <p:grpSpPr>
          <a:xfrm>
            <a:off x="1371600" y="4419720"/>
            <a:ext cx="511200" cy="330120"/>
            <a:chOff x="1371600" y="4419720"/>
            <a:chExt cx="511200" cy="330120"/>
          </a:xfrm>
        </p:grpSpPr>
        <p:grpSp>
          <p:nvGrpSpPr>
            <p:cNvPr id="1247" name=""/>
            <p:cNvGrpSpPr/>
            <p:nvPr/>
          </p:nvGrpSpPr>
          <p:grpSpPr>
            <a:xfrm>
              <a:off x="1372320" y="4462200"/>
              <a:ext cx="322560" cy="287640"/>
              <a:chOff x="1372320" y="4462200"/>
              <a:chExt cx="322560" cy="287640"/>
            </a:xfrm>
          </p:grpSpPr>
          <p:sp>
            <p:nvSpPr>
              <p:cNvPr id="1248" name=""/>
              <p:cNvSpPr/>
              <p:nvPr/>
            </p:nvSpPr>
            <p:spPr>
              <a:xfrm>
                <a:off x="1372320" y="44622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1372320" y="44622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0" name=""/>
            <p:cNvGrpSpPr/>
            <p:nvPr/>
          </p:nvGrpSpPr>
          <p:grpSpPr>
            <a:xfrm>
              <a:off x="1694880" y="4471920"/>
              <a:ext cx="186120" cy="277920"/>
              <a:chOff x="1694880" y="4471920"/>
              <a:chExt cx="186120" cy="277920"/>
            </a:xfrm>
          </p:grpSpPr>
          <p:sp>
            <p:nvSpPr>
              <p:cNvPr id="1251" name=""/>
              <p:cNvSpPr/>
              <p:nvPr/>
            </p:nvSpPr>
            <p:spPr>
              <a:xfrm>
                <a:off x="1694880" y="44719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1694880" y="44719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3" name=""/>
            <p:cNvGrpSpPr/>
            <p:nvPr/>
          </p:nvGrpSpPr>
          <p:grpSpPr>
            <a:xfrm>
              <a:off x="1371600" y="4419720"/>
              <a:ext cx="511200" cy="115920"/>
              <a:chOff x="1371600" y="4419720"/>
              <a:chExt cx="511200" cy="115920"/>
            </a:xfrm>
          </p:grpSpPr>
          <p:sp>
            <p:nvSpPr>
              <p:cNvPr id="1254" name=""/>
              <p:cNvSpPr/>
              <p:nvPr/>
            </p:nvSpPr>
            <p:spPr>
              <a:xfrm>
                <a:off x="1371600" y="44197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371600" y="44197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6" name=""/>
            <p:cNvSpPr/>
            <p:nvPr/>
          </p:nvSpPr>
          <p:spPr>
            <a:xfrm>
              <a:off x="1391760" y="448812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391760" y="455004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391760" y="448812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59" name=""/>
            <p:cNvGrpSpPr/>
            <p:nvPr/>
          </p:nvGrpSpPr>
          <p:grpSpPr>
            <a:xfrm>
              <a:off x="1410840" y="4510800"/>
              <a:ext cx="132840" cy="56160"/>
              <a:chOff x="1410840" y="4510800"/>
              <a:chExt cx="132840" cy="56160"/>
            </a:xfrm>
          </p:grpSpPr>
          <p:sp>
            <p:nvSpPr>
              <p:cNvPr id="1260" name=""/>
              <p:cNvSpPr/>
              <p:nvPr/>
            </p:nvSpPr>
            <p:spPr>
              <a:xfrm>
                <a:off x="1410840" y="45108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1410840" y="45108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62" name=""/>
            <p:cNvGrpSpPr/>
            <p:nvPr/>
          </p:nvGrpSpPr>
          <p:grpSpPr>
            <a:xfrm>
              <a:off x="1409400" y="4570920"/>
              <a:ext cx="83160" cy="83880"/>
              <a:chOff x="1409400" y="4570920"/>
              <a:chExt cx="83160" cy="83880"/>
            </a:xfrm>
          </p:grpSpPr>
          <p:sp>
            <p:nvSpPr>
              <p:cNvPr id="1263" name=""/>
              <p:cNvSpPr/>
              <p:nvPr/>
            </p:nvSpPr>
            <p:spPr>
              <a:xfrm>
                <a:off x="1409400" y="45709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1409400" y="45709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5" name=""/>
          <p:cNvGrpSpPr/>
          <p:nvPr/>
        </p:nvGrpSpPr>
        <p:grpSpPr>
          <a:xfrm>
            <a:off x="1600200" y="4952880"/>
            <a:ext cx="507960" cy="330480"/>
            <a:chOff x="1600200" y="4952880"/>
            <a:chExt cx="507960" cy="330480"/>
          </a:xfrm>
        </p:grpSpPr>
        <p:grpSp>
          <p:nvGrpSpPr>
            <p:cNvPr id="1266" name=""/>
            <p:cNvGrpSpPr/>
            <p:nvPr/>
          </p:nvGrpSpPr>
          <p:grpSpPr>
            <a:xfrm>
              <a:off x="1600920" y="4995360"/>
              <a:ext cx="320400" cy="288000"/>
              <a:chOff x="1600920" y="4995360"/>
              <a:chExt cx="320400" cy="288000"/>
            </a:xfrm>
          </p:grpSpPr>
          <p:sp>
            <p:nvSpPr>
              <p:cNvPr id="1267" name=""/>
              <p:cNvSpPr/>
              <p:nvPr/>
            </p:nvSpPr>
            <p:spPr>
              <a:xfrm>
                <a:off x="1600920" y="4995360"/>
                <a:ext cx="32040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1600920" y="4995360"/>
                <a:ext cx="32040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69" name=""/>
            <p:cNvGrpSpPr/>
            <p:nvPr/>
          </p:nvGrpSpPr>
          <p:grpSpPr>
            <a:xfrm>
              <a:off x="1921680" y="5005080"/>
              <a:ext cx="184680" cy="278280"/>
              <a:chOff x="1921680" y="5005080"/>
              <a:chExt cx="184680" cy="278280"/>
            </a:xfrm>
          </p:grpSpPr>
          <p:sp>
            <p:nvSpPr>
              <p:cNvPr id="1270" name=""/>
              <p:cNvSpPr/>
              <p:nvPr/>
            </p:nvSpPr>
            <p:spPr>
              <a:xfrm>
                <a:off x="1921680" y="5005080"/>
                <a:ext cx="18468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1921680" y="5005080"/>
                <a:ext cx="18468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1600200" y="4952880"/>
              <a:ext cx="507960" cy="115920"/>
              <a:chOff x="1600200" y="4952880"/>
              <a:chExt cx="507960" cy="115920"/>
            </a:xfrm>
          </p:grpSpPr>
          <p:sp>
            <p:nvSpPr>
              <p:cNvPr id="1273" name=""/>
              <p:cNvSpPr/>
              <p:nvPr/>
            </p:nvSpPr>
            <p:spPr>
              <a:xfrm>
                <a:off x="1600200" y="495288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600200" y="495288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75" name=""/>
            <p:cNvSpPr/>
            <p:nvPr/>
          </p:nvSpPr>
          <p:spPr>
            <a:xfrm>
              <a:off x="1620360" y="5021280"/>
              <a:ext cx="270720" cy="2329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620360" y="5083560"/>
              <a:ext cx="2707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620360" y="5021280"/>
              <a:ext cx="269280" cy="1522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78" name=""/>
            <p:cNvGrpSpPr/>
            <p:nvPr/>
          </p:nvGrpSpPr>
          <p:grpSpPr>
            <a:xfrm>
              <a:off x="1639080" y="5043960"/>
              <a:ext cx="132120" cy="56160"/>
              <a:chOff x="1639080" y="5043960"/>
              <a:chExt cx="132120" cy="56160"/>
            </a:xfrm>
          </p:grpSpPr>
          <p:sp>
            <p:nvSpPr>
              <p:cNvPr id="1279" name=""/>
              <p:cNvSpPr/>
              <p:nvPr/>
            </p:nvSpPr>
            <p:spPr>
              <a:xfrm>
                <a:off x="1639080" y="504396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1639080" y="504396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1637640" y="5104080"/>
              <a:ext cx="82440" cy="84240"/>
              <a:chOff x="1637640" y="5104080"/>
              <a:chExt cx="82440" cy="84240"/>
            </a:xfrm>
          </p:grpSpPr>
          <p:sp>
            <p:nvSpPr>
              <p:cNvPr id="1282" name=""/>
              <p:cNvSpPr/>
              <p:nvPr/>
            </p:nvSpPr>
            <p:spPr>
              <a:xfrm>
                <a:off x="1637640" y="5104080"/>
                <a:ext cx="8244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637640" y="5104080"/>
                <a:ext cx="8244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4" name=""/>
          <p:cNvSpPr/>
          <p:nvPr/>
        </p:nvSpPr>
        <p:spPr>
          <a:xfrm>
            <a:off x="3048120" y="2743200"/>
            <a:ext cx="685800" cy="555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267080" y="3581280"/>
            <a:ext cx="685800" cy="5558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715000" y="2743200"/>
            <a:ext cx="685800" cy="555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889000" y="243828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838080" y="3151080"/>
            <a:ext cx="385920" cy="1652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9" name=""/>
          <p:cNvGrpSpPr/>
          <p:nvPr/>
        </p:nvGrpSpPr>
        <p:grpSpPr>
          <a:xfrm>
            <a:off x="380880" y="2762280"/>
            <a:ext cx="513000" cy="546120"/>
            <a:chOff x="380880" y="2762280"/>
            <a:chExt cx="513000" cy="546120"/>
          </a:xfrm>
        </p:grpSpPr>
        <p:grpSp>
          <p:nvGrpSpPr>
            <p:cNvPr id="1290" name=""/>
            <p:cNvGrpSpPr/>
            <p:nvPr/>
          </p:nvGrpSpPr>
          <p:grpSpPr>
            <a:xfrm>
              <a:off x="380880" y="3114720"/>
              <a:ext cx="176040" cy="193680"/>
              <a:chOff x="380880" y="3114720"/>
              <a:chExt cx="176040" cy="193680"/>
            </a:xfrm>
          </p:grpSpPr>
          <p:sp>
            <p:nvSpPr>
              <p:cNvPr id="1291" name=""/>
              <p:cNvSpPr/>
              <p:nvPr/>
            </p:nvSpPr>
            <p:spPr>
              <a:xfrm>
                <a:off x="380880" y="3114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380880" y="3114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93" name=""/>
            <p:cNvGrpSpPr/>
            <p:nvPr/>
          </p:nvGrpSpPr>
          <p:grpSpPr>
            <a:xfrm>
              <a:off x="380880" y="3043080"/>
              <a:ext cx="513000" cy="176400"/>
              <a:chOff x="380880" y="3043080"/>
              <a:chExt cx="513000" cy="176400"/>
            </a:xfrm>
          </p:grpSpPr>
          <p:sp>
            <p:nvSpPr>
              <p:cNvPr id="1294" name=""/>
              <p:cNvSpPr/>
              <p:nvPr/>
            </p:nvSpPr>
            <p:spPr>
              <a:xfrm>
                <a:off x="380880" y="304308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80880" y="304308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96" name=""/>
            <p:cNvGrpSpPr/>
            <p:nvPr/>
          </p:nvGrpSpPr>
          <p:grpSpPr>
            <a:xfrm>
              <a:off x="556920" y="3131280"/>
              <a:ext cx="336960" cy="176760"/>
              <a:chOff x="556920" y="3131280"/>
              <a:chExt cx="336960" cy="176760"/>
            </a:xfrm>
          </p:grpSpPr>
          <p:sp>
            <p:nvSpPr>
              <p:cNvPr id="1297" name=""/>
              <p:cNvSpPr/>
              <p:nvPr/>
            </p:nvSpPr>
            <p:spPr>
              <a:xfrm>
                <a:off x="556920" y="313128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56920" y="313128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99" name=""/>
            <p:cNvSpPr/>
            <p:nvPr/>
          </p:nvSpPr>
          <p:spPr>
            <a:xfrm>
              <a:off x="572760" y="321480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00" name=""/>
            <p:cNvGrpSpPr/>
            <p:nvPr/>
          </p:nvGrpSpPr>
          <p:grpSpPr>
            <a:xfrm>
              <a:off x="745920" y="3152160"/>
              <a:ext cx="131760" cy="89640"/>
              <a:chOff x="745920" y="3152160"/>
              <a:chExt cx="131760" cy="89640"/>
            </a:xfrm>
          </p:grpSpPr>
          <p:grpSp>
            <p:nvGrpSpPr>
              <p:cNvPr id="1301" name=""/>
              <p:cNvGrpSpPr/>
              <p:nvPr/>
            </p:nvGrpSpPr>
            <p:grpSpPr>
              <a:xfrm>
                <a:off x="745920" y="3152160"/>
                <a:ext cx="131760" cy="89640"/>
                <a:chOff x="745920" y="3152160"/>
                <a:chExt cx="131760" cy="89640"/>
              </a:xfrm>
            </p:grpSpPr>
            <p:sp>
              <p:nvSpPr>
                <p:cNvPr id="1302" name=""/>
                <p:cNvSpPr/>
                <p:nvPr/>
              </p:nvSpPr>
              <p:spPr>
                <a:xfrm>
                  <a:off x="745920" y="3152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745920" y="3152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4" name=""/>
              <p:cNvSpPr/>
              <p:nvPr/>
            </p:nvSpPr>
            <p:spPr>
              <a:xfrm flipH="1">
                <a:off x="745920" y="318312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92360" y="319932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792360" y="317304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401400" y="2762280"/>
              <a:ext cx="308880" cy="301680"/>
              <a:chOff x="401400" y="2762280"/>
              <a:chExt cx="308880" cy="301680"/>
            </a:xfrm>
          </p:grpSpPr>
          <p:sp>
            <p:nvSpPr>
              <p:cNvPr id="1308" name=""/>
              <p:cNvSpPr/>
              <p:nvPr/>
            </p:nvSpPr>
            <p:spPr>
              <a:xfrm>
                <a:off x="401400" y="276228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401400" y="276228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0" name=""/>
            <p:cNvGrpSpPr/>
            <p:nvPr/>
          </p:nvGrpSpPr>
          <p:grpSpPr>
            <a:xfrm>
              <a:off x="457200" y="2841120"/>
              <a:ext cx="100440" cy="331200"/>
              <a:chOff x="457200" y="2841120"/>
              <a:chExt cx="100440" cy="331200"/>
            </a:xfrm>
          </p:grpSpPr>
          <p:sp>
            <p:nvSpPr>
              <p:cNvPr id="1311" name=""/>
              <p:cNvSpPr/>
              <p:nvPr/>
            </p:nvSpPr>
            <p:spPr>
              <a:xfrm>
                <a:off x="457200" y="2841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457200" y="2841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3" name=""/>
            <p:cNvGrpSpPr/>
            <p:nvPr/>
          </p:nvGrpSpPr>
          <p:grpSpPr>
            <a:xfrm>
              <a:off x="457200" y="2773080"/>
              <a:ext cx="417600" cy="122400"/>
              <a:chOff x="457200" y="2773080"/>
              <a:chExt cx="417600" cy="122400"/>
            </a:xfrm>
          </p:grpSpPr>
          <p:sp>
            <p:nvSpPr>
              <p:cNvPr id="1314" name=""/>
              <p:cNvSpPr/>
              <p:nvPr/>
            </p:nvSpPr>
            <p:spPr>
              <a:xfrm>
                <a:off x="457200" y="277308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457200" y="277308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6" name=""/>
            <p:cNvGrpSpPr/>
            <p:nvPr/>
          </p:nvGrpSpPr>
          <p:grpSpPr>
            <a:xfrm>
              <a:off x="591840" y="3107520"/>
              <a:ext cx="220320" cy="66960"/>
              <a:chOff x="591840" y="3107520"/>
              <a:chExt cx="220320" cy="66960"/>
            </a:xfrm>
          </p:grpSpPr>
          <p:sp>
            <p:nvSpPr>
              <p:cNvPr id="1317" name=""/>
              <p:cNvSpPr/>
              <p:nvPr/>
            </p:nvSpPr>
            <p:spPr>
              <a:xfrm>
                <a:off x="591840" y="3107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91840" y="3107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9" name=""/>
            <p:cNvGrpSpPr/>
            <p:nvPr/>
          </p:nvGrpSpPr>
          <p:grpSpPr>
            <a:xfrm>
              <a:off x="558000" y="2819880"/>
              <a:ext cx="316800" cy="353160"/>
              <a:chOff x="558000" y="2819880"/>
              <a:chExt cx="316800" cy="353160"/>
            </a:xfrm>
          </p:grpSpPr>
          <p:sp>
            <p:nvSpPr>
              <p:cNvPr id="1320" name=""/>
              <p:cNvSpPr/>
              <p:nvPr/>
            </p:nvSpPr>
            <p:spPr>
              <a:xfrm>
                <a:off x="558000" y="281988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558000" y="281988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22" name=""/>
            <p:cNvGrpSpPr/>
            <p:nvPr/>
          </p:nvGrpSpPr>
          <p:grpSpPr>
            <a:xfrm>
              <a:off x="604080" y="2859840"/>
              <a:ext cx="230760" cy="257400"/>
              <a:chOff x="604080" y="2859840"/>
              <a:chExt cx="230760" cy="257400"/>
            </a:xfrm>
          </p:grpSpPr>
          <p:sp>
            <p:nvSpPr>
              <p:cNvPr id="1323" name=""/>
              <p:cNvSpPr/>
              <p:nvPr/>
            </p:nvSpPr>
            <p:spPr>
              <a:xfrm>
                <a:off x="604080" y="2859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04080" y="2859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5" name=""/>
            <p:cNvSpPr/>
            <p:nvPr/>
          </p:nvSpPr>
          <p:spPr>
            <a:xfrm>
              <a:off x="612720" y="2877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12720" y="2877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36480" y="293436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59160" y="291564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9" name=""/>
          <p:cNvSpPr/>
          <p:nvPr/>
        </p:nvSpPr>
        <p:spPr>
          <a:xfrm>
            <a:off x="1752480" y="3581280"/>
            <a:ext cx="228600" cy="3049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85800" y="685800"/>
            <a:ext cx="7543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.  PATH message arrives at rou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85800" y="1004760"/>
            <a:ext cx="7543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.  Router applies sender policy check against directo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2514240" y="3276720"/>
            <a:ext cx="762120" cy="76176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522880" y="6095880"/>
            <a:ext cx="33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fferentiated Service Network(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30040" y="411480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EEE 802.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2425680" y="4267080"/>
            <a:ext cx="154080" cy="2811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85800" y="1309680"/>
            <a:ext cx="7543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.  Sender approved, PATH forwarded to next rou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85800" y="1600200"/>
            <a:ext cx="7543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.  Next router applies sender policy check against directo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3276720" y="3250800"/>
            <a:ext cx="164880" cy="132084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85800" y="1905120"/>
            <a:ext cx="822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.  Sender approved, PATH forwarded to Diff-Serv ingress rou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352680" y="5029200"/>
            <a:ext cx="304920" cy="3808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85800" y="2209680"/>
            <a:ext cx="822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.  Diff-Serv ingress router checks for admissibility against S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4595760" y="4143240"/>
            <a:ext cx="6480" cy="58104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745640" y="3048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6060960" y="3278160"/>
            <a:ext cx="198720" cy="12747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H="1">
            <a:off x="4595400" y="4648320"/>
            <a:ext cx="1800" cy="59832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3276720" y="3276360"/>
            <a:ext cx="152280" cy="14475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2514600" y="3276720"/>
            <a:ext cx="762120" cy="7617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1676520" y="5181480"/>
            <a:ext cx="155520" cy="609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1828800" y="4266720"/>
            <a:ext cx="384120" cy="838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2438280" y="4876920"/>
            <a:ext cx="15552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1143000" y="4648320"/>
            <a:ext cx="38412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1600200" y="4191120"/>
            <a:ext cx="30780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H="1" flipV="1">
            <a:off x="2364840" y="5257440"/>
            <a:ext cx="225720" cy="609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H="1">
            <a:off x="1599840" y="2895480"/>
            <a:ext cx="304920" cy="304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H="1" flipV="1" rot="20268600">
            <a:off x="5181480" y="4971960"/>
            <a:ext cx="1084320" cy="329040"/>
          </a:xfrm>
          <a:custGeom>
            <a:avLst/>
            <a:gdLst/>
            <a:ahLst/>
            <a:rect l="l" t="t" r="r" b="b"/>
            <a:pathLst>
              <a:path w="656" h="197">
                <a:moveTo>
                  <a:pt x="0" y="196"/>
                </a:moveTo>
                <a:lnTo>
                  <a:pt x="401" y="145"/>
                </a:lnTo>
                <a:lnTo>
                  <a:pt x="312" y="71"/>
                </a:lnTo>
                <a:lnTo>
                  <a:pt x="655" y="0"/>
                </a:lnTo>
                <a:lnTo>
                  <a:pt x="254" y="52"/>
                </a:lnTo>
                <a:lnTo>
                  <a:pt x="346" y="129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V="1">
            <a:off x="2981160" y="4277880"/>
            <a:ext cx="219240" cy="352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 flipV="1">
            <a:off x="1107720" y="2711520"/>
            <a:ext cx="274680" cy="511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 flipV="1">
            <a:off x="838080" y="3142800"/>
            <a:ext cx="416160" cy="187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H="1">
            <a:off x="789120" y="3452760"/>
            <a:ext cx="490320" cy="214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H="1" flipV="1">
            <a:off x="1752480" y="3580920"/>
            <a:ext cx="255600" cy="335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2173320" y="352404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 flipV="1">
            <a:off x="2371680" y="3609720"/>
            <a:ext cx="127080" cy="36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3" name=""/>
          <p:cNvGrpSpPr/>
          <p:nvPr/>
        </p:nvGrpSpPr>
        <p:grpSpPr>
          <a:xfrm>
            <a:off x="1828800" y="3887640"/>
            <a:ext cx="735120" cy="479520"/>
            <a:chOff x="1828800" y="3887640"/>
            <a:chExt cx="735120" cy="479520"/>
          </a:xfrm>
        </p:grpSpPr>
        <p:grpSp>
          <p:nvGrpSpPr>
            <p:cNvPr id="1364" name=""/>
            <p:cNvGrpSpPr/>
            <p:nvPr/>
          </p:nvGrpSpPr>
          <p:grpSpPr>
            <a:xfrm>
              <a:off x="1829880" y="3949200"/>
              <a:ext cx="464040" cy="417960"/>
              <a:chOff x="1829880" y="3949200"/>
              <a:chExt cx="464040" cy="417960"/>
            </a:xfrm>
          </p:grpSpPr>
          <p:sp>
            <p:nvSpPr>
              <p:cNvPr id="1365" name=""/>
              <p:cNvSpPr/>
              <p:nvPr/>
            </p:nvSpPr>
            <p:spPr>
              <a:xfrm>
                <a:off x="1829880" y="3949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1829880" y="3949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67" name=""/>
            <p:cNvGrpSpPr/>
            <p:nvPr/>
          </p:nvGrpSpPr>
          <p:grpSpPr>
            <a:xfrm>
              <a:off x="2293920" y="3963600"/>
              <a:ext cx="267480" cy="403560"/>
              <a:chOff x="2293920" y="3963600"/>
              <a:chExt cx="267480" cy="403560"/>
            </a:xfrm>
          </p:grpSpPr>
          <p:sp>
            <p:nvSpPr>
              <p:cNvPr id="1368" name=""/>
              <p:cNvSpPr/>
              <p:nvPr/>
            </p:nvSpPr>
            <p:spPr>
              <a:xfrm>
                <a:off x="2293920" y="3963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2293920" y="3963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70" name=""/>
            <p:cNvGrpSpPr/>
            <p:nvPr/>
          </p:nvGrpSpPr>
          <p:grpSpPr>
            <a:xfrm>
              <a:off x="1828800" y="3887640"/>
              <a:ext cx="735120" cy="168120"/>
              <a:chOff x="1828800" y="3887640"/>
              <a:chExt cx="735120" cy="168120"/>
            </a:xfrm>
          </p:grpSpPr>
          <p:sp>
            <p:nvSpPr>
              <p:cNvPr id="1371" name=""/>
              <p:cNvSpPr/>
              <p:nvPr/>
            </p:nvSpPr>
            <p:spPr>
              <a:xfrm>
                <a:off x="1828800" y="3887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1828800" y="3887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3" name=""/>
            <p:cNvSpPr/>
            <p:nvPr/>
          </p:nvSpPr>
          <p:spPr>
            <a:xfrm>
              <a:off x="1857960" y="3987000"/>
              <a:ext cx="391680" cy="33804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857960" y="4077360"/>
              <a:ext cx="391680" cy="24768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857960" y="3987000"/>
              <a:ext cx="389520" cy="2206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76" name=""/>
            <p:cNvGrpSpPr/>
            <p:nvPr/>
          </p:nvGrpSpPr>
          <p:grpSpPr>
            <a:xfrm>
              <a:off x="1885320" y="4020120"/>
              <a:ext cx="191160" cy="81720"/>
              <a:chOff x="1885320" y="4020120"/>
              <a:chExt cx="191160" cy="81720"/>
            </a:xfrm>
          </p:grpSpPr>
          <p:sp>
            <p:nvSpPr>
              <p:cNvPr id="1377" name=""/>
              <p:cNvSpPr/>
              <p:nvPr/>
            </p:nvSpPr>
            <p:spPr>
              <a:xfrm>
                <a:off x="1885320" y="4020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1885320" y="4020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79" name=""/>
            <p:cNvGrpSpPr/>
            <p:nvPr/>
          </p:nvGrpSpPr>
          <p:grpSpPr>
            <a:xfrm>
              <a:off x="1883160" y="4107240"/>
              <a:ext cx="119520" cy="122040"/>
              <a:chOff x="1883160" y="4107240"/>
              <a:chExt cx="119520" cy="122040"/>
            </a:xfrm>
          </p:grpSpPr>
          <p:sp>
            <p:nvSpPr>
              <p:cNvPr id="1380" name=""/>
              <p:cNvSpPr/>
              <p:nvPr/>
            </p:nvSpPr>
            <p:spPr>
              <a:xfrm>
                <a:off x="1883160" y="4107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1883160" y="4107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2" name=""/>
          <p:cNvGrpSpPr/>
          <p:nvPr/>
        </p:nvGrpSpPr>
        <p:grpSpPr>
          <a:xfrm>
            <a:off x="434880" y="3436920"/>
            <a:ext cx="513000" cy="546120"/>
            <a:chOff x="434880" y="3436920"/>
            <a:chExt cx="513000" cy="546120"/>
          </a:xfrm>
        </p:grpSpPr>
        <p:grpSp>
          <p:nvGrpSpPr>
            <p:cNvPr id="1383" name=""/>
            <p:cNvGrpSpPr/>
            <p:nvPr/>
          </p:nvGrpSpPr>
          <p:grpSpPr>
            <a:xfrm>
              <a:off x="434880" y="3789360"/>
              <a:ext cx="176040" cy="193680"/>
              <a:chOff x="434880" y="3789360"/>
              <a:chExt cx="176040" cy="193680"/>
            </a:xfrm>
          </p:grpSpPr>
          <p:sp>
            <p:nvSpPr>
              <p:cNvPr id="1384" name=""/>
              <p:cNvSpPr/>
              <p:nvPr/>
            </p:nvSpPr>
            <p:spPr>
              <a:xfrm>
                <a:off x="434880" y="3789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34880" y="3789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86" name=""/>
            <p:cNvGrpSpPr/>
            <p:nvPr/>
          </p:nvGrpSpPr>
          <p:grpSpPr>
            <a:xfrm>
              <a:off x="434880" y="3717720"/>
              <a:ext cx="513000" cy="176400"/>
              <a:chOff x="434880" y="3717720"/>
              <a:chExt cx="513000" cy="176400"/>
            </a:xfrm>
          </p:grpSpPr>
          <p:sp>
            <p:nvSpPr>
              <p:cNvPr id="1387" name=""/>
              <p:cNvSpPr/>
              <p:nvPr/>
            </p:nvSpPr>
            <p:spPr>
              <a:xfrm>
                <a:off x="434880" y="371772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34880" y="371772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89" name=""/>
            <p:cNvGrpSpPr/>
            <p:nvPr/>
          </p:nvGrpSpPr>
          <p:grpSpPr>
            <a:xfrm>
              <a:off x="610920" y="3805920"/>
              <a:ext cx="336960" cy="176760"/>
              <a:chOff x="610920" y="3805920"/>
              <a:chExt cx="336960" cy="176760"/>
            </a:xfrm>
          </p:grpSpPr>
          <p:sp>
            <p:nvSpPr>
              <p:cNvPr id="1390" name=""/>
              <p:cNvSpPr/>
              <p:nvPr/>
            </p:nvSpPr>
            <p:spPr>
              <a:xfrm>
                <a:off x="610920" y="380592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10920" y="380592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92" name=""/>
            <p:cNvSpPr/>
            <p:nvPr/>
          </p:nvSpPr>
          <p:spPr>
            <a:xfrm>
              <a:off x="626760" y="388944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93" name=""/>
            <p:cNvGrpSpPr/>
            <p:nvPr/>
          </p:nvGrpSpPr>
          <p:grpSpPr>
            <a:xfrm>
              <a:off x="799920" y="3826800"/>
              <a:ext cx="131760" cy="89640"/>
              <a:chOff x="799920" y="3826800"/>
              <a:chExt cx="131760" cy="89640"/>
            </a:xfrm>
          </p:grpSpPr>
          <p:grpSp>
            <p:nvGrpSpPr>
              <p:cNvPr id="1394" name=""/>
              <p:cNvGrpSpPr/>
              <p:nvPr/>
            </p:nvGrpSpPr>
            <p:grpSpPr>
              <a:xfrm>
                <a:off x="799920" y="3826800"/>
                <a:ext cx="131760" cy="89640"/>
                <a:chOff x="799920" y="3826800"/>
                <a:chExt cx="131760" cy="89640"/>
              </a:xfrm>
            </p:grpSpPr>
            <p:sp>
              <p:nvSpPr>
                <p:cNvPr id="1395" name=""/>
                <p:cNvSpPr/>
                <p:nvPr/>
              </p:nvSpPr>
              <p:spPr>
                <a:xfrm>
                  <a:off x="799920" y="3826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799920" y="3826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7" name=""/>
              <p:cNvSpPr/>
              <p:nvPr/>
            </p:nvSpPr>
            <p:spPr>
              <a:xfrm flipH="1">
                <a:off x="799920" y="385776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846360" y="387396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846360" y="384768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00" name=""/>
            <p:cNvGrpSpPr/>
            <p:nvPr/>
          </p:nvGrpSpPr>
          <p:grpSpPr>
            <a:xfrm>
              <a:off x="455400" y="3436920"/>
              <a:ext cx="308880" cy="301680"/>
              <a:chOff x="455400" y="3436920"/>
              <a:chExt cx="308880" cy="301680"/>
            </a:xfrm>
          </p:grpSpPr>
          <p:sp>
            <p:nvSpPr>
              <p:cNvPr id="1401" name=""/>
              <p:cNvSpPr/>
              <p:nvPr/>
            </p:nvSpPr>
            <p:spPr>
              <a:xfrm>
                <a:off x="455400" y="343692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455400" y="343692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511200" y="3515760"/>
              <a:ext cx="100440" cy="331200"/>
              <a:chOff x="511200" y="3515760"/>
              <a:chExt cx="100440" cy="331200"/>
            </a:xfrm>
          </p:grpSpPr>
          <p:sp>
            <p:nvSpPr>
              <p:cNvPr id="1404" name=""/>
              <p:cNvSpPr/>
              <p:nvPr/>
            </p:nvSpPr>
            <p:spPr>
              <a:xfrm>
                <a:off x="511200" y="3515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11200" y="3515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06" name=""/>
            <p:cNvGrpSpPr/>
            <p:nvPr/>
          </p:nvGrpSpPr>
          <p:grpSpPr>
            <a:xfrm>
              <a:off x="511200" y="3447720"/>
              <a:ext cx="417600" cy="122400"/>
              <a:chOff x="511200" y="3447720"/>
              <a:chExt cx="417600" cy="122400"/>
            </a:xfrm>
          </p:grpSpPr>
          <p:sp>
            <p:nvSpPr>
              <p:cNvPr id="1407" name=""/>
              <p:cNvSpPr/>
              <p:nvPr/>
            </p:nvSpPr>
            <p:spPr>
              <a:xfrm>
                <a:off x="511200" y="344772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511200" y="344772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09" name=""/>
            <p:cNvGrpSpPr/>
            <p:nvPr/>
          </p:nvGrpSpPr>
          <p:grpSpPr>
            <a:xfrm>
              <a:off x="645840" y="3782160"/>
              <a:ext cx="220320" cy="66960"/>
              <a:chOff x="645840" y="3782160"/>
              <a:chExt cx="220320" cy="66960"/>
            </a:xfrm>
          </p:grpSpPr>
          <p:sp>
            <p:nvSpPr>
              <p:cNvPr id="1410" name=""/>
              <p:cNvSpPr/>
              <p:nvPr/>
            </p:nvSpPr>
            <p:spPr>
              <a:xfrm>
                <a:off x="645840" y="3782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45840" y="3782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12" name=""/>
            <p:cNvGrpSpPr/>
            <p:nvPr/>
          </p:nvGrpSpPr>
          <p:grpSpPr>
            <a:xfrm>
              <a:off x="612000" y="3494520"/>
              <a:ext cx="316800" cy="353160"/>
              <a:chOff x="612000" y="3494520"/>
              <a:chExt cx="316800" cy="353160"/>
            </a:xfrm>
          </p:grpSpPr>
          <p:sp>
            <p:nvSpPr>
              <p:cNvPr id="1413" name=""/>
              <p:cNvSpPr/>
              <p:nvPr/>
            </p:nvSpPr>
            <p:spPr>
              <a:xfrm>
                <a:off x="612000" y="349452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12000" y="349452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15" name=""/>
            <p:cNvGrpSpPr/>
            <p:nvPr/>
          </p:nvGrpSpPr>
          <p:grpSpPr>
            <a:xfrm>
              <a:off x="658080" y="3534480"/>
              <a:ext cx="230760" cy="257400"/>
              <a:chOff x="658080" y="3534480"/>
              <a:chExt cx="230760" cy="257400"/>
            </a:xfrm>
          </p:grpSpPr>
          <p:sp>
            <p:nvSpPr>
              <p:cNvPr id="1416" name=""/>
              <p:cNvSpPr/>
              <p:nvPr/>
            </p:nvSpPr>
            <p:spPr>
              <a:xfrm>
                <a:off x="658080" y="3534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58080" y="3534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18" name=""/>
            <p:cNvSpPr/>
            <p:nvPr/>
          </p:nvSpPr>
          <p:spPr>
            <a:xfrm>
              <a:off x="666720" y="3552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66720" y="3552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90480" y="360900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13160" y="359028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2" name=""/>
          <p:cNvGrpSpPr/>
          <p:nvPr/>
        </p:nvGrpSpPr>
        <p:grpSpPr>
          <a:xfrm>
            <a:off x="906480" y="2408400"/>
            <a:ext cx="511200" cy="545760"/>
            <a:chOff x="906480" y="2408400"/>
            <a:chExt cx="511200" cy="545760"/>
          </a:xfrm>
        </p:grpSpPr>
        <p:grpSp>
          <p:nvGrpSpPr>
            <p:cNvPr id="1423" name=""/>
            <p:cNvGrpSpPr/>
            <p:nvPr/>
          </p:nvGrpSpPr>
          <p:grpSpPr>
            <a:xfrm>
              <a:off x="906480" y="2760480"/>
              <a:ext cx="175320" cy="193320"/>
              <a:chOff x="906480" y="2760480"/>
              <a:chExt cx="175320" cy="193320"/>
            </a:xfrm>
          </p:grpSpPr>
          <p:sp>
            <p:nvSpPr>
              <p:cNvPr id="1424" name=""/>
              <p:cNvSpPr/>
              <p:nvPr/>
            </p:nvSpPr>
            <p:spPr>
              <a:xfrm>
                <a:off x="906480" y="2760480"/>
                <a:ext cx="175320" cy="19332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906480" y="2760480"/>
                <a:ext cx="175320" cy="19332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26" name=""/>
            <p:cNvGrpSpPr/>
            <p:nvPr/>
          </p:nvGrpSpPr>
          <p:grpSpPr>
            <a:xfrm>
              <a:off x="906480" y="2689200"/>
              <a:ext cx="511200" cy="176400"/>
              <a:chOff x="906480" y="2689200"/>
              <a:chExt cx="511200" cy="176400"/>
            </a:xfrm>
          </p:grpSpPr>
          <p:sp>
            <p:nvSpPr>
              <p:cNvPr id="1427" name=""/>
              <p:cNvSpPr/>
              <p:nvPr/>
            </p:nvSpPr>
            <p:spPr>
              <a:xfrm>
                <a:off x="906480" y="2689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906480" y="2689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29" name=""/>
            <p:cNvGrpSpPr/>
            <p:nvPr/>
          </p:nvGrpSpPr>
          <p:grpSpPr>
            <a:xfrm>
              <a:off x="1081800" y="2777400"/>
              <a:ext cx="335520" cy="176760"/>
              <a:chOff x="1081800" y="2777400"/>
              <a:chExt cx="335520" cy="176760"/>
            </a:xfrm>
          </p:grpSpPr>
          <p:sp>
            <p:nvSpPr>
              <p:cNvPr id="1430" name=""/>
              <p:cNvSpPr/>
              <p:nvPr/>
            </p:nvSpPr>
            <p:spPr>
              <a:xfrm>
                <a:off x="1081800" y="2777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1081800" y="2777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32" name=""/>
            <p:cNvSpPr/>
            <p:nvPr/>
          </p:nvSpPr>
          <p:spPr>
            <a:xfrm>
              <a:off x="1097640" y="2860560"/>
              <a:ext cx="6732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3" name=""/>
            <p:cNvGrpSpPr/>
            <p:nvPr/>
          </p:nvGrpSpPr>
          <p:grpSpPr>
            <a:xfrm>
              <a:off x="1269720" y="2797920"/>
              <a:ext cx="131760" cy="89640"/>
              <a:chOff x="1269720" y="2797920"/>
              <a:chExt cx="131760" cy="89640"/>
            </a:xfrm>
          </p:grpSpPr>
          <p:grpSp>
            <p:nvGrpSpPr>
              <p:cNvPr id="1434" name=""/>
              <p:cNvGrpSpPr/>
              <p:nvPr/>
            </p:nvGrpSpPr>
            <p:grpSpPr>
              <a:xfrm>
                <a:off x="1270080" y="2797920"/>
                <a:ext cx="131400" cy="89640"/>
                <a:chOff x="1270080" y="2797920"/>
                <a:chExt cx="131400" cy="8964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1270080" y="279792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1270080" y="279792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7" name=""/>
              <p:cNvSpPr/>
              <p:nvPr/>
            </p:nvSpPr>
            <p:spPr>
              <a:xfrm flipH="1">
                <a:off x="1269720" y="2828880"/>
                <a:ext cx="1314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1316160" y="2845080"/>
                <a:ext cx="4608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1316160" y="2818800"/>
                <a:ext cx="4608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40" name=""/>
            <p:cNvGrpSpPr/>
            <p:nvPr/>
          </p:nvGrpSpPr>
          <p:grpSpPr>
            <a:xfrm>
              <a:off x="927000" y="2408400"/>
              <a:ext cx="307800" cy="301320"/>
              <a:chOff x="927000" y="2408400"/>
              <a:chExt cx="307800" cy="301320"/>
            </a:xfrm>
          </p:grpSpPr>
          <p:sp>
            <p:nvSpPr>
              <p:cNvPr id="1441" name=""/>
              <p:cNvSpPr/>
              <p:nvPr/>
            </p:nvSpPr>
            <p:spPr>
              <a:xfrm>
                <a:off x="927000" y="2408400"/>
                <a:ext cx="307800" cy="30132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927000" y="2408400"/>
                <a:ext cx="307800" cy="30132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982440" y="2487240"/>
              <a:ext cx="100080" cy="330840"/>
              <a:chOff x="982440" y="2487240"/>
              <a:chExt cx="100080" cy="330840"/>
            </a:xfrm>
          </p:grpSpPr>
          <p:sp>
            <p:nvSpPr>
              <p:cNvPr id="1444" name=""/>
              <p:cNvSpPr/>
              <p:nvPr/>
            </p:nvSpPr>
            <p:spPr>
              <a:xfrm>
                <a:off x="982440" y="2487240"/>
                <a:ext cx="100080" cy="33084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982440" y="2487240"/>
                <a:ext cx="100080" cy="33084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46" name=""/>
            <p:cNvGrpSpPr/>
            <p:nvPr/>
          </p:nvGrpSpPr>
          <p:grpSpPr>
            <a:xfrm>
              <a:off x="982440" y="2419200"/>
              <a:ext cx="416160" cy="122400"/>
              <a:chOff x="982440" y="2419200"/>
              <a:chExt cx="416160" cy="122400"/>
            </a:xfrm>
          </p:grpSpPr>
          <p:sp>
            <p:nvSpPr>
              <p:cNvPr id="1447" name=""/>
              <p:cNvSpPr/>
              <p:nvPr/>
            </p:nvSpPr>
            <p:spPr>
              <a:xfrm>
                <a:off x="982440" y="2419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982440" y="2419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49" name=""/>
            <p:cNvGrpSpPr/>
            <p:nvPr/>
          </p:nvGrpSpPr>
          <p:grpSpPr>
            <a:xfrm>
              <a:off x="1116720" y="2753280"/>
              <a:ext cx="219600" cy="66600"/>
              <a:chOff x="1116720" y="2753280"/>
              <a:chExt cx="219600" cy="66600"/>
            </a:xfrm>
          </p:grpSpPr>
          <p:sp>
            <p:nvSpPr>
              <p:cNvPr id="1450" name=""/>
              <p:cNvSpPr/>
              <p:nvPr/>
            </p:nvSpPr>
            <p:spPr>
              <a:xfrm>
                <a:off x="1116720" y="2753280"/>
                <a:ext cx="219600" cy="6660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116720" y="2753280"/>
                <a:ext cx="219600" cy="6660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2" name=""/>
            <p:cNvGrpSpPr/>
            <p:nvPr/>
          </p:nvGrpSpPr>
          <p:grpSpPr>
            <a:xfrm>
              <a:off x="1082880" y="2466000"/>
              <a:ext cx="315720" cy="352800"/>
              <a:chOff x="1082880" y="2466000"/>
              <a:chExt cx="315720" cy="352800"/>
            </a:xfrm>
          </p:grpSpPr>
          <p:sp>
            <p:nvSpPr>
              <p:cNvPr id="1453" name=""/>
              <p:cNvSpPr/>
              <p:nvPr/>
            </p:nvSpPr>
            <p:spPr>
              <a:xfrm>
                <a:off x="1082880" y="2466000"/>
                <a:ext cx="315720" cy="35280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082880" y="2466000"/>
                <a:ext cx="315720" cy="35280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5" name=""/>
            <p:cNvGrpSpPr/>
            <p:nvPr/>
          </p:nvGrpSpPr>
          <p:grpSpPr>
            <a:xfrm>
              <a:off x="1128600" y="2505960"/>
              <a:ext cx="230040" cy="257040"/>
              <a:chOff x="1128600" y="2505960"/>
              <a:chExt cx="230040" cy="257040"/>
            </a:xfrm>
          </p:grpSpPr>
          <p:sp>
            <p:nvSpPr>
              <p:cNvPr id="1456" name=""/>
              <p:cNvSpPr/>
              <p:nvPr/>
            </p:nvSpPr>
            <p:spPr>
              <a:xfrm>
                <a:off x="1128600" y="2505960"/>
                <a:ext cx="230040" cy="2570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128600" y="2505960"/>
                <a:ext cx="230040" cy="2570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58" name=""/>
            <p:cNvSpPr/>
            <p:nvPr/>
          </p:nvSpPr>
          <p:spPr>
            <a:xfrm>
              <a:off x="1137600" y="2523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137600" y="2523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161000" y="258048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183680" y="2561760"/>
              <a:ext cx="1278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2" name=""/>
          <p:cNvSpPr/>
          <p:nvPr/>
        </p:nvSpPr>
        <p:spPr>
          <a:xfrm flipH="1" flipV="1">
            <a:off x="2421000" y="4287960"/>
            <a:ext cx="255600" cy="334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V="1">
            <a:off x="2846520" y="4176360"/>
            <a:ext cx="288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4" name=""/>
          <p:cNvGrpSpPr/>
          <p:nvPr/>
        </p:nvGrpSpPr>
        <p:grpSpPr>
          <a:xfrm>
            <a:off x="1219320" y="3219480"/>
            <a:ext cx="533160" cy="380880"/>
            <a:chOff x="1219320" y="3219480"/>
            <a:chExt cx="533160" cy="380880"/>
          </a:xfrm>
        </p:grpSpPr>
        <p:sp>
          <p:nvSpPr>
            <p:cNvPr id="1465" name=""/>
            <p:cNvSpPr/>
            <p:nvPr/>
          </p:nvSpPr>
          <p:spPr>
            <a:xfrm>
              <a:off x="1219320" y="3219480"/>
              <a:ext cx="533160" cy="380880"/>
            </a:xfrm>
            <a:prstGeom prst="rect">
              <a:avLst/>
            </a:prstGeom>
            <a:gradFill rotWithShape="0">
              <a:gsLst>
                <a:gs pos="0">
                  <a:srgbClr val="2f2f75"/>
                </a:gs>
                <a:gs pos="100000">
                  <a:srgbClr val="66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6" name=""/>
            <p:cNvGrpSpPr/>
            <p:nvPr/>
          </p:nvGrpSpPr>
          <p:grpSpPr>
            <a:xfrm>
              <a:off x="1289520" y="3293280"/>
              <a:ext cx="399240" cy="247680"/>
              <a:chOff x="1289520" y="3293280"/>
              <a:chExt cx="399240" cy="247680"/>
            </a:xfrm>
          </p:grpSpPr>
          <p:sp>
            <p:nvSpPr>
              <p:cNvPr id="1467" name=""/>
              <p:cNvSpPr/>
              <p:nvPr/>
            </p:nvSpPr>
            <p:spPr>
              <a:xfrm>
                <a:off x="1351800" y="3293280"/>
                <a:ext cx="27720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H="1">
                <a:off x="1344240" y="3293280"/>
                <a:ext cx="27648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613880" y="3297240"/>
                <a:ext cx="6912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622880" y="3538800"/>
                <a:ext cx="65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299240" y="3297240"/>
                <a:ext cx="63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1289520" y="3538800"/>
                <a:ext cx="64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3" name=""/>
          <p:cNvSpPr/>
          <p:nvPr/>
        </p:nvSpPr>
        <p:spPr>
          <a:xfrm flipV="1" rot="1331400">
            <a:off x="3021120" y="5072760"/>
            <a:ext cx="1084320" cy="329040"/>
          </a:xfrm>
          <a:custGeom>
            <a:avLst/>
            <a:gdLst/>
            <a:ahLst/>
            <a:rect l="l" t="t" r="r" b="b"/>
            <a:pathLst>
              <a:path w="656" h="197">
                <a:moveTo>
                  <a:pt x="0" y="196"/>
                </a:moveTo>
                <a:lnTo>
                  <a:pt x="401" y="145"/>
                </a:lnTo>
                <a:lnTo>
                  <a:pt x="312" y="71"/>
                </a:lnTo>
                <a:lnTo>
                  <a:pt x="655" y="0"/>
                </a:lnTo>
                <a:lnTo>
                  <a:pt x="254" y="52"/>
                </a:lnTo>
                <a:lnTo>
                  <a:pt x="346" y="129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3581280" y="4876920"/>
            <a:ext cx="2022120" cy="1428120"/>
            <a:chOff x="3581280" y="4876920"/>
            <a:chExt cx="2022120" cy="1428120"/>
          </a:xfrm>
        </p:grpSpPr>
        <p:grpSp>
          <p:nvGrpSpPr>
            <p:cNvPr id="1475" name=""/>
            <p:cNvGrpSpPr/>
            <p:nvPr/>
          </p:nvGrpSpPr>
          <p:grpSpPr>
            <a:xfrm>
              <a:off x="3581280" y="4876920"/>
              <a:ext cx="2022120" cy="1428120"/>
              <a:chOff x="3581280" y="4876920"/>
              <a:chExt cx="2022120" cy="1428120"/>
            </a:xfrm>
          </p:grpSpPr>
          <p:grpSp>
            <p:nvGrpSpPr>
              <p:cNvPr id="1476" name=""/>
              <p:cNvGrpSpPr/>
              <p:nvPr/>
            </p:nvGrpSpPr>
            <p:grpSpPr>
              <a:xfrm>
                <a:off x="4774680" y="5004720"/>
                <a:ext cx="828720" cy="1228680"/>
                <a:chOff x="4774680" y="5004720"/>
                <a:chExt cx="828720" cy="1228680"/>
              </a:xfrm>
            </p:grpSpPr>
            <p:grpSp>
              <p:nvGrpSpPr>
                <p:cNvPr id="1477" name=""/>
                <p:cNvGrpSpPr/>
                <p:nvPr/>
              </p:nvGrpSpPr>
              <p:grpSpPr>
                <a:xfrm>
                  <a:off x="5099040" y="5004720"/>
                  <a:ext cx="504360" cy="987840"/>
                  <a:chOff x="5099040" y="5004720"/>
                  <a:chExt cx="504360" cy="987840"/>
                </a:xfrm>
              </p:grpSpPr>
              <p:grpSp>
                <p:nvGrpSpPr>
                  <p:cNvPr id="1478" name=""/>
                  <p:cNvGrpSpPr/>
                  <p:nvPr/>
                </p:nvGrpSpPr>
                <p:grpSpPr>
                  <a:xfrm>
                    <a:off x="5236200" y="5142240"/>
                    <a:ext cx="367200" cy="712800"/>
                    <a:chOff x="5236200" y="5142240"/>
                    <a:chExt cx="367200" cy="712800"/>
                  </a:xfrm>
                </p:grpSpPr>
                <p:grpSp>
                  <p:nvGrpSpPr>
                    <p:cNvPr id="1479" name=""/>
                    <p:cNvGrpSpPr/>
                    <p:nvPr/>
                  </p:nvGrpSpPr>
                  <p:grpSpPr>
                    <a:xfrm>
                      <a:off x="5236200" y="5142240"/>
                      <a:ext cx="367200" cy="712800"/>
                      <a:chOff x="5236200" y="5142240"/>
                      <a:chExt cx="367200" cy="712800"/>
                    </a:xfrm>
                  </p:grpSpPr>
                  <p:grpSp>
                    <p:nvGrpSpPr>
                      <p:cNvPr id="1480" name=""/>
                      <p:cNvGrpSpPr/>
                      <p:nvPr/>
                    </p:nvGrpSpPr>
                    <p:grpSpPr>
                      <a:xfrm>
                        <a:off x="5333400" y="5187960"/>
                        <a:ext cx="270000" cy="579600"/>
                        <a:chOff x="5333400" y="5187960"/>
                        <a:chExt cx="270000" cy="579600"/>
                      </a:xfrm>
                    </p:grpSpPr>
                    <p:grpSp>
                      <p:nvGrpSpPr>
                        <p:cNvPr id="1481" name=""/>
                        <p:cNvGrpSpPr/>
                        <p:nvPr/>
                      </p:nvGrpSpPr>
                      <p:grpSpPr>
                        <a:xfrm>
                          <a:off x="5366520" y="5187960"/>
                          <a:ext cx="236880" cy="579600"/>
                          <a:chOff x="5366520" y="5187960"/>
                          <a:chExt cx="236880" cy="579600"/>
                        </a:xfrm>
                      </p:grpSpPr>
                      <p:sp>
                        <p:nvSpPr>
                          <p:cNvPr id="1482" name=""/>
                          <p:cNvSpPr/>
                          <p:nvPr/>
                        </p:nvSpPr>
                        <p:spPr>
                          <a:xfrm>
                            <a:off x="5500080" y="5540040"/>
                            <a:ext cx="103320" cy="13896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83" name=""/>
                          <p:cNvSpPr/>
                          <p:nvPr/>
                        </p:nvSpPr>
                        <p:spPr>
                          <a:xfrm>
                            <a:off x="5396400" y="5584680"/>
                            <a:ext cx="137880" cy="18288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84" name=""/>
                          <p:cNvSpPr/>
                          <p:nvPr/>
                        </p:nvSpPr>
                        <p:spPr>
                          <a:xfrm>
                            <a:off x="5465520" y="5317560"/>
                            <a:ext cx="104760" cy="13896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85" name=""/>
                          <p:cNvSpPr/>
                          <p:nvPr/>
                        </p:nvSpPr>
                        <p:spPr>
                          <a:xfrm>
                            <a:off x="5366520" y="5187960"/>
                            <a:ext cx="137880" cy="18288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86" name=""/>
                          <p:cNvSpPr/>
                          <p:nvPr/>
                        </p:nvSpPr>
                        <p:spPr>
                          <a:xfrm>
                            <a:off x="5465520" y="5317560"/>
                            <a:ext cx="93960" cy="326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0" h="207">
                                <a:moveTo>
                                  <a:pt x="59" y="206"/>
                                </a:moveTo>
                                <a:lnTo>
                                  <a:pt x="34" y="206"/>
                                </a:lnTo>
                                <a:lnTo>
                                  <a:pt x="0" y="0"/>
                                </a:lnTo>
                                <a:lnTo>
                                  <a:pt x="35" y="17"/>
                                </a:lnTo>
                                <a:lnTo>
                                  <a:pt x="36" y="116"/>
                                </a:lnTo>
                                <a:lnTo>
                                  <a:pt x="59" y="206"/>
                                </a:lnTo>
                              </a:path>
                            </a:pathLst>
                          </a:custGeom>
                          <a:solidFill>
                            <a:srgbClr val="00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487" name=""/>
                        <p:cNvSpPr/>
                        <p:nvPr/>
                      </p:nvSpPr>
                      <p:spPr>
                        <a:xfrm>
                          <a:off x="5333400" y="5362920"/>
                          <a:ext cx="201240" cy="273240"/>
                        </a:xfrm>
                        <a:prstGeom prst="ellipse">
                          <a:avLst/>
                        </a:prstGeom>
                        <a:solidFill>
                          <a:srgbClr val="00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88" name=""/>
                        <p:cNvSpPr/>
                        <p:nvPr/>
                      </p:nvSpPr>
                      <p:spPr>
                        <a:xfrm>
                          <a:off x="5333400" y="5540040"/>
                          <a:ext cx="135360" cy="184680"/>
                        </a:xfrm>
                        <a:prstGeom prst="ellipse">
                          <a:avLst/>
                        </a:prstGeom>
                        <a:solidFill>
                          <a:srgbClr val="00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489" name=""/>
                        <p:cNvSpPr/>
                        <p:nvPr/>
                      </p:nvSpPr>
                      <p:spPr>
                        <a:xfrm>
                          <a:off x="5377320" y="5284080"/>
                          <a:ext cx="103680" cy="348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6" h="221">
                              <a:moveTo>
                                <a:pt x="58" y="36"/>
                              </a:moveTo>
                              <a:lnTo>
                                <a:pt x="50" y="83"/>
                              </a:lnTo>
                              <a:lnTo>
                                <a:pt x="65" y="190"/>
                              </a:lnTo>
                              <a:lnTo>
                                <a:pt x="38" y="220"/>
                              </a:lnTo>
                              <a:lnTo>
                                <a:pt x="0" y="93"/>
                              </a:lnTo>
                              <a:lnTo>
                                <a:pt x="31" y="0"/>
                              </a:lnTo>
                              <a:lnTo>
                                <a:pt x="58" y="36"/>
                              </a:lnTo>
                            </a:path>
                          </a:pathLst>
                        </a:custGeom>
                        <a:solidFill>
                          <a:srgbClr val="00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490" name=""/>
                      <p:cNvSpPr/>
                      <p:nvPr/>
                    </p:nvSpPr>
                    <p:spPr>
                      <a:xfrm>
                        <a:off x="5333400" y="5717520"/>
                        <a:ext cx="104040" cy="13752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1" name=""/>
                      <p:cNvSpPr/>
                      <p:nvPr/>
                    </p:nvSpPr>
                    <p:spPr>
                      <a:xfrm>
                        <a:off x="5236200" y="5142240"/>
                        <a:ext cx="135000" cy="18324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2" name=""/>
                      <p:cNvSpPr/>
                      <p:nvPr/>
                    </p:nvSpPr>
                    <p:spPr>
                      <a:xfrm>
                        <a:off x="5367960" y="5681160"/>
                        <a:ext cx="72360" cy="50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32">
                            <a:moveTo>
                              <a:pt x="45" y="18"/>
                            </a:moveTo>
                            <a:lnTo>
                              <a:pt x="32" y="31"/>
                            </a:lnTo>
                            <a:lnTo>
                              <a:pt x="0" y="14"/>
                            </a:lnTo>
                            <a:lnTo>
                              <a:pt x="32" y="0"/>
                            </a:lnTo>
                            <a:lnTo>
                              <a:pt x="45" y="18"/>
                            </a:lnTo>
                          </a:path>
                        </a:pathLst>
                      </a:custGeom>
                      <a:solidFill>
                        <a:srgbClr val="00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" bIns="3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493" name=""/>
                    <p:cNvSpPr/>
                    <p:nvPr/>
                  </p:nvSpPr>
                  <p:spPr>
                    <a:xfrm>
                      <a:off x="5357520" y="5239800"/>
                      <a:ext cx="31320" cy="10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64">
                          <a:moveTo>
                            <a:pt x="9" y="0"/>
                          </a:moveTo>
                          <a:lnTo>
                            <a:pt x="19" y="0"/>
                          </a:lnTo>
                          <a:lnTo>
                            <a:pt x="15" y="63"/>
                          </a:lnTo>
                          <a:lnTo>
                            <a:pt x="0" y="5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4" name=""/>
                  <p:cNvGrpSpPr/>
                  <p:nvPr/>
                </p:nvGrpSpPr>
                <p:grpSpPr>
                  <a:xfrm>
                    <a:off x="5099040" y="5004720"/>
                    <a:ext cx="338400" cy="894600"/>
                    <a:chOff x="5099040" y="5004720"/>
                    <a:chExt cx="338400" cy="894600"/>
                  </a:xfrm>
                </p:grpSpPr>
                <p:sp>
                  <p:nvSpPr>
                    <p:cNvPr id="1495" name=""/>
                    <p:cNvSpPr/>
                    <p:nvPr/>
                  </p:nvSpPr>
                  <p:spPr>
                    <a:xfrm>
                      <a:off x="5130720" y="5540760"/>
                      <a:ext cx="272160" cy="35856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6" name=""/>
                    <p:cNvSpPr/>
                    <p:nvPr/>
                  </p:nvSpPr>
                  <p:spPr>
                    <a:xfrm>
                      <a:off x="5165280" y="5273280"/>
                      <a:ext cx="272160" cy="36324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7" name=""/>
                    <p:cNvSpPr/>
                    <p:nvPr/>
                  </p:nvSpPr>
                  <p:spPr>
                    <a:xfrm>
                      <a:off x="5099040" y="5004720"/>
                      <a:ext cx="204840" cy="27792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8" name=""/>
                    <p:cNvSpPr/>
                    <p:nvPr/>
                  </p:nvSpPr>
                  <p:spPr>
                    <a:xfrm>
                      <a:off x="5235840" y="5187960"/>
                      <a:ext cx="100440" cy="13752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9" name=""/>
                    <p:cNvSpPr/>
                    <p:nvPr/>
                  </p:nvSpPr>
                  <p:spPr>
                    <a:xfrm>
                      <a:off x="5165280" y="5148720"/>
                      <a:ext cx="180720" cy="32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203">
                          <a:moveTo>
                            <a:pt x="80" y="8"/>
                          </a:moveTo>
                          <a:lnTo>
                            <a:pt x="79" y="35"/>
                          </a:lnTo>
                          <a:lnTo>
                            <a:pt x="106" y="78"/>
                          </a:lnTo>
                          <a:lnTo>
                            <a:pt x="114" y="82"/>
                          </a:lnTo>
                          <a:lnTo>
                            <a:pt x="73" y="202"/>
                          </a:lnTo>
                          <a:lnTo>
                            <a:pt x="0" y="0"/>
                          </a:lnTo>
                          <a:lnTo>
                            <a:pt x="80" y="8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0" name=""/>
                    <p:cNvSpPr/>
                    <p:nvPr/>
                  </p:nvSpPr>
                  <p:spPr>
                    <a:xfrm>
                      <a:off x="5258160" y="5615280"/>
                      <a:ext cx="113040" cy="7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46">
                          <a:moveTo>
                            <a:pt x="62" y="6"/>
                          </a:moveTo>
                          <a:lnTo>
                            <a:pt x="71" y="21"/>
                          </a:lnTo>
                          <a:lnTo>
                            <a:pt x="0" y="45"/>
                          </a:lnTo>
                          <a:lnTo>
                            <a:pt x="1" y="0"/>
                          </a:lnTo>
                          <a:lnTo>
                            <a:pt x="62" y="6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01" name=""/>
                  <p:cNvSpPr/>
                  <p:nvPr/>
                </p:nvSpPr>
                <p:spPr>
                  <a:xfrm>
                    <a:off x="5099040" y="5808240"/>
                    <a:ext cx="141480" cy="18432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2" name=""/>
                  <p:cNvSpPr/>
                  <p:nvPr/>
                </p:nvSpPr>
                <p:spPr>
                  <a:xfrm>
                    <a:off x="5199840" y="5784120"/>
                    <a:ext cx="7236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8">
                        <a:moveTo>
                          <a:pt x="17" y="57"/>
                        </a:moveTo>
                        <a:lnTo>
                          <a:pt x="45" y="38"/>
                        </a:lnTo>
                        <a:lnTo>
                          <a:pt x="13" y="0"/>
                        </a:lnTo>
                        <a:lnTo>
                          <a:pt x="0" y="19"/>
                        </a:lnTo>
                        <a:lnTo>
                          <a:pt x="17" y="57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03" name=""/>
                <p:cNvSpPr/>
                <p:nvPr/>
              </p:nvSpPr>
              <p:spPr>
                <a:xfrm>
                  <a:off x="4774680" y="6005880"/>
                  <a:ext cx="169920" cy="2275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4935240" y="6005880"/>
                  <a:ext cx="136800" cy="18648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5026680" y="5936400"/>
                  <a:ext cx="136800" cy="18648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4890960" y="5899680"/>
                  <a:ext cx="303840" cy="265680"/>
                </a:xfrm>
                <a:custGeom>
                  <a:avLst/>
                  <a:gdLst/>
                  <a:ahLst/>
                  <a:rect l="l" t="t" r="r" b="b"/>
                  <a:pathLst>
                    <a:path w="193" h="168">
                      <a:moveTo>
                        <a:pt x="177" y="48"/>
                      </a:moveTo>
                      <a:lnTo>
                        <a:pt x="161" y="59"/>
                      </a:lnTo>
                      <a:lnTo>
                        <a:pt x="109" y="128"/>
                      </a:lnTo>
                      <a:lnTo>
                        <a:pt x="97" y="156"/>
                      </a:lnTo>
                      <a:lnTo>
                        <a:pt x="40" y="156"/>
                      </a:lnTo>
                      <a:lnTo>
                        <a:pt x="28" y="167"/>
                      </a:lnTo>
                      <a:lnTo>
                        <a:pt x="0" y="118"/>
                      </a:lnTo>
                      <a:lnTo>
                        <a:pt x="128" y="0"/>
                      </a:lnTo>
                      <a:lnTo>
                        <a:pt x="192" y="28"/>
                      </a:lnTo>
                      <a:lnTo>
                        <a:pt x="177" y="48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7" name=""/>
              <p:cNvGrpSpPr/>
              <p:nvPr/>
            </p:nvGrpSpPr>
            <p:grpSpPr>
              <a:xfrm>
                <a:off x="3581280" y="5019120"/>
                <a:ext cx="487800" cy="836280"/>
                <a:chOff x="3581280" y="5019120"/>
                <a:chExt cx="487800" cy="836280"/>
              </a:xfrm>
            </p:grpSpPr>
            <p:grpSp>
              <p:nvGrpSpPr>
                <p:cNvPr id="1508" name=""/>
                <p:cNvGrpSpPr/>
                <p:nvPr/>
              </p:nvGrpSpPr>
              <p:grpSpPr>
                <a:xfrm>
                  <a:off x="3581280" y="5142240"/>
                  <a:ext cx="254520" cy="494280"/>
                  <a:chOff x="3581280" y="5142240"/>
                  <a:chExt cx="254520" cy="494280"/>
                </a:xfrm>
              </p:grpSpPr>
              <p:sp>
                <p:nvSpPr>
                  <p:cNvPr id="1509" name=""/>
                  <p:cNvSpPr/>
                  <p:nvPr/>
                </p:nvSpPr>
                <p:spPr>
                  <a:xfrm>
                    <a:off x="3581280" y="5317560"/>
                    <a:ext cx="103680" cy="1389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>
                    <a:off x="3600000" y="5455080"/>
                    <a:ext cx="136440" cy="18144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1" name=""/>
                  <p:cNvSpPr/>
                  <p:nvPr/>
                </p:nvSpPr>
                <p:spPr>
                  <a:xfrm>
                    <a:off x="3634560" y="5142240"/>
                    <a:ext cx="201240" cy="27324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3615840" y="5339520"/>
                    <a:ext cx="7056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90">
                        <a:moveTo>
                          <a:pt x="25" y="0"/>
                        </a:moveTo>
                        <a:lnTo>
                          <a:pt x="0" y="18"/>
                        </a:lnTo>
                        <a:lnTo>
                          <a:pt x="1" y="71"/>
                        </a:lnTo>
                        <a:lnTo>
                          <a:pt x="10" y="89"/>
                        </a:lnTo>
                        <a:lnTo>
                          <a:pt x="44" y="71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3" name=""/>
                <p:cNvGrpSpPr/>
                <p:nvPr/>
              </p:nvGrpSpPr>
              <p:grpSpPr>
                <a:xfrm>
                  <a:off x="3666240" y="5019120"/>
                  <a:ext cx="402840" cy="836280"/>
                  <a:chOff x="3666240" y="5019120"/>
                  <a:chExt cx="402840" cy="836280"/>
                </a:xfrm>
              </p:grpSpPr>
              <p:sp>
                <p:nvSpPr>
                  <p:cNvPr id="1514" name=""/>
                  <p:cNvSpPr/>
                  <p:nvPr/>
                </p:nvSpPr>
                <p:spPr>
                  <a:xfrm>
                    <a:off x="3803040" y="5049000"/>
                    <a:ext cx="266040" cy="36684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5" name=""/>
                  <p:cNvSpPr/>
                  <p:nvPr/>
                </p:nvSpPr>
                <p:spPr>
                  <a:xfrm>
                    <a:off x="3666240" y="5317920"/>
                    <a:ext cx="136800" cy="1846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6" name=""/>
                  <p:cNvSpPr/>
                  <p:nvPr/>
                </p:nvSpPr>
                <p:spPr>
                  <a:xfrm>
                    <a:off x="3699360" y="5455440"/>
                    <a:ext cx="207720" cy="2703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7" name=""/>
                  <p:cNvSpPr/>
                  <p:nvPr/>
                </p:nvSpPr>
                <p:spPr>
                  <a:xfrm>
                    <a:off x="3768480" y="5585040"/>
                    <a:ext cx="204480" cy="2703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3785760" y="5235480"/>
                    <a:ext cx="176400" cy="23220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3947760" y="5019120"/>
                    <a:ext cx="108720" cy="1342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3845520" y="5186880"/>
                    <a:ext cx="12420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71">
                        <a:moveTo>
                          <a:pt x="0" y="19"/>
                        </a:moveTo>
                        <a:lnTo>
                          <a:pt x="10" y="53"/>
                        </a:lnTo>
                        <a:lnTo>
                          <a:pt x="78" y="70"/>
                        </a:lnTo>
                        <a:lnTo>
                          <a:pt x="78" y="24"/>
                        </a:lnTo>
                        <a:lnTo>
                          <a:pt x="3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>
                    <a:off x="3710160" y="5411160"/>
                    <a:ext cx="147960" cy="2466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56">
                        <a:moveTo>
                          <a:pt x="58" y="0"/>
                        </a:moveTo>
                        <a:lnTo>
                          <a:pt x="0" y="39"/>
                        </a:lnTo>
                        <a:lnTo>
                          <a:pt x="23" y="70"/>
                        </a:lnTo>
                        <a:lnTo>
                          <a:pt x="27" y="146"/>
                        </a:lnTo>
                        <a:lnTo>
                          <a:pt x="42" y="155"/>
                        </a:lnTo>
                        <a:lnTo>
                          <a:pt x="90" y="107"/>
                        </a:lnTo>
                        <a:lnTo>
                          <a:pt x="93" y="16"/>
                        </a:lnTo>
                        <a:lnTo>
                          <a:pt x="58" y="0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2" name=""/>
                <p:cNvSpPr/>
                <p:nvPr/>
              </p:nvSpPr>
              <p:spPr>
                <a:xfrm>
                  <a:off x="3938760" y="5107680"/>
                  <a:ext cx="73800" cy="105480"/>
                </a:xfrm>
                <a:custGeom>
                  <a:avLst/>
                  <a:gdLst/>
                  <a:ahLst/>
                  <a:rect l="l" t="t" r="r" b="b"/>
                  <a:pathLst>
                    <a:path w="47" h="67">
                      <a:moveTo>
                        <a:pt x="0" y="36"/>
                      </a:moveTo>
                      <a:lnTo>
                        <a:pt x="18" y="0"/>
                      </a:lnTo>
                      <a:lnTo>
                        <a:pt x="46" y="36"/>
                      </a:lnTo>
                      <a:lnTo>
                        <a:pt x="24" y="66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3" name=""/>
              <p:cNvGrpSpPr/>
              <p:nvPr/>
            </p:nvGrpSpPr>
            <p:grpSpPr>
              <a:xfrm>
                <a:off x="3831840" y="4876920"/>
                <a:ext cx="1472040" cy="1428120"/>
                <a:chOff x="3831840" y="4876920"/>
                <a:chExt cx="1472040" cy="1428120"/>
              </a:xfrm>
            </p:grpSpPr>
            <p:sp>
              <p:nvSpPr>
                <p:cNvPr id="1524" name=""/>
                <p:cNvSpPr/>
                <p:nvPr/>
              </p:nvSpPr>
              <p:spPr>
                <a:xfrm>
                  <a:off x="4299840" y="4919400"/>
                  <a:ext cx="336960" cy="45216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4597560" y="4876920"/>
                  <a:ext cx="275760" cy="36216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4863960" y="5274000"/>
                  <a:ext cx="439920" cy="5821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4001760" y="5541120"/>
                  <a:ext cx="499680" cy="6739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4735080" y="5631480"/>
                  <a:ext cx="370080" cy="4932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3867840" y="5677560"/>
                  <a:ext cx="271080" cy="3571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3831840" y="5364000"/>
                  <a:ext cx="270720" cy="36216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3963960" y="5004720"/>
                  <a:ext cx="443160" cy="5886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4367520" y="5718240"/>
                  <a:ext cx="438120" cy="5868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4935240" y="5049360"/>
                  <a:ext cx="332280" cy="4536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4832640" y="4876920"/>
                  <a:ext cx="307080" cy="40644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3949920" y="4987440"/>
                  <a:ext cx="1279440" cy="1132200"/>
                </a:xfrm>
                <a:custGeom>
                  <a:avLst/>
                  <a:gdLst/>
                  <a:ahLst/>
                  <a:rect l="l" t="t" r="r" b="b"/>
                  <a:pathLst>
                    <a:path w="812" h="716">
                      <a:moveTo>
                        <a:pt x="249" y="71"/>
                      </a:moveTo>
                      <a:lnTo>
                        <a:pt x="284" y="20"/>
                      </a:lnTo>
                      <a:lnTo>
                        <a:pt x="435" y="23"/>
                      </a:lnTo>
                      <a:lnTo>
                        <a:pt x="542" y="0"/>
                      </a:lnTo>
                      <a:lnTo>
                        <a:pt x="676" y="85"/>
                      </a:lnTo>
                      <a:lnTo>
                        <a:pt x="746" y="62"/>
                      </a:lnTo>
                      <a:lnTo>
                        <a:pt x="782" y="71"/>
                      </a:lnTo>
                      <a:lnTo>
                        <a:pt x="789" y="283"/>
                      </a:lnTo>
                      <a:lnTo>
                        <a:pt x="811" y="318"/>
                      </a:lnTo>
                      <a:lnTo>
                        <a:pt x="747" y="482"/>
                      </a:lnTo>
                      <a:lnTo>
                        <a:pt x="680" y="369"/>
                      </a:lnTo>
                      <a:lnTo>
                        <a:pt x="661" y="429"/>
                      </a:lnTo>
                      <a:lnTo>
                        <a:pt x="566" y="652"/>
                      </a:lnTo>
                      <a:lnTo>
                        <a:pt x="244" y="715"/>
                      </a:lnTo>
                      <a:lnTo>
                        <a:pt x="79" y="671"/>
                      </a:lnTo>
                      <a:lnTo>
                        <a:pt x="27" y="530"/>
                      </a:lnTo>
                      <a:lnTo>
                        <a:pt x="27" y="387"/>
                      </a:lnTo>
                      <a:lnTo>
                        <a:pt x="0" y="268"/>
                      </a:lnTo>
                      <a:lnTo>
                        <a:pt x="249" y="71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36" name=""/>
            <p:cNvGrpSpPr/>
            <p:nvPr/>
          </p:nvGrpSpPr>
          <p:grpSpPr>
            <a:xfrm>
              <a:off x="3899520" y="5065200"/>
              <a:ext cx="1265760" cy="864720"/>
              <a:chOff x="3899520" y="5065200"/>
              <a:chExt cx="1265760" cy="864720"/>
            </a:xfrm>
          </p:grpSpPr>
          <p:sp>
            <p:nvSpPr>
              <p:cNvPr id="1537" name=""/>
              <p:cNvSpPr/>
              <p:nvPr/>
            </p:nvSpPr>
            <p:spPr>
              <a:xfrm>
                <a:off x="3899520" y="5065200"/>
                <a:ext cx="1265760" cy="53748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899520" y="5393880"/>
                <a:ext cx="1233720" cy="536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9" name=""/>
          <p:cNvGrpSpPr/>
          <p:nvPr/>
        </p:nvGrpSpPr>
        <p:grpSpPr>
          <a:xfrm>
            <a:off x="5029200" y="5257800"/>
            <a:ext cx="511200" cy="330120"/>
            <a:chOff x="5029200" y="5257800"/>
            <a:chExt cx="511200" cy="330120"/>
          </a:xfrm>
        </p:grpSpPr>
        <p:grpSp>
          <p:nvGrpSpPr>
            <p:cNvPr id="1540" name=""/>
            <p:cNvGrpSpPr/>
            <p:nvPr/>
          </p:nvGrpSpPr>
          <p:grpSpPr>
            <a:xfrm>
              <a:off x="5029920" y="5300280"/>
              <a:ext cx="322560" cy="287640"/>
              <a:chOff x="5029920" y="5300280"/>
              <a:chExt cx="322560" cy="287640"/>
            </a:xfrm>
          </p:grpSpPr>
          <p:sp>
            <p:nvSpPr>
              <p:cNvPr id="1541" name=""/>
              <p:cNvSpPr/>
              <p:nvPr/>
            </p:nvSpPr>
            <p:spPr>
              <a:xfrm>
                <a:off x="5029920" y="53002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029920" y="53002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43" name=""/>
            <p:cNvGrpSpPr/>
            <p:nvPr/>
          </p:nvGrpSpPr>
          <p:grpSpPr>
            <a:xfrm>
              <a:off x="5352480" y="5310000"/>
              <a:ext cx="186120" cy="277920"/>
              <a:chOff x="5352480" y="5310000"/>
              <a:chExt cx="186120" cy="277920"/>
            </a:xfrm>
          </p:grpSpPr>
          <p:sp>
            <p:nvSpPr>
              <p:cNvPr id="1544" name=""/>
              <p:cNvSpPr/>
              <p:nvPr/>
            </p:nvSpPr>
            <p:spPr>
              <a:xfrm>
                <a:off x="5352480" y="53100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352480" y="53100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46" name=""/>
            <p:cNvGrpSpPr/>
            <p:nvPr/>
          </p:nvGrpSpPr>
          <p:grpSpPr>
            <a:xfrm>
              <a:off x="5029200" y="5257800"/>
              <a:ext cx="511200" cy="115920"/>
              <a:chOff x="5029200" y="5257800"/>
              <a:chExt cx="511200" cy="115920"/>
            </a:xfrm>
          </p:grpSpPr>
          <p:sp>
            <p:nvSpPr>
              <p:cNvPr id="1547" name=""/>
              <p:cNvSpPr/>
              <p:nvPr/>
            </p:nvSpPr>
            <p:spPr>
              <a:xfrm>
                <a:off x="5029200" y="52578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029200" y="52578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49" name=""/>
            <p:cNvSpPr/>
            <p:nvPr/>
          </p:nvSpPr>
          <p:spPr>
            <a:xfrm>
              <a:off x="5049360" y="532620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049360" y="538812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049360" y="532620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52" name=""/>
            <p:cNvGrpSpPr/>
            <p:nvPr/>
          </p:nvGrpSpPr>
          <p:grpSpPr>
            <a:xfrm>
              <a:off x="5068440" y="5348880"/>
              <a:ext cx="132840" cy="56160"/>
              <a:chOff x="5068440" y="5348880"/>
              <a:chExt cx="132840" cy="56160"/>
            </a:xfrm>
          </p:grpSpPr>
          <p:sp>
            <p:nvSpPr>
              <p:cNvPr id="1553" name=""/>
              <p:cNvSpPr/>
              <p:nvPr/>
            </p:nvSpPr>
            <p:spPr>
              <a:xfrm>
                <a:off x="5068440" y="53488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068440" y="53488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55" name=""/>
            <p:cNvGrpSpPr/>
            <p:nvPr/>
          </p:nvGrpSpPr>
          <p:grpSpPr>
            <a:xfrm>
              <a:off x="5067000" y="5409000"/>
              <a:ext cx="83160" cy="83880"/>
              <a:chOff x="5067000" y="5409000"/>
              <a:chExt cx="83160" cy="83880"/>
            </a:xfrm>
          </p:grpSpPr>
          <p:sp>
            <p:nvSpPr>
              <p:cNvPr id="1556" name=""/>
              <p:cNvSpPr/>
              <p:nvPr/>
            </p:nvSpPr>
            <p:spPr>
              <a:xfrm>
                <a:off x="5067000" y="54090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067000" y="54090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8" name=""/>
          <p:cNvGrpSpPr/>
          <p:nvPr/>
        </p:nvGrpSpPr>
        <p:grpSpPr>
          <a:xfrm>
            <a:off x="3962520" y="5562720"/>
            <a:ext cx="507960" cy="330120"/>
            <a:chOff x="3962520" y="5562720"/>
            <a:chExt cx="507960" cy="330120"/>
          </a:xfrm>
        </p:grpSpPr>
        <p:grpSp>
          <p:nvGrpSpPr>
            <p:cNvPr id="1559" name=""/>
            <p:cNvGrpSpPr/>
            <p:nvPr/>
          </p:nvGrpSpPr>
          <p:grpSpPr>
            <a:xfrm>
              <a:off x="3963240" y="5605200"/>
              <a:ext cx="320400" cy="287640"/>
              <a:chOff x="3963240" y="5605200"/>
              <a:chExt cx="320400" cy="287640"/>
            </a:xfrm>
          </p:grpSpPr>
          <p:sp>
            <p:nvSpPr>
              <p:cNvPr id="1560" name=""/>
              <p:cNvSpPr/>
              <p:nvPr/>
            </p:nvSpPr>
            <p:spPr>
              <a:xfrm>
                <a:off x="3963240" y="5605200"/>
                <a:ext cx="32040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963240" y="5605200"/>
                <a:ext cx="32040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62" name=""/>
            <p:cNvGrpSpPr/>
            <p:nvPr/>
          </p:nvGrpSpPr>
          <p:grpSpPr>
            <a:xfrm>
              <a:off x="4284000" y="5614920"/>
              <a:ext cx="184680" cy="277920"/>
              <a:chOff x="4284000" y="5614920"/>
              <a:chExt cx="184680" cy="277920"/>
            </a:xfrm>
          </p:grpSpPr>
          <p:sp>
            <p:nvSpPr>
              <p:cNvPr id="1563" name=""/>
              <p:cNvSpPr/>
              <p:nvPr/>
            </p:nvSpPr>
            <p:spPr>
              <a:xfrm>
                <a:off x="4284000" y="5614920"/>
                <a:ext cx="18468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284000" y="5614920"/>
                <a:ext cx="18468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65" name=""/>
            <p:cNvGrpSpPr/>
            <p:nvPr/>
          </p:nvGrpSpPr>
          <p:grpSpPr>
            <a:xfrm>
              <a:off x="3962520" y="5562720"/>
              <a:ext cx="507960" cy="115920"/>
              <a:chOff x="3962520" y="5562720"/>
              <a:chExt cx="507960" cy="115920"/>
            </a:xfrm>
          </p:grpSpPr>
          <p:sp>
            <p:nvSpPr>
              <p:cNvPr id="1566" name=""/>
              <p:cNvSpPr/>
              <p:nvPr/>
            </p:nvSpPr>
            <p:spPr>
              <a:xfrm>
                <a:off x="3962520" y="556272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962520" y="556272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68" name=""/>
            <p:cNvSpPr/>
            <p:nvPr/>
          </p:nvSpPr>
          <p:spPr>
            <a:xfrm>
              <a:off x="3982680" y="5631120"/>
              <a:ext cx="2707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982680" y="5693040"/>
              <a:ext cx="2707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982680" y="5631120"/>
              <a:ext cx="2692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71" name=""/>
            <p:cNvGrpSpPr/>
            <p:nvPr/>
          </p:nvGrpSpPr>
          <p:grpSpPr>
            <a:xfrm>
              <a:off x="4001400" y="5653800"/>
              <a:ext cx="132120" cy="56160"/>
              <a:chOff x="4001400" y="5653800"/>
              <a:chExt cx="132120" cy="56160"/>
            </a:xfrm>
          </p:grpSpPr>
          <p:sp>
            <p:nvSpPr>
              <p:cNvPr id="1572" name=""/>
              <p:cNvSpPr/>
              <p:nvPr/>
            </p:nvSpPr>
            <p:spPr>
              <a:xfrm>
                <a:off x="4001400" y="565380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4001400" y="565380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4" name=""/>
            <p:cNvGrpSpPr/>
            <p:nvPr/>
          </p:nvGrpSpPr>
          <p:grpSpPr>
            <a:xfrm>
              <a:off x="3999960" y="5713920"/>
              <a:ext cx="82440" cy="83880"/>
              <a:chOff x="3999960" y="5713920"/>
              <a:chExt cx="82440" cy="83880"/>
            </a:xfrm>
          </p:grpSpPr>
          <p:sp>
            <p:nvSpPr>
              <p:cNvPr id="1575" name=""/>
              <p:cNvSpPr/>
              <p:nvPr/>
            </p:nvSpPr>
            <p:spPr>
              <a:xfrm>
                <a:off x="3999960" y="5713920"/>
                <a:ext cx="8244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999960" y="5713920"/>
                <a:ext cx="8244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7" name=""/>
          <p:cNvGrpSpPr/>
          <p:nvPr/>
        </p:nvGrpSpPr>
        <p:grpSpPr>
          <a:xfrm>
            <a:off x="4267080" y="5181480"/>
            <a:ext cx="511200" cy="330480"/>
            <a:chOff x="4267080" y="5181480"/>
            <a:chExt cx="511200" cy="330480"/>
          </a:xfrm>
        </p:grpSpPr>
        <p:grpSp>
          <p:nvGrpSpPr>
            <p:cNvPr id="1578" name=""/>
            <p:cNvGrpSpPr/>
            <p:nvPr/>
          </p:nvGrpSpPr>
          <p:grpSpPr>
            <a:xfrm>
              <a:off x="4267800" y="5223960"/>
              <a:ext cx="322560" cy="288000"/>
              <a:chOff x="4267800" y="5223960"/>
              <a:chExt cx="322560" cy="288000"/>
            </a:xfrm>
          </p:grpSpPr>
          <p:sp>
            <p:nvSpPr>
              <p:cNvPr id="1579" name=""/>
              <p:cNvSpPr/>
              <p:nvPr/>
            </p:nvSpPr>
            <p:spPr>
              <a:xfrm>
                <a:off x="4267800" y="5223960"/>
                <a:ext cx="32256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4267800" y="5223960"/>
                <a:ext cx="32256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1" name=""/>
            <p:cNvGrpSpPr/>
            <p:nvPr/>
          </p:nvGrpSpPr>
          <p:grpSpPr>
            <a:xfrm>
              <a:off x="4590360" y="5233680"/>
              <a:ext cx="186120" cy="278280"/>
              <a:chOff x="4590360" y="5233680"/>
              <a:chExt cx="186120" cy="278280"/>
            </a:xfrm>
          </p:grpSpPr>
          <p:sp>
            <p:nvSpPr>
              <p:cNvPr id="1582" name=""/>
              <p:cNvSpPr/>
              <p:nvPr/>
            </p:nvSpPr>
            <p:spPr>
              <a:xfrm>
                <a:off x="4590360" y="5233680"/>
                <a:ext cx="18612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4590360" y="5233680"/>
                <a:ext cx="18612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4" name=""/>
            <p:cNvGrpSpPr/>
            <p:nvPr/>
          </p:nvGrpSpPr>
          <p:grpSpPr>
            <a:xfrm>
              <a:off x="4267080" y="5181480"/>
              <a:ext cx="511200" cy="115920"/>
              <a:chOff x="4267080" y="5181480"/>
              <a:chExt cx="511200" cy="115920"/>
            </a:xfrm>
          </p:grpSpPr>
          <p:sp>
            <p:nvSpPr>
              <p:cNvPr id="1585" name=""/>
              <p:cNvSpPr/>
              <p:nvPr/>
            </p:nvSpPr>
            <p:spPr>
              <a:xfrm>
                <a:off x="4267080" y="518148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4267080" y="518148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87" name=""/>
            <p:cNvSpPr/>
            <p:nvPr/>
          </p:nvSpPr>
          <p:spPr>
            <a:xfrm>
              <a:off x="4287240" y="5249880"/>
              <a:ext cx="272520" cy="2329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287240" y="531216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287240" y="5249880"/>
              <a:ext cx="271080" cy="1522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90" name=""/>
            <p:cNvGrpSpPr/>
            <p:nvPr/>
          </p:nvGrpSpPr>
          <p:grpSpPr>
            <a:xfrm>
              <a:off x="4306320" y="5272560"/>
              <a:ext cx="132840" cy="56160"/>
              <a:chOff x="4306320" y="5272560"/>
              <a:chExt cx="132840" cy="56160"/>
            </a:xfrm>
          </p:grpSpPr>
          <p:sp>
            <p:nvSpPr>
              <p:cNvPr id="1591" name=""/>
              <p:cNvSpPr/>
              <p:nvPr/>
            </p:nvSpPr>
            <p:spPr>
              <a:xfrm>
                <a:off x="4306320" y="527256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4306320" y="527256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93" name=""/>
            <p:cNvGrpSpPr/>
            <p:nvPr/>
          </p:nvGrpSpPr>
          <p:grpSpPr>
            <a:xfrm>
              <a:off x="4304880" y="5332680"/>
              <a:ext cx="83160" cy="84240"/>
              <a:chOff x="4304880" y="5332680"/>
              <a:chExt cx="83160" cy="84240"/>
            </a:xfrm>
          </p:grpSpPr>
          <p:sp>
            <p:nvSpPr>
              <p:cNvPr id="1594" name=""/>
              <p:cNvSpPr/>
              <p:nvPr/>
            </p:nvSpPr>
            <p:spPr>
              <a:xfrm>
                <a:off x="4304880" y="5332680"/>
                <a:ext cx="8316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4304880" y="5332680"/>
                <a:ext cx="8316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96" name=""/>
          <p:cNvGrpSpPr/>
          <p:nvPr/>
        </p:nvGrpSpPr>
        <p:grpSpPr>
          <a:xfrm>
            <a:off x="2438280" y="4492800"/>
            <a:ext cx="990720" cy="631800"/>
            <a:chOff x="2438280" y="4492800"/>
            <a:chExt cx="990720" cy="631800"/>
          </a:xfrm>
        </p:grpSpPr>
        <p:grpSp>
          <p:nvGrpSpPr>
            <p:cNvPr id="1597" name=""/>
            <p:cNvGrpSpPr/>
            <p:nvPr/>
          </p:nvGrpSpPr>
          <p:grpSpPr>
            <a:xfrm>
              <a:off x="2439720" y="4574160"/>
              <a:ext cx="624960" cy="550440"/>
              <a:chOff x="2439720" y="4574160"/>
              <a:chExt cx="624960" cy="550440"/>
            </a:xfrm>
          </p:grpSpPr>
          <p:sp>
            <p:nvSpPr>
              <p:cNvPr id="1598" name=""/>
              <p:cNvSpPr/>
              <p:nvPr/>
            </p:nvSpPr>
            <p:spPr>
              <a:xfrm>
                <a:off x="2439720" y="4574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2439720" y="4574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0" name=""/>
            <p:cNvGrpSpPr/>
            <p:nvPr/>
          </p:nvGrpSpPr>
          <p:grpSpPr>
            <a:xfrm>
              <a:off x="3065040" y="4592880"/>
              <a:ext cx="360360" cy="531720"/>
              <a:chOff x="3065040" y="4592880"/>
              <a:chExt cx="360360" cy="531720"/>
            </a:xfrm>
          </p:grpSpPr>
          <p:sp>
            <p:nvSpPr>
              <p:cNvPr id="1601" name=""/>
              <p:cNvSpPr/>
              <p:nvPr/>
            </p:nvSpPr>
            <p:spPr>
              <a:xfrm>
                <a:off x="3065040" y="4592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065040" y="4592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03" name=""/>
            <p:cNvGrpSpPr/>
            <p:nvPr/>
          </p:nvGrpSpPr>
          <p:grpSpPr>
            <a:xfrm>
              <a:off x="2438280" y="4492800"/>
              <a:ext cx="990720" cy="221760"/>
              <a:chOff x="2438280" y="4492800"/>
              <a:chExt cx="990720" cy="221760"/>
            </a:xfrm>
          </p:grpSpPr>
          <p:sp>
            <p:nvSpPr>
              <p:cNvPr id="1604" name=""/>
              <p:cNvSpPr/>
              <p:nvPr/>
            </p:nvSpPr>
            <p:spPr>
              <a:xfrm>
                <a:off x="2438280" y="4492800"/>
                <a:ext cx="99072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2438280" y="4492800"/>
                <a:ext cx="99072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06" name=""/>
            <p:cNvSpPr/>
            <p:nvPr/>
          </p:nvSpPr>
          <p:spPr>
            <a:xfrm>
              <a:off x="2477520" y="4623840"/>
              <a:ext cx="527760" cy="4453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477520" y="4742640"/>
              <a:ext cx="527760" cy="32616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477520" y="4623840"/>
              <a:ext cx="525240" cy="2908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09" name=""/>
            <p:cNvGrpSpPr/>
            <p:nvPr/>
          </p:nvGrpSpPr>
          <p:grpSpPr>
            <a:xfrm>
              <a:off x="2514240" y="4667040"/>
              <a:ext cx="257760" cy="107640"/>
              <a:chOff x="2514240" y="4667040"/>
              <a:chExt cx="257760" cy="107640"/>
            </a:xfrm>
          </p:grpSpPr>
          <p:sp>
            <p:nvSpPr>
              <p:cNvPr id="1610" name=""/>
              <p:cNvSpPr/>
              <p:nvPr/>
            </p:nvSpPr>
            <p:spPr>
              <a:xfrm>
                <a:off x="2514240" y="4667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2514240" y="4667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2511720" y="4781880"/>
              <a:ext cx="161280" cy="160920"/>
              <a:chOff x="2511720" y="4781880"/>
              <a:chExt cx="161280" cy="160920"/>
            </a:xfrm>
          </p:grpSpPr>
          <p:sp>
            <p:nvSpPr>
              <p:cNvPr id="1613" name=""/>
              <p:cNvSpPr/>
              <p:nvPr/>
            </p:nvSpPr>
            <p:spPr>
              <a:xfrm>
                <a:off x="2511720" y="4781880"/>
                <a:ext cx="16128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2511720" y="4781880"/>
                <a:ext cx="16128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15" name=""/>
          <p:cNvGrpSpPr/>
          <p:nvPr/>
        </p:nvGrpSpPr>
        <p:grpSpPr>
          <a:xfrm>
            <a:off x="3581280" y="5257800"/>
            <a:ext cx="511200" cy="330120"/>
            <a:chOff x="3581280" y="5257800"/>
            <a:chExt cx="511200" cy="330120"/>
          </a:xfrm>
        </p:grpSpPr>
        <p:grpSp>
          <p:nvGrpSpPr>
            <p:cNvPr id="1616" name=""/>
            <p:cNvGrpSpPr/>
            <p:nvPr/>
          </p:nvGrpSpPr>
          <p:grpSpPr>
            <a:xfrm>
              <a:off x="3582000" y="5300280"/>
              <a:ext cx="322560" cy="287640"/>
              <a:chOff x="3582000" y="5300280"/>
              <a:chExt cx="322560" cy="287640"/>
            </a:xfrm>
          </p:grpSpPr>
          <p:sp>
            <p:nvSpPr>
              <p:cNvPr id="1617" name=""/>
              <p:cNvSpPr/>
              <p:nvPr/>
            </p:nvSpPr>
            <p:spPr>
              <a:xfrm>
                <a:off x="3582000" y="53002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82000" y="53002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9" name=""/>
            <p:cNvGrpSpPr/>
            <p:nvPr/>
          </p:nvGrpSpPr>
          <p:grpSpPr>
            <a:xfrm>
              <a:off x="3904560" y="5310000"/>
              <a:ext cx="186120" cy="277920"/>
              <a:chOff x="3904560" y="5310000"/>
              <a:chExt cx="186120" cy="277920"/>
            </a:xfrm>
          </p:grpSpPr>
          <p:sp>
            <p:nvSpPr>
              <p:cNvPr id="1620" name=""/>
              <p:cNvSpPr/>
              <p:nvPr/>
            </p:nvSpPr>
            <p:spPr>
              <a:xfrm>
                <a:off x="3904560" y="53100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904560" y="53100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22" name=""/>
            <p:cNvGrpSpPr/>
            <p:nvPr/>
          </p:nvGrpSpPr>
          <p:grpSpPr>
            <a:xfrm>
              <a:off x="3581280" y="5257800"/>
              <a:ext cx="511200" cy="115920"/>
              <a:chOff x="3581280" y="5257800"/>
              <a:chExt cx="511200" cy="115920"/>
            </a:xfrm>
          </p:grpSpPr>
          <p:sp>
            <p:nvSpPr>
              <p:cNvPr id="1623" name=""/>
              <p:cNvSpPr/>
              <p:nvPr/>
            </p:nvSpPr>
            <p:spPr>
              <a:xfrm>
                <a:off x="3581280" y="52578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3581280" y="52578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25" name=""/>
            <p:cNvSpPr/>
            <p:nvPr/>
          </p:nvSpPr>
          <p:spPr>
            <a:xfrm>
              <a:off x="3601440" y="532620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601440" y="538812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601440" y="532620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28" name=""/>
            <p:cNvGrpSpPr/>
            <p:nvPr/>
          </p:nvGrpSpPr>
          <p:grpSpPr>
            <a:xfrm>
              <a:off x="3620520" y="5348880"/>
              <a:ext cx="132840" cy="56160"/>
              <a:chOff x="3620520" y="5348880"/>
              <a:chExt cx="132840" cy="56160"/>
            </a:xfrm>
          </p:grpSpPr>
          <p:sp>
            <p:nvSpPr>
              <p:cNvPr id="1629" name=""/>
              <p:cNvSpPr/>
              <p:nvPr/>
            </p:nvSpPr>
            <p:spPr>
              <a:xfrm>
                <a:off x="3620520" y="53488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620520" y="53488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1" name=""/>
            <p:cNvGrpSpPr/>
            <p:nvPr/>
          </p:nvGrpSpPr>
          <p:grpSpPr>
            <a:xfrm>
              <a:off x="3619080" y="5409000"/>
              <a:ext cx="83160" cy="83880"/>
              <a:chOff x="3619080" y="5409000"/>
              <a:chExt cx="83160" cy="83880"/>
            </a:xfrm>
          </p:grpSpPr>
          <p:sp>
            <p:nvSpPr>
              <p:cNvPr id="1632" name=""/>
              <p:cNvSpPr/>
              <p:nvPr/>
            </p:nvSpPr>
            <p:spPr>
              <a:xfrm>
                <a:off x="3619080" y="54090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619080" y="54090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4" name=""/>
          <p:cNvGrpSpPr/>
          <p:nvPr/>
        </p:nvGrpSpPr>
        <p:grpSpPr>
          <a:xfrm>
            <a:off x="4648320" y="5562720"/>
            <a:ext cx="511200" cy="330120"/>
            <a:chOff x="4648320" y="5562720"/>
            <a:chExt cx="511200" cy="330120"/>
          </a:xfrm>
        </p:grpSpPr>
        <p:grpSp>
          <p:nvGrpSpPr>
            <p:cNvPr id="1635" name=""/>
            <p:cNvGrpSpPr/>
            <p:nvPr/>
          </p:nvGrpSpPr>
          <p:grpSpPr>
            <a:xfrm>
              <a:off x="4649040" y="5605200"/>
              <a:ext cx="322560" cy="287640"/>
              <a:chOff x="4649040" y="5605200"/>
              <a:chExt cx="322560" cy="287640"/>
            </a:xfrm>
          </p:grpSpPr>
          <p:sp>
            <p:nvSpPr>
              <p:cNvPr id="1636" name=""/>
              <p:cNvSpPr/>
              <p:nvPr/>
            </p:nvSpPr>
            <p:spPr>
              <a:xfrm>
                <a:off x="4649040" y="56052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4649040" y="56052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8" name=""/>
            <p:cNvGrpSpPr/>
            <p:nvPr/>
          </p:nvGrpSpPr>
          <p:grpSpPr>
            <a:xfrm>
              <a:off x="4971600" y="5614920"/>
              <a:ext cx="186120" cy="277920"/>
              <a:chOff x="4971600" y="5614920"/>
              <a:chExt cx="186120" cy="277920"/>
            </a:xfrm>
          </p:grpSpPr>
          <p:sp>
            <p:nvSpPr>
              <p:cNvPr id="1639" name=""/>
              <p:cNvSpPr/>
              <p:nvPr/>
            </p:nvSpPr>
            <p:spPr>
              <a:xfrm>
                <a:off x="4971600" y="56149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4971600" y="56149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41" name=""/>
            <p:cNvGrpSpPr/>
            <p:nvPr/>
          </p:nvGrpSpPr>
          <p:grpSpPr>
            <a:xfrm>
              <a:off x="4648320" y="5562720"/>
              <a:ext cx="511200" cy="115920"/>
              <a:chOff x="4648320" y="5562720"/>
              <a:chExt cx="511200" cy="115920"/>
            </a:xfrm>
          </p:grpSpPr>
          <p:sp>
            <p:nvSpPr>
              <p:cNvPr id="1642" name=""/>
              <p:cNvSpPr/>
              <p:nvPr/>
            </p:nvSpPr>
            <p:spPr>
              <a:xfrm>
                <a:off x="4648320" y="55627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4648320" y="55627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44" name=""/>
            <p:cNvSpPr/>
            <p:nvPr/>
          </p:nvSpPr>
          <p:spPr>
            <a:xfrm>
              <a:off x="4668480" y="563112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668480" y="569304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668480" y="563112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47" name=""/>
            <p:cNvGrpSpPr/>
            <p:nvPr/>
          </p:nvGrpSpPr>
          <p:grpSpPr>
            <a:xfrm>
              <a:off x="4687560" y="5653800"/>
              <a:ext cx="132840" cy="56160"/>
              <a:chOff x="4687560" y="5653800"/>
              <a:chExt cx="132840" cy="56160"/>
            </a:xfrm>
          </p:grpSpPr>
          <p:sp>
            <p:nvSpPr>
              <p:cNvPr id="1648" name=""/>
              <p:cNvSpPr/>
              <p:nvPr/>
            </p:nvSpPr>
            <p:spPr>
              <a:xfrm>
                <a:off x="4687560" y="56538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4687560" y="56538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50" name=""/>
            <p:cNvGrpSpPr/>
            <p:nvPr/>
          </p:nvGrpSpPr>
          <p:grpSpPr>
            <a:xfrm>
              <a:off x="4686120" y="5713920"/>
              <a:ext cx="83160" cy="83880"/>
              <a:chOff x="4686120" y="5713920"/>
              <a:chExt cx="83160" cy="83880"/>
            </a:xfrm>
          </p:grpSpPr>
          <p:sp>
            <p:nvSpPr>
              <p:cNvPr id="1651" name=""/>
              <p:cNvSpPr/>
              <p:nvPr/>
            </p:nvSpPr>
            <p:spPr>
              <a:xfrm>
                <a:off x="4686120" y="57139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4686120" y="57139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53" name=""/>
          <p:cNvSpPr/>
          <p:nvPr/>
        </p:nvSpPr>
        <p:spPr>
          <a:xfrm flipH="1" flipV="1">
            <a:off x="6019920" y="4250880"/>
            <a:ext cx="218880" cy="352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 flipV="1">
            <a:off x="7837560" y="2684520"/>
            <a:ext cx="274680" cy="511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 flipV="1">
            <a:off x="7966080" y="3115800"/>
            <a:ext cx="415800" cy="187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940520" y="3425760"/>
            <a:ext cx="490680" cy="214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 flipV="1">
            <a:off x="7238880" y="3580920"/>
            <a:ext cx="255600" cy="335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 flipH="1" flipV="1">
            <a:off x="7043400" y="349704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 flipV="1">
            <a:off x="6721200" y="3582720"/>
            <a:ext cx="127080" cy="36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0" name=""/>
          <p:cNvGrpSpPr/>
          <p:nvPr/>
        </p:nvGrpSpPr>
        <p:grpSpPr>
          <a:xfrm>
            <a:off x="6656400" y="3860640"/>
            <a:ext cx="735120" cy="479520"/>
            <a:chOff x="6656400" y="3860640"/>
            <a:chExt cx="735120" cy="479520"/>
          </a:xfrm>
        </p:grpSpPr>
        <p:grpSp>
          <p:nvGrpSpPr>
            <p:cNvPr id="1661" name=""/>
            <p:cNvGrpSpPr/>
            <p:nvPr/>
          </p:nvGrpSpPr>
          <p:grpSpPr>
            <a:xfrm>
              <a:off x="6926400" y="3922200"/>
              <a:ext cx="464040" cy="417960"/>
              <a:chOff x="6926400" y="3922200"/>
              <a:chExt cx="464040" cy="417960"/>
            </a:xfrm>
          </p:grpSpPr>
          <p:sp>
            <p:nvSpPr>
              <p:cNvPr id="1662" name=""/>
              <p:cNvSpPr/>
              <p:nvPr/>
            </p:nvSpPr>
            <p:spPr>
              <a:xfrm flipH="1">
                <a:off x="6926040" y="3922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 flipH="1">
                <a:off x="6926040" y="3922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64" name=""/>
            <p:cNvGrpSpPr/>
            <p:nvPr/>
          </p:nvGrpSpPr>
          <p:grpSpPr>
            <a:xfrm>
              <a:off x="6658920" y="3936600"/>
              <a:ext cx="267480" cy="403560"/>
              <a:chOff x="6658920" y="3936600"/>
              <a:chExt cx="267480" cy="403560"/>
            </a:xfrm>
          </p:grpSpPr>
          <p:sp>
            <p:nvSpPr>
              <p:cNvPr id="1665" name=""/>
              <p:cNvSpPr/>
              <p:nvPr/>
            </p:nvSpPr>
            <p:spPr>
              <a:xfrm flipH="1">
                <a:off x="6658560" y="3936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flipH="1">
                <a:off x="6658560" y="3936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67" name=""/>
            <p:cNvGrpSpPr/>
            <p:nvPr/>
          </p:nvGrpSpPr>
          <p:grpSpPr>
            <a:xfrm>
              <a:off x="6656400" y="3860640"/>
              <a:ext cx="735120" cy="168120"/>
              <a:chOff x="6656400" y="3860640"/>
              <a:chExt cx="735120" cy="168120"/>
            </a:xfrm>
          </p:grpSpPr>
          <p:sp>
            <p:nvSpPr>
              <p:cNvPr id="1668" name=""/>
              <p:cNvSpPr/>
              <p:nvPr/>
            </p:nvSpPr>
            <p:spPr>
              <a:xfrm flipH="1">
                <a:off x="6656400" y="3860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H="1">
                <a:off x="6656400" y="3860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0" name=""/>
            <p:cNvSpPr/>
            <p:nvPr/>
          </p:nvSpPr>
          <p:spPr>
            <a:xfrm flipH="1">
              <a:off x="6970680" y="3960000"/>
              <a:ext cx="391680" cy="33804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6970680" y="4050360"/>
              <a:ext cx="391680" cy="24768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H="1">
              <a:off x="6972840" y="3960000"/>
              <a:ext cx="389520" cy="2206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73" name=""/>
            <p:cNvGrpSpPr/>
            <p:nvPr/>
          </p:nvGrpSpPr>
          <p:grpSpPr>
            <a:xfrm>
              <a:off x="7143840" y="3993120"/>
              <a:ext cx="191160" cy="81720"/>
              <a:chOff x="7143840" y="3993120"/>
              <a:chExt cx="191160" cy="81720"/>
            </a:xfrm>
          </p:grpSpPr>
          <p:sp>
            <p:nvSpPr>
              <p:cNvPr id="1674" name=""/>
              <p:cNvSpPr/>
              <p:nvPr/>
            </p:nvSpPr>
            <p:spPr>
              <a:xfrm flipH="1">
                <a:off x="7143480" y="3993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flipH="1">
                <a:off x="7143480" y="3993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76" name=""/>
            <p:cNvGrpSpPr/>
            <p:nvPr/>
          </p:nvGrpSpPr>
          <p:grpSpPr>
            <a:xfrm>
              <a:off x="7217640" y="4080240"/>
              <a:ext cx="119520" cy="122040"/>
              <a:chOff x="7217640" y="4080240"/>
              <a:chExt cx="119520" cy="122040"/>
            </a:xfrm>
          </p:grpSpPr>
          <p:sp>
            <p:nvSpPr>
              <p:cNvPr id="1677" name=""/>
              <p:cNvSpPr/>
              <p:nvPr/>
            </p:nvSpPr>
            <p:spPr>
              <a:xfrm flipH="1">
                <a:off x="7217640" y="4080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H="1">
                <a:off x="7217640" y="4080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9" name=""/>
          <p:cNvGrpSpPr/>
          <p:nvPr/>
        </p:nvGrpSpPr>
        <p:grpSpPr>
          <a:xfrm>
            <a:off x="8272440" y="3409920"/>
            <a:ext cx="512640" cy="546120"/>
            <a:chOff x="8272440" y="3409920"/>
            <a:chExt cx="512640" cy="546120"/>
          </a:xfrm>
        </p:grpSpPr>
        <p:grpSp>
          <p:nvGrpSpPr>
            <p:cNvPr id="1680" name=""/>
            <p:cNvGrpSpPr/>
            <p:nvPr/>
          </p:nvGrpSpPr>
          <p:grpSpPr>
            <a:xfrm>
              <a:off x="8609040" y="3762360"/>
              <a:ext cx="176040" cy="193680"/>
              <a:chOff x="8609040" y="3762360"/>
              <a:chExt cx="176040" cy="193680"/>
            </a:xfrm>
          </p:grpSpPr>
          <p:sp>
            <p:nvSpPr>
              <p:cNvPr id="1681" name=""/>
              <p:cNvSpPr/>
              <p:nvPr/>
            </p:nvSpPr>
            <p:spPr>
              <a:xfrm flipH="1">
                <a:off x="8608680" y="3762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H="1">
                <a:off x="8608680" y="3762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83" name=""/>
            <p:cNvGrpSpPr/>
            <p:nvPr/>
          </p:nvGrpSpPr>
          <p:grpSpPr>
            <a:xfrm>
              <a:off x="8272440" y="3690720"/>
              <a:ext cx="512640" cy="176400"/>
              <a:chOff x="8272440" y="3690720"/>
              <a:chExt cx="512640" cy="176400"/>
            </a:xfrm>
          </p:grpSpPr>
          <p:sp>
            <p:nvSpPr>
              <p:cNvPr id="1684" name=""/>
              <p:cNvSpPr/>
              <p:nvPr/>
            </p:nvSpPr>
            <p:spPr>
              <a:xfrm flipH="1">
                <a:off x="8272440" y="369072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flipH="1">
                <a:off x="8272440" y="369072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86" name=""/>
            <p:cNvGrpSpPr/>
            <p:nvPr/>
          </p:nvGrpSpPr>
          <p:grpSpPr>
            <a:xfrm>
              <a:off x="8272440" y="3778920"/>
              <a:ext cx="336600" cy="176760"/>
              <a:chOff x="8272440" y="3778920"/>
              <a:chExt cx="336600" cy="176760"/>
            </a:xfrm>
          </p:grpSpPr>
          <p:sp>
            <p:nvSpPr>
              <p:cNvPr id="1687" name=""/>
              <p:cNvSpPr/>
              <p:nvPr/>
            </p:nvSpPr>
            <p:spPr>
              <a:xfrm flipH="1">
                <a:off x="8272080" y="377892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H="1">
                <a:off x="8272080" y="377892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89" name=""/>
            <p:cNvSpPr/>
            <p:nvPr/>
          </p:nvSpPr>
          <p:spPr>
            <a:xfrm flipH="1">
              <a:off x="8525520" y="386244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90" name=""/>
            <p:cNvGrpSpPr/>
            <p:nvPr/>
          </p:nvGrpSpPr>
          <p:grpSpPr>
            <a:xfrm>
              <a:off x="8288640" y="3799800"/>
              <a:ext cx="131760" cy="89640"/>
              <a:chOff x="8288640" y="3799800"/>
              <a:chExt cx="131760" cy="89640"/>
            </a:xfrm>
          </p:grpSpPr>
          <p:grpSp>
            <p:nvGrpSpPr>
              <p:cNvPr id="1691" name=""/>
              <p:cNvGrpSpPr/>
              <p:nvPr/>
            </p:nvGrpSpPr>
            <p:grpSpPr>
              <a:xfrm>
                <a:off x="8288640" y="3799800"/>
                <a:ext cx="131760" cy="89640"/>
                <a:chOff x="8288640" y="3799800"/>
                <a:chExt cx="131760" cy="89640"/>
              </a:xfrm>
            </p:grpSpPr>
            <p:sp>
              <p:nvSpPr>
                <p:cNvPr id="1692" name=""/>
                <p:cNvSpPr/>
                <p:nvPr/>
              </p:nvSpPr>
              <p:spPr>
                <a:xfrm flipH="1">
                  <a:off x="8288640" y="3799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 flipH="1">
                  <a:off x="8288640" y="3799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4" name=""/>
              <p:cNvSpPr/>
              <p:nvPr/>
            </p:nvSpPr>
            <p:spPr>
              <a:xfrm>
                <a:off x="8288640" y="383076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H="1">
                <a:off x="8327160" y="384696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H="1">
                <a:off x="8327160" y="382068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8456040" y="3409920"/>
              <a:ext cx="308520" cy="301680"/>
              <a:chOff x="8456040" y="3409920"/>
              <a:chExt cx="308520" cy="301680"/>
            </a:xfrm>
          </p:grpSpPr>
          <p:sp>
            <p:nvSpPr>
              <p:cNvPr id="1698" name=""/>
              <p:cNvSpPr/>
              <p:nvPr/>
            </p:nvSpPr>
            <p:spPr>
              <a:xfrm flipH="1">
                <a:off x="8455680" y="340992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H="1">
                <a:off x="8455680" y="340992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00" name=""/>
            <p:cNvGrpSpPr/>
            <p:nvPr/>
          </p:nvGrpSpPr>
          <p:grpSpPr>
            <a:xfrm>
              <a:off x="8608320" y="3488760"/>
              <a:ext cx="100440" cy="331200"/>
              <a:chOff x="8608320" y="3488760"/>
              <a:chExt cx="100440" cy="331200"/>
            </a:xfrm>
          </p:grpSpPr>
          <p:sp>
            <p:nvSpPr>
              <p:cNvPr id="1701" name=""/>
              <p:cNvSpPr/>
              <p:nvPr/>
            </p:nvSpPr>
            <p:spPr>
              <a:xfrm flipH="1">
                <a:off x="8607960" y="3488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H="1">
                <a:off x="8607960" y="3488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03" name=""/>
            <p:cNvGrpSpPr/>
            <p:nvPr/>
          </p:nvGrpSpPr>
          <p:grpSpPr>
            <a:xfrm>
              <a:off x="8291520" y="3420720"/>
              <a:ext cx="417240" cy="122400"/>
              <a:chOff x="8291520" y="3420720"/>
              <a:chExt cx="417240" cy="122400"/>
            </a:xfrm>
          </p:grpSpPr>
          <p:sp>
            <p:nvSpPr>
              <p:cNvPr id="1704" name=""/>
              <p:cNvSpPr/>
              <p:nvPr/>
            </p:nvSpPr>
            <p:spPr>
              <a:xfrm flipH="1">
                <a:off x="8291160" y="342072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H="1">
                <a:off x="8291160" y="342072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06" name=""/>
            <p:cNvGrpSpPr/>
            <p:nvPr/>
          </p:nvGrpSpPr>
          <p:grpSpPr>
            <a:xfrm>
              <a:off x="8353800" y="3755160"/>
              <a:ext cx="220320" cy="66960"/>
              <a:chOff x="8353800" y="3755160"/>
              <a:chExt cx="220320" cy="66960"/>
            </a:xfrm>
          </p:grpSpPr>
          <p:sp>
            <p:nvSpPr>
              <p:cNvPr id="1707" name=""/>
              <p:cNvSpPr/>
              <p:nvPr/>
            </p:nvSpPr>
            <p:spPr>
              <a:xfrm flipH="1">
                <a:off x="8353800" y="3755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H="1">
                <a:off x="8353800" y="3755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8291880" y="3467520"/>
              <a:ext cx="316440" cy="353160"/>
              <a:chOff x="8291880" y="3467520"/>
              <a:chExt cx="316440" cy="353160"/>
            </a:xfrm>
          </p:grpSpPr>
          <p:sp>
            <p:nvSpPr>
              <p:cNvPr id="1710" name=""/>
              <p:cNvSpPr/>
              <p:nvPr/>
            </p:nvSpPr>
            <p:spPr>
              <a:xfrm flipH="1">
                <a:off x="8291520" y="346752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H="1">
                <a:off x="8291520" y="346752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8331480" y="3507480"/>
              <a:ext cx="230760" cy="257400"/>
              <a:chOff x="8331480" y="3507480"/>
              <a:chExt cx="230760" cy="257400"/>
            </a:xfrm>
          </p:grpSpPr>
          <p:sp>
            <p:nvSpPr>
              <p:cNvPr id="1713" name=""/>
              <p:cNvSpPr/>
              <p:nvPr/>
            </p:nvSpPr>
            <p:spPr>
              <a:xfrm flipH="1">
                <a:off x="8331120" y="3507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H="1">
                <a:off x="8331120" y="3507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15" name=""/>
            <p:cNvSpPr/>
            <p:nvPr/>
          </p:nvSpPr>
          <p:spPr>
            <a:xfrm flipH="1">
              <a:off x="8349480" y="3525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H="1">
              <a:off x="8349480" y="3525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H="1">
              <a:off x="8511120" y="358200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>
              <a:off x="8379000" y="356328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19" name=""/>
          <p:cNvGrpSpPr/>
          <p:nvPr/>
        </p:nvGrpSpPr>
        <p:grpSpPr>
          <a:xfrm>
            <a:off x="8326440" y="2735280"/>
            <a:ext cx="512640" cy="546120"/>
            <a:chOff x="8326440" y="2735280"/>
            <a:chExt cx="512640" cy="546120"/>
          </a:xfrm>
        </p:grpSpPr>
        <p:grpSp>
          <p:nvGrpSpPr>
            <p:cNvPr id="1720" name=""/>
            <p:cNvGrpSpPr/>
            <p:nvPr/>
          </p:nvGrpSpPr>
          <p:grpSpPr>
            <a:xfrm>
              <a:off x="8663040" y="3087720"/>
              <a:ext cx="176040" cy="193680"/>
              <a:chOff x="8663040" y="3087720"/>
              <a:chExt cx="176040" cy="193680"/>
            </a:xfrm>
          </p:grpSpPr>
          <p:sp>
            <p:nvSpPr>
              <p:cNvPr id="1721" name=""/>
              <p:cNvSpPr/>
              <p:nvPr/>
            </p:nvSpPr>
            <p:spPr>
              <a:xfrm flipH="1">
                <a:off x="8662680" y="3087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H="1">
                <a:off x="8662680" y="3087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23" name=""/>
            <p:cNvGrpSpPr/>
            <p:nvPr/>
          </p:nvGrpSpPr>
          <p:grpSpPr>
            <a:xfrm>
              <a:off x="8326440" y="3016080"/>
              <a:ext cx="512640" cy="176400"/>
              <a:chOff x="8326440" y="3016080"/>
              <a:chExt cx="512640" cy="176400"/>
            </a:xfrm>
          </p:grpSpPr>
          <p:sp>
            <p:nvSpPr>
              <p:cNvPr id="1724" name=""/>
              <p:cNvSpPr/>
              <p:nvPr/>
            </p:nvSpPr>
            <p:spPr>
              <a:xfrm flipH="1">
                <a:off x="8326440" y="301608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>
                <a:off x="8326440" y="301608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26" name=""/>
            <p:cNvGrpSpPr/>
            <p:nvPr/>
          </p:nvGrpSpPr>
          <p:grpSpPr>
            <a:xfrm>
              <a:off x="8326440" y="3104280"/>
              <a:ext cx="336600" cy="176760"/>
              <a:chOff x="8326440" y="3104280"/>
              <a:chExt cx="336600" cy="176760"/>
            </a:xfrm>
          </p:grpSpPr>
          <p:sp>
            <p:nvSpPr>
              <p:cNvPr id="1727" name=""/>
              <p:cNvSpPr/>
              <p:nvPr/>
            </p:nvSpPr>
            <p:spPr>
              <a:xfrm flipH="1">
                <a:off x="8326080" y="310428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H="1">
                <a:off x="8326080" y="310428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29" name=""/>
            <p:cNvSpPr/>
            <p:nvPr/>
          </p:nvSpPr>
          <p:spPr>
            <a:xfrm flipH="1">
              <a:off x="8579520" y="318780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30" name=""/>
            <p:cNvGrpSpPr/>
            <p:nvPr/>
          </p:nvGrpSpPr>
          <p:grpSpPr>
            <a:xfrm>
              <a:off x="8342640" y="3125160"/>
              <a:ext cx="131760" cy="89640"/>
              <a:chOff x="8342640" y="3125160"/>
              <a:chExt cx="131760" cy="89640"/>
            </a:xfrm>
          </p:grpSpPr>
          <p:grpSp>
            <p:nvGrpSpPr>
              <p:cNvPr id="1731" name=""/>
              <p:cNvGrpSpPr/>
              <p:nvPr/>
            </p:nvGrpSpPr>
            <p:grpSpPr>
              <a:xfrm>
                <a:off x="8342640" y="3125160"/>
                <a:ext cx="131760" cy="89640"/>
                <a:chOff x="8342640" y="3125160"/>
                <a:chExt cx="131760" cy="89640"/>
              </a:xfrm>
            </p:grpSpPr>
            <p:sp>
              <p:nvSpPr>
                <p:cNvPr id="1732" name=""/>
                <p:cNvSpPr/>
                <p:nvPr/>
              </p:nvSpPr>
              <p:spPr>
                <a:xfrm flipH="1">
                  <a:off x="8342640" y="3125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 flipH="1">
                  <a:off x="8342640" y="3125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4" name=""/>
              <p:cNvSpPr/>
              <p:nvPr/>
            </p:nvSpPr>
            <p:spPr>
              <a:xfrm>
                <a:off x="8342640" y="315612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>
                <a:off x="8381160" y="317232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>
                <a:off x="8381160" y="314604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8510040" y="2735280"/>
              <a:ext cx="308520" cy="301680"/>
              <a:chOff x="8510040" y="2735280"/>
              <a:chExt cx="308520" cy="301680"/>
            </a:xfrm>
          </p:grpSpPr>
          <p:sp>
            <p:nvSpPr>
              <p:cNvPr id="1738" name=""/>
              <p:cNvSpPr/>
              <p:nvPr/>
            </p:nvSpPr>
            <p:spPr>
              <a:xfrm flipH="1">
                <a:off x="8509680" y="273528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flipH="1">
                <a:off x="8509680" y="273528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40" name=""/>
            <p:cNvGrpSpPr/>
            <p:nvPr/>
          </p:nvGrpSpPr>
          <p:grpSpPr>
            <a:xfrm>
              <a:off x="8662320" y="2814120"/>
              <a:ext cx="100440" cy="331200"/>
              <a:chOff x="8662320" y="2814120"/>
              <a:chExt cx="100440" cy="331200"/>
            </a:xfrm>
          </p:grpSpPr>
          <p:sp>
            <p:nvSpPr>
              <p:cNvPr id="1741" name=""/>
              <p:cNvSpPr/>
              <p:nvPr/>
            </p:nvSpPr>
            <p:spPr>
              <a:xfrm flipH="1">
                <a:off x="8661960" y="2814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H="1">
                <a:off x="8661960" y="2814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43" name=""/>
            <p:cNvGrpSpPr/>
            <p:nvPr/>
          </p:nvGrpSpPr>
          <p:grpSpPr>
            <a:xfrm>
              <a:off x="8345520" y="2746080"/>
              <a:ext cx="417240" cy="122400"/>
              <a:chOff x="8345520" y="2746080"/>
              <a:chExt cx="417240" cy="122400"/>
            </a:xfrm>
          </p:grpSpPr>
          <p:sp>
            <p:nvSpPr>
              <p:cNvPr id="1744" name=""/>
              <p:cNvSpPr/>
              <p:nvPr/>
            </p:nvSpPr>
            <p:spPr>
              <a:xfrm flipH="1">
                <a:off x="8345160" y="274608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H="1">
                <a:off x="8345160" y="274608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46" name=""/>
            <p:cNvGrpSpPr/>
            <p:nvPr/>
          </p:nvGrpSpPr>
          <p:grpSpPr>
            <a:xfrm>
              <a:off x="8407800" y="3080520"/>
              <a:ext cx="220320" cy="66960"/>
              <a:chOff x="8407800" y="3080520"/>
              <a:chExt cx="220320" cy="66960"/>
            </a:xfrm>
          </p:grpSpPr>
          <p:sp>
            <p:nvSpPr>
              <p:cNvPr id="1747" name=""/>
              <p:cNvSpPr/>
              <p:nvPr/>
            </p:nvSpPr>
            <p:spPr>
              <a:xfrm flipH="1">
                <a:off x="8407800" y="3080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flipH="1">
                <a:off x="8407800" y="3080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49" name=""/>
            <p:cNvGrpSpPr/>
            <p:nvPr/>
          </p:nvGrpSpPr>
          <p:grpSpPr>
            <a:xfrm>
              <a:off x="8345880" y="2792880"/>
              <a:ext cx="316440" cy="353160"/>
              <a:chOff x="8345880" y="2792880"/>
              <a:chExt cx="316440" cy="353160"/>
            </a:xfrm>
          </p:grpSpPr>
          <p:sp>
            <p:nvSpPr>
              <p:cNvPr id="1750" name=""/>
              <p:cNvSpPr/>
              <p:nvPr/>
            </p:nvSpPr>
            <p:spPr>
              <a:xfrm flipH="1">
                <a:off x="8345520" y="279288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H="1">
                <a:off x="8345520" y="279288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52" name=""/>
            <p:cNvGrpSpPr/>
            <p:nvPr/>
          </p:nvGrpSpPr>
          <p:grpSpPr>
            <a:xfrm>
              <a:off x="8385480" y="2832840"/>
              <a:ext cx="230760" cy="257400"/>
              <a:chOff x="8385480" y="2832840"/>
              <a:chExt cx="230760" cy="257400"/>
            </a:xfrm>
          </p:grpSpPr>
          <p:sp>
            <p:nvSpPr>
              <p:cNvPr id="1753" name=""/>
              <p:cNvSpPr/>
              <p:nvPr/>
            </p:nvSpPr>
            <p:spPr>
              <a:xfrm flipH="1">
                <a:off x="8385120" y="2832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flipH="1">
                <a:off x="8385120" y="2832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55" name=""/>
            <p:cNvSpPr/>
            <p:nvPr/>
          </p:nvSpPr>
          <p:spPr>
            <a:xfrm flipH="1">
              <a:off x="8403480" y="2850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>
              <a:off x="8403480" y="2850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8565120" y="290736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8433000" y="288864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7802640" y="2381400"/>
            <a:ext cx="511200" cy="546120"/>
            <a:chOff x="7802640" y="2381400"/>
            <a:chExt cx="511200" cy="546120"/>
          </a:xfrm>
        </p:grpSpPr>
        <p:grpSp>
          <p:nvGrpSpPr>
            <p:cNvPr id="1760" name=""/>
            <p:cNvGrpSpPr/>
            <p:nvPr/>
          </p:nvGrpSpPr>
          <p:grpSpPr>
            <a:xfrm>
              <a:off x="8138520" y="2733840"/>
              <a:ext cx="175320" cy="193680"/>
              <a:chOff x="8138520" y="2733840"/>
              <a:chExt cx="175320" cy="193680"/>
            </a:xfrm>
          </p:grpSpPr>
          <p:sp>
            <p:nvSpPr>
              <p:cNvPr id="1761" name=""/>
              <p:cNvSpPr/>
              <p:nvPr/>
            </p:nvSpPr>
            <p:spPr>
              <a:xfrm flipH="1">
                <a:off x="8138160" y="2733840"/>
                <a:ext cx="17532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H="1">
                <a:off x="8138160" y="2733840"/>
                <a:ext cx="17532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3" name=""/>
            <p:cNvGrpSpPr/>
            <p:nvPr/>
          </p:nvGrpSpPr>
          <p:grpSpPr>
            <a:xfrm>
              <a:off x="7802640" y="2662200"/>
              <a:ext cx="511200" cy="176400"/>
              <a:chOff x="7802640" y="2662200"/>
              <a:chExt cx="511200" cy="176400"/>
            </a:xfrm>
          </p:grpSpPr>
          <p:sp>
            <p:nvSpPr>
              <p:cNvPr id="1764" name=""/>
              <p:cNvSpPr/>
              <p:nvPr/>
            </p:nvSpPr>
            <p:spPr>
              <a:xfrm flipH="1">
                <a:off x="7802640" y="2662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H="1">
                <a:off x="7802640" y="2662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7803000" y="2750400"/>
              <a:ext cx="335520" cy="176760"/>
              <a:chOff x="7803000" y="2750400"/>
              <a:chExt cx="335520" cy="176760"/>
            </a:xfrm>
          </p:grpSpPr>
          <p:sp>
            <p:nvSpPr>
              <p:cNvPr id="1767" name=""/>
              <p:cNvSpPr/>
              <p:nvPr/>
            </p:nvSpPr>
            <p:spPr>
              <a:xfrm flipH="1">
                <a:off x="7803000" y="2750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flipH="1">
                <a:off x="7803000" y="2750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69" name=""/>
            <p:cNvSpPr/>
            <p:nvPr/>
          </p:nvSpPr>
          <p:spPr>
            <a:xfrm flipH="1">
              <a:off x="8055000" y="2833920"/>
              <a:ext cx="6732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70" name=""/>
            <p:cNvGrpSpPr/>
            <p:nvPr/>
          </p:nvGrpSpPr>
          <p:grpSpPr>
            <a:xfrm>
              <a:off x="7818840" y="2771280"/>
              <a:ext cx="131760" cy="89640"/>
              <a:chOff x="7818840" y="2771280"/>
              <a:chExt cx="131760" cy="89640"/>
            </a:xfrm>
          </p:grpSpPr>
          <p:grpSp>
            <p:nvGrpSpPr>
              <p:cNvPr id="1771" name=""/>
              <p:cNvGrpSpPr/>
              <p:nvPr/>
            </p:nvGrpSpPr>
            <p:grpSpPr>
              <a:xfrm>
                <a:off x="7818840" y="2771280"/>
                <a:ext cx="131400" cy="89640"/>
                <a:chOff x="7818840" y="2771280"/>
                <a:chExt cx="131400" cy="89640"/>
              </a:xfrm>
            </p:grpSpPr>
            <p:sp>
              <p:nvSpPr>
                <p:cNvPr id="1772" name=""/>
                <p:cNvSpPr/>
                <p:nvPr/>
              </p:nvSpPr>
              <p:spPr>
                <a:xfrm flipH="1">
                  <a:off x="7818480" y="277128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 flipH="1">
                  <a:off x="7818480" y="277128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4" name=""/>
              <p:cNvSpPr/>
              <p:nvPr/>
            </p:nvSpPr>
            <p:spPr>
              <a:xfrm>
                <a:off x="7819200" y="2802240"/>
                <a:ext cx="1314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H="1">
                <a:off x="7858080" y="2818440"/>
                <a:ext cx="4608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H="1">
                <a:off x="7858080" y="2792160"/>
                <a:ext cx="4608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77" name=""/>
            <p:cNvGrpSpPr/>
            <p:nvPr/>
          </p:nvGrpSpPr>
          <p:grpSpPr>
            <a:xfrm>
              <a:off x="7985520" y="2381400"/>
              <a:ext cx="307800" cy="301680"/>
              <a:chOff x="7985520" y="2381400"/>
              <a:chExt cx="307800" cy="301680"/>
            </a:xfrm>
          </p:grpSpPr>
          <p:sp>
            <p:nvSpPr>
              <p:cNvPr id="1778" name=""/>
              <p:cNvSpPr/>
              <p:nvPr/>
            </p:nvSpPr>
            <p:spPr>
              <a:xfrm flipH="1">
                <a:off x="7985160" y="2381400"/>
                <a:ext cx="30780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flipH="1">
                <a:off x="7985160" y="2381400"/>
                <a:ext cx="30780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80" name=""/>
            <p:cNvGrpSpPr/>
            <p:nvPr/>
          </p:nvGrpSpPr>
          <p:grpSpPr>
            <a:xfrm>
              <a:off x="8137800" y="2460240"/>
              <a:ext cx="100080" cy="331200"/>
              <a:chOff x="8137800" y="2460240"/>
              <a:chExt cx="100080" cy="331200"/>
            </a:xfrm>
          </p:grpSpPr>
          <p:sp>
            <p:nvSpPr>
              <p:cNvPr id="1781" name=""/>
              <p:cNvSpPr/>
              <p:nvPr/>
            </p:nvSpPr>
            <p:spPr>
              <a:xfrm flipH="1">
                <a:off x="8137800" y="2460240"/>
                <a:ext cx="10008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 flipH="1">
                <a:off x="8137800" y="2460240"/>
                <a:ext cx="10008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83" name=""/>
            <p:cNvGrpSpPr/>
            <p:nvPr/>
          </p:nvGrpSpPr>
          <p:grpSpPr>
            <a:xfrm>
              <a:off x="7821720" y="2392200"/>
              <a:ext cx="416160" cy="122400"/>
              <a:chOff x="7821720" y="2392200"/>
              <a:chExt cx="416160" cy="122400"/>
            </a:xfrm>
          </p:grpSpPr>
          <p:sp>
            <p:nvSpPr>
              <p:cNvPr id="1784" name=""/>
              <p:cNvSpPr/>
              <p:nvPr/>
            </p:nvSpPr>
            <p:spPr>
              <a:xfrm flipH="1">
                <a:off x="7821720" y="2392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 flipH="1">
                <a:off x="7821720" y="2392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86" name=""/>
            <p:cNvGrpSpPr/>
            <p:nvPr/>
          </p:nvGrpSpPr>
          <p:grpSpPr>
            <a:xfrm>
              <a:off x="7884000" y="2726640"/>
              <a:ext cx="219600" cy="66960"/>
              <a:chOff x="7884000" y="2726640"/>
              <a:chExt cx="219600" cy="66960"/>
            </a:xfrm>
          </p:grpSpPr>
          <p:sp>
            <p:nvSpPr>
              <p:cNvPr id="1787" name=""/>
              <p:cNvSpPr/>
              <p:nvPr/>
            </p:nvSpPr>
            <p:spPr>
              <a:xfrm flipH="1">
                <a:off x="7884000" y="2726640"/>
                <a:ext cx="21960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H="1">
                <a:off x="7884000" y="2726640"/>
                <a:ext cx="21960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89" name=""/>
            <p:cNvGrpSpPr/>
            <p:nvPr/>
          </p:nvGrpSpPr>
          <p:grpSpPr>
            <a:xfrm>
              <a:off x="7821720" y="2439000"/>
              <a:ext cx="315720" cy="353160"/>
              <a:chOff x="7821720" y="2439000"/>
              <a:chExt cx="315720" cy="353160"/>
            </a:xfrm>
          </p:grpSpPr>
          <p:sp>
            <p:nvSpPr>
              <p:cNvPr id="1790" name=""/>
              <p:cNvSpPr/>
              <p:nvPr/>
            </p:nvSpPr>
            <p:spPr>
              <a:xfrm flipH="1">
                <a:off x="7821360" y="2439000"/>
                <a:ext cx="31572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flipH="1">
                <a:off x="7821360" y="2439000"/>
                <a:ext cx="31572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92" name=""/>
            <p:cNvGrpSpPr/>
            <p:nvPr/>
          </p:nvGrpSpPr>
          <p:grpSpPr>
            <a:xfrm>
              <a:off x="7861680" y="2478960"/>
              <a:ext cx="230040" cy="257400"/>
              <a:chOff x="7861680" y="2478960"/>
              <a:chExt cx="230040" cy="257400"/>
            </a:xfrm>
          </p:grpSpPr>
          <p:sp>
            <p:nvSpPr>
              <p:cNvPr id="1793" name=""/>
              <p:cNvSpPr/>
              <p:nvPr/>
            </p:nvSpPr>
            <p:spPr>
              <a:xfrm flipH="1">
                <a:off x="7861320" y="2478960"/>
                <a:ext cx="23004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H="1">
                <a:off x="7861320" y="2478960"/>
                <a:ext cx="23004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95" name=""/>
            <p:cNvSpPr/>
            <p:nvPr/>
          </p:nvSpPr>
          <p:spPr>
            <a:xfrm flipH="1">
              <a:off x="7879680" y="2496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7879680" y="2496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8040600" y="255348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>
              <a:off x="7908480" y="2534760"/>
              <a:ext cx="1278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9" name=""/>
          <p:cNvSpPr/>
          <p:nvPr/>
        </p:nvSpPr>
        <p:spPr>
          <a:xfrm flipV="1">
            <a:off x="6543720" y="4260960"/>
            <a:ext cx="255600" cy="334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 flipH="1" flipV="1">
            <a:off x="6370200" y="414936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1" name=""/>
          <p:cNvGrpSpPr/>
          <p:nvPr/>
        </p:nvGrpSpPr>
        <p:grpSpPr>
          <a:xfrm>
            <a:off x="7467480" y="3192480"/>
            <a:ext cx="533520" cy="380880"/>
            <a:chOff x="7467480" y="3192480"/>
            <a:chExt cx="533520" cy="380880"/>
          </a:xfrm>
        </p:grpSpPr>
        <p:sp>
          <p:nvSpPr>
            <p:cNvPr id="1802" name=""/>
            <p:cNvSpPr/>
            <p:nvPr/>
          </p:nvSpPr>
          <p:spPr>
            <a:xfrm flipH="1">
              <a:off x="7467480" y="3192480"/>
              <a:ext cx="533520" cy="380880"/>
            </a:xfrm>
            <a:prstGeom prst="rect">
              <a:avLst/>
            </a:prstGeom>
            <a:gradFill rotWithShape="0">
              <a:gsLst>
                <a:gs pos="0">
                  <a:srgbClr val="2f2f75"/>
                </a:gs>
                <a:gs pos="100000">
                  <a:srgbClr val="66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3" name=""/>
            <p:cNvGrpSpPr/>
            <p:nvPr/>
          </p:nvGrpSpPr>
          <p:grpSpPr>
            <a:xfrm>
              <a:off x="7531200" y="3266280"/>
              <a:ext cx="399240" cy="247680"/>
              <a:chOff x="7531200" y="3266280"/>
              <a:chExt cx="399240" cy="247680"/>
            </a:xfrm>
          </p:grpSpPr>
          <p:sp>
            <p:nvSpPr>
              <p:cNvPr id="1804" name=""/>
              <p:cNvSpPr/>
              <p:nvPr/>
            </p:nvSpPr>
            <p:spPr>
              <a:xfrm flipH="1">
                <a:off x="7590960" y="3266280"/>
                <a:ext cx="27720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7599240" y="3266280"/>
                <a:ext cx="27648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flipH="1">
                <a:off x="7536960" y="3270240"/>
                <a:ext cx="6912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flipH="1">
                <a:off x="7531200" y="3511800"/>
                <a:ext cx="65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flipH="1">
                <a:off x="7857720" y="3270240"/>
                <a:ext cx="63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H="1">
                <a:off x="7866000" y="3511800"/>
                <a:ext cx="64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0" name=""/>
          <p:cNvGrpSpPr/>
          <p:nvPr/>
        </p:nvGrpSpPr>
        <p:grpSpPr>
          <a:xfrm>
            <a:off x="5790960" y="4465800"/>
            <a:ext cx="990360" cy="631800"/>
            <a:chOff x="5790960" y="4465800"/>
            <a:chExt cx="990360" cy="631800"/>
          </a:xfrm>
        </p:grpSpPr>
        <p:grpSp>
          <p:nvGrpSpPr>
            <p:cNvPr id="1811" name=""/>
            <p:cNvGrpSpPr/>
            <p:nvPr/>
          </p:nvGrpSpPr>
          <p:grpSpPr>
            <a:xfrm>
              <a:off x="6154920" y="4547160"/>
              <a:ext cx="624960" cy="550440"/>
              <a:chOff x="6154920" y="4547160"/>
              <a:chExt cx="624960" cy="550440"/>
            </a:xfrm>
          </p:grpSpPr>
          <p:sp>
            <p:nvSpPr>
              <p:cNvPr id="1812" name=""/>
              <p:cNvSpPr/>
              <p:nvPr/>
            </p:nvSpPr>
            <p:spPr>
              <a:xfrm flipH="1">
                <a:off x="6154920" y="4547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H="1">
                <a:off x="6154920" y="4547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14" name=""/>
            <p:cNvGrpSpPr/>
            <p:nvPr/>
          </p:nvGrpSpPr>
          <p:grpSpPr>
            <a:xfrm>
              <a:off x="5794560" y="4565880"/>
              <a:ext cx="360360" cy="531720"/>
              <a:chOff x="5794560" y="4565880"/>
              <a:chExt cx="360360" cy="531720"/>
            </a:xfrm>
          </p:grpSpPr>
          <p:sp>
            <p:nvSpPr>
              <p:cNvPr id="1815" name=""/>
              <p:cNvSpPr/>
              <p:nvPr/>
            </p:nvSpPr>
            <p:spPr>
              <a:xfrm flipH="1">
                <a:off x="5794200" y="4565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H="1">
                <a:off x="5794200" y="4565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17" name=""/>
            <p:cNvGrpSpPr/>
            <p:nvPr/>
          </p:nvGrpSpPr>
          <p:grpSpPr>
            <a:xfrm>
              <a:off x="5790960" y="4465800"/>
              <a:ext cx="990360" cy="221760"/>
              <a:chOff x="5790960" y="4465800"/>
              <a:chExt cx="990360" cy="221760"/>
            </a:xfrm>
          </p:grpSpPr>
          <p:sp>
            <p:nvSpPr>
              <p:cNvPr id="1818" name=""/>
              <p:cNvSpPr/>
              <p:nvPr/>
            </p:nvSpPr>
            <p:spPr>
              <a:xfrm flipH="1">
                <a:off x="5790600" y="4465800"/>
                <a:ext cx="99036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flipH="1">
                <a:off x="5790600" y="4465800"/>
                <a:ext cx="99036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20" name=""/>
            <p:cNvSpPr/>
            <p:nvPr/>
          </p:nvSpPr>
          <p:spPr>
            <a:xfrm flipH="1">
              <a:off x="6214320" y="4596840"/>
              <a:ext cx="527760" cy="4453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6214320" y="4715640"/>
              <a:ext cx="527760" cy="32616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H="1">
              <a:off x="6217200" y="4596840"/>
              <a:ext cx="524880" cy="2908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3" name=""/>
            <p:cNvGrpSpPr/>
            <p:nvPr/>
          </p:nvGrpSpPr>
          <p:grpSpPr>
            <a:xfrm>
              <a:off x="6447600" y="4640040"/>
              <a:ext cx="257760" cy="107640"/>
              <a:chOff x="6447600" y="4640040"/>
              <a:chExt cx="257760" cy="107640"/>
            </a:xfrm>
          </p:grpSpPr>
          <p:sp>
            <p:nvSpPr>
              <p:cNvPr id="1824" name=""/>
              <p:cNvSpPr/>
              <p:nvPr/>
            </p:nvSpPr>
            <p:spPr>
              <a:xfrm flipH="1">
                <a:off x="6447600" y="4640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H="1">
                <a:off x="6447600" y="4640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6" name=""/>
            <p:cNvGrpSpPr/>
            <p:nvPr/>
          </p:nvGrpSpPr>
          <p:grpSpPr>
            <a:xfrm>
              <a:off x="6546960" y="4754880"/>
              <a:ext cx="160920" cy="160920"/>
              <a:chOff x="6546960" y="4754880"/>
              <a:chExt cx="160920" cy="160920"/>
            </a:xfrm>
          </p:grpSpPr>
          <p:sp>
            <p:nvSpPr>
              <p:cNvPr id="1827" name=""/>
              <p:cNvSpPr/>
              <p:nvPr/>
            </p:nvSpPr>
            <p:spPr>
              <a:xfrm flipH="1">
                <a:off x="6546600" y="4754880"/>
                <a:ext cx="16092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H="1">
                <a:off x="6546600" y="4754880"/>
                <a:ext cx="16092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9" name=""/>
          <p:cNvGrpSpPr/>
          <p:nvPr/>
        </p:nvGrpSpPr>
        <p:grpSpPr>
          <a:xfrm>
            <a:off x="1828800" y="2590920"/>
            <a:ext cx="380880" cy="380880"/>
            <a:chOff x="1828800" y="2590920"/>
            <a:chExt cx="380880" cy="380880"/>
          </a:xfrm>
        </p:grpSpPr>
        <p:grpSp>
          <p:nvGrpSpPr>
            <p:cNvPr id="1830" name=""/>
            <p:cNvGrpSpPr/>
            <p:nvPr/>
          </p:nvGrpSpPr>
          <p:grpSpPr>
            <a:xfrm>
              <a:off x="1828800" y="2836800"/>
              <a:ext cx="130680" cy="135000"/>
              <a:chOff x="1828800" y="2836800"/>
              <a:chExt cx="130680" cy="135000"/>
            </a:xfrm>
          </p:grpSpPr>
          <p:sp>
            <p:nvSpPr>
              <p:cNvPr id="1831" name=""/>
              <p:cNvSpPr/>
              <p:nvPr/>
            </p:nvSpPr>
            <p:spPr>
              <a:xfrm>
                <a:off x="1828800" y="2836800"/>
                <a:ext cx="130680" cy="13500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1828800" y="2836800"/>
                <a:ext cx="130680" cy="13500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3" name=""/>
            <p:cNvGrpSpPr/>
            <p:nvPr/>
          </p:nvGrpSpPr>
          <p:grpSpPr>
            <a:xfrm>
              <a:off x="1828800" y="2786760"/>
              <a:ext cx="380880" cy="123120"/>
              <a:chOff x="1828800" y="2786760"/>
              <a:chExt cx="380880" cy="123120"/>
            </a:xfrm>
          </p:grpSpPr>
          <p:sp>
            <p:nvSpPr>
              <p:cNvPr id="1834" name=""/>
              <p:cNvSpPr/>
              <p:nvPr/>
            </p:nvSpPr>
            <p:spPr>
              <a:xfrm>
                <a:off x="1828800" y="2786760"/>
                <a:ext cx="380880" cy="12312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1828800" y="2786760"/>
                <a:ext cx="380880" cy="12312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6" name=""/>
            <p:cNvGrpSpPr/>
            <p:nvPr/>
          </p:nvGrpSpPr>
          <p:grpSpPr>
            <a:xfrm>
              <a:off x="1959480" y="2848320"/>
              <a:ext cx="250200" cy="123480"/>
              <a:chOff x="1959480" y="2848320"/>
              <a:chExt cx="250200" cy="123480"/>
            </a:xfrm>
          </p:grpSpPr>
          <p:sp>
            <p:nvSpPr>
              <p:cNvPr id="1837" name=""/>
              <p:cNvSpPr/>
              <p:nvPr/>
            </p:nvSpPr>
            <p:spPr>
              <a:xfrm>
                <a:off x="1959480" y="2848320"/>
                <a:ext cx="250200" cy="12348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1959480" y="2848320"/>
                <a:ext cx="250200" cy="12348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39" name=""/>
            <p:cNvSpPr/>
            <p:nvPr/>
          </p:nvSpPr>
          <p:spPr>
            <a:xfrm>
              <a:off x="1971360" y="2906280"/>
              <a:ext cx="50040" cy="2808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40" name=""/>
            <p:cNvGrpSpPr/>
            <p:nvPr/>
          </p:nvGrpSpPr>
          <p:grpSpPr>
            <a:xfrm>
              <a:off x="2099880" y="2862720"/>
              <a:ext cx="97920" cy="62280"/>
              <a:chOff x="2099880" y="2862720"/>
              <a:chExt cx="97920" cy="62280"/>
            </a:xfrm>
          </p:grpSpPr>
          <p:grpSp>
            <p:nvGrpSpPr>
              <p:cNvPr id="1841" name=""/>
              <p:cNvGrpSpPr/>
              <p:nvPr/>
            </p:nvGrpSpPr>
            <p:grpSpPr>
              <a:xfrm>
                <a:off x="2099880" y="2862720"/>
                <a:ext cx="97920" cy="62280"/>
                <a:chOff x="2099880" y="2862720"/>
                <a:chExt cx="97920" cy="62280"/>
              </a:xfrm>
            </p:grpSpPr>
            <p:sp>
              <p:nvSpPr>
                <p:cNvPr id="1842" name=""/>
                <p:cNvSpPr/>
                <p:nvPr/>
              </p:nvSpPr>
              <p:spPr>
                <a:xfrm>
                  <a:off x="2099880" y="2862720"/>
                  <a:ext cx="97920" cy="6228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2099880" y="2862720"/>
                  <a:ext cx="97920" cy="6228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4" name=""/>
              <p:cNvSpPr/>
              <p:nvPr/>
            </p:nvSpPr>
            <p:spPr>
              <a:xfrm flipH="1">
                <a:off x="2099880" y="2884320"/>
                <a:ext cx="9792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2134440" y="2895480"/>
                <a:ext cx="34560" cy="1404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2134440" y="2877120"/>
                <a:ext cx="34560" cy="1296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47" name=""/>
            <p:cNvGrpSpPr/>
            <p:nvPr/>
          </p:nvGrpSpPr>
          <p:grpSpPr>
            <a:xfrm>
              <a:off x="1843920" y="2590920"/>
              <a:ext cx="229320" cy="210240"/>
              <a:chOff x="1843920" y="2590920"/>
              <a:chExt cx="229320" cy="210240"/>
            </a:xfrm>
          </p:grpSpPr>
          <p:sp>
            <p:nvSpPr>
              <p:cNvPr id="1848" name=""/>
              <p:cNvSpPr/>
              <p:nvPr/>
            </p:nvSpPr>
            <p:spPr>
              <a:xfrm>
                <a:off x="1843920" y="2590920"/>
                <a:ext cx="229320" cy="21024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1843920" y="2590920"/>
                <a:ext cx="229320" cy="21024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0" name=""/>
            <p:cNvGrpSpPr/>
            <p:nvPr/>
          </p:nvGrpSpPr>
          <p:grpSpPr>
            <a:xfrm>
              <a:off x="1885320" y="2646000"/>
              <a:ext cx="74520" cy="231120"/>
              <a:chOff x="1885320" y="2646000"/>
              <a:chExt cx="74520" cy="231120"/>
            </a:xfrm>
          </p:grpSpPr>
          <p:sp>
            <p:nvSpPr>
              <p:cNvPr id="1851" name=""/>
              <p:cNvSpPr/>
              <p:nvPr/>
            </p:nvSpPr>
            <p:spPr>
              <a:xfrm>
                <a:off x="1885320" y="2646000"/>
                <a:ext cx="74520" cy="23112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1885320" y="2646000"/>
                <a:ext cx="74520" cy="23112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3" name=""/>
            <p:cNvGrpSpPr/>
            <p:nvPr/>
          </p:nvGrpSpPr>
          <p:grpSpPr>
            <a:xfrm>
              <a:off x="1885320" y="2598480"/>
              <a:ext cx="309960" cy="85320"/>
              <a:chOff x="1885320" y="2598480"/>
              <a:chExt cx="309960" cy="85320"/>
            </a:xfrm>
          </p:grpSpPr>
          <p:sp>
            <p:nvSpPr>
              <p:cNvPr id="1854" name=""/>
              <p:cNvSpPr/>
              <p:nvPr/>
            </p:nvSpPr>
            <p:spPr>
              <a:xfrm>
                <a:off x="1885320" y="2598480"/>
                <a:ext cx="309960" cy="8532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1885320" y="2598480"/>
                <a:ext cx="309960" cy="8532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6" name=""/>
            <p:cNvGrpSpPr/>
            <p:nvPr/>
          </p:nvGrpSpPr>
          <p:grpSpPr>
            <a:xfrm>
              <a:off x="1985400" y="2831760"/>
              <a:ext cx="163440" cy="46440"/>
              <a:chOff x="1985400" y="2831760"/>
              <a:chExt cx="163440" cy="46440"/>
            </a:xfrm>
          </p:grpSpPr>
          <p:sp>
            <p:nvSpPr>
              <p:cNvPr id="1857" name=""/>
              <p:cNvSpPr/>
              <p:nvPr/>
            </p:nvSpPr>
            <p:spPr>
              <a:xfrm>
                <a:off x="1985400" y="2831760"/>
                <a:ext cx="163440" cy="4644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985400" y="2831760"/>
                <a:ext cx="163440" cy="4644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9" name=""/>
            <p:cNvGrpSpPr/>
            <p:nvPr/>
          </p:nvGrpSpPr>
          <p:grpSpPr>
            <a:xfrm>
              <a:off x="1960200" y="2630880"/>
              <a:ext cx="235080" cy="246240"/>
              <a:chOff x="1960200" y="2630880"/>
              <a:chExt cx="235080" cy="246240"/>
            </a:xfrm>
          </p:grpSpPr>
          <p:sp>
            <p:nvSpPr>
              <p:cNvPr id="1860" name=""/>
              <p:cNvSpPr/>
              <p:nvPr/>
            </p:nvSpPr>
            <p:spPr>
              <a:xfrm>
                <a:off x="1960200" y="2630880"/>
                <a:ext cx="235080" cy="24624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960200" y="2630880"/>
                <a:ext cx="235080" cy="24624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2" name=""/>
            <p:cNvGrpSpPr/>
            <p:nvPr/>
          </p:nvGrpSpPr>
          <p:grpSpPr>
            <a:xfrm>
              <a:off x="1994400" y="2658960"/>
              <a:ext cx="171360" cy="179640"/>
              <a:chOff x="1994400" y="2658960"/>
              <a:chExt cx="171360" cy="179640"/>
            </a:xfrm>
          </p:grpSpPr>
          <p:sp>
            <p:nvSpPr>
              <p:cNvPr id="1863" name=""/>
              <p:cNvSpPr/>
              <p:nvPr/>
            </p:nvSpPr>
            <p:spPr>
              <a:xfrm>
                <a:off x="1994400" y="2658960"/>
                <a:ext cx="171360" cy="1796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994400" y="2658960"/>
                <a:ext cx="171360" cy="1796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65" name=""/>
            <p:cNvSpPr/>
            <p:nvPr/>
          </p:nvSpPr>
          <p:spPr>
            <a:xfrm>
              <a:off x="2000880" y="2671200"/>
              <a:ext cx="151200" cy="15192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000880" y="2671200"/>
              <a:ext cx="151200" cy="15192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018520" y="2710800"/>
              <a:ext cx="1404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035440" y="2697840"/>
              <a:ext cx="95400" cy="1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9" name=""/>
          <p:cNvSpPr/>
          <p:nvPr/>
        </p:nvSpPr>
        <p:spPr>
          <a:xfrm>
            <a:off x="1906560" y="23623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B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0" name=""/>
          <p:cNvGrpSpPr/>
          <p:nvPr/>
        </p:nvGrpSpPr>
        <p:grpSpPr>
          <a:xfrm>
            <a:off x="2209680" y="5105520"/>
            <a:ext cx="511200" cy="330120"/>
            <a:chOff x="2209680" y="5105520"/>
            <a:chExt cx="511200" cy="330120"/>
          </a:xfrm>
        </p:grpSpPr>
        <p:grpSp>
          <p:nvGrpSpPr>
            <p:cNvPr id="1871" name=""/>
            <p:cNvGrpSpPr/>
            <p:nvPr/>
          </p:nvGrpSpPr>
          <p:grpSpPr>
            <a:xfrm>
              <a:off x="2210400" y="5148000"/>
              <a:ext cx="322560" cy="287640"/>
              <a:chOff x="2210400" y="5148000"/>
              <a:chExt cx="322560" cy="287640"/>
            </a:xfrm>
          </p:grpSpPr>
          <p:sp>
            <p:nvSpPr>
              <p:cNvPr id="1872" name=""/>
              <p:cNvSpPr/>
              <p:nvPr/>
            </p:nvSpPr>
            <p:spPr>
              <a:xfrm>
                <a:off x="2210400" y="51480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210400" y="51480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74" name=""/>
            <p:cNvGrpSpPr/>
            <p:nvPr/>
          </p:nvGrpSpPr>
          <p:grpSpPr>
            <a:xfrm>
              <a:off x="2532960" y="5157720"/>
              <a:ext cx="186120" cy="277920"/>
              <a:chOff x="2532960" y="5157720"/>
              <a:chExt cx="186120" cy="277920"/>
            </a:xfrm>
          </p:grpSpPr>
          <p:sp>
            <p:nvSpPr>
              <p:cNvPr id="1875" name=""/>
              <p:cNvSpPr/>
              <p:nvPr/>
            </p:nvSpPr>
            <p:spPr>
              <a:xfrm>
                <a:off x="2532960" y="51577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2532960" y="51577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77" name=""/>
            <p:cNvGrpSpPr/>
            <p:nvPr/>
          </p:nvGrpSpPr>
          <p:grpSpPr>
            <a:xfrm>
              <a:off x="2209680" y="5105520"/>
              <a:ext cx="511200" cy="115920"/>
              <a:chOff x="2209680" y="5105520"/>
              <a:chExt cx="511200" cy="115920"/>
            </a:xfrm>
          </p:grpSpPr>
          <p:sp>
            <p:nvSpPr>
              <p:cNvPr id="1878" name=""/>
              <p:cNvSpPr/>
              <p:nvPr/>
            </p:nvSpPr>
            <p:spPr>
              <a:xfrm>
                <a:off x="2209680" y="51055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2209680" y="51055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80" name=""/>
            <p:cNvSpPr/>
            <p:nvPr/>
          </p:nvSpPr>
          <p:spPr>
            <a:xfrm>
              <a:off x="2229840" y="517392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229840" y="523584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229840" y="517392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83" name=""/>
            <p:cNvGrpSpPr/>
            <p:nvPr/>
          </p:nvGrpSpPr>
          <p:grpSpPr>
            <a:xfrm>
              <a:off x="2248920" y="5196600"/>
              <a:ext cx="132840" cy="56160"/>
              <a:chOff x="2248920" y="5196600"/>
              <a:chExt cx="132840" cy="56160"/>
            </a:xfrm>
          </p:grpSpPr>
          <p:sp>
            <p:nvSpPr>
              <p:cNvPr id="1884" name=""/>
              <p:cNvSpPr/>
              <p:nvPr/>
            </p:nvSpPr>
            <p:spPr>
              <a:xfrm>
                <a:off x="2248920" y="51966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2248920" y="51966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6" name=""/>
            <p:cNvGrpSpPr/>
            <p:nvPr/>
          </p:nvGrpSpPr>
          <p:grpSpPr>
            <a:xfrm>
              <a:off x="2247480" y="5256720"/>
              <a:ext cx="83160" cy="83880"/>
              <a:chOff x="2247480" y="5256720"/>
              <a:chExt cx="83160" cy="83880"/>
            </a:xfrm>
          </p:grpSpPr>
          <p:sp>
            <p:nvSpPr>
              <p:cNvPr id="1887" name=""/>
              <p:cNvSpPr/>
              <p:nvPr/>
            </p:nvSpPr>
            <p:spPr>
              <a:xfrm>
                <a:off x="2247480" y="52567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2247480" y="52567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9" name=""/>
          <p:cNvGrpSpPr/>
          <p:nvPr/>
        </p:nvGrpSpPr>
        <p:grpSpPr>
          <a:xfrm>
            <a:off x="1371600" y="4419720"/>
            <a:ext cx="511200" cy="330120"/>
            <a:chOff x="1371600" y="4419720"/>
            <a:chExt cx="511200" cy="330120"/>
          </a:xfrm>
        </p:grpSpPr>
        <p:grpSp>
          <p:nvGrpSpPr>
            <p:cNvPr id="1890" name=""/>
            <p:cNvGrpSpPr/>
            <p:nvPr/>
          </p:nvGrpSpPr>
          <p:grpSpPr>
            <a:xfrm>
              <a:off x="1372320" y="4462200"/>
              <a:ext cx="322560" cy="287640"/>
              <a:chOff x="1372320" y="4462200"/>
              <a:chExt cx="322560" cy="287640"/>
            </a:xfrm>
          </p:grpSpPr>
          <p:sp>
            <p:nvSpPr>
              <p:cNvPr id="1891" name=""/>
              <p:cNvSpPr/>
              <p:nvPr/>
            </p:nvSpPr>
            <p:spPr>
              <a:xfrm>
                <a:off x="1372320" y="44622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372320" y="44622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93" name=""/>
            <p:cNvGrpSpPr/>
            <p:nvPr/>
          </p:nvGrpSpPr>
          <p:grpSpPr>
            <a:xfrm>
              <a:off x="1694880" y="4471920"/>
              <a:ext cx="186120" cy="277920"/>
              <a:chOff x="1694880" y="4471920"/>
              <a:chExt cx="186120" cy="277920"/>
            </a:xfrm>
          </p:grpSpPr>
          <p:sp>
            <p:nvSpPr>
              <p:cNvPr id="1894" name=""/>
              <p:cNvSpPr/>
              <p:nvPr/>
            </p:nvSpPr>
            <p:spPr>
              <a:xfrm>
                <a:off x="1694880" y="44719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694880" y="44719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96" name=""/>
            <p:cNvGrpSpPr/>
            <p:nvPr/>
          </p:nvGrpSpPr>
          <p:grpSpPr>
            <a:xfrm>
              <a:off x="1371600" y="4419720"/>
              <a:ext cx="511200" cy="115920"/>
              <a:chOff x="1371600" y="4419720"/>
              <a:chExt cx="511200" cy="115920"/>
            </a:xfrm>
          </p:grpSpPr>
          <p:sp>
            <p:nvSpPr>
              <p:cNvPr id="1897" name=""/>
              <p:cNvSpPr/>
              <p:nvPr/>
            </p:nvSpPr>
            <p:spPr>
              <a:xfrm>
                <a:off x="1371600" y="44197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371600" y="44197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9" name=""/>
            <p:cNvSpPr/>
            <p:nvPr/>
          </p:nvSpPr>
          <p:spPr>
            <a:xfrm>
              <a:off x="1391760" y="448812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391760" y="455004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391760" y="448812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02" name=""/>
            <p:cNvGrpSpPr/>
            <p:nvPr/>
          </p:nvGrpSpPr>
          <p:grpSpPr>
            <a:xfrm>
              <a:off x="1410840" y="4510800"/>
              <a:ext cx="132840" cy="56160"/>
              <a:chOff x="1410840" y="4510800"/>
              <a:chExt cx="132840" cy="56160"/>
            </a:xfrm>
          </p:grpSpPr>
          <p:sp>
            <p:nvSpPr>
              <p:cNvPr id="1903" name=""/>
              <p:cNvSpPr/>
              <p:nvPr/>
            </p:nvSpPr>
            <p:spPr>
              <a:xfrm>
                <a:off x="1410840" y="45108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410840" y="45108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05" name=""/>
            <p:cNvGrpSpPr/>
            <p:nvPr/>
          </p:nvGrpSpPr>
          <p:grpSpPr>
            <a:xfrm>
              <a:off x="1409400" y="4570920"/>
              <a:ext cx="83160" cy="83880"/>
              <a:chOff x="1409400" y="4570920"/>
              <a:chExt cx="83160" cy="83880"/>
            </a:xfrm>
          </p:grpSpPr>
          <p:sp>
            <p:nvSpPr>
              <p:cNvPr id="1906" name=""/>
              <p:cNvSpPr/>
              <p:nvPr/>
            </p:nvSpPr>
            <p:spPr>
              <a:xfrm>
                <a:off x="1409400" y="45709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1409400" y="45709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08" name=""/>
          <p:cNvGrpSpPr/>
          <p:nvPr/>
        </p:nvGrpSpPr>
        <p:grpSpPr>
          <a:xfrm>
            <a:off x="1600200" y="4952880"/>
            <a:ext cx="507960" cy="330480"/>
            <a:chOff x="1600200" y="4952880"/>
            <a:chExt cx="507960" cy="330480"/>
          </a:xfrm>
        </p:grpSpPr>
        <p:grpSp>
          <p:nvGrpSpPr>
            <p:cNvPr id="1909" name=""/>
            <p:cNvGrpSpPr/>
            <p:nvPr/>
          </p:nvGrpSpPr>
          <p:grpSpPr>
            <a:xfrm>
              <a:off x="1600920" y="4995360"/>
              <a:ext cx="320400" cy="288000"/>
              <a:chOff x="1600920" y="4995360"/>
              <a:chExt cx="320400" cy="288000"/>
            </a:xfrm>
          </p:grpSpPr>
          <p:sp>
            <p:nvSpPr>
              <p:cNvPr id="1910" name=""/>
              <p:cNvSpPr/>
              <p:nvPr/>
            </p:nvSpPr>
            <p:spPr>
              <a:xfrm>
                <a:off x="1600920" y="4995360"/>
                <a:ext cx="32040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1600920" y="4995360"/>
                <a:ext cx="32040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2" name=""/>
            <p:cNvGrpSpPr/>
            <p:nvPr/>
          </p:nvGrpSpPr>
          <p:grpSpPr>
            <a:xfrm>
              <a:off x="1921680" y="5005080"/>
              <a:ext cx="184680" cy="278280"/>
              <a:chOff x="1921680" y="5005080"/>
              <a:chExt cx="184680" cy="278280"/>
            </a:xfrm>
          </p:grpSpPr>
          <p:sp>
            <p:nvSpPr>
              <p:cNvPr id="1913" name=""/>
              <p:cNvSpPr/>
              <p:nvPr/>
            </p:nvSpPr>
            <p:spPr>
              <a:xfrm>
                <a:off x="1921680" y="5005080"/>
                <a:ext cx="18468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921680" y="5005080"/>
                <a:ext cx="18468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5" name=""/>
            <p:cNvGrpSpPr/>
            <p:nvPr/>
          </p:nvGrpSpPr>
          <p:grpSpPr>
            <a:xfrm>
              <a:off x="1600200" y="4952880"/>
              <a:ext cx="507960" cy="115920"/>
              <a:chOff x="1600200" y="4952880"/>
              <a:chExt cx="507960" cy="115920"/>
            </a:xfrm>
          </p:grpSpPr>
          <p:sp>
            <p:nvSpPr>
              <p:cNvPr id="1916" name=""/>
              <p:cNvSpPr/>
              <p:nvPr/>
            </p:nvSpPr>
            <p:spPr>
              <a:xfrm>
                <a:off x="1600200" y="495288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600200" y="495288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18" name=""/>
            <p:cNvSpPr/>
            <p:nvPr/>
          </p:nvSpPr>
          <p:spPr>
            <a:xfrm>
              <a:off x="1620360" y="5021280"/>
              <a:ext cx="270720" cy="2329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620360" y="5083560"/>
              <a:ext cx="2707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620360" y="5021280"/>
              <a:ext cx="269280" cy="1522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21" name=""/>
            <p:cNvGrpSpPr/>
            <p:nvPr/>
          </p:nvGrpSpPr>
          <p:grpSpPr>
            <a:xfrm>
              <a:off x="1639080" y="5043960"/>
              <a:ext cx="132120" cy="56160"/>
              <a:chOff x="1639080" y="5043960"/>
              <a:chExt cx="132120" cy="56160"/>
            </a:xfrm>
          </p:grpSpPr>
          <p:sp>
            <p:nvSpPr>
              <p:cNvPr id="1922" name=""/>
              <p:cNvSpPr/>
              <p:nvPr/>
            </p:nvSpPr>
            <p:spPr>
              <a:xfrm>
                <a:off x="1639080" y="504396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1639080" y="504396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24" name=""/>
            <p:cNvGrpSpPr/>
            <p:nvPr/>
          </p:nvGrpSpPr>
          <p:grpSpPr>
            <a:xfrm>
              <a:off x="1637640" y="5104080"/>
              <a:ext cx="82440" cy="84240"/>
              <a:chOff x="1637640" y="5104080"/>
              <a:chExt cx="82440" cy="84240"/>
            </a:xfrm>
          </p:grpSpPr>
          <p:sp>
            <p:nvSpPr>
              <p:cNvPr id="1925" name=""/>
              <p:cNvSpPr/>
              <p:nvPr/>
            </p:nvSpPr>
            <p:spPr>
              <a:xfrm>
                <a:off x="1637640" y="5104080"/>
                <a:ext cx="8244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1637640" y="5104080"/>
                <a:ext cx="8244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27" name=""/>
          <p:cNvSpPr/>
          <p:nvPr/>
        </p:nvSpPr>
        <p:spPr>
          <a:xfrm>
            <a:off x="3048120" y="2743200"/>
            <a:ext cx="685800" cy="555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4267080" y="3867120"/>
            <a:ext cx="685800" cy="555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5715000" y="2743200"/>
            <a:ext cx="685800" cy="555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2889000" y="243828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838080" y="3151080"/>
            <a:ext cx="385920" cy="16524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2" name=""/>
          <p:cNvGrpSpPr/>
          <p:nvPr/>
        </p:nvGrpSpPr>
        <p:grpSpPr>
          <a:xfrm>
            <a:off x="380880" y="2762280"/>
            <a:ext cx="513000" cy="546120"/>
            <a:chOff x="380880" y="2762280"/>
            <a:chExt cx="513000" cy="546120"/>
          </a:xfrm>
        </p:grpSpPr>
        <p:grpSp>
          <p:nvGrpSpPr>
            <p:cNvPr id="1933" name=""/>
            <p:cNvGrpSpPr/>
            <p:nvPr/>
          </p:nvGrpSpPr>
          <p:grpSpPr>
            <a:xfrm>
              <a:off x="380880" y="3114720"/>
              <a:ext cx="176040" cy="193680"/>
              <a:chOff x="380880" y="3114720"/>
              <a:chExt cx="176040" cy="193680"/>
            </a:xfrm>
          </p:grpSpPr>
          <p:sp>
            <p:nvSpPr>
              <p:cNvPr id="1934" name=""/>
              <p:cNvSpPr/>
              <p:nvPr/>
            </p:nvSpPr>
            <p:spPr>
              <a:xfrm>
                <a:off x="380880" y="3114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380880" y="3114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36" name=""/>
            <p:cNvGrpSpPr/>
            <p:nvPr/>
          </p:nvGrpSpPr>
          <p:grpSpPr>
            <a:xfrm>
              <a:off x="380880" y="3043080"/>
              <a:ext cx="513000" cy="176400"/>
              <a:chOff x="380880" y="3043080"/>
              <a:chExt cx="513000" cy="176400"/>
            </a:xfrm>
          </p:grpSpPr>
          <p:sp>
            <p:nvSpPr>
              <p:cNvPr id="1937" name=""/>
              <p:cNvSpPr/>
              <p:nvPr/>
            </p:nvSpPr>
            <p:spPr>
              <a:xfrm>
                <a:off x="380880" y="304308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380880" y="304308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39" name=""/>
            <p:cNvGrpSpPr/>
            <p:nvPr/>
          </p:nvGrpSpPr>
          <p:grpSpPr>
            <a:xfrm>
              <a:off x="556920" y="3131280"/>
              <a:ext cx="336960" cy="176760"/>
              <a:chOff x="556920" y="3131280"/>
              <a:chExt cx="336960" cy="176760"/>
            </a:xfrm>
          </p:grpSpPr>
          <p:sp>
            <p:nvSpPr>
              <p:cNvPr id="1940" name=""/>
              <p:cNvSpPr/>
              <p:nvPr/>
            </p:nvSpPr>
            <p:spPr>
              <a:xfrm>
                <a:off x="556920" y="313128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556920" y="313128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42" name=""/>
            <p:cNvSpPr/>
            <p:nvPr/>
          </p:nvSpPr>
          <p:spPr>
            <a:xfrm>
              <a:off x="572760" y="321480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43" name=""/>
            <p:cNvGrpSpPr/>
            <p:nvPr/>
          </p:nvGrpSpPr>
          <p:grpSpPr>
            <a:xfrm>
              <a:off x="745920" y="3152160"/>
              <a:ext cx="131760" cy="89640"/>
              <a:chOff x="745920" y="3152160"/>
              <a:chExt cx="131760" cy="89640"/>
            </a:xfrm>
          </p:grpSpPr>
          <p:grpSp>
            <p:nvGrpSpPr>
              <p:cNvPr id="1944" name=""/>
              <p:cNvGrpSpPr/>
              <p:nvPr/>
            </p:nvGrpSpPr>
            <p:grpSpPr>
              <a:xfrm>
                <a:off x="745920" y="3152160"/>
                <a:ext cx="131760" cy="89640"/>
                <a:chOff x="745920" y="3152160"/>
                <a:chExt cx="131760" cy="89640"/>
              </a:xfrm>
            </p:grpSpPr>
            <p:sp>
              <p:nvSpPr>
                <p:cNvPr id="1945" name=""/>
                <p:cNvSpPr/>
                <p:nvPr/>
              </p:nvSpPr>
              <p:spPr>
                <a:xfrm>
                  <a:off x="745920" y="3152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745920" y="3152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7" name=""/>
              <p:cNvSpPr/>
              <p:nvPr/>
            </p:nvSpPr>
            <p:spPr>
              <a:xfrm flipH="1">
                <a:off x="745920" y="318312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92360" y="319932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792360" y="317304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0" name=""/>
            <p:cNvGrpSpPr/>
            <p:nvPr/>
          </p:nvGrpSpPr>
          <p:grpSpPr>
            <a:xfrm>
              <a:off x="401400" y="2762280"/>
              <a:ext cx="308880" cy="301680"/>
              <a:chOff x="401400" y="2762280"/>
              <a:chExt cx="308880" cy="301680"/>
            </a:xfrm>
          </p:grpSpPr>
          <p:sp>
            <p:nvSpPr>
              <p:cNvPr id="1951" name=""/>
              <p:cNvSpPr/>
              <p:nvPr/>
            </p:nvSpPr>
            <p:spPr>
              <a:xfrm>
                <a:off x="401400" y="276228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401400" y="276228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3" name=""/>
            <p:cNvGrpSpPr/>
            <p:nvPr/>
          </p:nvGrpSpPr>
          <p:grpSpPr>
            <a:xfrm>
              <a:off x="457200" y="2841120"/>
              <a:ext cx="100440" cy="331200"/>
              <a:chOff x="457200" y="2841120"/>
              <a:chExt cx="100440" cy="331200"/>
            </a:xfrm>
          </p:grpSpPr>
          <p:sp>
            <p:nvSpPr>
              <p:cNvPr id="1954" name=""/>
              <p:cNvSpPr/>
              <p:nvPr/>
            </p:nvSpPr>
            <p:spPr>
              <a:xfrm>
                <a:off x="457200" y="2841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457200" y="2841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6" name=""/>
            <p:cNvGrpSpPr/>
            <p:nvPr/>
          </p:nvGrpSpPr>
          <p:grpSpPr>
            <a:xfrm>
              <a:off x="457200" y="2773080"/>
              <a:ext cx="417600" cy="122400"/>
              <a:chOff x="457200" y="2773080"/>
              <a:chExt cx="417600" cy="122400"/>
            </a:xfrm>
          </p:grpSpPr>
          <p:sp>
            <p:nvSpPr>
              <p:cNvPr id="1957" name=""/>
              <p:cNvSpPr/>
              <p:nvPr/>
            </p:nvSpPr>
            <p:spPr>
              <a:xfrm>
                <a:off x="457200" y="277308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457200" y="277308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59" name=""/>
            <p:cNvGrpSpPr/>
            <p:nvPr/>
          </p:nvGrpSpPr>
          <p:grpSpPr>
            <a:xfrm>
              <a:off x="591840" y="3107520"/>
              <a:ext cx="220320" cy="66960"/>
              <a:chOff x="591840" y="3107520"/>
              <a:chExt cx="220320" cy="66960"/>
            </a:xfrm>
          </p:grpSpPr>
          <p:sp>
            <p:nvSpPr>
              <p:cNvPr id="1960" name=""/>
              <p:cNvSpPr/>
              <p:nvPr/>
            </p:nvSpPr>
            <p:spPr>
              <a:xfrm>
                <a:off x="591840" y="3107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591840" y="3107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62" name=""/>
            <p:cNvGrpSpPr/>
            <p:nvPr/>
          </p:nvGrpSpPr>
          <p:grpSpPr>
            <a:xfrm>
              <a:off x="558000" y="2819880"/>
              <a:ext cx="316800" cy="353160"/>
              <a:chOff x="558000" y="2819880"/>
              <a:chExt cx="316800" cy="353160"/>
            </a:xfrm>
          </p:grpSpPr>
          <p:sp>
            <p:nvSpPr>
              <p:cNvPr id="1963" name=""/>
              <p:cNvSpPr/>
              <p:nvPr/>
            </p:nvSpPr>
            <p:spPr>
              <a:xfrm>
                <a:off x="558000" y="281988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558000" y="281988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65" name=""/>
            <p:cNvGrpSpPr/>
            <p:nvPr/>
          </p:nvGrpSpPr>
          <p:grpSpPr>
            <a:xfrm>
              <a:off x="604080" y="2859840"/>
              <a:ext cx="230760" cy="257400"/>
              <a:chOff x="604080" y="2859840"/>
              <a:chExt cx="230760" cy="257400"/>
            </a:xfrm>
          </p:grpSpPr>
          <p:sp>
            <p:nvSpPr>
              <p:cNvPr id="1966" name=""/>
              <p:cNvSpPr/>
              <p:nvPr/>
            </p:nvSpPr>
            <p:spPr>
              <a:xfrm>
                <a:off x="604080" y="2859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604080" y="2859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68" name=""/>
            <p:cNvSpPr/>
            <p:nvPr/>
          </p:nvSpPr>
          <p:spPr>
            <a:xfrm>
              <a:off x="612720" y="2877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12720" y="2877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36480" y="293436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59160" y="291564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2" name=""/>
          <p:cNvSpPr/>
          <p:nvPr/>
        </p:nvSpPr>
        <p:spPr>
          <a:xfrm>
            <a:off x="1752480" y="3581280"/>
            <a:ext cx="228600" cy="30492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57200" y="716040"/>
            <a:ext cx="75438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.  Resource request approved, PATH propagated transparently through Diff-Serv networ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457200" y="1219320"/>
            <a:ext cx="7543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.  PATH arrives at campus network ingress rou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 flipH="1">
            <a:off x="2514240" y="3276720"/>
            <a:ext cx="762120" cy="76176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2980080" y="6172200"/>
            <a:ext cx="33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fferentiated Service Network(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230040" y="411480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EEE 802.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2425680" y="4267080"/>
            <a:ext cx="154080" cy="28116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57200" y="1600200"/>
            <a:ext cx="7543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. Router applies sender policy check against directo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57200" y="1981080"/>
            <a:ext cx="80773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3. Policy check approved, PATH forwarded to receiving ho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 flipV="1">
            <a:off x="3276720" y="3250800"/>
            <a:ext cx="164880" cy="132084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3352680" y="5029200"/>
            <a:ext cx="304920" cy="38088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3733920" y="5162400"/>
            <a:ext cx="152388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 flipV="1">
            <a:off x="5486400" y="4952880"/>
            <a:ext cx="380880" cy="4572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 flipH="1" flipV="1">
            <a:off x="6073560" y="3303360"/>
            <a:ext cx="174600" cy="119196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86" name=""/>
          <p:cNvGrpSpPr/>
          <p:nvPr/>
        </p:nvGrpSpPr>
        <p:grpSpPr>
          <a:xfrm>
            <a:off x="6629400" y="3154320"/>
            <a:ext cx="1695600" cy="1341000"/>
            <a:chOff x="6629400" y="3154320"/>
            <a:chExt cx="1695600" cy="1341000"/>
          </a:xfrm>
        </p:grpSpPr>
        <p:sp>
          <p:nvSpPr>
            <p:cNvPr id="1987" name=""/>
            <p:cNvSpPr/>
            <p:nvPr/>
          </p:nvSpPr>
          <p:spPr>
            <a:xfrm flipV="1">
              <a:off x="6629400" y="4242960"/>
              <a:ext cx="198360" cy="2523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7250040" y="3574800"/>
              <a:ext cx="246240" cy="3366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8013600" y="3154320"/>
              <a:ext cx="311400" cy="1224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0" name=""/>
          <p:cNvSpPr/>
          <p:nvPr/>
        </p:nvSpPr>
        <p:spPr>
          <a:xfrm flipV="1">
            <a:off x="4595760" y="4429080"/>
            <a:ext cx="6480" cy="581040"/>
          </a:xfrm>
          <a:prstGeom prst="line">
            <a:avLst/>
          </a:prstGeom>
          <a:ln w="381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1745640" y="3048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"/>
          <p:cNvSpPr/>
          <p:nvPr/>
        </p:nvSpPr>
        <p:spPr>
          <a:xfrm>
            <a:off x="3110040" y="1806480"/>
            <a:ext cx="2835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3" name=""/>
          <p:cNvGrpSpPr/>
          <p:nvPr/>
        </p:nvGrpSpPr>
        <p:grpSpPr>
          <a:xfrm>
            <a:off x="4556160" y="909720"/>
            <a:ext cx="4137120" cy="1042920"/>
            <a:chOff x="4556160" y="909720"/>
            <a:chExt cx="4137120" cy="1042920"/>
          </a:xfrm>
        </p:grpSpPr>
        <p:sp>
          <p:nvSpPr>
            <p:cNvPr id="1994" name=""/>
            <p:cNvSpPr/>
            <p:nvPr/>
          </p:nvSpPr>
          <p:spPr>
            <a:xfrm>
              <a:off x="4556160" y="1306440"/>
              <a:ext cx="0" cy="646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6049800" y="909720"/>
              <a:ext cx="2643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5.  Application indicates that it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s a Qos receiv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6" name=""/>
          <p:cNvGrpSpPr/>
          <p:nvPr/>
        </p:nvGrpSpPr>
        <p:grpSpPr>
          <a:xfrm>
            <a:off x="4267080" y="2602080"/>
            <a:ext cx="4425840" cy="2960640"/>
            <a:chOff x="4267080" y="2602080"/>
            <a:chExt cx="4425840" cy="2960640"/>
          </a:xfrm>
        </p:grpSpPr>
        <p:sp>
          <p:nvSpPr>
            <p:cNvPr id="1997" name=""/>
            <p:cNvSpPr/>
            <p:nvPr/>
          </p:nvSpPr>
          <p:spPr>
            <a:xfrm>
              <a:off x="4267080" y="2602080"/>
              <a:ext cx="0" cy="29606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039000" y="2926080"/>
              <a:ext cx="265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4.  PATH message arrives at QoS S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9" name=""/>
          <p:cNvGrpSpPr/>
          <p:nvPr/>
        </p:nvGrpSpPr>
        <p:grpSpPr>
          <a:xfrm>
            <a:off x="4800600" y="2590920"/>
            <a:ext cx="3939840" cy="3097080"/>
            <a:chOff x="4800600" y="2590920"/>
            <a:chExt cx="3939840" cy="3097080"/>
          </a:xfrm>
        </p:grpSpPr>
        <p:sp>
          <p:nvSpPr>
            <p:cNvPr id="2000" name=""/>
            <p:cNvSpPr/>
            <p:nvPr/>
          </p:nvSpPr>
          <p:spPr>
            <a:xfrm>
              <a:off x="4800600" y="2590920"/>
              <a:ext cx="0" cy="30970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087960" y="4354560"/>
              <a:ext cx="265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16.  QoS SP sends RSVP RESV message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o net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2" name=""/>
          <p:cNvSpPr/>
          <p:nvPr/>
        </p:nvSpPr>
        <p:spPr>
          <a:xfrm>
            <a:off x="3505320" y="1978200"/>
            <a:ext cx="2044440" cy="6426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oS S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3505320" y="3048120"/>
            <a:ext cx="2044440" cy="1144440"/>
          </a:xfrm>
          <a:prstGeom prst="rect">
            <a:avLst/>
          </a:prstGeom>
          <a:gradFill rotWithShape="0">
            <a:gsLst>
              <a:gs pos="0">
                <a:srgbClr val="75393b"/>
              </a:gs>
              <a:gs pos="100000">
                <a:srgbClr val="ff7c8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3581280" y="5638680"/>
            <a:ext cx="2044800" cy="642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tC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1286640" y="160020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Sock2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3505320" y="838080"/>
            <a:ext cx="2044440" cy="6429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oS-aware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828800" y="4343400"/>
            <a:ext cx="617220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990720" y="4114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DI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3352680" y="4495680"/>
            <a:ext cx="2286000" cy="6858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cket Schedul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371600" y="53341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C SA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3124080" y="5486400"/>
            <a:ext cx="1067040" cy="76320"/>
          </a:xfrm>
          <a:prstGeom prst="rightArrow">
            <a:avLst>
              <a:gd name="adj1" fmla="val 50000"/>
              <a:gd name="adj2" fmla="val 349528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"/>
          <p:cNvSpPr/>
          <p:nvPr/>
        </p:nvSpPr>
        <p:spPr>
          <a:xfrm>
            <a:off x="6060960" y="3278160"/>
            <a:ext cx="198720" cy="12747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 flipH="1">
            <a:off x="4595400" y="4400640"/>
            <a:ext cx="1800" cy="59832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 flipV="1">
            <a:off x="3276720" y="3276360"/>
            <a:ext cx="152280" cy="14475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 flipV="1">
            <a:off x="2514600" y="3276720"/>
            <a:ext cx="762120" cy="7617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 flipV="1">
            <a:off x="1676520" y="5181480"/>
            <a:ext cx="155520" cy="609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 flipV="1">
            <a:off x="1828800" y="4266720"/>
            <a:ext cx="384120" cy="838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 flipV="1">
            <a:off x="2438280" y="4876920"/>
            <a:ext cx="15552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flipV="1">
            <a:off x="1143000" y="4648320"/>
            <a:ext cx="38412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 flipV="1">
            <a:off x="1600200" y="4191120"/>
            <a:ext cx="30780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 flipH="1" flipV="1">
            <a:off x="2364840" y="5257440"/>
            <a:ext cx="225720" cy="609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 flipH="1">
            <a:off x="1599840" y="2895480"/>
            <a:ext cx="304920" cy="304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 flipH="1" flipV="1" rot="20268600">
            <a:off x="5181480" y="4971960"/>
            <a:ext cx="1084320" cy="329040"/>
          </a:xfrm>
          <a:custGeom>
            <a:avLst/>
            <a:gdLst/>
            <a:ahLst/>
            <a:rect l="l" t="t" r="r" b="b"/>
            <a:pathLst>
              <a:path w="656" h="197">
                <a:moveTo>
                  <a:pt x="0" y="196"/>
                </a:moveTo>
                <a:lnTo>
                  <a:pt x="401" y="145"/>
                </a:lnTo>
                <a:lnTo>
                  <a:pt x="312" y="71"/>
                </a:lnTo>
                <a:lnTo>
                  <a:pt x="655" y="0"/>
                </a:lnTo>
                <a:lnTo>
                  <a:pt x="254" y="52"/>
                </a:lnTo>
                <a:lnTo>
                  <a:pt x="346" y="129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 flipV="1">
            <a:off x="2981160" y="4277880"/>
            <a:ext cx="219240" cy="352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 flipH="1" flipV="1">
            <a:off x="1107720" y="2711520"/>
            <a:ext cx="274680" cy="511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 flipH="1" flipV="1">
            <a:off x="838080" y="3142800"/>
            <a:ext cx="416160" cy="187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 flipH="1">
            <a:off x="789120" y="3452760"/>
            <a:ext cx="490320" cy="214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 flipH="1" flipV="1">
            <a:off x="1752480" y="3580920"/>
            <a:ext cx="255600" cy="335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 flipV="1">
            <a:off x="2173320" y="352404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 flipV="1">
            <a:off x="2371680" y="3609720"/>
            <a:ext cx="127080" cy="36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1" name=""/>
          <p:cNvGrpSpPr/>
          <p:nvPr/>
        </p:nvGrpSpPr>
        <p:grpSpPr>
          <a:xfrm>
            <a:off x="1828800" y="3887640"/>
            <a:ext cx="735120" cy="479520"/>
            <a:chOff x="1828800" y="3887640"/>
            <a:chExt cx="735120" cy="479520"/>
          </a:xfrm>
        </p:grpSpPr>
        <p:grpSp>
          <p:nvGrpSpPr>
            <p:cNvPr id="2032" name=""/>
            <p:cNvGrpSpPr/>
            <p:nvPr/>
          </p:nvGrpSpPr>
          <p:grpSpPr>
            <a:xfrm>
              <a:off x="1829880" y="3949200"/>
              <a:ext cx="464040" cy="417960"/>
              <a:chOff x="1829880" y="3949200"/>
              <a:chExt cx="464040" cy="417960"/>
            </a:xfrm>
          </p:grpSpPr>
          <p:sp>
            <p:nvSpPr>
              <p:cNvPr id="2033" name=""/>
              <p:cNvSpPr/>
              <p:nvPr/>
            </p:nvSpPr>
            <p:spPr>
              <a:xfrm>
                <a:off x="1829880" y="3949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829880" y="3949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35" name=""/>
            <p:cNvGrpSpPr/>
            <p:nvPr/>
          </p:nvGrpSpPr>
          <p:grpSpPr>
            <a:xfrm>
              <a:off x="2293920" y="3963600"/>
              <a:ext cx="267480" cy="403560"/>
              <a:chOff x="2293920" y="3963600"/>
              <a:chExt cx="267480" cy="403560"/>
            </a:xfrm>
          </p:grpSpPr>
          <p:sp>
            <p:nvSpPr>
              <p:cNvPr id="2036" name=""/>
              <p:cNvSpPr/>
              <p:nvPr/>
            </p:nvSpPr>
            <p:spPr>
              <a:xfrm>
                <a:off x="2293920" y="3963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293920" y="3963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38" name=""/>
            <p:cNvGrpSpPr/>
            <p:nvPr/>
          </p:nvGrpSpPr>
          <p:grpSpPr>
            <a:xfrm>
              <a:off x="1828800" y="3887640"/>
              <a:ext cx="735120" cy="168120"/>
              <a:chOff x="1828800" y="3887640"/>
              <a:chExt cx="735120" cy="168120"/>
            </a:xfrm>
          </p:grpSpPr>
          <p:sp>
            <p:nvSpPr>
              <p:cNvPr id="2039" name=""/>
              <p:cNvSpPr/>
              <p:nvPr/>
            </p:nvSpPr>
            <p:spPr>
              <a:xfrm>
                <a:off x="1828800" y="3887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828800" y="3887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41" name=""/>
            <p:cNvSpPr/>
            <p:nvPr/>
          </p:nvSpPr>
          <p:spPr>
            <a:xfrm>
              <a:off x="1857960" y="3987000"/>
              <a:ext cx="391680" cy="33804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857960" y="4077360"/>
              <a:ext cx="391680" cy="24768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857960" y="3987000"/>
              <a:ext cx="389520" cy="2206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44" name=""/>
            <p:cNvGrpSpPr/>
            <p:nvPr/>
          </p:nvGrpSpPr>
          <p:grpSpPr>
            <a:xfrm>
              <a:off x="1885320" y="4020120"/>
              <a:ext cx="191160" cy="81720"/>
              <a:chOff x="1885320" y="4020120"/>
              <a:chExt cx="191160" cy="81720"/>
            </a:xfrm>
          </p:grpSpPr>
          <p:sp>
            <p:nvSpPr>
              <p:cNvPr id="2045" name=""/>
              <p:cNvSpPr/>
              <p:nvPr/>
            </p:nvSpPr>
            <p:spPr>
              <a:xfrm>
                <a:off x="1885320" y="4020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1885320" y="4020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47" name=""/>
            <p:cNvGrpSpPr/>
            <p:nvPr/>
          </p:nvGrpSpPr>
          <p:grpSpPr>
            <a:xfrm>
              <a:off x="1883160" y="4107240"/>
              <a:ext cx="119520" cy="122040"/>
              <a:chOff x="1883160" y="4107240"/>
              <a:chExt cx="119520" cy="122040"/>
            </a:xfrm>
          </p:grpSpPr>
          <p:sp>
            <p:nvSpPr>
              <p:cNvPr id="2048" name=""/>
              <p:cNvSpPr/>
              <p:nvPr/>
            </p:nvSpPr>
            <p:spPr>
              <a:xfrm>
                <a:off x="1883160" y="4107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883160" y="4107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0" name=""/>
          <p:cNvGrpSpPr/>
          <p:nvPr/>
        </p:nvGrpSpPr>
        <p:grpSpPr>
          <a:xfrm>
            <a:off x="434880" y="3436920"/>
            <a:ext cx="513000" cy="546120"/>
            <a:chOff x="434880" y="3436920"/>
            <a:chExt cx="513000" cy="546120"/>
          </a:xfrm>
        </p:grpSpPr>
        <p:grpSp>
          <p:nvGrpSpPr>
            <p:cNvPr id="2051" name=""/>
            <p:cNvGrpSpPr/>
            <p:nvPr/>
          </p:nvGrpSpPr>
          <p:grpSpPr>
            <a:xfrm>
              <a:off x="434880" y="3789360"/>
              <a:ext cx="176040" cy="193680"/>
              <a:chOff x="434880" y="3789360"/>
              <a:chExt cx="176040" cy="193680"/>
            </a:xfrm>
          </p:grpSpPr>
          <p:sp>
            <p:nvSpPr>
              <p:cNvPr id="2052" name=""/>
              <p:cNvSpPr/>
              <p:nvPr/>
            </p:nvSpPr>
            <p:spPr>
              <a:xfrm>
                <a:off x="434880" y="3789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434880" y="3789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54" name=""/>
            <p:cNvGrpSpPr/>
            <p:nvPr/>
          </p:nvGrpSpPr>
          <p:grpSpPr>
            <a:xfrm>
              <a:off x="434880" y="3717720"/>
              <a:ext cx="513000" cy="176400"/>
              <a:chOff x="434880" y="3717720"/>
              <a:chExt cx="513000" cy="176400"/>
            </a:xfrm>
          </p:grpSpPr>
          <p:sp>
            <p:nvSpPr>
              <p:cNvPr id="2055" name=""/>
              <p:cNvSpPr/>
              <p:nvPr/>
            </p:nvSpPr>
            <p:spPr>
              <a:xfrm>
                <a:off x="434880" y="371772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434880" y="371772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57" name=""/>
            <p:cNvGrpSpPr/>
            <p:nvPr/>
          </p:nvGrpSpPr>
          <p:grpSpPr>
            <a:xfrm>
              <a:off x="610920" y="3805920"/>
              <a:ext cx="336960" cy="176760"/>
              <a:chOff x="610920" y="3805920"/>
              <a:chExt cx="336960" cy="176760"/>
            </a:xfrm>
          </p:grpSpPr>
          <p:sp>
            <p:nvSpPr>
              <p:cNvPr id="2058" name=""/>
              <p:cNvSpPr/>
              <p:nvPr/>
            </p:nvSpPr>
            <p:spPr>
              <a:xfrm>
                <a:off x="610920" y="380592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610920" y="380592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60" name=""/>
            <p:cNvSpPr/>
            <p:nvPr/>
          </p:nvSpPr>
          <p:spPr>
            <a:xfrm>
              <a:off x="626760" y="388944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61" name=""/>
            <p:cNvGrpSpPr/>
            <p:nvPr/>
          </p:nvGrpSpPr>
          <p:grpSpPr>
            <a:xfrm>
              <a:off x="799920" y="3826800"/>
              <a:ext cx="131760" cy="89640"/>
              <a:chOff x="799920" y="3826800"/>
              <a:chExt cx="131760" cy="89640"/>
            </a:xfrm>
          </p:grpSpPr>
          <p:grpSp>
            <p:nvGrpSpPr>
              <p:cNvPr id="2062" name=""/>
              <p:cNvGrpSpPr/>
              <p:nvPr/>
            </p:nvGrpSpPr>
            <p:grpSpPr>
              <a:xfrm>
                <a:off x="799920" y="3826800"/>
                <a:ext cx="131760" cy="89640"/>
                <a:chOff x="799920" y="3826800"/>
                <a:chExt cx="131760" cy="89640"/>
              </a:xfrm>
            </p:grpSpPr>
            <p:sp>
              <p:nvSpPr>
                <p:cNvPr id="2063" name=""/>
                <p:cNvSpPr/>
                <p:nvPr/>
              </p:nvSpPr>
              <p:spPr>
                <a:xfrm>
                  <a:off x="799920" y="3826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799920" y="3826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5" name=""/>
              <p:cNvSpPr/>
              <p:nvPr/>
            </p:nvSpPr>
            <p:spPr>
              <a:xfrm flipH="1">
                <a:off x="799920" y="385776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846360" y="387396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846360" y="384768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68" name=""/>
            <p:cNvGrpSpPr/>
            <p:nvPr/>
          </p:nvGrpSpPr>
          <p:grpSpPr>
            <a:xfrm>
              <a:off x="455400" y="3436920"/>
              <a:ext cx="308880" cy="301680"/>
              <a:chOff x="455400" y="3436920"/>
              <a:chExt cx="308880" cy="301680"/>
            </a:xfrm>
          </p:grpSpPr>
          <p:sp>
            <p:nvSpPr>
              <p:cNvPr id="2069" name=""/>
              <p:cNvSpPr/>
              <p:nvPr/>
            </p:nvSpPr>
            <p:spPr>
              <a:xfrm>
                <a:off x="455400" y="343692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55400" y="343692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1" name=""/>
            <p:cNvGrpSpPr/>
            <p:nvPr/>
          </p:nvGrpSpPr>
          <p:grpSpPr>
            <a:xfrm>
              <a:off x="511200" y="3515760"/>
              <a:ext cx="100440" cy="331200"/>
              <a:chOff x="511200" y="3515760"/>
              <a:chExt cx="100440" cy="331200"/>
            </a:xfrm>
          </p:grpSpPr>
          <p:sp>
            <p:nvSpPr>
              <p:cNvPr id="2072" name=""/>
              <p:cNvSpPr/>
              <p:nvPr/>
            </p:nvSpPr>
            <p:spPr>
              <a:xfrm>
                <a:off x="511200" y="3515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11200" y="3515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4" name=""/>
            <p:cNvGrpSpPr/>
            <p:nvPr/>
          </p:nvGrpSpPr>
          <p:grpSpPr>
            <a:xfrm>
              <a:off x="511200" y="3447720"/>
              <a:ext cx="417600" cy="122400"/>
              <a:chOff x="511200" y="3447720"/>
              <a:chExt cx="417600" cy="122400"/>
            </a:xfrm>
          </p:grpSpPr>
          <p:sp>
            <p:nvSpPr>
              <p:cNvPr id="2075" name=""/>
              <p:cNvSpPr/>
              <p:nvPr/>
            </p:nvSpPr>
            <p:spPr>
              <a:xfrm>
                <a:off x="511200" y="344772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11200" y="344772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7" name=""/>
            <p:cNvGrpSpPr/>
            <p:nvPr/>
          </p:nvGrpSpPr>
          <p:grpSpPr>
            <a:xfrm>
              <a:off x="645840" y="3782160"/>
              <a:ext cx="220320" cy="66960"/>
              <a:chOff x="645840" y="3782160"/>
              <a:chExt cx="220320" cy="66960"/>
            </a:xfrm>
          </p:grpSpPr>
          <p:sp>
            <p:nvSpPr>
              <p:cNvPr id="2078" name=""/>
              <p:cNvSpPr/>
              <p:nvPr/>
            </p:nvSpPr>
            <p:spPr>
              <a:xfrm>
                <a:off x="645840" y="3782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645840" y="3782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80" name=""/>
            <p:cNvGrpSpPr/>
            <p:nvPr/>
          </p:nvGrpSpPr>
          <p:grpSpPr>
            <a:xfrm>
              <a:off x="612000" y="3494520"/>
              <a:ext cx="316800" cy="353160"/>
              <a:chOff x="612000" y="3494520"/>
              <a:chExt cx="316800" cy="353160"/>
            </a:xfrm>
          </p:grpSpPr>
          <p:sp>
            <p:nvSpPr>
              <p:cNvPr id="2081" name=""/>
              <p:cNvSpPr/>
              <p:nvPr/>
            </p:nvSpPr>
            <p:spPr>
              <a:xfrm>
                <a:off x="612000" y="349452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612000" y="349452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83" name=""/>
            <p:cNvGrpSpPr/>
            <p:nvPr/>
          </p:nvGrpSpPr>
          <p:grpSpPr>
            <a:xfrm>
              <a:off x="658080" y="3534480"/>
              <a:ext cx="230760" cy="257400"/>
              <a:chOff x="658080" y="3534480"/>
              <a:chExt cx="230760" cy="257400"/>
            </a:xfrm>
          </p:grpSpPr>
          <p:sp>
            <p:nvSpPr>
              <p:cNvPr id="2084" name=""/>
              <p:cNvSpPr/>
              <p:nvPr/>
            </p:nvSpPr>
            <p:spPr>
              <a:xfrm>
                <a:off x="658080" y="3534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658080" y="3534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86" name=""/>
            <p:cNvSpPr/>
            <p:nvPr/>
          </p:nvSpPr>
          <p:spPr>
            <a:xfrm>
              <a:off x="666720" y="3552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66720" y="3552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90480" y="360900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13160" y="359028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0" name=""/>
          <p:cNvGrpSpPr/>
          <p:nvPr/>
        </p:nvGrpSpPr>
        <p:grpSpPr>
          <a:xfrm>
            <a:off x="380880" y="2762280"/>
            <a:ext cx="513000" cy="546120"/>
            <a:chOff x="380880" y="2762280"/>
            <a:chExt cx="513000" cy="546120"/>
          </a:xfrm>
        </p:grpSpPr>
        <p:grpSp>
          <p:nvGrpSpPr>
            <p:cNvPr id="2091" name=""/>
            <p:cNvGrpSpPr/>
            <p:nvPr/>
          </p:nvGrpSpPr>
          <p:grpSpPr>
            <a:xfrm>
              <a:off x="380880" y="3114720"/>
              <a:ext cx="176040" cy="193680"/>
              <a:chOff x="380880" y="3114720"/>
              <a:chExt cx="176040" cy="193680"/>
            </a:xfrm>
          </p:grpSpPr>
          <p:sp>
            <p:nvSpPr>
              <p:cNvPr id="2092" name=""/>
              <p:cNvSpPr/>
              <p:nvPr/>
            </p:nvSpPr>
            <p:spPr>
              <a:xfrm>
                <a:off x="380880" y="3114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380880" y="3114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94" name=""/>
            <p:cNvGrpSpPr/>
            <p:nvPr/>
          </p:nvGrpSpPr>
          <p:grpSpPr>
            <a:xfrm>
              <a:off x="380880" y="3043080"/>
              <a:ext cx="513000" cy="176400"/>
              <a:chOff x="380880" y="3043080"/>
              <a:chExt cx="513000" cy="176400"/>
            </a:xfrm>
          </p:grpSpPr>
          <p:sp>
            <p:nvSpPr>
              <p:cNvPr id="2095" name=""/>
              <p:cNvSpPr/>
              <p:nvPr/>
            </p:nvSpPr>
            <p:spPr>
              <a:xfrm>
                <a:off x="380880" y="304308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380880" y="304308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97" name=""/>
            <p:cNvGrpSpPr/>
            <p:nvPr/>
          </p:nvGrpSpPr>
          <p:grpSpPr>
            <a:xfrm>
              <a:off x="556920" y="3131280"/>
              <a:ext cx="336960" cy="176760"/>
              <a:chOff x="556920" y="3131280"/>
              <a:chExt cx="336960" cy="176760"/>
            </a:xfrm>
          </p:grpSpPr>
          <p:sp>
            <p:nvSpPr>
              <p:cNvPr id="2098" name=""/>
              <p:cNvSpPr/>
              <p:nvPr/>
            </p:nvSpPr>
            <p:spPr>
              <a:xfrm>
                <a:off x="556920" y="313128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556920" y="313128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00" name=""/>
            <p:cNvSpPr/>
            <p:nvPr/>
          </p:nvSpPr>
          <p:spPr>
            <a:xfrm>
              <a:off x="572760" y="321480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01" name=""/>
            <p:cNvGrpSpPr/>
            <p:nvPr/>
          </p:nvGrpSpPr>
          <p:grpSpPr>
            <a:xfrm>
              <a:off x="745920" y="3152160"/>
              <a:ext cx="131760" cy="89640"/>
              <a:chOff x="745920" y="3152160"/>
              <a:chExt cx="131760" cy="89640"/>
            </a:xfrm>
          </p:grpSpPr>
          <p:grpSp>
            <p:nvGrpSpPr>
              <p:cNvPr id="2102" name=""/>
              <p:cNvGrpSpPr/>
              <p:nvPr/>
            </p:nvGrpSpPr>
            <p:grpSpPr>
              <a:xfrm>
                <a:off x="745920" y="3152160"/>
                <a:ext cx="131760" cy="89640"/>
                <a:chOff x="745920" y="3152160"/>
                <a:chExt cx="131760" cy="89640"/>
              </a:xfrm>
            </p:grpSpPr>
            <p:sp>
              <p:nvSpPr>
                <p:cNvPr id="2103" name=""/>
                <p:cNvSpPr/>
                <p:nvPr/>
              </p:nvSpPr>
              <p:spPr>
                <a:xfrm>
                  <a:off x="745920" y="3152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745920" y="3152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5" name=""/>
              <p:cNvSpPr/>
              <p:nvPr/>
            </p:nvSpPr>
            <p:spPr>
              <a:xfrm flipH="1">
                <a:off x="745920" y="318312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792360" y="319932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792360" y="317304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08" name=""/>
            <p:cNvGrpSpPr/>
            <p:nvPr/>
          </p:nvGrpSpPr>
          <p:grpSpPr>
            <a:xfrm>
              <a:off x="401400" y="2762280"/>
              <a:ext cx="308880" cy="301680"/>
              <a:chOff x="401400" y="2762280"/>
              <a:chExt cx="308880" cy="301680"/>
            </a:xfrm>
          </p:grpSpPr>
          <p:sp>
            <p:nvSpPr>
              <p:cNvPr id="2109" name=""/>
              <p:cNvSpPr/>
              <p:nvPr/>
            </p:nvSpPr>
            <p:spPr>
              <a:xfrm>
                <a:off x="401400" y="276228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401400" y="276228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11" name=""/>
            <p:cNvGrpSpPr/>
            <p:nvPr/>
          </p:nvGrpSpPr>
          <p:grpSpPr>
            <a:xfrm>
              <a:off x="457200" y="2841120"/>
              <a:ext cx="100440" cy="331200"/>
              <a:chOff x="457200" y="2841120"/>
              <a:chExt cx="100440" cy="331200"/>
            </a:xfrm>
          </p:grpSpPr>
          <p:sp>
            <p:nvSpPr>
              <p:cNvPr id="2112" name=""/>
              <p:cNvSpPr/>
              <p:nvPr/>
            </p:nvSpPr>
            <p:spPr>
              <a:xfrm>
                <a:off x="457200" y="2841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457200" y="2841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14" name=""/>
            <p:cNvGrpSpPr/>
            <p:nvPr/>
          </p:nvGrpSpPr>
          <p:grpSpPr>
            <a:xfrm>
              <a:off x="457200" y="2773080"/>
              <a:ext cx="417600" cy="122400"/>
              <a:chOff x="457200" y="2773080"/>
              <a:chExt cx="417600" cy="122400"/>
            </a:xfrm>
          </p:grpSpPr>
          <p:sp>
            <p:nvSpPr>
              <p:cNvPr id="2115" name=""/>
              <p:cNvSpPr/>
              <p:nvPr/>
            </p:nvSpPr>
            <p:spPr>
              <a:xfrm>
                <a:off x="457200" y="277308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457200" y="277308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17" name=""/>
            <p:cNvGrpSpPr/>
            <p:nvPr/>
          </p:nvGrpSpPr>
          <p:grpSpPr>
            <a:xfrm>
              <a:off x="591840" y="3107520"/>
              <a:ext cx="220320" cy="66960"/>
              <a:chOff x="591840" y="3107520"/>
              <a:chExt cx="220320" cy="66960"/>
            </a:xfrm>
          </p:grpSpPr>
          <p:sp>
            <p:nvSpPr>
              <p:cNvPr id="2118" name=""/>
              <p:cNvSpPr/>
              <p:nvPr/>
            </p:nvSpPr>
            <p:spPr>
              <a:xfrm>
                <a:off x="591840" y="3107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591840" y="3107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20" name=""/>
            <p:cNvGrpSpPr/>
            <p:nvPr/>
          </p:nvGrpSpPr>
          <p:grpSpPr>
            <a:xfrm>
              <a:off x="558000" y="2819880"/>
              <a:ext cx="316800" cy="353160"/>
              <a:chOff x="558000" y="2819880"/>
              <a:chExt cx="316800" cy="353160"/>
            </a:xfrm>
          </p:grpSpPr>
          <p:sp>
            <p:nvSpPr>
              <p:cNvPr id="2121" name=""/>
              <p:cNvSpPr/>
              <p:nvPr/>
            </p:nvSpPr>
            <p:spPr>
              <a:xfrm>
                <a:off x="558000" y="281988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558000" y="281988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23" name=""/>
            <p:cNvGrpSpPr/>
            <p:nvPr/>
          </p:nvGrpSpPr>
          <p:grpSpPr>
            <a:xfrm>
              <a:off x="604080" y="2859840"/>
              <a:ext cx="230760" cy="257400"/>
              <a:chOff x="604080" y="2859840"/>
              <a:chExt cx="230760" cy="257400"/>
            </a:xfrm>
          </p:grpSpPr>
          <p:sp>
            <p:nvSpPr>
              <p:cNvPr id="2124" name=""/>
              <p:cNvSpPr/>
              <p:nvPr/>
            </p:nvSpPr>
            <p:spPr>
              <a:xfrm>
                <a:off x="604080" y="2859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604080" y="2859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26" name=""/>
            <p:cNvSpPr/>
            <p:nvPr/>
          </p:nvSpPr>
          <p:spPr>
            <a:xfrm>
              <a:off x="612720" y="2877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12720" y="2877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36480" y="293436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59160" y="291564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0" name=""/>
          <p:cNvGrpSpPr/>
          <p:nvPr/>
        </p:nvGrpSpPr>
        <p:grpSpPr>
          <a:xfrm>
            <a:off x="906480" y="2408400"/>
            <a:ext cx="511200" cy="545760"/>
            <a:chOff x="906480" y="2408400"/>
            <a:chExt cx="511200" cy="545760"/>
          </a:xfrm>
        </p:grpSpPr>
        <p:grpSp>
          <p:nvGrpSpPr>
            <p:cNvPr id="2131" name=""/>
            <p:cNvGrpSpPr/>
            <p:nvPr/>
          </p:nvGrpSpPr>
          <p:grpSpPr>
            <a:xfrm>
              <a:off x="906480" y="2760480"/>
              <a:ext cx="175320" cy="193320"/>
              <a:chOff x="906480" y="2760480"/>
              <a:chExt cx="175320" cy="193320"/>
            </a:xfrm>
          </p:grpSpPr>
          <p:sp>
            <p:nvSpPr>
              <p:cNvPr id="2132" name=""/>
              <p:cNvSpPr/>
              <p:nvPr/>
            </p:nvSpPr>
            <p:spPr>
              <a:xfrm>
                <a:off x="906480" y="2760480"/>
                <a:ext cx="175320" cy="19332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906480" y="2760480"/>
                <a:ext cx="175320" cy="19332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34" name=""/>
            <p:cNvGrpSpPr/>
            <p:nvPr/>
          </p:nvGrpSpPr>
          <p:grpSpPr>
            <a:xfrm>
              <a:off x="906480" y="2689200"/>
              <a:ext cx="511200" cy="176400"/>
              <a:chOff x="906480" y="2689200"/>
              <a:chExt cx="511200" cy="176400"/>
            </a:xfrm>
          </p:grpSpPr>
          <p:sp>
            <p:nvSpPr>
              <p:cNvPr id="2135" name=""/>
              <p:cNvSpPr/>
              <p:nvPr/>
            </p:nvSpPr>
            <p:spPr>
              <a:xfrm>
                <a:off x="906480" y="2689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906480" y="2689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37" name=""/>
            <p:cNvGrpSpPr/>
            <p:nvPr/>
          </p:nvGrpSpPr>
          <p:grpSpPr>
            <a:xfrm>
              <a:off x="1081800" y="2777400"/>
              <a:ext cx="335520" cy="176760"/>
              <a:chOff x="1081800" y="2777400"/>
              <a:chExt cx="335520" cy="176760"/>
            </a:xfrm>
          </p:grpSpPr>
          <p:sp>
            <p:nvSpPr>
              <p:cNvPr id="2138" name=""/>
              <p:cNvSpPr/>
              <p:nvPr/>
            </p:nvSpPr>
            <p:spPr>
              <a:xfrm>
                <a:off x="1081800" y="2777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1081800" y="2777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40" name=""/>
            <p:cNvSpPr/>
            <p:nvPr/>
          </p:nvSpPr>
          <p:spPr>
            <a:xfrm>
              <a:off x="1097640" y="2860560"/>
              <a:ext cx="6732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41" name=""/>
            <p:cNvGrpSpPr/>
            <p:nvPr/>
          </p:nvGrpSpPr>
          <p:grpSpPr>
            <a:xfrm>
              <a:off x="1269720" y="2797920"/>
              <a:ext cx="131760" cy="89640"/>
              <a:chOff x="1269720" y="2797920"/>
              <a:chExt cx="131760" cy="89640"/>
            </a:xfrm>
          </p:grpSpPr>
          <p:grpSp>
            <p:nvGrpSpPr>
              <p:cNvPr id="2142" name=""/>
              <p:cNvGrpSpPr/>
              <p:nvPr/>
            </p:nvGrpSpPr>
            <p:grpSpPr>
              <a:xfrm>
                <a:off x="1270080" y="2797920"/>
                <a:ext cx="131400" cy="89640"/>
                <a:chOff x="1270080" y="2797920"/>
                <a:chExt cx="131400" cy="89640"/>
              </a:xfrm>
            </p:grpSpPr>
            <p:sp>
              <p:nvSpPr>
                <p:cNvPr id="2143" name=""/>
                <p:cNvSpPr/>
                <p:nvPr/>
              </p:nvSpPr>
              <p:spPr>
                <a:xfrm>
                  <a:off x="1270080" y="279792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1270080" y="279792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5" name=""/>
              <p:cNvSpPr/>
              <p:nvPr/>
            </p:nvSpPr>
            <p:spPr>
              <a:xfrm flipH="1">
                <a:off x="1269720" y="2828880"/>
                <a:ext cx="1314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1316160" y="2845080"/>
                <a:ext cx="4608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1316160" y="2818800"/>
                <a:ext cx="4608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48" name=""/>
            <p:cNvGrpSpPr/>
            <p:nvPr/>
          </p:nvGrpSpPr>
          <p:grpSpPr>
            <a:xfrm>
              <a:off x="927000" y="2408400"/>
              <a:ext cx="307800" cy="301320"/>
              <a:chOff x="927000" y="2408400"/>
              <a:chExt cx="307800" cy="301320"/>
            </a:xfrm>
          </p:grpSpPr>
          <p:sp>
            <p:nvSpPr>
              <p:cNvPr id="2149" name=""/>
              <p:cNvSpPr/>
              <p:nvPr/>
            </p:nvSpPr>
            <p:spPr>
              <a:xfrm>
                <a:off x="927000" y="2408400"/>
                <a:ext cx="307800" cy="30132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927000" y="2408400"/>
                <a:ext cx="307800" cy="30132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51" name=""/>
            <p:cNvGrpSpPr/>
            <p:nvPr/>
          </p:nvGrpSpPr>
          <p:grpSpPr>
            <a:xfrm>
              <a:off x="982440" y="2487240"/>
              <a:ext cx="100080" cy="330840"/>
              <a:chOff x="982440" y="2487240"/>
              <a:chExt cx="100080" cy="330840"/>
            </a:xfrm>
          </p:grpSpPr>
          <p:sp>
            <p:nvSpPr>
              <p:cNvPr id="2152" name=""/>
              <p:cNvSpPr/>
              <p:nvPr/>
            </p:nvSpPr>
            <p:spPr>
              <a:xfrm>
                <a:off x="982440" y="2487240"/>
                <a:ext cx="100080" cy="33084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982440" y="2487240"/>
                <a:ext cx="100080" cy="33084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54" name=""/>
            <p:cNvGrpSpPr/>
            <p:nvPr/>
          </p:nvGrpSpPr>
          <p:grpSpPr>
            <a:xfrm>
              <a:off x="982440" y="2419200"/>
              <a:ext cx="416160" cy="122400"/>
              <a:chOff x="982440" y="2419200"/>
              <a:chExt cx="416160" cy="122400"/>
            </a:xfrm>
          </p:grpSpPr>
          <p:sp>
            <p:nvSpPr>
              <p:cNvPr id="2155" name=""/>
              <p:cNvSpPr/>
              <p:nvPr/>
            </p:nvSpPr>
            <p:spPr>
              <a:xfrm>
                <a:off x="982440" y="2419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982440" y="2419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57" name=""/>
            <p:cNvGrpSpPr/>
            <p:nvPr/>
          </p:nvGrpSpPr>
          <p:grpSpPr>
            <a:xfrm>
              <a:off x="1116720" y="2753280"/>
              <a:ext cx="219600" cy="66600"/>
              <a:chOff x="1116720" y="2753280"/>
              <a:chExt cx="219600" cy="66600"/>
            </a:xfrm>
          </p:grpSpPr>
          <p:sp>
            <p:nvSpPr>
              <p:cNvPr id="2158" name=""/>
              <p:cNvSpPr/>
              <p:nvPr/>
            </p:nvSpPr>
            <p:spPr>
              <a:xfrm>
                <a:off x="1116720" y="2753280"/>
                <a:ext cx="219600" cy="6660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1116720" y="2753280"/>
                <a:ext cx="219600" cy="6660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60" name=""/>
            <p:cNvGrpSpPr/>
            <p:nvPr/>
          </p:nvGrpSpPr>
          <p:grpSpPr>
            <a:xfrm>
              <a:off x="1082880" y="2466000"/>
              <a:ext cx="315720" cy="352800"/>
              <a:chOff x="1082880" y="2466000"/>
              <a:chExt cx="315720" cy="352800"/>
            </a:xfrm>
          </p:grpSpPr>
          <p:sp>
            <p:nvSpPr>
              <p:cNvPr id="2161" name=""/>
              <p:cNvSpPr/>
              <p:nvPr/>
            </p:nvSpPr>
            <p:spPr>
              <a:xfrm>
                <a:off x="1082880" y="2466000"/>
                <a:ext cx="315720" cy="35280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1082880" y="2466000"/>
                <a:ext cx="315720" cy="35280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63" name=""/>
            <p:cNvGrpSpPr/>
            <p:nvPr/>
          </p:nvGrpSpPr>
          <p:grpSpPr>
            <a:xfrm>
              <a:off x="1128600" y="2505960"/>
              <a:ext cx="230040" cy="257040"/>
              <a:chOff x="1128600" y="2505960"/>
              <a:chExt cx="230040" cy="257040"/>
            </a:xfrm>
          </p:grpSpPr>
          <p:sp>
            <p:nvSpPr>
              <p:cNvPr id="2164" name=""/>
              <p:cNvSpPr/>
              <p:nvPr/>
            </p:nvSpPr>
            <p:spPr>
              <a:xfrm>
                <a:off x="1128600" y="2505960"/>
                <a:ext cx="230040" cy="2570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1128600" y="2505960"/>
                <a:ext cx="230040" cy="2570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66" name=""/>
            <p:cNvSpPr/>
            <p:nvPr/>
          </p:nvSpPr>
          <p:spPr>
            <a:xfrm>
              <a:off x="1137600" y="2523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137600" y="2523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161000" y="258048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183680" y="2561760"/>
              <a:ext cx="1278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0" name=""/>
          <p:cNvSpPr/>
          <p:nvPr/>
        </p:nvSpPr>
        <p:spPr>
          <a:xfrm flipH="1" flipV="1">
            <a:off x="2421000" y="4287960"/>
            <a:ext cx="255600" cy="334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V="1">
            <a:off x="2846520" y="4176360"/>
            <a:ext cx="288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2" name=""/>
          <p:cNvGrpSpPr/>
          <p:nvPr/>
        </p:nvGrpSpPr>
        <p:grpSpPr>
          <a:xfrm>
            <a:off x="1219320" y="3219480"/>
            <a:ext cx="533160" cy="380880"/>
            <a:chOff x="1219320" y="3219480"/>
            <a:chExt cx="533160" cy="380880"/>
          </a:xfrm>
        </p:grpSpPr>
        <p:sp>
          <p:nvSpPr>
            <p:cNvPr id="2173" name=""/>
            <p:cNvSpPr/>
            <p:nvPr/>
          </p:nvSpPr>
          <p:spPr>
            <a:xfrm>
              <a:off x="1219320" y="3219480"/>
              <a:ext cx="533160" cy="380880"/>
            </a:xfrm>
            <a:prstGeom prst="rect">
              <a:avLst/>
            </a:prstGeom>
            <a:gradFill rotWithShape="0">
              <a:gsLst>
                <a:gs pos="0">
                  <a:srgbClr val="2f2f75"/>
                </a:gs>
                <a:gs pos="100000">
                  <a:srgbClr val="66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74" name=""/>
            <p:cNvGrpSpPr/>
            <p:nvPr/>
          </p:nvGrpSpPr>
          <p:grpSpPr>
            <a:xfrm>
              <a:off x="1289520" y="3293280"/>
              <a:ext cx="399240" cy="247680"/>
              <a:chOff x="1289520" y="3293280"/>
              <a:chExt cx="399240" cy="247680"/>
            </a:xfrm>
          </p:grpSpPr>
          <p:sp>
            <p:nvSpPr>
              <p:cNvPr id="2175" name=""/>
              <p:cNvSpPr/>
              <p:nvPr/>
            </p:nvSpPr>
            <p:spPr>
              <a:xfrm>
                <a:off x="1351800" y="3293280"/>
                <a:ext cx="27720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 flipH="1">
                <a:off x="1344240" y="3293280"/>
                <a:ext cx="27648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1613880" y="3297240"/>
                <a:ext cx="6912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1622880" y="3538800"/>
                <a:ext cx="65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1299240" y="3297240"/>
                <a:ext cx="63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1289520" y="3538800"/>
                <a:ext cx="64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1" name=""/>
          <p:cNvSpPr/>
          <p:nvPr/>
        </p:nvSpPr>
        <p:spPr>
          <a:xfrm flipV="1" rot="1331400">
            <a:off x="3021120" y="5072760"/>
            <a:ext cx="1084320" cy="329040"/>
          </a:xfrm>
          <a:custGeom>
            <a:avLst/>
            <a:gdLst/>
            <a:ahLst/>
            <a:rect l="l" t="t" r="r" b="b"/>
            <a:pathLst>
              <a:path w="656" h="197">
                <a:moveTo>
                  <a:pt x="0" y="196"/>
                </a:moveTo>
                <a:lnTo>
                  <a:pt x="401" y="145"/>
                </a:lnTo>
                <a:lnTo>
                  <a:pt x="312" y="71"/>
                </a:lnTo>
                <a:lnTo>
                  <a:pt x="655" y="0"/>
                </a:lnTo>
                <a:lnTo>
                  <a:pt x="254" y="52"/>
                </a:lnTo>
                <a:lnTo>
                  <a:pt x="346" y="129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2" name=""/>
          <p:cNvGrpSpPr/>
          <p:nvPr/>
        </p:nvGrpSpPr>
        <p:grpSpPr>
          <a:xfrm>
            <a:off x="3581280" y="4876920"/>
            <a:ext cx="2022120" cy="1428120"/>
            <a:chOff x="3581280" y="4876920"/>
            <a:chExt cx="2022120" cy="1428120"/>
          </a:xfrm>
        </p:grpSpPr>
        <p:grpSp>
          <p:nvGrpSpPr>
            <p:cNvPr id="2183" name=""/>
            <p:cNvGrpSpPr/>
            <p:nvPr/>
          </p:nvGrpSpPr>
          <p:grpSpPr>
            <a:xfrm>
              <a:off x="3581280" y="4876920"/>
              <a:ext cx="2022120" cy="1428120"/>
              <a:chOff x="3581280" y="4876920"/>
              <a:chExt cx="2022120" cy="1428120"/>
            </a:xfrm>
          </p:grpSpPr>
          <p:grpSp>
            <p:nvGrpSpPr>
              <p:cNvPr id="2184" name=""/>
              <p:cNvGrpSpPr/>
              <p:nvPr/>
            </p:nvGrpSpPr>
            <p:grpSpPr>
              <a:xfrm>
                <a:off x="4774680" y="5004720"/>
                <a:ext cx="828720" cy="1228680"/>
                <a:chOff x="4774680" y="5004720"/>
                <a:chExt cx="828720" cy="1228680"/>
              </a:xfrm>
            </p:grpSpPr>
            <p:grpSp>
              <p:nvGrpSpPr>
                <p:cNvPr id="2185" name=""/>
                <p:cNvGrpSpPr/>
                <p:nvPr/>
              </p:nvGrpSpPr>
              <p:grpSpPr>
                <a:xfrm>
                  <a:off x="5099040" y="5004720"/>
                  <a:ext cx="504360" cy="987840"/>
                  <a:chOff x="5099040" y="5004720"/>
                  <a:chExt cx="504360" cy="987840"/>
                </a:xfrm>
              </p:grpSpPr>
              <p:grpSp>
                <p:nvGrpSpPr>
                  <p:cNvPr id="2186" name=""/>
                  <p:cNvGrpSpPr/>
                  <p:nvPr/>
                </p:nvGrpSpPr>
                <p:grpSpPr>
                  <a:xfrm>
                    <a:off x="5236200" y="5142240"/>
                    <a:ext cx="367200" cy="712800"/>
                    <a:chOff x="5236200" y="5142240"/>
                    <a:chExt cx="367200" cy="712800"/>
                  </a:xfrm>
                </p:grpSpPr>
                <p:grpSp>
                  <p:nvGrpSpPr>
                    <p:cNvPr id="2187" name=""/>
                    <p:cNvGrpSpPr/>
                    <p:nvPr/>
                  </p:nvGrpSpPr>
                  <p:grpSpPr>
                    <a:xfrm>
                      <a:off x="5236200" y="5142240"/>
                      <a:ext cx="367200" cy="712800"/>
                      <a:chOff x="5236200" y="5142240"/>
                      <a:chExt cx="367200" cy="712800"/>
                    </a:xfrm>
                  </p:grpSpPr>
                  <p:grpSp>
                    <p:nvGrpSpPr>
                      <p:cNvPr id="2188" name=""/>
                      <p:cNvGrpSpPr/>
                      <p:nvPr/>
                    </p:nvGrpSpPr>
                    <p:grpSpPr>
                      <a:xfrm>
                        <a:off x="5333400" y="5187960"/>
                        <a:ext cx="270000" cy="579600"/>
                        <a:chOff x="5333400" y="5187960"/>
                        <a:chExt cx="270000" cy="579600"/>
                      </a:xfrm>
                    </p:grpSpPr>
                    <p:grpSp>
                      <p:nvGrpSpPr>
                        <p:cNvPr id="2189" name=""/>
                        <p:cNvGrpSpPr/>
                        <p:nvPr/>
                      </p:nvGrpSpPr>
                      <p:grpSpPr>
                        <a:xfrm>
                          <a:off x="5366520" y="5187960"/>
                          <a:ext cx="236880" cy="579600"/>
                          <a:chOff x="5366520" y="5187960"/>
                          <a:chExt cx="236880" cy="579600"/>
                        </a:xfrm>
                      </p:grpSpPr>
                      <p:sp>
                        <p:nvSpPr>
                          <p:cNvPr id="2190" name=""/>
                          <p:cNvSpPr/>
                          <p:nvPr/>
                        </p:nvSpPr>
                        <p:spPr>
                          <a:xfrm>
                            <a:off x="5500080" y="5540040"/>
                            <a:ext cx="103320" cy="13896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91" name=""/>
                          <p:cNvSpPr/>
                          <p:nvPr/>
                        </p:nvSpPr>
                        <p:spPr>
                          <a:xfrm>
                            <a:off x="5396400" y="5584680"/>
                            <a:ext cx="137880" cy="18288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92" name=""/>
                          <p:cNvSpPr/>
                          <p:nvPr/>
                        </p:nvSpPr>
                        <p:spPr>
                          <a:xfrm>
                            <a:off x="5465520" y="5317560"/>
                            <a:ext cx="104760" cy="13896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93" name=""/>
                          <p:cNvSpPr/>
                          <p:nvPr/>
                        </p:nvSpPr>
                        <p:spPr>
                          <a:xfrm>
                            <a:off x="5366520" y="5187960"/>
                            <a:ext cx="137880" cy="18288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194" name=""/>
                          <p:cNvSpPr/>
                          <p:nvPr/>
                        </p:nvSpPr>
                        <p:spPr>
                          <a:xfrm>
                            <a:off x="5465520" y="5317560"/>
                            <a:ext cx="93960" cy="326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0" h="207">
                                <a:moveTo>
                                  <a:pt x="59" y="206"/>
                                </a:moveTo>
                                <a:lnTo>
                                  <a:pt x="34" y="206"/>
                                </a:lnTo>
                                <a:lnTo>
                                  <a:pt x="0" y="0"/>
                                </a:lnTo>
                                <a:lnTo>
                                  <a:pt x="35" y="17"/>
                                </a:lnTo>
                                <a:lnTo>
                                  <a:pt x="36" y="116"/>
                                </a:lnTo>
                                <a:lnTo>
                                  <a:pt x="59" y="206"/>
                                </a:lnTo>
                              </a:path>
                            </a:pathLst>
                          </a:custGeom>
                          <a:solidFill>
                            <a:srgbClr val="00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195" name=""/>
                        <p:cNvSpPr/>
                        <p:nvPr/>
                      </p:nvSpPr>
                      <p:spPr>
                        <a:xfrm>
                          <a:off x="5333400" y="5362920"/>
                          <a:ext cx="201240" cy="273240"/>
                        </a:xfrm>
                        <a:prstGeom prst="ellipse">
                          <a:avLst/>
                        </a:prstGeom>
                        <a:solidFill>
                          <a:srgbClr val="00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96" name=""/>
                        <p:cNvSpPr/>
                        <p:nvPr/>
                      </p:nvSpPr>
                      <p:spPr>
                        <a:xfrm>
                          <a:off x="5333400" y="5540040"/>
                          <a:ext cx="135360" cy="184680"/>
                        </a:xfrm>
                        <a:prstGeom prst="ellipse">
                          <a:avLst/>
                        </a:prstGeom>
                        <a:solidFill>
                          <a:srgbClr val="00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97" name=""/>
                        <p:cNvSpPr/>
                        <p:nvPr/>
                      </p:nvSpPr>
                      <p:spPr>
                        <a:xfrm>
                          <a:off x="5377320" y="5284080"/>
                          <a:ext cx="103680" cy="348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6" h="221">
                              <a:moveTo>
                                <a:pt x="58" y="36"/>
                              </a:moveTo>
                              <a:lnTo>
                                <a:pt x="50" y="83"/>
                              </a:lnTo>
                              <a:lnTo>
                                <a:pt x="65" y="190"/>
                              </a:lnTo>
                              <a:lnTo>
                                <a:pt x="38" y="220"/>
                              </a:lnTo>
                              <a:lnTo>
                                <a:pt x="0" y="93"/>
                              </a:lnTo>
                              <a:lnTo>
                                <a:pt x="31" y="0"/>
                              </a:lnTo>
                              <a:lnTo>
                                <a:pt x="58" y="36"/>
                              </a:lnTo>
                            </a:path>
                          </a:pathLst>
                        </a:custGeom>
                        <a:solidFill>
                          <a:srgbClr val="00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198" name=""/>
                      <p:cNvSpPr/>
                      <p:nvPr/>
                    </p:nvSpPr>
                    <p:spPr>
                      <a:xfrm>
                        <a:off x="5333400" y="5717520"/>
                        <a:ext cx="104040" cy="13752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9" name=""/>
                      <p:cNvSpPr/>
                      <p:nvPr/>
                    </p:nvSpPr>
                    <p:spPr>
                      <a:xfrm>
                        <a:off x="5236200" y="5142240"/>
                        <a:ext cx="135000" cy="18324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0" name=""/>
                      <p:cNvSpPr/>
                      <p:nvPr/>
                    </p:nvSpPr>
                    <p:spPr>
                      <a:xfrm>
                        <a:off x="5367960" y="5681160"/>
                        <a:ext cx="72360" cy="50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32">
                            <a:moveTo>
                              <a:pt x="45" y="18"/>
                            </a:moveTo>
                            <a:lnTo>
                              <a:pt x="32" y="31"/>
                            </a:lnTo>
                            <a:lnTo>
                              <a:pt x="0" y="14"/>
                            </a:lnTo>
                            <a:lnTo>
                              <a:pt x="32" y="0"/>
                            </a:lnTo>
                            <a:lnTo>
                              <a:pt x="45" y="18"/>
                            </a:lnTo>
                          </a:path>
                        </a:pathLst>
                      </a:custGeom>
                      <a:solidFill>
                        <a:srgbClr val="00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" bIns="3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01" name=""/>
                    <p:cNvSpPr/>
                    <p:nvPr/>
                  </p:nvSpPr>
                  <p:spPr>
                    <a:xfrm>
                      <a:off x="5357520" y="5239800"/>
                      <a:ext cx="31320" cy="10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64">
                          <a:moveTo>
                            <a:pt x="9" y="0"/>
                          </a:moveTo>
                          <a:lnTo>
                            <a:pt x="19" y="0"/>
                          </a:lnTo>
                          <a:lnTo>
                            <a:pt x="15" y="63"/>
                          </a:lnTo>
                          <a:lnTo>
                            <a:pt x="0" y="5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02" name=""/>
                  <p:cNvGrpSpPr/>
                  <p:nvPr/>
                </p:nvGrpSpPr>
                <p:grpSpPr>
                  <a:xfrm>
                    <a:off x="5099040" y="5004720"/>
                    <a:ext cx="338400" cy="894600"/>
                    <a:chOff x="5099040" y="5004720"/>
                    <a:chExt cx="338400" cy="894600"/>
                  </a:xfrm>
                </p:grpSpPr>
                <p:sp>
                  <p:nvSpPr>
                    <p:cNvPr id="2203" name=""/>
                    <p:cNvSpPr/>
                    <p:nvPr/>
                  </p:nvSpPr>
                  <p:spPr>
                    <a:xfrm>
                      <a:off x="5130720" y="5540760"/>
                      <a:ext cx="272160" cy="35856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4" name=""/>
                    <p:cNvSpPr/>
                    <p:nvPr/>
                  </p:nvSpPr>
                  <p:spPr>
                    <a:xfrm>
                      <a:off x="5165280" y="5273280"/>
                      <a:ext cx="272160" cy="36324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5" name=""/>
                    <p:cNvSpPr/>
                    <p:nvPr/>
                  </p:nvSpPr>
                  <p:spPr>
                    <a:xfrm>
                      <a:off x="5099040" y="5004720"/>
                      <a:ext cx="204840" cy="27792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6" name=""/>
                    <p:cNvSpPr/>
                    <p:nvPr/>
                  </p:nvSpPr>
                  <p:spPr>
                    <a:xfrm>
                      <a:off x="5235840" y="5187960"/>
                      <a:ext cx="100440" cy="13752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7" name=""/>
                    <p:cNvSpPr/>
                    <p:nvPr/>
                  </p:nvSpPr>
                  <p:spPr>
                    <a:xfrm>
                      <a:off x="5165280" y="5148720"/>
                      <a:ext cx="180720" cy="32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203">
                          <a:moveTo>
                            <a:pt x="80" y="8"/>
                          </a:moveTo>
                          <a:lnTo>
                            <a:pt x="79" y="35"/>
                          </a:lnTo>
                          <a:lnTo>
                            <a:pt x="106" y="78"/>
                          </a:lnTo>
                          <a:lnTo>
                            <a:pt x="114" y="82"/>
                          </a:lnTo>
                          <a:lnTo>
                            <a:pt x="73" y="202"/>
                          </a:lnTo>
                          <a:lnTo>
                            <a:pt x="0" y="0"/>
                          </a:lnTo>
                          <a:lnTo>
                            <a:pt x="80" y="8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8" name=""/>
                    <p:cNvSpPr/>
                    <p:nvPr/>
                  </p:nvSpPr>
                  <p:spPr>
                    <a:xfrm>
                      <a:off x="5258160" y="5615280"/>
                      <a:ext cx="113040" cy="7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46">
                          <a:moveTo>
                            <a:pt x="62" y="6"/>
                          </a:moveTo>
                          <a:lnTo>
                            <a:pt x="71" y="21"/>
                          </a:lnTo>
                          <a:lnTo>
                            <a:pt x="0" y="45"/>
                          </a:lnTo>
                          <a:lnTo>
                            <a:pt x="1" y="0"/>
                          </a:lnTo>
                          <a:lnTo>
                            <a:pt x="62" y="6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09" name=""/>
                  <p:cNvSpPr/>
                  <p:nvPr/>
                </p:nvSpPr>
                <p:spPr>
                  <a:xfrm>
                    <a:off x="5099040" y="5808240"/>
                    <a:ext cx="141480" cy="18432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0" name=""/>
                  <p:cNvSpPr/>
                  <p:nvPr/>
                </p:nvSpPr>
                <p:spPr>
                  <a:xfrm>
                    <a:off x="5199840" y="5784120"/>
                    <a:ext cx="7236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8">
                        <a:moveTo>
                          <a:pt x="17" y="57"/>
                        </a:moveTo>
                        <a:lnTo>
                          <a:pt x="45" y="38"/>
                        </a:lnTo>
                        <a:lnTo>
                          <a:pt x="13" y="0"/>
                        </a:lnTo>
                        <a:lnTo>
                          <a:pt x="0" y="19"/>
                        </a:lnTo>
                        <a:lnTo>
                          <a:pt x="17" y="57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11" name=""/>
                <p:cNvSpPr/>
                <p:nvPr/>
              </p:nvSpPr>
              <p:spPr>
                <a:xfrm>
                  <a:off x="4774680" y="6005880"/>
                  <a:ext cx="169920" cy="2275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4935240" y="6005880"/>
                  <a:ext cx="136800" cy="18648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5026680" y="5936400"/>
                  <a:ext cx="136800" cy="18648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4890960" y="5899680"/>
                  <a:ext cx="303840" cy="265680"/>
                </a:xfrm>
                <a:custGeom>
                  <a:avLst/>
                  <a:gdLst/>
                  <a:ahLst/>
                  <a:rect l="l" t="t" r="r" b="b"/>
                  <a:pathLst>
                    <a:path w="193" h="168">
                      <a:moveTo>
                        <a:pt x="177" y="48"/>
                      </a:moveTo>
                      <a:lnTo>
                        <a:pt x="161" y="59"/>
                      </a:lnTo>
                      <a:lnTo>
                        <a:pt x="109" y="128"/>
                      </a:lnTo>
                      <a:lnTo>
                        <a:pt x="97" y="156"/>
                      </a:lnTo>
                      <a:lnTo>
                        <a:pt x="40" y="156"/>
                      </a:lnTo>
                      <a:lnTo>
                        <a:pt x="28" y="167"/>
                      </a:lnTo>
                      <a:lnTo>
                        <a:pt x="0" y="118"/>
                      </a:lnTo>
                      <a:lnTo>
                        <a:pt x="128" y="0"/>
                      </a:lnTo>
                      <a:lnTo>
                        <a:pt x="192" y="28"/>
                      </a:lnTo>
                      <a:lnTo>
                        <a:pt x="177" y="48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5" name=""/>
              <p:cNvGrpSpPr/>
              <p:nvPr/>
            </p:nvGrpSpPr>
            <p:grpSpPr>
              <a:xfrm>
                <a:off x="3581280" y="5019120"/>
                <a:ext cx="487800" cy="836280"/>
                <a:chOff x="3581280" y="5019120"/>
                <a:chExt cx="487800" cy="836280"/>
              </a:xfrm>
            </p:grpSpPr>
            <p:grpSp>
              <p:nvGrpSpPr>
                <p:cNvPr id="2216" name=""/>
                <p:cNvGrpSpPr/>
                <p:nvPr/>
              </p:nvGrpSpPr>
              <p:grpSpPr>
                <a:xfrm>
                  <a:off x="3581280" y="5142240"/>
                  <a:ext cx="254520" cy="494280"/>
                  <a:chOff x="3581280" y="5142240"/>
                  <a:chExt cx="254520" cy="494280"/>
                </a:xfrm>
              </p:grpSpPr>
              <p:sp>
                <p:nvSpPr>
                  <p:cNvPr id="2217" name=""/>
                  <p:cNvSpPr/>
                  <p:nvPr/>
                </p:nvSpPr>
                <p:spPr>
                  <a:xfrm>
                    <a:off x="3581280" y="5317560"/>
                    <a:ext cx="103680" cy="1389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8" name=""/>
                  <p:cNvSpPr/>
                  <p:nvPr/>
                </p:nvSpPr>
                <p:spPr>
                  <a:xfrm>
                    <a:off x="3600000" y="5455080"/>
                    <a:ext cx="136440" cy="18144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9" name=""/>
                  <p:cNvSpPr/>
                  <p:nvPr/>
                </p:nvSpPr>
                <p:spPr>
                  <a:xfrm>
                    <a:off x="3634560" y="5142240"/>
                    <a:ext cx="201240" cy="27324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0" name=""/>
                  <p:cNvSpPr/>
                  <p:nvPr/>
                </p:nvSpPr>
                <p:spPr>
                  <a:xfrm>
                    <a:off x="3615840" y="5339520"/>
                    <a:ext cx="7056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90">
                        <a:moveTo>
                          <a:pt x="25" y="0"/>
                        </a:moveTo>
                        <a:lnTo>
                          <a:pt x="0" y="18"/>
                        </a:lnTo>
                        <a:lnTo>
                          <a:pt x="1" y="71"/>
                        </a:lnTo>
                        <a:lnTo>
                          <a:pt x="10" y="89"/>
                        </a:lnTo>
                        <a:lnTo>
                          <a:pt x="44" y="71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21" name=""/>
                <p:cNvGrpSpPr/>
                <p:nvPr/>
              </p:nvGrpSpPr>
              <p:grpSpPr>
                <a:xfrm>
                  <a:off x="3666240" y="5019120"/>
                  <a:ext cx="402840" cy="836280"/>
                  <a:chOff x="3666240" y="5019120"/>
                  <a:chExt cx="402840" cy="836280"/>
                </a:xfrm>
              </p:grpSpPr>
              <p:sp>
                <p:nvSpPr>
                  <p:cNvPr id="2222" name=""/>
                  <p:cNvSpPr/>
                  <p:nvPr/>
                </p:nvSpPr>
                <p:spPr>
                  <a:xfrm>
                    <a:off x="3803040" y="5049000"/>
                    <a:ext cx="266040" cy="36684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3" name=""/>
                  <p:cNvSpPr/>
                  <p:nvPr/>
                </p:nvSpPr>
                <p:spPr>
                  <a:xfrm>
                    <a:off x="3666240" y="5317920"/>
                    <a:ext cx="136800" cy="1846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4" name=""/>
                  <p:cNvSpPr/>
                  <p:nvPr/>
                </p:nvSpPr>
                <p:spPr>
                  <a:xfrm>
                    <a:off x="3699360" y="5455440"/>
                    <a:ext cx="207720" cy="2703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5" name=""/>
                  <p:cNvSpPr/>
                  <p:nvPr/>
                </p:nvSpPr>
                <p:spPr>
                  <a:xfrm>
                    <a:off x="3768480" y="5585040"/>
                    <a:ext cx="204480" cy="2703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6" name=""/>
                  <p:cNvSpPr/>
                  <p:nvPr/>
                </p:nvSpPr>
                <p:spPr>
                  <a:xfrm>
                    <a:off x="3785760" y="5235480"/>
                    <a:ext cx="176400" cy="23220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7" name=""/>
                  <p:cNvSpPr/>
                  <p:nvPr/>
                </p:nvSpPr>
                <p:spPr>
                  <a:xfrm>
                    <a:off x="3947760" y="5019120"/>
                    <a:ext cx="108720" cy="1342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8" name=""/>
                  <p:cNvSpPr/>
                  <p:nvPr/>
                </p:nvSpPr>
                <p:spPr>
                  <a:xfrm>
                    <a:off x="3845520" y="5186880"/>
                    <a:ext cx="12420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71">
                        <a:moveTo>
                          <a:pt x="0" y="19"/>
                        </a:moveTo>
                        <a:lnTo>
                          <a:pt x="10" y="53"/>
                        </a:lnTo>
                        <a:lnTo>
                          <a:pt x="78" y="70"/>
                        </a:lnTo>
                        <a:lnTo>
                          <a:pt x="78" y="24"/>
                        </a:lnTo>
                        <a:lnTo>
                          <a:pt x="3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9" name=""/>
                  <p:cNvSpPr/>
                  <p:nvPr/>
                </p:nvSpPr>
                <p:spPr>
                  <a:xfrm>
                    <a:off x="3710160" y="5411160"/>
                    <a:ext cx="147960" cy="2466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56">
                        <a:moveTo>
                          <a:pt x="58" y="0"/>
                        </a:moveTo>
                        <a:lnTo>
                          <a:pt x="0" y="39"/>
                        </a:lnTo>
                        <a:lnTo>
                          <a:pt x="23" y="70"/>
                        </a:lnTo>
                        <a:lnTo>
                          <a:pt x="27" y="146"/>
                        </a:lnTo>
                        <a:lnTo>
                          <a:pt x="42" y="155"/>
                        </a:lnTo>
                        <a:lnTo>
                          <a:pt x="90" y="107"/>
                        </a:lnTo>
                        <a:lnTo>
                          <a:pt x="93" y="16"/>
                        </a:lnTo>
                        <a:lnTo>
                          <a:pt x="58" y="0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30" name=""/>
                <p:cNvSpPr/>
                <p:nvPr/>
              </p:nvSpPr>
              <p:spPr>
                <a:xfrm>
                  <a:off x="3938760" y="5107680"/>
                  <a:ext cx="73800" cy="105480"/>
                </a:xfrm>
                <a:custGeom>
                  <a:avLst/>
                  <a:gdLst/>
                  <a:ahLst/>
                  <a:rect l="l" t="t" r="r" b="b"/>
                  <a:pathLst>
                    <a:path w="47" h="67">
                      <a:moveTo>
                        <a:pt x="0" y="36"/>
                      </a:moveTo>
                      <a:lnTo>
                        <a:pt x="18" y="0"/>
                      </a:lnTo>
                      <a:lnTo>
                        <a:pt x="46" y="36"/>
                      </a:lnTo>
                      <a:lnTo>
                        <a:pt x="24" y="66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1" name=""/>
              <p:cNvGrpSpPr/>
              <p:nvPr/>
            </p:nvGrpSpPr>
            <p:grpSpPr>
              <a:xfrm>
                <a:off x="3831840" y="4876920"/>
                <a:ext cx="1472040" cy="1428120"/>
                <a:chOff x="3831840" y="4876920"/>
                <a:chExt cx="1472040" cy="1428120"/>
              </a:xfrm>
            </p:grpSpPr>
            <p:sp>
              <p:nvSpPr>
                <p:cNvPr id="2232" name=""/>
                <p:cNvSpPr/>
                <p:nvPr/>
              </p:nvSpPr>
              <p:spPr>
                <a:xfrm>
                  <a:off x="4299840" y="4919400"/>
                  <a:ext cx="336960" cy="45216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4597560" y="4876920"/>
                  <a:ext cx="275760" cy="36216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4863960" y="5274000"/>
                  <a:ext cx="439920" cy="5821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>
                  <a:off x="4001760" y="5541120"/>
                  <a:ext cx="499680" cy="6739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4735080" y="5631480"/>
                  <a:ext cx="370080" cy="4932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3867840" y="5677560"/>
                  <a:ext cx="271080" cy="3571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>
                  <a:off x="3831840" y="5364000"/>
                  <a:ext cx="270720" cy="36216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3963960" y="5004720"/>
                  <a:ext cx="443160" cy="5886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>
                  <a:off x="4367520" y="5718240"/>
                  <a:ext cx="438120" cy="5868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>
                  <a:off x="4935240" y="5049360"/>
                  <a:ext cx="332280" cy="4536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>
                  <a:off x="4832640" y="4876920"/>
                  <a:ext cx="307080" cy="40644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>
                  <a:off x="3949920" y="4987440"/>
                  <a:ext cx="1279440" cy="1132200"/>
                </a:xfrm>
                <a:custGeom>
                  <a:avLst/>
                  <a:gdLst/>
                  <a:ahLst/>
                  <a:rect l="l" t="t" r="r" b="b"/>
                  <a:pathLst>
                    <a:path w="812" h="716">
                      <a:moveTo>
                        <a:pt x="249" y="71"/>
                      </a:moveTo>
                      <a:lnTo>
                        <a:pt x="284" y="20"/>
                      </a:lnTo>
                      <a:lnTo>
                        <a:pt x="435" y="23"/>
                      </a:lnTo>
                      <a:lnTo>
                        <a:pt x="542" y="0"/>
                      </a:lnTo>
                      <a:lnTo>
                        <a:pt x="676" y="85"/>
                      </a:lnTo>
                      <a:lnTo>
                        <a:pt x="746" y="62"/>
                      </a:lnTo>
                      <a:lnTo>
                        <a:pt x="782" y="71"/>
                      </a:lnTo>
                      <a:lnTo>
                        <a:pt x="789" y="283"/>
                      </a:lnTo>
                      <a:lnTo>
                        <a:pt x="811" y="318"/>
                      </a:lnTo>
                      <a:lnTo>
                        <a:pt x="747" y="482"/>
                      </a:lnTo>
                      <a:lnTo>
                        <a:pt x="680" y="369"/>
                      </a:lnTo>
                      <a:lnTo>
                        <a:pt x="661" y="429"/>
                      </a:lnTo>
                      <a:lnTo>
                        <a:pt x="566" y="652"/>
                      </a:lnTo>
                      <a:lnTo>
                        <a:pt x="244" y="715"/>
                      </a:lnTo>
                      <a:lnTo>
                        <a:pt x="79" y="671"/>
                      </a:lnTo>
                      <a:lnTo>
                        <a:pt x="27" y="530"/>
                      </a:lnTo>
                      <a:lnTo>
                        <a:pt x="27" y="387"/>
                      </a:lnTo>
                      <a:lnTo>
                        <a:pt x="0" y="268"/>
                      </a:lnTo>
                      <a:lnTo>
                        <a:pt x="249" y="71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44" name=""/>
            <p:cNvGrpSpPr/>
            <p:nvPr/>
          </p:nvGrpSpPr>
          <p:grpSpPr>
            <a:xfrm>
              <a:off x="3899520" y="5065200"/>
              <a:ext cx="1265760" cy="864720"/>
              <a:chOff x="3899520" y="5065200"/>
              <a:chExt cx="1265760" cy="864720"/>
            </a:xfrm>
          </p:grpSpPr>
          <p:sp>
            <p:nvSpPr>
              <p:cNvPr id="2245" name=""/>
              <p:cNvSpPr/>
              <p:nvPr/>
            </p:nvSpPr>
            <p:spPr>
              <a:xfrm>
                <a:off x="3899520" y="5065200"/>
                <a:ext cx="1265760" cy="53748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3899520" y="5393880"/>
                <a:ext cx="1233720" cy="536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47" name=""/>
          <p:cNvGrpSpPr/>
          <p:nvPr/>
        </p:nvGrpSpPr>
        <p:grpSpPr>
          <a:xfrm>
            <a:off x="5029200" y="5105520"/>
            <a:ext cx="511200" cy="330120"/>
            <a:chOff x="5029200" y="5105520"/>
            <a:chExt cx="511200" cy="330120"/>
          </a:xfrm>
        </p:grpSpPr>
        <p:grpSp>
          <p:nvGrpSpPr>
            <p:cNvPr id="2248" name=""/>
            <p:cNvGrpSpPr/>
            <p:nvPr/>
          </p:nvGrpSpPr>
          <p:grpSpPr>
            <a:xfrm>
              <a:off x="5029920" y="5148000"/>
              <a:ext cx="322560" cy="287640"/>
              <a:chOff x="5029920" y="5148000"/>
              <a:chExt cx="322560" cy="287640"/>
            </a:xfrm>
          </p:grpSpPr>
          <p:sp>
            <p:nvSpPr>
              <p:cNvPr id="2249" name=""/>
              <p:cNvSpPr/>
              <p:nvPr/>
            </p:nvSpPr>
            <p:spPr>
              <a:xfrm>
                <a:off x="5029920" y="51480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5029920" y="51480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51" name=""/>
            <p:cNvGrpSpPr/>
            <p:nvPr/>
          </p:nvGrpSpPr>
          <p:grpSpPr>
            <a:xfrm>
              <a:off x="5352480" y="5157720"/>
              <a:ext cx="186120" cy="277920"/>
              <a:chOff x="5352480" y="5157720"/>
              <a:chExt cx="186120" cy="277920"/>
            </a:xfrm>
          </p:grpSpPr>
          <p:sp>
            <p:nvSpPr>
              <p:cNvPr id="2252" name=""/>
              <p:cNvSpPr/>
              <p:nvPr/>
            </p:nvSpPr>
            <p:spPr>
              <a:xfrm>
                <a:off x="5352480" y="51577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5352480" y="51577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54" name=""/>
            <p:cNvGrpSpPr/>
            <p:nvPr/>
          </p:nvGrpSpPr>
          <p:grpSpPr>
            <a:xfrm>
              <a:off x="5029200" y="5105520"/>
              <a:ext cx="511200" cy="115920"/>
              <a:chOff x="5029200" y="5105520"/>
              <a:chExt cx="511200" cy="115920"/>
            </a:xfrm>
          </p:grpSpPr>
          <p:sp>
            <p:nvSpPr>
              <p:cNvPr id="2255" name=""/>
              <p:cNvSpPr/>
              <p:nvPr/>
            </p:nvSpPr>
            <p:spPr>
              <a:xfrm>
                <a:off x="5029200" y="51055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5029200" y="51055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57" name=""/>
            <p:cNvSpPr/>
            <p:nvPr/>
          </p:nvSpPr>
          <p:spPr>
            <a:xfrm>
              <a:off x="5049360" y="517392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049360" y="523584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049360" y="517392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60" name=""/>
            <p:cNvGrpSpPr/>
            <p:nvPr/>
          </p:nvGrpSpPr>
          <p:grpSpPr>
            <a:xfrm>
              <a:off x="5068440" y="5196600"/>
              <a:ext cx="132840" cy="56160"/>
              <a:chOff x="5068440" y="5196600"/>
              <a:chExt cx="132840" cy="56160"/>
            </a:xfrm>
          </p:grpSpPr>
          <p:sp>
            <p:nvSpPr>
              <p:cNvPr id="2261" name=""/>
              <p:cNvSpPr/>
              <p:nvPr/>
            </p:nvSpPr>
            <p:spPr>
              <a:xfrm>
                <a:off x="5068440" y="51966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5068440" y="51966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3" name=""/>
            <p:cNvGrpSpPr/>
            <p:nvPr/>
          </p:nvGrpSpPr>
          <p:grpSpPr>
            <a:xfrm>
              <a:off x="5067000" y="5256720"/>
              <a:ext cx="83160" cy="83880"/>
              <a:chOff x="5067000" y="5256720"/>
              <a:chExt cx="83160" cy="83880"/>
            </a:xfrm>
          </p:grpSpPr>
          <p:sp>
            <p:nvSpPr>
              <p:cNvPr id="2264" name=""/>
              <p:cNvSpPr/>
              <p:nvPr/>
            </p:nvSpPr>
            <p:spPr>
              <a:xfrm>
                <a:off x="5067000" y="52567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5067000" y="52567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66" name=""/>
          <p:cNvGrpSpPr/>
          <p:nvPr/>
        </p:nvGrpSpPr>
        <p:grpSpPr>
          <a:xfrm>
            <a:off x="3886200" y="5562720"/>
            <a:ext cx="507960" cy="330120"/>
            <a:chOff x="3886200" y="5562720"/>
            <a:chExt cx="507960" cy="330120"/>
          </a:xfrm>
        </p:grpSpPr>
        <p:grpSp>
          <p:nvGrpSpPr>
            <p:cNvPr id="2267" name=""/>
            <p:cNvGrpSpPr/>
            <p:nvPr/>
          </p:nvGrpSpPr>
          <p:grpSpPr>
            <a:xfrm>
              <a:off x="3886920" y="5605200"/>
              <a:ext cx="320400" cy="287640"/>
              <a:chOff x="3886920" y="5605200"/>
              <a:chExt cx="320400" cy="287640"/>
            </a:xfrm>
          </p:grpSpPr>
          <p:sp>
            <p:nvSpPr>
              <p:cNvPr id="2268" name=""/>
              <p:cNvSpPr/>
              <p:nvPr/>
            </p:nvSpPr>
            <p:spPr>
              <a:xfrm>
                <a:off x="3886920" y="5605200"/>
                <a:ext cx="32040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3886920" y="5605200"/>
                <a:ext cx="32040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70" name=""/>
            <p:cNvGrpSpPr/>
            <p:nvPr/>
          </p:nvGrpSpPr>
          <p:grpSpPr>
            <a:xfrm>
              <a:off x="4207680" y="5614920"/>
              <a:ext cx="184680" cy="277920"/>
              <a:chOff x="4207680" y="5614920"/>
              <a:chExt cx="184680" cy="277920"/>
            </a:xfrm>
          </p:grpSpPr>
          <p:sp>
            <p:nvSpPr>
              <p:cNvPr id="2271" name=""/>
              <p:cNvSpPr/>
              <p:nvPr/>
            </p:nvSpPr>
            <p:spPr>
              <a:xfrm>
                <a:off x="4207680" y="5614920"/>
                <a:ext cx="18468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4207680" y="5614920"/>
                <a:ext cx="18468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73" name=""/>
            <p:cNvGrpSpPr/>
            <p:nvPr/>
          </p:nvGrpSpPr>
          <p:grpSpPr>
            <a:xfrm>
              <a:off x="3886200" y="5562720"/>
              <a:ext cx="507960" cy="115920"/>
              <a:chOff x="3886200" y="5562720"/>
              <a:chExt cx="507960" cy="115920"/>
            </a:xfrm>
          </p:grpSpPr>
          <p:sp>
            <p:nvSpPr>
              <p:cNvPr id="2274" name=""/>
              <p:cNvSpPr/>
              <p:nvPr/>
            </p:nvSpPr>
            <p:spPr>
              <a:xfrm>
                <a:off x="3886200" y="556272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3886200" y="556272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76" name=""/>
            <p:cNvSpPr/>
            <p:nvPr/>
          </p:nvSpPr>
          <p:spPr>
            <a:xfrm>
              <a:off x="3906360" y="5631120"/>
              <a:ext cx="2707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906360" y="5693040"/>
              <a:ext cx="2707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906360" y="5631120"/>
              <a:ext cx="2692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9" name=""/>
            <p:cNvGrpSpPr/>
            <p:nvPr/>
          </p:nvGrpSpPr>
          <p:grpSpPr>
            <a:xfrm>
              <a:off x="3925080" y="5653800"/>
              <a:ext cx="132120" cy="56160"/>
              <a:chOff x="3925080" y="5653800"/>
              <a:chExt cx="132120" cy="56160"/>
            </a:xfrm>
          </p:grpSpPr>
          <p:sp>
            <p:nvSpPr>
              <p:cNvPr id="2280" name=""/>
              <p:cNvSpPr/>
              <p:nvPr/>
            </p:nvSpPr>
            <p:spPr>
              <a:xfrm>
                <a:off x="3925080" y="565380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3925080" y="565380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82" name=""/>
            <p:cNvGrpSpPr/>
            <p:nvPr/>
          </p:nvGrpSpPr>
          <p:grpSpPr>
            <a:xfrm>
              <a:off x="3923640" y="5713920"/>
              <a:ext cx="82440" cy="83880"/>
              <a:chOff x="3923640" y="5713920"/>
              <a:chExt cx="82440" cy="83880"/>
            </a:xfrm>
          </p:grpSpPr>
          <p:sp>
            <p:nvSpPr>
              <p:cNvPr id="2283" name=""/>
              <p:cNvSpPr/>
              <p:nvPr/>
            </p:nvSpPr>
            <p:spPr>
              <a:xfrm>
                <a:off x="3923640" y="5713920"/>
                <a:ext cx="8244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3923640" y="5713920"/>
                <a:ext cx="8244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5" name=""/>
          <p:cNvGrpSpPr/>
          <p:nvPr/>
        </p:nvGrpSpPr>
        <p:grpSpPr>
          <a:xfrm>
            <a:off x="4419720" y="5257800"/>
            <a:ext cx="511200" cy="330120"/>
            <a:chOff x="4419720" y="5257800"/>
            <a:chExt cx="511200" cy="330120"/>
          </a:xfrm>
        </p:grpSpPr>
        <p:grpSp>
          <p:nvGrpSpPr>
            <p:cNvPr id="2286" name=""/>
            <p:cNvGrpSpPr/>
            <p:nvPr/>
          </p:nvGrpSpPr>
          <p:grpSpPr>
            <a:xfrm>
              <a:off x="4420440" y="5300280"/>
              <a:ext cx="322560" cy="287640"/>
              <a:chOff x="4420440" y="5300280"/>
              <a:chExt cx="322560" cy="287640"/>
            </a:xfrm>
          </p:grpSpPr>
          <p:sp>
            <p:nvSpPr>
              <p:cNvPr id="2287" name=""/>
              <p:cNvSpPr/>
              <p:nvPr/>
            </p:nvSpPr>
            <p:spPr>
              <a:xfrm>
                <a:off x="4420440" y="53002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4420440" y="53002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89" name=""/>
            <p:cNvGrpSpPr/>
            <p:nvPr/>
          </p:nvGrpSpPr>
          <p:grpSpPr>
            <a:xfrm>
              <a:off x="4743000" y="5310000"/>
              <a:ext cx="186120" cy="277920"/>
              <a:chOff x="4743000" y="5310000"/>
              <a:chExt cx="186120" cy="277920"/>
            </a:xfrm>
          </p:grpSpPr>
          <p:sp>
            <p:nvSpPr>
              <p:cNvPr id="2290" name=""/>
              <p:cNvSpPr/>
              <p:nvPr/>
            </p:nvSpPr>
            <p:spPr>
              <a:xfrm>
                <a:off x="4743000" y="53100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4743000" y="53100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92" name=""/>
            <p:cNvGrpSpPr/>
            <p:nvPr/>
          </p:nvGrpSpPr>
          <p:grpSpPr>
            <a:xfrm>
              <a:off x="4419720" y="5257800"/>
              <a:ext cx="511200" cy="115920"/>
              <a:chOff x="4419720" y="5257800"/>
              <a:chExt cx="511200" cy="115920"/>
            </a:xfrm>
          </p:grpSpPr>
          <p:sp>
            <p:nvSpPr>
              <p:cNvPr id="2293" name=""/>
              <p:cNvSpPr/>
              <p:nvPr/>
            </p:nvSpPr>
            <p:spPr>
              <a:xfrm>
                <a:off x="4419720" y="52578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4419720" y="52578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95" name=""/>
            <p:cNvSpPr/>
            <p:nvPr/>
          </p:nvSpPr>
          <p:spPr>
            <a:xfrm>
              <a:off x="4439880" y="532620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4439880" y="538812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439880" y="532620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8" name=""/>
            <p:cNvGrpSpPr/>
            <p:nvPr/>
          </p:nvGrpSpPr>
          <p:grpSpPr>
            <a:xfrm>
              <a:off x="4458960" y="5348880"/>
              <a:ext cx="132840" cy="56160"/>
              <a:chOff x="4458960" y="5348880"/>
              <a:chExt cx="132840" cy="56160"/>
            </a:xfrm>
          </p:grpSpPr>
          <p:sp>
            <p:nvSpPr>
              <p:cNvPr id="2299" name=""/>
              <p:cNvSpPr/>
              <p:nvPr/>
            </p:nvSpPr>
            <p:spPr>
              <a:xfrm>
                <a:off x="4458960" y="53488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4458960" y="53488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01" name=""/>
            <p:cNvGrpSpPr/>
            <p:nvPr/>
          </p:nvGrpSpPr>
          <p:grpSpPr>
            <a:xfrm>
              <a:off x="4457520" y="5409000"/>
              <a:ext cx="83160" cy="83880"/>
              <a:chOff x="4457520" y="5409000"/>
              <a:chExt cx="83160" cy="83880"/>
            </a:xfrm>
          </p:grpSpPr>
          <p:sp>
            <p:nvSpPr>
              <p:cNvPr id="2302" name=""/>
              <p:cNvSpPr/>
              <p:nvPr/>
            </p:nvSpPr>
            <p:spPr>
              <a:xfrm>
                <a:off x="4457520" y="54090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4457520" y="54090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04" name=""/>
          <p:cNvGrpSpPr/>
          <p:nvPr/>
        </p:nvGrpSpPr>
        <p:grpSpPr>
          <a:xfrm>
            <a:off x="2438280" y="4492800"/>
            <a:ext cx="990720" cy="631800"/>
            <a:chOff x="2438280" y="4492800"/>
            <a:chExt cx="990720" cy="631800"/>
          </a:xfrm>
        </p:grpSpPr>
        <p:grpSp>
          <p:nvGrpSpPr>
            <p:cNvPr id="2305" name=""/>
            <p:cNvGrpSpPr/>
            <p:nvPr/>
          </p:nvGrpSpPr>
          <p:grpSpPr>
            <a:xfrm>
              <a:off x="2439720" y="4574160"/>
              <a:ext cx="624960" cy="550440"/>
              <a:chOff x="2439720" y="4574160"/>
              <a:chExt cx="624960" cy="550440"/>
            </a:xfrm>
          </p:grpSpPr>
          <p:sp>
            <p:nvSpPr>
              <p:cNvPr id="2306" name=""/>
              <p:cNvSpPr/>
              <p:nvPr/>
            </p:nvSpPr>
            <p:spPr>
              <a:xfrm>
                <a:off x="2439720" y="4574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2439720" y="4574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08" name=""/>
            <p:cNvGrpSpPr/>
            <p:nvPr/>
          </p:nvGrpSpPr>
          <p:grpSpPr>
            <a:xfrm>
              <a:off x="3065040" y="4592880"/>
              <a:ext cx="360360" cy="531720"/>
              <a:chOff x="3065040" y="4592880"/>
              <a:chExt cx="360360" cy="531720"/>
            </a:xfrm>
          </p:grpSpPr>
          <p:sp>
            <p:nvSpPr>
              <p:cNvPr id="2309" name=""/>
              <p:cNvSpPr/>
              <p:nvPr/>
            </p:nvSpPr>
            <p:spPr>
              <a:xfrm>
                <a:off x="3065040" y="4592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3065040" y="4592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11" name=""/>
            <p:cNvGrpSpPr/>
            <p:nvPr/>
          </p:nvGrpSpPr>
          <p:grpSpPr>
            <a:xfrm>
              <a:off x="2438280" y="4492800"/>
              <a:ext cx="990720" cy="221760"/>
              <a:chOff x="2438280" y="4492800"/>
              <a:chExt cx="990720" cy="221760"/>
            </a:xfrm>
          </p:grpSpPr>
          <p:sp>
            <p:nvSpPr>
              <p:cNvPr id="2312" name=""/>
              <p:cNvSpPr/>
              <p:nvPr/>
            </p:nvSpPr>
            <p:spPr>
              <a:xfrm>
                <a:off x="2438280" y="4492800"/>
                <a:ext cx="99072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2438280" y="4492800"/>
                <a:ext cx="99072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14" name=""/>
            <p:cNvSpPr/>
            <p:nvPr/>
          </p:nvSpPr>
          <p:spPr>
            <a:xfrm>
              <a:off x="2477520" y="4623840"/>
              <a:ext cx="527760" cy="4453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477520" y="4742640"/>
              <a:ext cx="527760" cy="32616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477520" y="4623840"/>
              <a:ext cx="525240" cy="2908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17" name=""/>
            <p:cNvGrpSpPr/>
            <p:nvPr/>
          </p:nvGrpSpPr>
          <p:grpSpPr>
            <a:xfrm>
              <a:off x="2514240" y="4667040"/>
              <a:ext cx="257760" cy="107640"/>
              <a:chOff x="2514240" y="4667040"/>
              <a:chExt cx="257760" cy="107640"/>
            </a:xfrm>
          </p:grpSpPr>
          <p:sp>
            <p:nvSpPr>
              <p:cNvPr id="2318" name=""/>
              <p:cNvSpPr/>
              <p:nvPr/>
            </p:nvSpPr>
            <p:spPr>
              <a:xfrm>
                <a:off x="2514240" y="4667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2514240" y="4667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20" name=""/>
            <p:cNvGrpSpPr/>
            <p:nvPr/>
          </p:nvGrpSpPr>
          <p:grpSpPr>
            <a:xfrm>
              <a:off x="2511720" y="4781880"/>
              <a:ext cx="161280" cy="160920"/>
              <a:chOff x="2511720" y="4781880"/>
              <a:chExt cx="161280" cy="160920"/>
            </a:xfrm>
          </p:grpSpPr>
          <p:sp>
            <p:nvSpPr>
              <p:cNvPr id="2321" name=""/>
              <p:cNvSpPr/>
              <p:nvPr/>
            </p:nvSpPr>
            <p:spPr>
              <a:xfrm>
                <a:off x="2511720" y="4781880"/>
                <a:ext cx="16128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2511720" y="4781880"/>
                <a:ext cx="16128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23" name=""/>
          <p:cNvGrpSpPr/>
          <p:nvPr/>
        </p:nvGrpSpPr>
        <p:grpSpPr>
          <a:xfrm>
            <a:off x="3657600" y="5029200"/>
            <a:ext cx="511200" cy="330120"/>
            <a:chOff x="3657600" y="5029200"/>
            <a:chExt cx="511200" cy="330120"/>
          </a:xfrm>
        </p:grpSpPr>
        <p:grpSp>
          <p:nvGrpSpPr>
            <p:cNvPr id="2324" name=""/>
            <p:cNvGrpSpPr/>
            <p:nvPr/>
          </p:nvGrpSpPr>
          <p:grpSpPr>
            <a:xfrm>
              <a:off x="3658320" y="5071680"/>
              <a:ext cx="322560" cy="287640"/>
              <a:chOff x="3658320" y="5071680"/>
              <a:chExt cx="322560" cy="287640"/>
            </a:xfrm>
          </p:grpSpPr>
          <p:sp>
            <p:nvSpPr>
              <p:cNvPr id="2325" name=""/>
              <p:cNvSpPr/>
              <p:nvPr/>
            </p:nvSpPr>
            <p:spPr>
              <a:xfrm>
                <a:off x="3658320" y="50716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3658320" y="50716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27" name=""/>
            <p:cNvGrpSpPr/>
            <p:nvPr/>
          </p:nvGrpSpPr>
          <p:grpSpPr>
            <a:xfrm>
              <a:off x="3980880" y="5081400"/>
              <a:ext cx="186120" cy="277920"/>
              <a:chOff x="3980880" y="5081400"/>
              <a:chExt cx="186120" cy="277920"/>
            </a:xfrm>
          </p:grpSpPr>
          <p:sp>
            <p:nvSpPr>
              <p:cNvPr id="2328" name=""/>
              <p:cNvSpPr/>
              <p:nvPr/>
            </p:nvSpPr>
            <p:spPr>
              <a:xfrm>
                <a:off x="3980880" y="50814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3980880" y="50814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0" name=""/>
            <p:cNvGrpSpPr/>
            <p:nvPr/>
          </p:nvGrpSpPr>
          <p:grpSpPr>
            <a:xfrm>
              <a:off x="3657600" y="5029200"/>
              <a:ext cx="511200" cy="115920"/>
              <a:chOff x="3657600" y="5029200"/>
              <a:chExt cx="511200" cy="115920"/>
            </a:xfrm>
          </p:grpSpPr>
          <p:sp>
            <p:nvSpPr>
              <p:cNvPr id="2331" name=""/>
              <p:cNvSpPr/>
              <p:nvPr/>
            </p:nvSpPr>
            <p:spPr>
              <a:xfrm>
                <a:off x="3657600" y="50292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3657600" y="50292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33" name=""/>
            <p:cNvSpPr/>
            <p:nvPr/>
          </p:nvSpPr>
          <p:spPr>
            <a:xfrm>
              <a:off x="3677760" y="509760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3677760" y="515952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3677760" y="509760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36" name=""/>
            <p:cNvGrpSpPr/>
            <p:nvPr/>
          </p:nvGrpSpPr>
          <p:grpSpPr>
            <a:xfrm>
              <a:off x="3696840" y="5120280"/>
              <a:ext cx="132840" cy="56160"/>
              <a:chOff x="3696840" y="5120280"/>
              <a:chExt cx="132840" cy="56160"/>
            </a:xfrm>
          </p:grpSpPr>
          <p:sp>
            <p:nvSpPr>
              <p:cNvPr id="2337" name=""/>
              <p:cNvSpPr/>
              <p:nvPr/>
            </p:nvSpPr>
            <p:spPr>
              <a:xfrm>
                <a:off x="3696840" y="51202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3696840" y="51202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39" name=""/>
            <p:cNvGrpSpPr/>
            <p:nvPr/>
          </p:nvGrpSpPr>
          <p:grpSpPr>
            <a:xfrm>
              <a:off x="3695400" y="5180400"/>
              <a:ext cx="83160" cy="83880"/>
              <a:chOff x="3695400" y="5180400"/>
              <a:chExt cx="83160" cy="83880"/>
            </a:xfrm>
          </p:grpSpPr>
          <p:sp>
            <p:nvSpPr>
              <p:cNvPr id="2340" name=""/>
              <p:cNvSpPr/>
              <p:nvPr/>
            </p:nvSpPr>
            <p:spPr>
              <a:xfrm>
                <a:off x="3695400" y="51804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3695400" y="51804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2" name=""/>
          <p:cNvGrpSpPr/>
          <p:nvPr/>
        </p:nvGrpSpPr>
        <p:grpSpPr>
          <a:xfrm>
            <a:off x="4572000" y="5715000"/>
            <a:ext cx="511200" cy="330120"/>
            <a:chOff x="4572000" y="5715000"/>
            <a:chExt cx="511200" cy="330120"/>
          </a:xfrm>
        </p:grpSpPr>
        <p:grpSp>
          <p:nvGrpSpPr>
            <p:cNvPr id="2343" name=""/>
            <p:cNvGrpSpPr/>
            <p:nvPr/>
          </p:nvGrpSpPr>
          <p:grpSpPr>
            <a:xfrm>
              <a:off x="4572720" y="5757480"/>
              <a:ext cx="322560" cy="287640"/>
              <a:chOff x="4572720" y="5757480"/>
              <a:chExt cx="322560" cy="287640"/>
            </a:xfrm>
          </p:grpSpPr>
          <p:sp>
            <p:nvSpPr>
              <p:cNvPr id="2344" name=""/>
              <p:cNvSpPr/>
              <p:nvPr/>
            </p:nvSpPr>
            <p:spPr>
              <a:xfrm>
                <a:off x="4572720" y="57574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4572720" y="57574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46" name=""/>
            <p:cNvGrpSpPr/>
            <p:nvPr/>
          </p:nvGrpSpPr>
          <p:grpSpPr>
            <a:xfrm>
              <a:off x="4895280" y="5767200"/>
              <a:ext cx="186120" cy="277920"/>
              <a:chOff x="4895280" y="5767200"/>
              <a:chExt cx="186120" cy="277920"/>
            </a:xfrm>
          </p:grpSpPr>
          <p:sp>
            <p:nvSpPr>
              <p:cNvPr id="2347" name=""/>
              <p:cNvSpPr/>
              <p:nvPr/>
            </p:nvSpPr>
            <p:spPr>
              <a:xfrm>
                <a:off x="4895280" y="57672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4895280" y="57672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49" name=""/>
            <p:cNvGrpSpPr/>
            <p:nvPr/>
          </p:nvGrpSpPr>
          <p:grpSpPr>
            <a:xfrm>
              <a:off x="4572000" y="5715000"/>
              <a:ext cx="511200" cy="115920"/>
              <a:chOff x="4572000" y="5715000"/>
              <a:chExt cx="511200" cy="115920"/>
            </a:xfrm>
          </p:grpSpPr>
          <p:sp>
            <p:nvSpPr>
              <p:cNvPr id="2350" name=""/>
              <p:cNvSpPr/>
              <p:nvPr/>
            </p:nvSpPr>
            <p:spPr>
              <a:xfrm>
                <a:off x="4572000" y="57150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4572000" y="57150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52" name=""/>
            <p:cNvSpPr/>
            <p:nvPr/>
          </p:nvSpPr>
          <p:spPr>
            <a:xfrm>
              <a:off x="4592160" y="578340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592160" y="584532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592160" y="578340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55" name=""/>
            <p:cNvGrpSpPr/>
            <p:nvPr/>
          </p:nvGrpSpPr>
          <p:grpSpPr>
            <a:xfrm>
              <a:off x="4611240" y="5806080"/>
              <a:ext cx="132840" cy="56160"/>
              <a:chOff x="4611240" y="5806080"/>
              <a:chExt cx="132840" cy="56160"/>
            </a:xfrm>
          </p:grpSpPr>
          <p:sp>
            <p:nvSpPr>
              <p:cNvPr id="2356" name=""/>
              <p:cNvSpPr/>
              <p:nvPr/>
            </p:nvSpPr>
            <p:spPr>
              <a:xfrm>
                <a:off x="4611240" y="58060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4611240" y="58060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58" name=""/>
            <p:cNvGrpSpPr/>
            <p:nvPr/>
          </p:nvGrpSpPr>
          <p:grpSpPr>
            <a:xfrm>
              <a:off x="4609800" y="5866200"/>
              <a:ext cx="83160" cy="83880"/>
              <a:chOff x="4609800" y="5866200"/>
              <a:chExt cx="83160" cy="83880"/>
            </a:xfrm>
          </p:grpSpPr>
          <p:sp>
            <p:nvSpPr>
              <p:cNvPr id="2359" name=""/>
              <p:cNvSpPr/>
              <p:nvPr/>
            </p:nvSpPr>
            <p:spPr>
              <a:xfrm>
                <a:off x="4609800" y="58662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4609800" y="58662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61" name=""/>
          <p:cNvSpPr/>
          <p:nvPr/>
        </p:nvSpPr>
        <p:spPr>
          <a:xfrm flipH="1" flipV="1">
            <a:off x="6019920" y="4250880"/>
            <a:ext cx="218880" cy="352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 flipV="1">
            <a:off x="7837560" y="2684520"/>
            <a:ext cx="274680" cy="511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V="1">
            <a:off x="7966080" y="3115800"/>
            <a:ext cx="415800" cy="187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7940520" y="3425760"/>
            <a:ext cx="490680" cy="214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 flipV="1">
            <a:off x="7238880" y="3580920"/>
            <a:ext cx="255600" cy="335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 flipH="1" flipV="1">
            <a:off x="7043400" y="349704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 flipH="1" flipV="1">
            <a:off x="6721200" y="3582720"/>
            <a:ext cx="127080" cy="36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8" name=""/>
          <p:cNvGrpSpPr/>
          <p:nvPr/>
        </p:nvGrpSpPr>
        <p:grpSpPr>
          <a:xfrm>
            <a:off x="6656400" y="3860640"/>
            <a:ext cx="735120" cy="479520"/>
            <a:chOff x="6656400" y="3860640"/>
            <a:chExt cx="735120" cy="479520"/>
          </a:xfrm>
        </p:grpSpPr>
        <p:grpSp>
          <p:nvGrpSpPr>
            <p:cNvPr id="2369" name=""/>
            <p:cNvGrpSpPr/>
            <p:nvPr/>
          </p:nvGrpSpPr>
          <p:grpSpPr>
            <a:xfrm>
              <a:off x="6926400" y="3922200"/>
              <a:ext cx="464040" cy="417960"/>
              <a:chOff x="6926400" y="3922200"/>
              <a:chExt cx="464040" cy="417960"/>
            </a:xfrm>
          </p:grpSpPr>
          <p:sp>
            <p:nvSpPr>
              <p:cNvPr id="2370" name=""/>
              <p:cNvSpPr/>
              <p:nvPr/>
            </p:nvSpPr>
            <p:spPr>
              <a:xfrm flipH="1">
                <a:off x="6926040" y="3922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flipH="1">
                <a:off x="6926040" y="3922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72" name=""/>
            <p:cNvGrpSpPr/>
            <p:nvPr/>
          </p:nvGrpSpPr>
          <p:grpSpPr>
            <a:xfrm>
              <a:off x="6658920" y="3936600"/>
              <a:ext cx="267480" cy="403560"/>
              <a:chOff x="6658920" y="3936600"/>
              <a:chExt cx="267480" cy="403560"/>
            </a:xfrm>
          </p:grpSpPr>
          <p:sp>
            <p:nvSpPr>
              <p:cNvPr id="2373" name=""/>
              <p:cNvSpPr/>
              <p:nvPr/>
            </p:nvSpPr>
            <p:spPr>
              <a:xfrm flipH="1">
                <a:off x="6658560" y="3936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 flipH="1">
                <a:off x="6658560" y="3936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75" name=""/>
            <p:cNvGrpSpPr/>
            <p:nvPr/>
          </p:nvGrpSpPr>
          <p:grpSpPr>
            <a:xfrm>
              <a:off x="6656400" y="3860640"/>
              <a:ext cx="735120" cy="168120"/>
              <a:chOff x="6656400" y="3860640"/>
              <a:chExt cx="735120" cy="168120"/>
            </a:xfrm>
          </p:grpSpPr>
          <p:sp>
            <p:nvSpPr>
              <p:cNvPr id="2376" name=""/>
              <p:cNvSpPr/>
              <p:nvPr/>
            </p:nvSpPr>
            <p:spPr>
              <a:xfrm flipH="1">
                <a:off x="6656400" y="3860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flipH="1">
                <a:off x="6656400" y="3860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78" name=""/>
            <p:cNvSpPr/>
            <p:nvPr/>
          </p:nvSpPr>
          <p:spPr>
            <a:xfrm flipH="1">
              <a:off x="6970680" y="3960000"/>
              <a:ext cx="391680" cy="33804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H="1">
              <a:off x="6970680" y="4050360"/>
              <a:ext cx="391680" cy="24768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H="1">
              <a:off x="6972840" y="3960000"/>
              <a:ext cx="389520" cy="2206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81" name=""/>
            <p:cNvGrpSpPr/>
            <p:nvPr/>
          </p:nvGrpSpPr>
          <p:grpSpPr>
            <a:xfrm>
              <a:off x="7143840" y="3993120"/>
              <a:ext cx="191160" cy="81720"/>
              <a:chOff x="7143840" y="3993120"/>
              <a:chExt cx="191160" cy="81720"/>
            </a:xfrm>
          </p:grpSpPr>
          <p:sp>
            <p:nvSpPr>
              <p:cNvPr id="2382" name=""/>
              <p:cNvSpPr/>
              <p:nvPr/>
            </p:nvSpPr>
            <p:spPr>
              <a:xfrm flipH="1">
                <a:off x="7143480" y="3993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flipH="1">
                <a:off x="7143480" y="3993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84" name=""/>
            <p:cNvGrpSpPr/>
            <p:nvPr/>
          </p:nvGrpSpPr>
          <p:grpSpPr>
            <a:xfrm>
              <a:off x="7217640" y="4080240"/>
              <a:ext cx="119520" cy="122040"/>
              <a:chOff x="7217640" y="4080240"/>
              <a:chExt cx="119520" cy="122040"/>
            </a:xfrm>
          </p:grpSpPr>
          <p:sp>
            <p:nvSpPr>
              <p:cNvPr id="2385" name=""/>
              <p:cNvSpPr/>
              <p:nvPr/>
            </p:nvSpPr>
            <p:spPr>
              <a:xfrm flipH="1">
                <a:off x="7217640" y="4080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flipH="1">
                <a:off x="7217640" y="4080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87" name=""/>
          <p:cNvGrpSpPr/>
          <p:nvPr/>
        </p:nvGrpSpPr>
        <p:grpSpPr>
          <a:xfrm>
            <a:off x="8272440" y="3409920"/>
            <a:ext cx="512640" cy="546120"/>
            <a:chOff x="8272440" y="3409920"/>
            <a:chExt cx="512640" cy="546120"/>
          </a:xfrm>
        </p:grpSpPr>
        <p:grpSp>
          <p:nvGrpSpPr>
            <p:cNvPr id="2388" name=""/>
            <p:cNvGrpSpPr/>
            <p:nvPr/>
          </p:nvGrpSpPr>
          <p:grpSpPr>
            <a:xfrm>
              <a:off x="8609040" y="3762360"/>
              <a:ext cx="176040" cy="193680"/>
              <a:chOff x="8609040" y="3762360"/>
              <a:chExt cx="176040" cy="193680"/>
            </a:xfrm>
          </p:grpSpPr>
          <p:sp>
            <p:nvSpPr>
              <p:cNvPr id="2389" name=""/>
              <p:cNvSpPr/>
              <p:nvPr/>
            </p:nvSpPr>
            <p:spPr>
              <a:xfrm flipH="1">
                <a:off x="8608680" y="3762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 flipH="1">
                <a:off x="8608680" y="3762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91" name=""/>
            <p:cNvGrpSpPr/>
            <p:nvPr/>
          </p:nvGrpSpPr>
          <p:grpSpPr>
            <a:xfrm>
              <a:off x="8272440" y="3690720"/>
              <a:ext cx="512640" cy="176400"/>
              <a:chOff x="8272440" y="3690720"/>
              <a:chExt cx="512640" cy="176400"/>
            </a:xfrm>
          </p:grpSpPr>
          <p:sp>
            <p:nvSpPr>
              <p:cNvPr id="2392" name=""/>
              <p:cNvSpPr/>
              <p:nvPr/>
            </p:nvSpPr>
            <p:spPr>
              <a:xfrm flipH="1">
                <a:off x="8272440" y="369072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 flipH="1">
                <a:off x="8272440" y="369072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94" name=""/>
            <p:cNvGrpSpPr/>
            <p:nvPr/>
          </p:nvGrpSpPr>
          <p:grpSpPr>
            <a:xfrm>
              <a:off x="8272440" y="3778920"/>
              <a:ext cx="336600" cy="176760"/>
              <a:chOff x="8272440" y="3778920"/>
              <a:chExt cx="336600" cy="176760"/>
            </a:xfrm>
          </p:grpSpPr>
          <p:sp>
            <p:nvSpPr>
              <p:cNvPr id="2395" name=""/>
              <p:cNvSpPr/>
              <p:nvPr/>
            </p:nvSpPr>
            <p:spPr>
              <a:xfrm flipH="1">
                <a:off x="8272080" y="377892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 flipH="1">
                <a:off x="8272080" y="377892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7" name=""/>
            <p:cNvSpPr/>
            <p:nvPr/>
          </p:nvSpPr>
          <p:spPr>
            <a:xfrm flipH="1">
              <a:off x="8525520" y="386244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98" name=""/>
            <p:cNvGrpSpPr/>
            <p:nvPr/>
          </p:nvGrpSpPr>
          <p:grpSpPr>
            <a:xfrm>
              <a:off x="8288640" y="3799800"/>
              <a:ext cx="131760" cy="89640"/>
              <a:chOff x="8288640" y="3799800"/>
              <a:chExt cx="131760" cy="89640"/>
            </a:xfrm>
          </p:grpSpPr>
          <p:grpSp>
            <p:nvGrpSpPr>
              <p:cNvPr id="2399" name=""/>
              <p:cNvGrpSpPr/>
              <p:nvPr/>
            </p:nvGrpSpPr>
            <p:grpSpPr>
              <a:xfrm>
                <a:off x="8288640" y="3799800"/>
                <a:ext cx="131760" cy="89640"/>
                <a:chOff x="8288640" y="3799800"/>
                <a:chExt cx="131760" cy="89640"/>
              </a:xfrm>
            </p:grpSpPr>
            <p:sp>
              <p:nvSpPr>
                <p:cNvPr id="2400" name=""/>
                <p:cNvSpPr/>
                <p:nvPr/>
              </p:nvSpPr>
              <p:spPr>
                <a:xfrm flipH="1">
                  <a:off x="8288640" y="3799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 flipH="1">
                  <a:off x="8288640" y="3799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2" name=""/>
              <p:cNvSpPr/>
              <p:nvPr/>
            </p:nvSpPr>
            <p:spPr>
              <a:xfrm>
                <a:off x="8288640" y="383076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H="1">
                <a:off x="8327160" y="384696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 flipH="1">
                <a:off x="8327160" y="382068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05" name=""/>
            <p:cNvGrpSpPr/>
            <p:nvPr/>
          </p:nvGrpSpPr>
          <p:grpSpPr>
            <a:xfrm>
              <a:off x="8456040" y="3409920"/>
              <a:ext cx="308520" cy="301680"/>
              <a:chOff x="8456040" y="3409920"/>
              <a:chExt cx="308520" cy="301680"/>
            </a:xfrm>
          </p:grpSpPr>
          <p:sp>
            <p:nvSpPr>
              <p:cNvPr id="2406" name=""/>
              <p:cNvSpPr/>
              <p:nvPr/>
            </p:nvSpPr>
            <p:spPr>
              <a:xfrm flipH="1">
                <a:off x="8455680" y="340992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 flipH="1">
                <a:off x="8455680" y="340992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08" name=""/>
            <p:cNvGrpSpPr/>
            <p:nvPr/>
          </p:nvGrpSpPr>
          <p:grpSpPr>
            <a:xfrm>
              <a:off x="8608320" y="3488760"/>
              <a:ext cx="100440" cy="331200"/>
              <a:chOff x="8608320" y="3488760"/>
              <a:chExt cx="100440" cy="331200"/>
            </a:xfrm>
          </p:grpSpPr>
          <p:sp>
            <p:nvSpPr>
              <p:cNvPr id="2409" name=""/>
              <p:cNvSpPr/>
              <p:nvPr/>
            </p:nvSpPr>
            <p:spPr>
              <a:xfrm flipH="1">
                <a:off x="8607960" y="3488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 flipH="1">
                <a:off x="8607960" y="3488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11" name=""/>
            <p:cNvGrpSpPr/>
            <p:nvPr/>
          </p:nvGrpSpPr>
          <p:grpSpPr>
            <a:xfrm>
              <a:off x="8291520" y="3420720"/>
              <a:ext cx="417240" cy="122400"/>
              <a:chOff x="8291520" y="3420720"/>
              <a:chExt cx="417240" cy="122400"/>
            </a:xfrm>
          </p:grpSpPr>
          <p:sp>
            <p:nvSpPr>
              <p:cNvPr id="2412" name=""/>
              <p:cNvSpPr/>
              <p:nvPr/>
            </p:nvSpPr>
            <p:spPr>
              <a:xfrm flipH="1">
                <a:off x="8291160" y="342072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 flipH="1">
                <a:off x="8291160" y="342072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14" name=""/>
            <p:cNvGrpSpPr/>
            <p:nvPr/>
          </p:nvGrpSpPr>
          <p:grpSpPr>
            <a:xfrm>
              <a:off x="8353800" y="3755160"/>
              <a:ext cx="220320" cy="66960"/>
              <a:chOff x="8353800" y="3755160"/>
              <a:chExt cx="220320" cy="66960"/>
            </a:xfrm>
          </p:grpSpPr>
          <p:sp>
            <p:nvSpPr>
              <p:cNvPr id="2415" name=""/>
              <p:cNvSpPr/>
              <p:nvPr/>
            </p:nvSpPr>
            <p:spPr>
              <a:xfrm flipH="1">
                <a:off x="8353800" y="3755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 flipH="1">
                <a:off x="8353800" y="3755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17" name=""/>
            <p:cNvGrpSpPr/>
            <p:nvPr/>
          </p:nvGrpSpPr>
          <p:grpSpPr>
            <a:xfrm>
              <a:off x="8291880" y="3467520"/>
              <a:ext cx="316440" cy="353160"/>
              <a:chOff x="8291880" y="3467520"/>
              <a:chExt cx="316440" cy="353160"/>
            </a:xfrm>
          </p:grpSpPr>
          <p:sp>
            <p:nvSpPr>
              <p:cNvPr id="2418" name=""/>
              <p:cNvSpPr/>
              <p:nvPr/>
            </p:nvSpPr>
            <p:spPr>
              <a:xfrm flipH="1">
                <a:off x="8291520" y="346752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 flipH="1">
                <a:off x="8291520" y="346752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20" name=""/>
            <p:cNvGrpSpPr/>
            <p:nvPr/>
          </p:nvGrpSpPr>
          <p:grpSpPr>
            <a:xfrm>
              <a:off x="8331480" y="3507480"/>
              <a:ext cx="230760" cy="257400"/>
              <a:chOff x="8331480" y="3507480"/>
              <a:chExt cx="230760" cy="257400"/>
            </a:xfrm>
          </p:grpSpPr>
          <p:sp>
            <p:nvSpPr>
              <p:cNvPr id="2421" name=""/>
              <p:cNvSpPr/>
              <p:nvPr/>
            </p:nvSpPr>
            <p:spPr>
              <a:xfrm flipH="1">
                <a:off x="8331120" y="3507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flipH="1">
                <a:off x="8331120" y="3507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23" name=""/>
            <p:cNvSpPr/>
            <p:nvPr/>
          </p:nvSpPr>
          <p:spPr>
            <a:xfrm flipH="1">
              <a:off x="8349480" y="3525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 flipH="1">
              <a:off x="8349480" y="3525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 flipH="1">
              <a:off x="8511120" y="358200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 flipH="1">
              <a:off x="8379000" y="356328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7" name=""/>
          <p:cNvGrpSpPr/>
          <p:nvPr/>
        </p:nvGrpSpPr>
        <p:grpSpPr>
          <a:xfrm>
            <a:off x="8326440" y="2735280"/>
            <a:ext cx="512640" cy="546120"/>
            <a:chOff x="8326440" y="2735280"/>
            <a:chExt cx="512640" cy="546120"/>
          </a:xfrm>
        </p:grpSpPr>
        <p:grpSp>
          <p:nvGrpSpPr>
            <p:cNvPr id="2428" name=""/>
            <p:cNvGrpSpPr/>
            <p:nvPr/>
          </p:nvGrpSpPr>
          <p:grpSpPr>
            <a:xfrm>
              <a:off x="8663040" y="3087720"/>
              <a:ext cx="176040" cy="193680"/>
              <a:chOff x="8663040" y="3087720"/>
              <a:chExt cx="176040" cy="193680"/>
            </a:xfrm>
          </p:grpSpPr>
          <p:sp>
            <p:nvSpPr>
              <p:cNvPr id="2429" name=""/>
              <p:cNvSpPr/>
              <p:nvPr/>
            </p:nvSpPr>
            <p:spPr>
              <a:xfrm flipH="1">
                <a:off x="8662680" y="3087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flipH="1">
                <a:off x="8662680" y="3087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31" name=""/>
            <p:cNvGrpSpPr/>
            <p:nvPr/>
          </p:nvGrpSpPr>
          <p:grpSpPr>
            <a:xfrm>
              <a:off x="8326440" y="3016080"/>
              <a:ext cx="512640" cy="176400"/>
              <a:chOff x="8326440" y="3016080"/>
              <a:chExt cx="512640" cy="176400"/>
            </a:xfrm>
          </p:grpSpPr>
          <p:sp>
            <p:nvSpPr>
              <p:cNvPr id="2432" name=""/>
              <p:cNvSpPr/>
              <p:nvPr/>
            </p:nvSpPr>
            <p:spPr>
              <a:xfrm flipH="1">
                <a:off x="8326440" y="301608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H="1">
                <a:off x="8326440" y="301608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34" name=""/>
            <p:cNvGrpSpPr/>
            <p:nvPr/>
          </p:nvGrpSpPr>
          <p:grpSpPr>
            <a:xfrm>
              <a:off x="8326440" y="3104280"/>
              <a:ext cx="336600" cy="176760"/>
              <a:chOff x="8326440" y="3104280"/>
              <a:chExt cx="336600" cy="176760"/>
            </a:xfrm>
          </p:grpSpPr>
          <p:sp>
            <p:nvSpPr>
              <p:cNvPr id="2435" name=""/>
              <p:cNvSpPr/>
              <p:nvPr/>
            </p:nvSpPr>
            <p:spPr>
              <a:xfrm flipH="1">
                <a:off x="8326080" y="310428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H="1">
                <a:off x="8326080" y="310428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37" name=""/>
            <p:cNvSpPr/>
            <p:nvPr/>
          </p:nvSpPr>
          <p:spPr>
            <a:xfrm flipH="1">
              <a:off x="8579520" y="318780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8" name=""/>
            <p:cNvGrpSpPr/>
            <p:nvPr/>
          </p:nvGrpSpPr>
          <p:grpSpPr>
            <a:xfrm>
              <a:off x="8342640" y="3125160"/>
              <a:ext cx="131760" cy="89640"/>
              <a:chOff x="8342640" y="3125160"/>
              <a:chExt cx="131760" cy="89640"/>
            </a:xfrm>
          </p:grpSpPr>
          <p:grpSp>
            <p:nvGrpSpPr>
              <p:cNvPr id="2439" name=""/>
              <p:cNvGrpSpPr/>
              <p:nvPr/>
            </p:nvGrpSpPr>
            <p:grpSpPr>
              <a:xfrm>
                <a:off x="8342640" y="3125160"/>
                <a:ext cx="131760" cy="89640"/>
                <a:chOff x="8342640" y="3125160"/>
                <a:chExt cx="131760" cy="89640"/>
              </a:xfrm>
            </p:grpSpPr>
            <p:sp>
              <p:nvSpPr>
                <p:cNvPr id="2440" name=""/>
                <p:cNvSpPr/>
                <p:nvPr/>
              </p:nvSpPr>
              <p:spPr>
                <a:xfrm flipH="1">
                  <a:off x="8342640" y="3125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 flipH="1">
                  <a:off x="8342640" y="3125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2" name=""/>
              <p:cNvSpPr/>
              <p:nvPr/>
            </p:nvSpPr>
            <p:spPr>
              <a:xfrm>
                <a:off x="8342640" y="315612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H="1">
                <a:off x="8381160" y="317232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H="1">
                <a:off x="8381160" y="314604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45" name=""/>
            <p:cNvGrpSpPr/>
            <p:nvPr/>
          </p:nvGrpSpPr>
          <p:grpSpPr>
            <a:xfrm>
              <a:off x="8510040" y="2735280"/>
              <a:ext cx="308520" cy="301680"/>
              <a:chOff x="8510040" y="2735280"/>
              <a:chExt cx="308520" cy="301680"/>
            </a:xfrm>
          </p:grpSpPr>
          <p:sp>
            <p:nvSpPr>
              <p:cNvPr id="2446" name=""/>
              <p:cNvSpPr/>
              <p:nvPr/>
            </p:nvSpPr>
            <p:spPr>
              <a:xfrm flipH="1">
                <a:off x="8509680" y="273528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H="1">
                <a:off x="8509680" y="273528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48" name=""/>
            <p:cNvGrpSpPr/>
            <p:nvPr/>
          </p:nvGrpSpPr>
          <p:grpSpPr>
            <a:xfrm>
              <a:off x="8662320" y="2814120"/>
              <a:ext cx="100440" cy="331200"/>
              <a:chOff x="8662320" y="2814120"/>
              <a:chExt cx="100440" cy="331200"/>
            </a:xfrm>
          </p:grpSpPr>
          <p:sp>
            <p:nvSpPr>
              <p:cNvPr id="2449" name=""/>
              <p:cNvSpPr/>
              <p:nvPr/>
            </p:nvSpPr>
            <p:spPr>
              <a:xfrm flipH="1">
                <a:off x="8661960" y="2814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H="1">
                <a:off x="8661960" y="2814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51" name=""/>
            <p:cNvGrpSpPr/>
            <p:nvPr/>
          </p:nvGrpSpPr>
          <p:grpSpPr>
            <a:xfrm>
              <a:off x="8345520" y="2746080"/>
              <a:ext cx="417240" cy="122400"/>
              <a:chOff x="8345520" y="2746080"/>
              <a:chExt cx="417240" cy="122400"/>
            </a:xfrm>
          </p:grpSpPr>
          <p:sp>
            <p:nvSpPr>
              <p:cNvPr id="2452" name=""/>
              <p:cNvSpPr/>
              <p:nvPr/>
            </p:nvSpPr>
            <p:spPr>
              <a:xfrm flipH="1">
                <a:off x="8345160" y="274608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H="1">
                <a:off x="8345160" y="274608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54" name=""/>
            <p:cNvGrpSpPr/>
            <p:nvPr/>
          </p:nvGrpSpPr>
          <p:grpSpPr>
            <a:xfrm>
              <a:off x="8407800" y="3080520"/>
              <a:ext cx="220320" cy="66960"/>
              <a:chOff x="8407800" y="3080520"/>
              <a:chExt cx="220320" cy="66960"/>
            </a:xfrm>
          </p:grpSpPr>
          <p:sp>
            <p:nvSpPr>
              <p:cNvPr id="2455" name=""/>
              <p:cNvSpPr/>
              <p:nvPr/>
            </p:nvSpPr>
            <p:spPr>
              <a:xfrm flipH="1">
                <a:off x="8407800" y="3080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H="1">
                <a:off x="8407800" y="3080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57" name=""/>
            <p:cNvGrpSpPr/>
            <p:nvPr/>
          </p:nvGrpSpPr>
          <p:grpSpPr>
            <a:xfrm>
              <a:off x="8345880" y="2792880"/>
              <a:ext cx="316440" cy="353160"/>
              <a:chOff x="8345880" y="2792880"/>
              <a:chExt cx="316440" cy="353160"/>
            </a:xfrm>
          </p:grpSpPr>
          <p:sp>
            <p:nvSpPr>
              <p:cNvPr id="2458" name=""/>
              <p:cNvSpPr/>
              <p:nvPr/>
            </p:nvSpPr>
            <p:spPr>
              <a:xfrm flipH="1">
                <a:off x="8345520" y="279288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H="1">
                <a:off x="8345520" y="279288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60" name=""/>
            <p:cNvGrpSpPr/>
            <p:nvPr/>
          </p:nvGrpSpPr>
          <p:grpSpPr>
            <a:xfrm>
              <a:off x="8385480" y="2832840"/>
              <a:ext cx="230760" cy="257400"/>
              <a:chOff x="8385480" y="2832840"/>
              <a:chExt cx="230760" cy="257400"/>
            </a:xfrm>
          </p:grpSpPr>
          <p:sp>
            <p:nvSpPr>
              <p:cNvPr id="2461" name=""/>
              <p:cNvSpPr/>
              <p:nvPr/>
            </p:nvSpPr>
            <p:spPr>
              <a:xfrm flipH="1">
                <a:off x="8385120" y="2832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H="1">
                <a:off x="8385120" y="2832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3" name=""/>
            <p:cNvSpPr/>
            <p:nvPr/>
          </p:nvSpPr>
          <p:spPr>
            <a:xfrm flipH="1">
              <a:off x="8403480" y="2850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>
              <a:off x="8403480" y="2850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H="1">
              <a:off x="8565120" y="290736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H="1">
              <a:off x="8433000" y="288864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7" name=""/>
          <p:cNvGrpSpPr/>
          <p:nvPr/>
        </p:nvGrpSpPr>
        <p:grpSpPr>
          <a:xfrm>
            <a:off x="7802640" y="2381400"/>
            <a:ext cx="511200" cy="546120"/>
            <a:chOff x="7802640" y="2381400"/>
            <a:chExt cx="511200" cy="546120"/>
          </a:xfrm>
        </p:grpSpPr>
        <p:grpSp>
          <p:nvGrpSpPr>
            <p:cNvPr id="2468" name=""/>
            <p:cNvGrpSpPr/>
            <p:nvPr/>
          </p:nvGrpSpPr>
          <p:grpSpPr>
            <a:xfrm>
              <a:off x="8138520" y="2733840"/>
              <a:ext cx="175320" cy="193680"/>
              <a:chOff x="8138520" y="2733840"/>
              <a:chExt cx="175320" cy="193680"/>
            </a:xfrm>
          </p:grpSpPr>
          <p:sp>
            <p:nvSpPr>
              <p:cNvPr id="2469" name=""/>
              <p:cNvSpPr/>
              <p:nvPr/>
            </p:nvSpPr>
            <p:spPr>
              <a:xfrm flipH="1">
                <a:off x="8138160" y="2733840"/>
                <a:ext cx="17532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H="1">
                <a:off x="8138160" y="2733840"/>
                <a:ext cx="17532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71" name=""/>
            <p:cNvGrpSpPr/>
            <p:nvPr/>
          </p:nvGrpSpPr>
          <p:grpSpPr>
            <a:xfrm>
              <a:off x="7802640" y="2662200"/>
              <a:ext cx="511200" cy="176400"/>
              <a:chOff x="7802640" y="2662200"/>
              <a:chExt cx="511200" cy="176400"/>
            </a:xfrm>
          </p:grpSpPr>
          <p:sp>
            <p:nvSpPr>
              <p:cNvPr id="2472" name=""/>
              <p:cNvSpPr/>
              <p:nvPr/>
            </p:nvSpPr>
            <p:spPr>
              <a:xfrm flipH="1">
                <a:off x="7802640" y="2662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H="1">
                <a:off x="7802640" y="2662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74" name=""/>
            <p:cNvGrpSpPr/>
            <p:nvPr/>
          </p:nvGrpSpPr>
          <p:grpSpPr>
            <a:xfrm>
              <a:off x="7803000" y="2750400"/>
              <a:ext cx="335520" cy="176760"/>
              <a:chOff x="7803000" y="2750400"/>
              <a:chExt cx="335520" cy="176760"/>
            </a:xfrm>
          </p:grpSpPr>
          <p:sp>
            <p:nvSpPr>
              <p:cNvPr id="2475" name=""/>
              <p:cNvSpPr/>
              <p:nvPr/>
            </p:nvSpPr>
            <p:spPr>
              <a:xfrm flipH="1">
                <a:off x="7803000" y="2750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H="1">
                <a:off x="7803000" y="2750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77" name=""/>
            <p:cNvSpPr/>
            <p:nvPr/>
          </p:nvSpPr>
          <p:spPr>
            <a:xfrm flipH="1">
              <a:off x="8055000" y="2833920"/>
              <a:ext cx="6732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78" name=""/>
            <p:cNvGrpSpPr/>
            <p:nvPr/>
          </p:nvGrpSpPr>
          <p:grpSpPr>
            <a:xfrm>
              <a:off x="7818840" y="2771280"/>
              <a:ext cx="131760" cy="89640"/>
              <a:chOff x="7818840" y="2771280"/>
              <a:chExt cx="131760" cy="89640"/>
            </a:xfrm>
          </p:grpSpPr>
          <p:grpSp>
            <p:nvGrpSpPr>
              <p:cNvPr id="2479" name=""/>
              <p:cNvGrpSpPr/>
              <p:nvPr/>
            </p:nvGrpSpPr>
            <p:grpSpPr>
              <a:xfrm>
                <a:off x="7818840" y="2771280"/>
                <a:ext cx="131400" cy="89640"/>
                <a:chOff x="7818840" y="2771280"/>
                <a:chExt cx="131400" cy="89640"/>
              </a:xfrm>
            </p:grpSpPr>
            <p:sp>
              <p:nvSpPr>
                <p:cNvPr id="2480" name=""/>
                <p:cNvSpPr/>
                <p:nvPr/>
              </p:nvSpPr>
              <p:spPr>
                <a:xfrm flipH="1">
                  <a:off x="7818480" y="277128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 flipH="1">
                  <a:off x="7818480" y="277128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82" name=""/>
              <p:cNvSpPr/>
              <p:nvPr/>
            </p:nvSpPr>
            <p:spPr>
              <a:xfrm>
                <a:off x="7819200" y="2802240"/>
                <a:ext cx="1314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 flipH="1">
                <a:off x="7858080" y="2818440"/>
                <a:ext cx="4608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H="1">
                <a:off x="7858080" y="2792160"/>
                <a:ext cx="4608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85" name=""/>
            <p:cNvGrpSpPr/>
            <p:nvPr/>
          </p:nvGrpSpPr>
          <p:grpSpPr>
            <a:xfrm>
              <a:off x="7985520" y="2381400"/>
              <a:ext cx="307800" cy="301680"/>
              <a:chOff x="7985520" y="2381400"/>
              <a:chExt cx="307800" cy="301680"/>
            </a:xfrm>
          </p:grpSpPr>
          <p:sp>
            <p:nvSpPr>
              <p:cNvPr id="2486" name=""/>
              <p:cNvSpPr/>
              <p:nvPr/>
            </p:nvSpPr>
            <p:spPr>
              <a:xfrm flipH="1">
                <a:off x="7985160" y="2381400"/>
                <a:ext cx="30780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 flipH="1">
                <a:off x="7985160" y="2381400"/>
                <a:ext cx="30780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88" name=""/>
            <p:cNvGrpSpPr/>
            <p:nvPr/>
          </p:nvGrpSpPr>
          <p:grpSpPr>
            <a:xfrm>
              <a:off x="8137800" y="2460240"/>
              <a:ext cx="100080" cy="331200"/>
              <a:chOff x="8137800" y="2460240"/>
              <a:chExt cx="100080" cy="331200"/>
            </a:xfrm>
          </p:grpSpPr>
          <p:sp>
            <p:nvSpPr>
              <p:cNvPr id="2489" name=""/>
              <p:cNvSpPr/>
              <p:nvPr/>
            </p:nvSpPr>
            <p:spPr>
              <a:xfrm flipH="1">
                <a:off x="8137800" y="2460240"/>
                <a:ext cx="10008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H="1">
                <a:off x="8137800" y="2460240"/>
                <a:ext cx="10008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91" name=""/>
            <p:cNvGrpSpPr/>
            <p:nvPr/>
          </p:nvGrpSpPr>
          <p:grpSpPr>
            <a:xfrm>
              <a:off x="7821720" y="2392200"/>
              <a:ext cx="416160" cy="122400"/>
              <a:chOff x="7821720" y="2392200"/>
              <a:chExt cx="416160" cy="122400"/>
            </a:xfrm>
          </p:grpSpPr>
          <p:sp>
            <p:nvSpPr>
              <p:cNvPr id="2492" name=""/>
              <p:cNvSpPr/>
              <p:nvPr/>
            </p:nvSpPr>
            <p:spPr>
              <a:xfrm flipH="1">
                <a:off x="7821720" y="2392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 flipH="1">
                <a:off x="7821720" y="2392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94" name=""/>
            <p:cNvGrpSpPr/>
            <p:nvPr/>
          </p:nvGrpSpPr>
          <p:grpSpPr>
            <a:xfrm>
              <a:off x="7884000" y="2726640"/>
              <a:ext cx="219600" cy="66960"/>
              <a:chOff x="7884000" y="2726640"/>
              <a:chExt cx="219600" cy="66960"/>
            </a:xfrm>
          </p:grpSpPr>
          <p:sp>
            <p:nvSpPr>
              <p:cNvPr id="2495" name=""/>
              <p:cNvSpPr/>
              <p:nvPr/>
            </p:nvSpPr>
            <p:spPr>
              <a:xfrm flipH="1">
                <a:off x="7884000" y="2726640"/>
                <a:ext cx="21960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flipH="1">
                <a:off x="7884000" y="2726640"/>
                <a:ext cx="21960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97" name=""/>
            <p:cNvGrpSpPr/>
            <p:nvPr/>
          </p:nvGrpSpPr>
          <p:grpSpPr>
            <a:xfrm>
              <a:off x="7821720" y="2439000"/>
              <a:ext cx="315720" cy="353160"/>
              <a:chOff x="7821720" y="2439000"/>
              <a:chExt cx="315720" cy="353160"/>
            </a:xfrm>
          </p:grpSpPr>
          <p:sp>
            <p:nvSpPr>
              <p:cNvPr id="2498" name=""/>
              <p:cNvSpPr/>
              <p:nvPr/>
            </p:nvSpPr>
            <p:spPr>
              <a:xfrm flipH="1">
                <a:off x="7821360" y="2439000"/>
                <a:ext cx="31572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 flipH="1">
                <a:off x="7821360" y="2439000"/>
                <a:ext cx="31572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00" name=""/>
            <p:cNvGrpSpPr/>
            <p:nvPr/>
          </p:nvGrpSpPr>
          <p:grpSpPr>
            <a:xfrm>
              <a:off x="7861680" y="2478960"/>
              <a:ext cx="230040" cy="257400"/>
              <a:chOff x="7861680" y="2478960"/>
              <a:chExt cx="230040" cy="257400"/>
            </a:xfrm>
          </p:grpSpPr>
          <p:sp>
            <p:nvSpPr>
              <p:cNvPr id="2501" name=""/>
              <p:cNvSpPr/>
              <p:nvPr/>
            </p:nvSpPr>
            <p:spPr>
              <a:xfrm flipH="1">
                <a:off x="7861320" y="2478960"/>
                <a:ext cx="23004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 flipH="1">
                <a:off x="7861320" y="2478960"/>
                <a:ext cx="23004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03" name=""/>
            <p:cNvSpPr/>
            <p:nvPr/>
          </p:nvSpPr>
          <p:spPr>
            <a:xfrm flipH="1">
              <a:off x="7879680" y="2496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 flipH="1">
              <a:off x="7879680" y="2496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 flipH="1">
              <a:off x="8040600" y="255348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 flipH="1">
              <a:off x="7908480" y="2534760"/>
              <a:ext cx="1278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7" name=""/>
          <p:cNvSpPr/>
          <p:nvPr/>
        </p:nvSpPr>
        <p:spPr>
          <a:xfrm flipV="1">
            <a:off x="6543720" y="4260960"/>
            <a:ext cx="255600" cy="334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 flipH="1" flipV="1">
            <a:off x="6370200" y="414936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09" name=""/>
          <p:cNvGrpSpPr/>
          <p:nvPr/>
        </p:nvGrpSpPr>
        <p:grpSpPr>
          <a:xfrm>
            <a:off x="7467480" y="3192480"/>
            <a:ext cx="533520" cy="380880"/>
            <a:chOff x="7467480" y="3192480"/>
            <a:chExt cx="533520" cy="380880"/>
          </a:xfrm>
        </p:grpSpPr>
        <p:sp>
          <p:nvSpPr>
            <p:cNvPr id="2510" name=""/>
            <p:cNvSpPr/>
            <p:nvPr/>
          </p:nvSpPr>
          <p:spPr>
            <a:xfrm flipH="1">
              <a:off x="7467480" y="3192480"/>
              <a:ext cx="533520" cy="380880"/>
            </a:xfrm>
            <a:prstGeom prst="rect">
              <a:avLst/>
            </a:prstGeom>
            <a:gradFill rotWithShape="0">
              <a:gsLst>
                <a:gs pos="0">
                  <a:srgbClr val="2f2f75"/>
                </a:gs>
                <a:gs pos="100000">
                  <a:srgbClr val="66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11" name=""/>
            <p:cNvGrpSpPr/>
            <p:nvPr/>
          </p:nvGrpSpPr>
          <p:grpSpPr>
            <a:xfrm>
              <a:off x="7531200" y="3266280"/>
              <a:ext cx="399240" cy="247680"/>
              <a:chOff x="7531200" y="3266280"/>
              <a:chExt cx="399240" cy="247680"/>
            </a:xfrm>
          </p:grpSpPr>
          <p:sp>
            <p:nvSpPr>
              <p:cNvPr id="2512" name=""/>
              <p:cNvSpPr/>
              <p:nvPr/>
            </p:nvSpPr>
            <p:spPr>
              <a:xfrm flipH="1">
                <a:off x="7590960" y="3266280"/>
                <a:ext cx="27720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599240" y="3266280"/>
                <a:ext cx="27648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 flipH="1">
                <a:off x="7536960" y="3270240"/>
                <a:ext cx="6912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 flipH="1">
                <a:off x="7531200" y="3511800"/>
                <a:ext cx="65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 flipH="1">
                <a:off x="7857720" y="3270240"/>
                <a:ext cx="63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 flipH="1">
                <a:off x="7866000" y="3511800"/>
                <a:ext cx="64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8" name=""/>
          <p:cNvGrpSpPr/>
          <p:nvPr/>
        </p:nvGrpSpPr>
        <p:grpSpPr>
          <a:xfrm>
            <a:off x="5790960" y="4465800"/>
            <a:ext cx="990360" cy="631800"/>
            <a:chOff x="5790960" y="4465800"/>
            <a:chExt cx="990360" cy="631800"/>
          </a:xfrm>
        </p:grpSpPr>
        <p:grpSp>
          <p:nvGrpSpPr>
            <p:cNvPr id="2519" name=""/>
            <p:cNvGrpSpPr/>
            <p:nvPr/>
          </p:nvGrpSpPr>
          <p:grpSpPr>
            <a:xfrm>
              <a:off x="6154920" y="4547160"/>
              <a:ext cx="624960" cy="550440"/>
              <a:chOff x="6154920" y="4547160"/>
              <a:chExt cx="624960" cy="550440"/>
            </a:xfrm>
          </p:grpSpPr>
          <p:sp>
            <p:nvSpPr>
              <p:cNvPr id="2520" name=""/>
              <p:cNvSpPr/>
              <p:nvPr/>
            </p:nvSpPr>
            <p:spPr>
              <a:xfrm flipH="1">
                <a:off x="6154920" y="4547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 flipH="1">
                <a:off x="6154920" y="4547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22" name=""/>
            <p:cNvGrpSpPr/>
            <p:nvPr/>
          </p:nvGrpSpPr>
          <p:grpSpPr>
            <a:xfrm>
              <a:off x="5794560" y="4565880"/>
              <a:ext cx="360360" cy="531720"/>
              <a:chOff x="5794560" y="4565880"/>
              <a:chExt cx="360360" cy="531720"/>
            </a:xfrm>
          </p:grpSpPr>
          <p:sp>
            <p:nvSpPr>
              <p:cNvPr id="2523" name=""/>
              <p:cNvSpPr/>
              <p:nvPr/>
            </p:nvSpPr>
            <p:spPr>
              <a:xfrm flipH="1">
                <a:off x="5794200" y="4565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 flipH="1">
                <a:off x="5794200" y="4565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25" name=""/>
            <p:cNvGrpSpPr/>
            <p:nvPr/>
          </p:nvGrpSpPr>
          <p:grpSpPr>
            <a:xfrm>
              <a:off x="5790960" y="4465800"/>
              <a:ext cx="990360" cy="221760"/>
              <a:chOff x="5790960" y="4465800"/>
              <a:chExt cx="990360" cy="221760"/>
            </a:xfrm>
          </p:grpSpPr>
          <p:sp>
            <p:nvSpPr>
              <p:cNvPr id="2526" name=""/>
              <p:cNvSpPr/>
              <p:nvPr/>
            </p:nvSpPr>
            <p:spPr>
              <a:xfrm flipH="1">
                <a:off x="5790600" y="4465800"/>
                <a:ext cx="99036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 flipH="1">
                <a:off x="5790600" y="4465800"/>
                <a:ext cx="99036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28" name=""/>
            <p:cNvSpPr/>
            <p:nvPr/>
          </p:nvSpPr>
          <p:spPr>
            <a:xfrm flipH="1">
              <a:off x="6214320" y="4596840"/>
              <a:ext cx="527760" cy="4453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 flipH="1">
              <a:off x="6214320" y="4715640"/>
              <a:ext cx="527760" cy="32616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 flipH="1">
              <a:off x="6217200" y="4596840"/>
              <a:ext cx="524880" cy="2908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31" name=""/>
            <p:cNvGrpSpPr/>
            <p:nvPr/>
          </p:nvGrpSpPr>
          <p:grpSpPr>
            <a:xfrm>
              <a:off x="6447600" y="4640040"/>
              <a:ext cx="257760" cy="107640"/>
              <a:chOff x="6447600" y="4640040"/>
              <a:chExt cx="257760" cy="107640"/>
            </a:xfrm>
          </p:grpSpPr>
          <p:sp>
            <p:nvSpPr>
              <p:cNvPr id="2532" name=""/>
              <p:cNvSpPr/>
              <p:nvPr/>
            </p:nvSpPr>
            <p:spPr>
              <a:xfrm flipH="1">
                <a:off x="6447600" y="4640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 flipH="1">
                <a:off x="6447600" y="4640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34" name=""/>
            <p:cNvGrpSpPr/>
            <p:nvPr/>
          </p:nvGrpSpPr>
          <p:grpSpPr>
            <a:xfrm>
              <a:off x="6546960" y="4754880"/>
              <a:ext cx="160920" cy="160920"/>
              <a:chOff x="6546960" y="4754880"/>
              <a:chExt cx="160920" cy="160920"/>
            </a:xfrm>
          </p:grpSpPr>
          <p:sp>
            <p:nvSpPr>
              <p:cNvPr id="2535" name=""/>
              <p:cNvSpPr/>
              <p:nvPr/>
            </p:nvSpPr>
            <p:spPr>
              <a:xfrm flipH="1">
                <a:off x="6546600" y="4754880"/>
                <a:ext cx="16092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>
                <a:off x="6546600" y="4754880"/>
                <a:ext cx="16092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37" name=""/>
          <p:cNvGrpSpPr/>
          <p:nvPr/>
        </p:nvGrpSpPr>
        <p:grpSpPr>
          <a:xfrm>
            <a:off x="1828800" y="2590920"/>
            <a:ext cx="380880" cy="380880"/>
            <a:chOff x="1828800" y="2590920"/>
            <a:chExt cx="380880" cy="380880"/>
          </a:xfrm>
        </p:grpSpPr>
        <p:grpSp>
          <p:nvGrpSpPr>
            <p:cNvPr id="2538" name=""/>
            <p:cNvGrpSpPr/>
            <p:nvPr/>
          </p:nvGrpSpPr>
          <p:grpSpPr>
            <a:xfrm>
              <a:off x="1828800" y="2836800"/>
              <a:ext cx="130680" cy="135000"/>
              <a:chOff x="1828800" y="2836800"/>
              <a:chExt cx="130680" cy="135000"/>
            </a:xfrm>
          </p:grpSpPr>
          <p:sp>
            <p:nvSpPr>
              <p:cNvPr id="2539" name=""/>
              <p:cNvSpPr/>
              <p:nvPr/>
            </p:nvSpPr>
            <p:spPr>
              <a:xfrm>
                <a:off x="1828800" y="2836800"/>
                <a:ext cx="130680" cy="13500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1828800" y="2836800"/>
                <a:ext cx="130680" cy="13500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41" name=""/>
            <p:cNvGrpSpPr/>
            <p:nvPr/>
          </p:nvGrpSpPr>
          <p:grpSpPr>
            <a:xfrm>
              <a:off x="1828800" y="2786760"/>
              <a:ext cx="380880" cy="123120"/>
              <a:chOff x="1828800" y="2786760"/>
              <a:chExt cx="380880" cy="123120"/>
            </a:xfrm>
          </p:grpSpPr>
          <p:sp>
            <p:nvSpPr>
              <p:cNvPr id="2542" name=""/>
              <p:cNvSpPr/>
              <p:nvPr/>
            </p:nvSpPr>
            <p:spPr>
              <a:xfrm>
                <a:off x="1828800" y="2786760"/>
                <a:ext cx="380880" cy="12312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1828800" y="2786760"/>
                <a:ext cx="380880" cy="12312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44" name=""/>
            <p:cNvGrpSpPr/>
            <p:nvPr/>
          </p:nvGrpSpPr>
          <p:grpSpPr>
            <a:xfrm>
              <a:off x="1959480" y="2848320"/>
              <a:ext cx="250200" cy="123480"/>
              <a:chOff x="1959480" y="2848320"/>
              <a:chExt cx="250200" cy="123480"/>
            </a:xfrm>
          </p:grpSpPr>
          <p:sp>
            <p:nvSpPr>
              <p:cNvPr id="2545" name=""/>
              <p:cNvSpPr/>
              <p:nvPr/>
            </p:nvSpPr>
            <p:spPr>
              <a:xfrm>
                <a:off x="1959480" y="2848320"/>
                <a:ext cx="250200" cy="12348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1959480" y="2848320"/>
                <a:ext cx="250200" cy="12348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47" name=""/>
            <p:cNvSpPr/>
            <p:nvPr/>
          </p:nvSpPr>
          <p:spPr>
            <a:xfrm>
              <a:off x="1971360" y="2906280"/>
              <a:ext cx="50040" cy="2808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48" name=""/>
            <p:cNvGrpSpPr/>
            <p:nvPr/>
          </p:nvGrpSpPr>
          <p:grpSpPr>
            <a:xfrm>
              <a:off x="2099880" y="2862720"/>
              <a:ext cx="97920" cy="62280"/>
              <a:chOff x="2099880" y="2862720"/>
              <a:chExt cx="97920" cy="62280"/>
            </a:xfrm>
          </p:grpSpPr>
          <p:grpSp>
            <p:nvGrpSpPr>
              <p:cNvPr id="2549" name=""/>
              <p:cNvGrpSpPr/>
              <p:nvPr/>
            </p:nvGrpSpPr>
            <p:grpSpPr>
              <a:xfrm>
                <a:off x="2099880" y="2862720"/>
                <a:ext cx="97920" cy="62280"/>
                <a:chOff x="2099880" y="2862720"/>
                <a:chExt cx="97920" cy="62280"/>
              </a:xfrm>
            </p:grpSpPr>
            <p:sp>
              <p:nvSpPr>
                <p:cNvPr id="2550" name=""/>
                <p:cNvSpPr/>
                <p:nvPr/>
              </p:nvSpPr>
              <p:spPr>
                <a:xfrm>
                  <a:off x="2099880" y="2862720"/>
                  <a:ext cx="97920" cy="6228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>
                  <a:off x="2099880" y="2862720"/>
                  <a:ext cx="97920" cy="6228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52" name=""/>
              <p:cNvSpPr/>
              <p:nvPr/>
            </p:nvSpPr>
            <p:spPr>
              <a:xfrm flipH="1">
                <a:off x="2099880" y="2884320"/>
                <a:ext cx="9792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2134440" y="2895480"/>
                <a:ext cx="34560" cy="1404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2134440" y="2877120"/>
                <a:ext cx="34560" cy="1296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55" name=""/>
            <p:cNvGrpSpPr/>
            <p:nvPr/>
          </p:nvGrpSpPr>
          <p:grpSpPr>
            <a:xfrm>
              <a:off x="1843920" y="2590920"/>
              <a:ext cx="229320" cy="210240"/>
              <a:chOff x="1843920" y="2590920"/>
              <a:chExt cx="229320" cy="210240"/>
            </a:xfrm>
          </p:grpSpPr>
          <p:sp>
            <p:nvSpPr>
              <p:cNvPr id="2556" name=""/>
              <p:cNvSpPr/>
              <p:nvPr/>
            </p:nvSpPr>
            <p:spPr>
              <a:xfrm>
                <a:off x="1843920" y="2590920"/>
                <a:ext cx="229320" cy="21024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1843920" y="2590920"/>
                <a:ext cx="229320" cy="21024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58" name=""/>
            <p:cNvGrpSpPr/>
            <p:nvPr/>
          </p:nvGrpSpPr>
          <p:grpSpPr>
            <a:xfrm>
              <a:off x="1885320" y="2646000"/>
              <a:ext cx="74520" cy="231120"/>
              <a:chOff x="1885320" y="2646000"/>
              <a:chExt cx="74520" cy="231120"/>
            </a:xfrm>
          </p:grpSpPr>
          <p:sp>
            <p:nvSpPr>
              <p:cNvPr id="2559" name=""/>
              <p:cNvSpPr/>
              <p:nvPr/>
            </p:nvSpPr>
            <p:spPr>
              <a:xfrm>
                <a:off x="1885320" y="2646000"/>
                <a:ext cx="74520" cy="23112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1885320" y="2646000"/>
                <a:ext cx="74520" cy="23112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61" name=""/>
            <p:cNvGrpSpPr/>
            <p:nvPr/>
          </p:nvGrpSpPr>
          <p:grpSpPr>
            <a:xfrm>
              <a:off x="1885320" y="2598480"/>
              <a:ext cx="309960" cy="85320"/>
              <a:chOff x="1885320" y="2598480"/>
              <a:chExt cx="309960" cy="85320"/>
            </a:xfrm>
          </p:grpSpPr>
          <p:sp>
            <p:nvSpPr>
              <p:cNvPr id="2562" name=""/>
              <p:cNvSpPr/>
              <p:nvPr/>
            </p:nvSpPr>
            <p:spPr>
              <a:xfrm>
                <a:off x="1885320" y="2598480"/>
                <a:ext cx="309960" cy="8532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1885320" y="2598480"/>
                <a:ext cx="309960" cy="8532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64" name=""/>
            <p:cNvGrpSpPr/>
            <p:nvPr/>
          </p:nvGrpSpPr>
          <p:grpSpPr>
            <a:xfrm>
              <a:off x="1985400" y="2831760"/>
              <a:ext cx="163440" cy="46440"/>
              <a:chOff x="1985400" y="2831760"/>
              <a:chExt cx="163440" cy="46440"/>
            </a:xfrm>
          </p:grpSpPr>
          <p:sp>
            <p:nvSpPr>
              <p:cNvPr id="2565" name=""/>
              <p:cNvSpPr/>
              <p:nvPr/>
            </p:nvSpPr>
            <p:spPr>
              <a:xfrm>
                <a:off x="1985400" y="2831760"/>
                <a:ext cx="163440" cy="4644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1985400" y="2831760"/>
                <a:ext cx="163440" cy="4644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67" name=""/>
            <p:cNvGrpSpPr/>
            <p:nvPr/>
          </p:nvGrpSpPr>
          <p:grpSpPr>
            <a:xfrm>
              <a:off x="1960200" y="2630880"/>
              <a:ext cx="235080" cy="246240"/>
              <a:chOff x="1960200" y="2630880"/>
              <a:chExt cx="235080" cy="246240"/>
            </a:xfrm>
          </p:grpSpPr>
          <p:sp>
            <p:nvSpPr>
              <p:cNvPr id="2568" name=""/>
              <p:cNvSpPr/>
              <p:nvPr/>
            </p:nvSpPr>
            <p:spPr>
              <a:xfrm>
                <a:off x="1960200" y="2630880"/>
                <a:ext cx="235080" cy="24624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1960200" y="2630880"/>
                <a:ext cx="235080" cy="24624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70" name=""/>
            <p:cNvGrpSpPr/>
            <p:nvPr/>
          </p:nvGrpSpPr>
          <p:grpSpPr>
            <a:xfrm>
              <a:off x="1994400" y="2658960"/>
              <a:ext cx="171360" cy="179640"/>
              <a:chOff x="1994400" y="2658960"/>
              <a:chExt cx="171360" cy="179640"/>
            </a:xfrm>
          </p:grpSpPr>
          <p:sp>
            <p:nvSpPr>
              <p:cNvPr id="2571" name=""/>
              <p:cNvSpPr/>
              <p:nvPr/>
            </p:nvSpPr>
            <p:spPr>
              <a:xfrm>
                <a:off x="1994400" y="2658960"/>
                <a:ext cx="171360" cy="1796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1994400" y="2658960"/>
                <a:ext cx="171360" cy="1796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73" name=""/>
            <p:cNvSpPr/>
            <p:nvPr/>
          </p:nvSpPr>
          <p:spPr>
            <a:xfrm>
              <a:off x="2000880" y="2671200"/>
              <a:ext cx="151200" cy="15192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2000880" y="2671200"/>
              <a:ext cx="151200" cy="15192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2018520" y="2710800"/>
              <a:ext cx="1404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2035440" y="2697840"/>
              <a:ext cx="95400" cy="1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7" name=""/>
          <p:cNvSpPr/>
          <p:nvPr/>
        </p:nvSpPr>
        <p:spPr>
          <a:xfrm>
            <a:off x="1728720" y="22860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B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8" name=""/>
          <p:cNvGrpSpPr/>
          <p:nvPr/>
        </p:nvGrpSpPr>
        <p:grpSpPr>
          <a:xfrm>
            <a:off x="2209680" y="5105520"/>
            <a:ext cx="511200" cy="330120"/>
            <a:chOff x="2209680" y="5105520"/>
            <a:chExt cx="511200" cy="330120"/>
          </a:xfrm>
        </p:grpSpPr>
        <p:grpSp>
          <p:nvGrpSpPr>
            <p:cNvPr id="2579" name=""/>
            <p:cNvGrpSpPr/>
            <p:nvPr/>
          </p:nvGrpSpPr>
          <p:grpSpPr>
            <a:xfrm>
              <a:off x="2210400" y="5148000"/>
              <a:ext cx="322560" cy="287640"/>
              <a:chOff x="2210400" y="5148000"/>
              <a:chExt cx="322560" cy="287640"/>
            </a:xfrm>
          </p:grpSpPr>
          <p:sp>
            <p:nvSpPr>
              <p:cNvPr id="2580" name=""/>
              <p:cNvSpPr/>
              <p:nvPr/>
            </p:nvSpPr>
            <p:spPr>
              <a:xfrm>
                <a:off x="2210400" y="51480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2210400" y="51480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82" name=""/>
            <p:cNvGrpSpPr/>
            <p:nvPr/>
          </p:nvGrpSpPr>
          <p:grpSpPr>
            <a:xfrm>
              <a:off x="2532960" y="5157720"/>
              <a:ext cx="186120" cy="277920"/>
              <a:chOff x="2532960" y="5157720"/>
              <a:chExt cx="186120" cy="277920"/>
            </a:xfrm>
          </p:grpSpPr>
          <p:sp>
            <p:nvSpPr>
              <p:cNvPr id="2583" name=""/>
              <p:cNvSpPr/>
              <p:nvPr/>
            </p:nvSpPr>
            <p:spPr>
              <a:xfrm>
                <a:off x="2532960" y="51577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2532960" y="51577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85" name=""/>
            <p:cNvGrpSpPr/>
            <p:nvPr/>
          </p:nvGrpSpPr>
          <p:grpSpPr>
            <a:xfrm>
              <a:off x="2209680" y="5105520"/>
              <a:ext cx="511200" cy="115920"/>
              <a:chOff x="2209680" y="5105520"/>
              <a:chExt cx="511200" cy="115920"/>
            </a:xfrm>
          </p:grpSpPr>
          <p:sp>
            <p:nvSpPr>
              <p:cNvPr id="2586" name=""/>
              <p:cNvSpPr/>
              <p:nvPr/>
            </p:nvSpPr>
            <p:spPr>
              <a:xfrm>
                <a:off x="2209680" y="51055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2209680" y="51055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8" name=""/>
            <p:cNvSpPr/>
            <p:nvPr/>
          </p:nvSpPr>
          <p:spPr>
            <a:xfrm>
              <a:off x="2229840" y="517392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2229840" y="523584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229840" y="517392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91" name=""/>
            <p:cNvGrpSpPr/>
            <p:nvPr/>
          </p:nvGrpSpPr>
          <p:grpSpPr>
            <a:xfrm>
              <a:off x="2248920" y="5196600"/>
              <a:ext cx="132840" cy="56160"/>
              <a:chOff x="2248920" y="5196600"/>
              <a:chExt cx="132840" cy="56160"/>
            </a:xfrm>
          </p:grpSpPr>
          <p:sp>
            <p:nvSpPr>
              <p:cNvPr id="2592" name=""/>
              <p:cNvSpPr/>
              <p:nvPr/>
            </p:nvSpPr>
            <p:spPr>
              <a:xfrm>
                <a:off x="2248920" y="51966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2248920" y="51966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94" name=""/>
            <p:cNvGrpSpPr/>
            <p:nvPr/>
          </p:nvGrpSpPr>
          <p:grpSpPr>
            <a:xfrm>
              <a:off x="2247480" y="5256720"/>
              <a:ext cx="83160" cy="83880"/>
              <a:chOff x="2247480" y="5256720"/>
              <a:chExt cx="83160" cy="83880"/>
            </a:xfrm>
          </p:grpSpPr>
          <p:sp>
            <p:nvSpPr>
              <p:cNvPr id="2595" name=""/>
              <p:cNvSpPr/>
              <p:nvPr/>
            </p:nvSpPr>
            <p:spPr>
              <a:xfrm>
                <a:off x="2247480" y="52567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2247480" y="52567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97" name=""/>
          <p:cNvGrpSpPr/>
          <p:nvPr/>
        </p:nvGrpSpPr>
        <p:grpSpPr>
          <a:xfrm>
            <a:off x="1371600" y="4419720"/>
            <a:ext cx="511200" cy="330120"/>
            <a:chOff x="1371600" y="4419720"/>
            <a:chExt cx="511200" cy="330120"/>
          </a:xfrm>
        </p:grpSpPr>
        <p:grpSp>
          <p:nvGrpSpPr>
            <p:cNvPr id="2598" name=""/>
            <p:cNvGrpSpPr/>
            <p:nvPr/>
          </p:nvGrpSpPr>
          <p:grpSpPr>
            <a:xfrm>
              <a:off x="1372320" y="4462200"/>
              <a:ext cx="322560" cy="287640"/>
              <a:chOff x="1372320" y="4462200"/>
              <a:chExt cx="322560" cy="287640"/>
            </a:xfrm>
          </p:grpSpPr>
          <p:sp>
            <p:nvSpPr>
              <p:cNvPr id="2599" name=""/>
              <p:cNvSpPr/>
              <p:nvPr/>
            </p:nvSpPr>
            <p:spPr>
              <a:xfrm>
                <a:off x="1372320" y="44622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1372320" y="44622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1" name=""/>
            <p:cNvGrpSpPr/>
            <p:nvPr/>
          </p:nvGrpSpPr>
          <p:grpSpPr>
            <a:xfrm>
              <a:off x="1694880" y="4471920"/>
              <a:ext cx="186120" cy="277920"/>
              <a:chOff x="1694880" y="4471920"/>
              <a:chExt cx="186120" cy="277920"/>
            </a:xfrm>
          </p:grpSpPr>
          <p:sp>
            <p:nvSpPr>
              <p:cNvPr id="2602" name=""/>
              <p:cNvSpPr/>
              <p:nvPr/>
            </p:nvSpPr>
            <p:spPr>
              <a:xfrm>
                <a:off x="1694880" y="44719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1694880" y="44719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4" name=""/>
            <p:cNvGrpSpPr/>
            <p:nvPr/>
          </p:nvGrpSpPr>
          <p:grpSpPr>
            <a:xfrm>
              <a:off x="1371600" y="4419720"/>
              <a:ext cx="511200" cy="115920"/>
              <a:chOff x="1371600" y="4419720"/>
              <a:chExt cx="511200" cy="115920"/>
            </a:xfrm>
          </p:grpSpPr>
          <p:sp>
            <p:nvSpPr>
              <p:cNvPr id="2605" name=""/>
              <p:cNvSpPr/>
              <p:nvPr/>
            </p:nvSpPr>
            <p:spPr>
              <a:xfrm>
                <a:off x="1371600" y="44197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1371600" y="44197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07" name=""/>
            <p:cNvSpPr/>
            <p:nvPr/>
          </p:nvSpPr>
          <p:spPr>
            <a:xfrm>
              <a:off x="1391760" y="448812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1391760" y="455004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1391760" y="448812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0" name=""/>
            <p:cNvGrpSpPr/>
            <p:nvPr/>
          </p:nvGrpSpPr>
          <p:grpSpPr>
            <a:xfrm>
              <a:off x="1410840" y="4510800"/>
              <a:ext cx="132840" cy="56160"/>
              <a:chOff x="1410840" y="4510800"/>
              <a:chExt cx="132840" cy="56160"/>
            </a:xfrm>
          </p:grpSpPr>
          <p:sp>
            <p:nvSpPr>
              <p:cNvPr id="2611" name=""/>
              <p:cNvSpPr/>
              <p:nvPr/>
            </p:nvSpPr>
            <p:spPr>
              <a:xfrm>
                <a:off x="1410840" y="45108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1410840" y="45108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13" name=""/>
            <p:cNvGrpSpPr/>
            <p:nvPr/>
          </p:nvGrpSpPr>
          <p:grpSpPr>
            <a:xfrm>
              <a:off x="1409400" y="4570920"/>
              <a:ext cx="83160" cy="83880"/>
              <a:chOff x="1409400" y="4570920"/>
              <a:chExt cx="83160" cy="83880"/>
            </a:xfrm>
          </p:grpSpPr>
          <p:sp>
            <p:nvSpPr>
              <p:cNvPr id="2614" name=""/>
              <p:cNvSpPr/>
              <p:nvPr/>
            </p:nvSpPr>
            <p:spPr>
              <a:xfrm>
                <a:off x="1409400" y="45709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1409400" y="45709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16" name=""/>
          <p:cNvGrpSpPr/>
          <p:nvPr/>
        </p:nvGrpSpPr>
        <p:grpSpPr>
          <a:xfrm>
            <a:off x="1600200" y="4952880"/>
            <a:ext cx="507960" cy="330480"/>
            <a:chOff x="1600200" y="4952880"/>
            <a:chExt cx="507960" cy="330480"/>
          </a:xfrm>
        </p:grpSpPr>
        <p:grpSp>
          <p:nvGrpSpPr>
            <p:cNvPr id="2617" name=""/>
            <p:cNvGrpSpPr/>
            <p:nvPr/>
          </p:nvGrpSpPr>
          <p:grpSpPr>
            <a:xfrm>
              <a:off x="1600920" y="4995360"/>
              <a:ext cx="320400" cy="288000"/>
              <a:chOff x="1600920" y="4995360"/>
              <a:chExt cx="320400" cy="288000"/>
            </a:xfrm>
          </p:grpSpPr>
          <p:sp>
            <p:nvSpPr>
              <p:cNvPr id="2618" name=""/>
              <p:cNvSpPr/>
              <p:nvPr/>
            </p:nvSpPr>
            <p:spPr>
              <a:xfrm>
                <a:off x="1600920" y="4995360"/>
                <a:ext cx="32040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1600920" y="4995360"/>
                <a:ext cx="32040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20" name=""/>
            <p:cNvGrpSpPr/>
            <p:nvPr/>
          </p:nvGrpSpPr>
          <p:grpSpPr>
            <a:xfrm>
              <a:off x="1921680" y="5005080"/>
              <a:ext cx="184680" cy="278280"/>
              <a:chOff x="1921680" y="5005080"/>
              <a:chExt cx="184680" cy="278280"/>
            </a:xfrm>
          </p:grpSpPr>
          <p:sp>
            <p:nvSpPr>
              <p:cNvPr id="2621" name=""/>
              <p:cNvSpPr/>
              <p:nvPr/>
            </p:nvSpPr>
            <p:spPr>
              <a:xfrm>
                <a:off x="1921680" y="5005080"/>
                <a:ext cx="18468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1921680" y="5005080"/>
                <a:ext cx="18468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23" name=""/>
            <p:cNvGrpSpPr/>
            <p:nvPr/>
          </p:nvGrpSpPr>
          <p:grpSpPr>
            <a:xfrm>
              <a:off x="1600200" y="4952880"/>
              <a:ext cx="507960" cy="115920"/>
              <a:chOff x="1600200" y="4952880"/>
              <a:chExt cx="507960" cy="115920"/>
            </a:xfrm>
          </p:grpSpPr>
          <p:sp>
            <p:nvSpPr>
              <p:cNvPr id="2624" name=""/>
              <p:cNvSpPr/>
              <p:nvPr/>
            </p:nvSpPr>
            <p:spPr>
              <a:xfrm>
                <a:off x="1600200" y="495288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1600200" y="495288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26" name=""/>
            <p:cNvSpPr/>
            <p:nvPr/>
          </p:nvSpPr>
          <p:spPr>
            <a:xfrm>
              <a:off x="1620360" y="5021280"/>
              <a:ext cx="270720" cy="2329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1620360" y="5083560"/>
              <a:ext cx="2707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1620360" y="5021280"/>
              <a:ext cx="269280" cy="1522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29" name=""/>
            <p:cNvGrpSpPr/>
            <p:nvPr/>
          </p:nvGrpSpPr>
          <p:grpSpPr>
            <a:xfrm>
              <a:off x="1639080" y="5043960"/>
              <a:ext cx="132120" cy="56160"/>
              <a:chOff x="1639080" y="5043960"/>
              <a:chExt cx="132120" cy="56160"/>
            </a:xfrm>
          </p:grpSpPr>
          <p:sp>
            <p:nvSpPr>
              <p:cNvPr id="2630" name=""/>
              <p:cNvSpPr/>
              <p:nvPr/>
            </p:nvSpPr>
            <p:spPr>
              <a:xfrm>
                <a:off x="1639080" y="504396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1639080" y="504396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32" name=""/>
            <p:cNvGrpSpPr/>
            <p:nvPr/>
          </p:nvGrpSpPr>
          <p:grpSpPr>
            <a:xfrm>
              <a:off x="1637640" y="5104080"/>
              <a:ext cx="82440" cy="84240"/>
              <a:chOff x="1637640" y="5104080"/>
              <a:chExt cx="82440" cy="84240"/>
            </a:xfrm>
          </p:grpSpPr>
          <p:sp>
            <p:nvSpPr>
              <p:cNvPr id="2633" name=""/>
              <p:cNvSpPr/>
              <p:nvPr/>
            </p:nvSpPr>
            <p:spPr>
              <a:xfrm>
                <a:off x="1637640" y="5104080"/>
                <a:ext cx="8244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1637640" y="5104080"/>
                <a:ext cx="8244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35" name=""/>
          <p:cNvSpPr/>
          <p:nvPr/>
        </p:nvSpPr>
        <p:spPr>
          <a:xfrm>
            <a:off x="3048120" y="2743200"/>
            <a:ext cx="685800" cy="555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4267080" y="3867120"/>
            <a:ext cx="685800" cy="555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5715000" y="2743200"/>
            <a:ext cx="685800" cy="555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2889000" y="243828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2903760" y="6248520"/>
            <a:ext cx="33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fferentiated Service Network(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230040" y="411480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EEE 802.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1" name=""/>
          <p:cNvGrpSpPr/>
          <p:nvPr/>
        </p:nvGrpSpPr>
        <p:grpSpPr>
          <a:xfrm>
            <a:off x="7248600" y="3124080"/>
            <a:ext cx="1107720" cy="785880"/>
            <a:chOff x="7248600" y="3124080"/>
            <a:chExt cx="1107720" cy="785880"/>
          </a:xfrm>
        </p:grpSpPr>
        <p:sp>
          <p:nvSpPr>
            <p:cNvPr id="2642" name=""/>
            <p:cNvSpPr/>
            <p:nvPr/>
          </p:nvSpPr>
          <p:spPr>
            <a:xfrm flipH="1">
              <a:off x="8003880" y="3124080"/>
              <a:ext cx="352440" cy="1666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 flipH="1">
              <a:off x="7248600" y="3562200"/>
              <a:ext cx="247680" cy="3477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44" name=""/>
          <p:cNvSpPr/>
          <p:nvPr/>
        </p:nvSpPr>
        <p:spPr>
          <a:xfrm flipH="1">
            <a:off x="6629040" y="4267080"/>
            <a:ext cx="15228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 flipH="1" flipV="1">
            <a:off x="6060960" y="3303720"/>
            <a:ext cx="185760" cy="118728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 flipH="1">
            <a:off x="5410080" y="4952880"/>
            <a:ext cx="4572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7" name=""/>
          <p:cNvGrpSpPr/>
          <p:nvPr/>
        </p:nvGrpSpPr>
        <p:grpSpPr>
          <a:xfrm>
            <a:off x="533520" y="685800"/>
            <a:ext cx="8610480" cy="621720"/>
            <a:chOff x="533520" y="685800"/>
            <a:chExt cx="8610480" cy="621720"/>
          </a:xfrm>
        </p:grpSpPr>
        <p:sp>
          <p:nvSpPr>
            <p:cNvPr id="2648" name=""/>
            <p:cNvSpPr/>
            <p:nvPr/>
          </p:nvSpPr>
          <p:spPr>
            <a:xfrm>
              <a:off x="533520" y="685800"/>
              <a:ext cx="75438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7.  RESV message reaches first rout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533520" y="1022040"/>
              <a:ext cx="86104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8.  Router checks resource availability and admits resource reque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0" name=""/>
          <p:cNvSpPr/>
          <p:nvPr/>
        </p:nvSpPr>
        <p:spPr>
          <a:xfrm>
            <a:off x="533520" y="1371600"/>
            <a:ext cx="8381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.  Admitted RESV is forwarded to next rou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533520" y="1752480"/>
            <a:ext cx="8381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1.  Router checks resource availability and applies receiver policy check against directo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533520" y="2133720"/>
            <a:ext cx="8610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.  Checks approved, RESV forward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1745640" y="3048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"/>
          <p:cNvSpPr/>
          <p:nvPr/>
        </p:nvSpPr>
        <p:spPr>
          <a:xfrm>
            <a:off x="6060960" y="3278160"/>
            <a:ext cx="198720" cy="12747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 flipH="1">
            <a:off x="4595400" y="4648320"/>
            <a:ext cx="1800" cy="59832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 flipV="1">
            <a:off x="3276720" y="3276360"/>
            <a:ext cx="152280" cy="14475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 flipV="1">
            <a:off x="2514600" y="3276720"/>
            <a:ext cx="762120" cy="76176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 flipV="1">
            <a:off x="1676520" y="5181480"/>
            <a:ext cx="155520" cy="609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 flipV="1">
            <a:off x="1828800" y="4266720"/>
            <a:ext cx="384120" cy="838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 flipV="1">
            <a:off x="2438280" y="4876920"/>
            <a:ext cx="15552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 flipV="1">
            <a:off x="1143000" y="4648320"/>
            <a:ext cx="38412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 flipV="1">
            <a:off x="1600200" y="4191120"/>
            <a:ext cx="30780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 flipH="1" flipV="1">
            <a:off x="2364840" y="5257440"/>
            <a:ext cx="225720" cy="609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 flipH="1">
            <a:off x="1599840" y="2895480"/>
            <a:ext cx="304920" cy="304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 flipH="1" flipV="1" rot="20268600">
            <a:off x="5181480" y="4971960"/>
            <a:ext cx="1084320" cy="329040"/>
          </a:xfrm>
          <a:custGeom>
            <a:avLst/>
            <a:gdLst/>
            <a:ahLst/>
            <a:rect l="l" t="t" r="r" b="b"/>
            <a:pathLst>
              <a:path w="656" h="197">
                <a:moveTo>
                  <a:pt x="0" y="196"/>
                </a:moveTo>
                <a:lnTo>
                  <a:pt x="401" y="145"/>
                </a:lnTo>
                <a:lnTo>
                  <a:pt x="312" y="71"/>
                </a:lnTo>
                <a:lnTo>
                  <a:pt x="655" y="0"/>
                </a:lnTo>
                <a:lnTo>
                  <a:pt x="254" y="52"/>
                </a:lnTo>
                <a:lnTo>
                  <a:pt x="346" y="129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 flipV="1">
            <a:off x="2981160" y="4277880"/>
            <a:ext cx="219240" cy="352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 flipH="1" flipV="1">
            <a:off x="1107720" y="2711520"/>
            <a:ext cx="274680" cy="511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 flipH="1" flipV="1">
            <a:off x="838080" y="3142800"/>
            <a:ext cx="416160" cy="187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 flipH="1">
            <a:off x="789120" y="3452760"/>
            <a:ext cx="490320" cy="214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 flipH="1" flipV="1">
            <a:off x="1752480" y="3580920"/>
            <a:ext cx="255600" cy="335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 flipV="1">
            <a:off x="2173320" y="352404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 flipV="1">
            <a:off x="2371680" y="3609720"/>
            <a:ext cx="127080" cy="36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3" name=""/>
          <p:cNvGrpSpPr/>
          <p:nvPr/>
        </p:nvGrpSpPr>
        <p:grpSpPr>
          <a:xfrm>
            <a:off x="1828800" y="3887640"/>
            <a:ext cx="735120" cy="479520"/>
            <a:chOff x="1828800" y="3887640"/>
            <a:chExt cx="735120" cy="479520"/>
          </a:xfrm>
        </p:grpSpPr>
        <p:grpSp>
          <p:nvGrpSpPr>
            <p:cNvPr id="2674" name=""/>
            <p:cNvGrpSpPr/>
            <p:nvPr/>
          </p:nvGrpSpPr>
          <p:grpSpPr>
            <a:xfrm>
              <a:off x="1829880" y="3949200"/>
              <a:ext cx="464040" cy="417960"/>
              <a:chOff x="1829880" y="3949200"/>
              <a:chExt cx="464040" cy="417960"/>
            </a:xfrm>
          </p:grpSpPr>
          <p:sp>
            <p:nvSpPr>
              <p:cNvPr id="2675" name=""/>
              <p:cNvSpPr/>
              <p:nvPr/>
            </p:nvSpPr>
            <p:spPr>
              <a:xfrm>
                <a:off x="1829880" y="3949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1829880" y="3949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77" name=""/>
            <p:cNvGrpSpPr/>
            <p:nvPr/>
          </p:nvGrpSpPr>
          <p:grpSpPr>
            <a:xfrm>
              <a:off x="2293920" y="3963600"/>
              <a:ext cx="267480" cy="403560"/>
              <a:chOff x="2293920" y="3963600"/>
              <a:chExt cx="267480" cy="403560"/>
            </a:xfrm>
          </p:grpSpPr>
          <p:sp>
            <p:nvSpPr>
              <p:cNvPr id="2678" name=""/>
              <p:cNvSpPr/>
              <p:nvPr/>
            </p:nvSpPr>
            <p:spPr>
              <a:xfrm>
                <a:off x="2293920" y="3963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2293920" y="3963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0" name=""/>
            <p:cNvGrpSpPr/>
            <p:nvPr/>
          </p:nvGrpSpPr>
          <p:grpSpPr>
            <a:xfrm>
              <a:off x="1828800" y="3887640"/>
              <a:ext cx="735120" cy="168120"/>
              <a:chOff x="1828800" y="3887640"/>
              <a:chExt cx="735120" cy="168120"/>
            </a:xfrm>
          </p:grpSpPr>
          <p:sp>
            <p:nvSpPr>
              <p:cNvPr id="2681" name=""/>
              <p:cNvSpPr/>
              <p:nvPr/>
            </p:nvSpPr>
            <p:spPr>
              <a:xfrm>
                <a:off x="1828800" y="3887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1828800" y="3887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83" name=""/>
            <p:cNvSpPr/>
            <p:nvPr/>
          </p:nvSpPr>
          <p:spPr>
            <a:xfrm>
              <a:off x="1857960" y="3987000"/>
              <a:ext cx="391680" cy="33804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1857960" y="4077360"/>
              <a:ext cx="391680" cy="24768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1857960" y="3987000"/>
              <a:ext cx="389520" cy="2206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86" name=""/>
            <p:cNvGrpSpPr/>
            <p:nvPr/>
          </p:nvGrpSpPr>
          <p:grpSpPr>
            <a:xfrm>
              <a:off x="1885320" y="4020120"/>
              <a:ext cx="191160" cy="81720"/>
              <a:chOff x="1885320" y="4020120"/>
              <a:chExt cx="191160" cy="81720"/>
            </a:xfrm>
          </p:grpSpPr>
          <p:sp>
            <p:nvSpPr>
              <p:cNvPr id="2687" name=""/>
              <p:cNvSpPr/>
              <p:nvPr/>
            </p:nvSpPr>
            <p:spPr>
              <a:xfrm>
                <a:off x="1885320" y="4020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1885320" y="4020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9" name=""/>
            <p:cNvGrpSpPr/>
            <p:nvPr/>
          </p:nvGrpSpPr>
          <p:grpSpPr>
            <a:xfrm>
              <a:off x="1883160" y="4107240"/>
              <a:ext cx="119520" cy="122040"/>
              <a:chOff x="1883160" y="4107240"/>
              <a:chExt cx="119520" cy="122040"/>
            </a:xfrm>
          </p:grpSpPr>
          <p:sp>
            <p:nvSpPr>
              <p:cNvPr id="2690" name=""/>
              <p:cNvSpPr/>
              <p:nvPr/>
            </p:nvSpPr>
            <p:spPr>
              <a:xfrm>
                <a:off x="1883160" y="4107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1883160" y="4107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92" name=""/>
          <p:cNvGrpSpPr/>
          <p:nvPr/>
        </p:nvGrpSpPr>
        <p:grpSpPr>
          <a:xfrm>
            <a:off x="434880" y="3436920"/>
            <a:ext cx="513000" cy="546120"/>
            <a:chOff x="434880" y="3436920"/>
            <a:chExt cx="513000" cy="546120"/>
          </a:xfrm>
        </p:grpSpPr>
        <p:grpSp>
          <p:nvGrpSpPr>
            <p:cNvPr id="2693" name=""/>
            <p:cNvGrpSpPr/>
            <p:nvPr/>
          </p:nvGrpSpPr>
          <p:grpSpPr>
            <a:xfrm>
              <a:off x="434880" y="3789360"/>
              <a:ext cx="176040" cy="193680"/>
              <a:chOff x="434880" y="3789360"/>
              <a:chExt cx="176040" cy="193680"/>
            </a:xfrm>
          </p:grpSpPr>
          <p:sp>
            <p:nvSpPr>
              <p:cNvPr id="2694" name=""/>
              <p:cNvSpPr/>
              <p:nvPr/>
            </p:nvSpPr>
            <p:spPr>
              <a:xfrm>
                <a:off x="434880" y="3789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434880" y="3789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96" name=""/>
            <p:cNvGrpSpPr/>
            <p:nvPr/>
          </p:nvGrpSpPr>
          <p:grpSpPr>
            <a:xfrm>
              <a:off x="434880" y="3717720"/>
              <a:ext cx="513000" cy="176400"/>
              <a:chOff x="434880" y="3717720"/>
              <a:chExt cx="513000" cy="176400"/>
            </a:xfrm>
          </p:grpSpPr>
          <p:sp>
            <p:nvSpPr>
              <p:cNvPr id="2697" name=""/>
              <p:cNvSpPr/>
              <p:nvPr/>
            </p:nvSpPr>
            <p:spPr>
              <a:xfrm>
                <a:off x="434880" y="371772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434880" y="371772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99" name=""/>
            <p:cNvGrpSpPr/>
            <p:nvPr/>
          </p:nvGrpSpPr>
          <p:grpSpPr>
            <a:xfrm>
              <a:off x="610920" y="3805920"/>
              <a:ext cx="336960" cy="176760"/>
              <a:chOff x="610920" y="3805920"/>
              <a:chExt cx="336960" cy="176760"/>
            </a:xfrm>
          </p:grpSpPr>
          <p:sp>
            <p:nvSpPr>
              <p:cNvPr id="2700" name=""/>
              <p:cNvSpPr/>
              <p:nvPr/>
            </p:nvSpPr>
            <p:spPr>
              <a:xfrm>
                <a:off x="610920" y="380592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610920" y="380592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02" name=""/>
            <p:cNvSpPr/>
            <p:nvPr/>
          </p:nvSpPr>
          <p:spPr>
            <a:xfrm>
              <a:off x="626760" y="388944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03" name=""/>
            <p:cNvGrpSpPr/>
            <p:nvPr/>
          </p:nvGrpSpPr>
          <p:grpSpPr>
            <a:xfrm>
              <a:off x="799920" y="3826800"/>
              <a:ext cx="131760" cy="89640"/>
              <a:chOff x="799920" y="3826800"/>
              <a:chExt cx="131760" cy="89640"/>
            </a:xfrm>
          </p:grpSpPr>
          <p:grpSp>
            <p:nvGrpSpPr>
              <p:cNvPr id="2704" name=""/>
              <p:cNvGrpSpPr/>
              <p:nvPr/>
            </p:nvGrpSpPr>
            <p:grpSpPr>
              <a:xfrm>
                <a:off x="799920" y="3826800"/>
                <a:ext cx="131760" cy="89640"/>
                <a:chOff x="799920" y="3826800"/>
                <a:chExt cx="131760" cy="89640"/>
              </a:xfrm>
            </p:grpSpPr>
            <p:sp>
              <p:nvSpPr>
                <p:cNvPr id="2705" name=""/>
                <p:cNvSpPr/>
                <p:nvPr/>
              </p:nvSpPr>
              <p:spPr>
                <a:xfrm>
                  <a:off x="799920" y="3826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>
                  <a:off x="799920" y="3826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7" name=""/>
              <p:cNvSpPr/>
              <p:nvPr/>
            </p:nvSpPr>
            <p:spPr>
              <a:xfrm flipH="1">
                <a:off x="799920" y="385776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846360" y="387396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846360" y="384768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10" name=""/>
            <p:cNvGrpSpPr/>
            <p:nvPr/>
          </p:nvGrpSpPr>
          <p:grpSpPr>
            <a:xfrm>
              <a:off x="455400" y="3436920"/>
              <a:ext cx="308880" cy="301680"/>
              <a:chOff x="455400" y="3436920"/>
              <a:chExt cx="308880" cy="301680"/>
            </a:xfrm>
          </p:grpSpPr>
          <p:sp>
            <p:nvSpPr>
              <p:cNvPr id="2711" name=""/>
              <p:cNvSpPr/>
              <p:nvPr/>
            </p:nvSpPr>
            <p:spPr>
              <a:xfrm>
                <a:off x="455400" y="343692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455400" y="343692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13" name=""/>
            <p:cNvGrpSpPr/>
            <p:nvPr/>
          </p:nvGrpSpPr>
          <p:grpSpPr>
            <a:xfrm>
              <a:off x="511200" y="3515760"/>
              <a:ext cx="100440" cy="331200"/>
              <a:chOff x="511200" y="3515760"/>
              <a:chExt cx="100440" cy="331200"/>
            </a:xfrm>
          </p:grpSpPr>
          <p:sp>
            <p:nvSpPr>
              <p:cNvPr id="2714" name=""/>
              <p:cNvSpPr/>
              <p:nvPr/>
            </p:nvSpPr>
            <p:spPr>
              <a:xfrm>
                <a:off x="511200" y="3515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511200" y="3515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16" name=""/>
            <p:cNvGrpSpPr/>
            <p:nvPr/>
          </p:nvGrpSpPr>
          <p:grpSpPr>
            <a:xfrm>
              <a:off x="511200" y="3447720"/>
              <a:ext cx="417600" cy="122400"/>
              <a:chOff x="511200" y="3447720"/>
              <a:chExt cx="417600" cy="122400"/>
            </a:xfrm>
          </p:grpSpPr>
          <p:sp>
            <p:nvSpPr>
              <p:cNvPr id="2717" name=""/>
              <p:cNvSpPr/>
              <p:nvPr/>
            </p:nvSpPr>
            <p:spPr>
              <a:xfrm>
                <a:off x="511200" y="344772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511200" y="344772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19" name=""/>
            <p:cNvGrpSpPr/>
            <p:nvPr/>
          </p:nvGrpSpPr>
          <p:grpSpPr>
            <a:xfrm>
              <a:off x="645840" y="3782160"/>
              <a:ext cx="220320" cy="66960"/>
              <a:chOff x="645840" y="3782160"/>
              <a:chExt cx="220320" cy="66960"/>
            </a:xfrm>
          </p:grpSpPr>
          <p:sp>
            <p:nvSpPr>
              <p:cNvPr id="2720" name=""/>
              <p:cNvSpPr/>
              <p:nvPr/>
            </p:nvSpPr>
            <p:spPr>
              <a:xfrm>
                <a:off x="645840" y="3782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645840" y="3782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22" name=""/>
            <p:cNvGrpSpPr/>
            <p:nvPr/>
          </p:nvGrpSpPr>
          <p:grpSpPr>
            <a:xfrm>
              <a:off x="612000" y="3494520"/>
              <a:ext cx="316800" cy="353160"/>
              <a:chOff x="612000" y="3494520"/>
              <a:chExt cx="316800" cy="353160"/>
            </a:xfrm>
          </p:grpSpPr>
          <p:sp>
            <p:nvSpPr>
              <p:cNvPr id="2723" name=""/>
              <p:cNvSpPr/>
              <p:nvPr/>
            </p:nvSpPr>
            <p:spPr>
              <a:xfrm>
                <a:off x="612000" y="349452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612000" y="349452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25" name=""/>
            <p:cNvGrpSpPr/>
            <p:nvPr/>
          </p:nvGrpSpPr>
          <p:grpSpPr>
            <a:xfrm>
              <a:off x="658080" y="3534480"/>
              <a:ext cx="230760" cy="257400"/>
              <a:chOff x="658080" y="3534480"/>
              <a:chExt cx="230760" cy="257400"/>
            </a:xfrm>
          </p:grpSpPr>
          <p:sp>
            <p:nvSpPr>
              <p:cNvPr id="2726" name=""/>
              <p:cNvSpPr/>
              <p:nvPr/>
            </p:nvSpPr>
            <p:spPr>
              <a:xfrm>
                <a:off x="658080" y="3534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658080" y="3534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28" name=""/>
            <p:cNvSpPr/>
            <p:nvPr/>
          </p:nvSpPr>
          <p:spPr>
            <a:xfrm>
              <a:off x="666720" y="3552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666720" y="3552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90480" y="360900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713160" y="359028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2" name=""/>
          <p:cNvGrpSpPr/>
          <p:nvPr/>
        </p:nvGrpSpPr>
        <p:grpSpPr>
          <a:xfrm>
            <a:off x="380880" y="2762280"/>
            <a:ext cx="513000" cy="546120"/>
            <a:chOff x="380880" y="2762280"/>
            <a:chExt cx="513000" cy="546120"/>
          </a:xfrm>
        </p:grpSpPr>
        <p:grpSp>
          <p:nvGrpSpPr>
            <p:cNvPr id="2733" name=""/>
            <p:cNvGrpSpPr/>
            <p:nvPr/>
          </p:nvGrpSpPr>
          <p:grpSpPr>
            <a:xfrm>
              <a:off x="380880" y="3114720"/>
              <a:ext cx="176040" cy="193680"/>
              <a:chOff x="380880" y="3114720"/>
              <a:chExt cx="176040" cy="193680"/>
            </a:xfrm>
          </p:grpSpPr>
          <p:sp>
            <p:nvSpPr>
              <p:cNvPr id="2734" name=""/>
              <p:cNvSpPr/>
              <p:nvPr/>
            </p:nvSpPr>
            <p:spPr>
              <a:xfrm>
                <a:off x="380880" y="3114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380880" y="3114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36" name=""/>
            <p:cNvGrpSpPr/>
            <p:nvPr/>
          </p:nvGrpSpPr>
          <p:grpSpPr>
            <a:xfrm>
              <a:off x="380880" y="3043080"/>
              <a:ext cx="513000" cy="176400"/>
              <a:chOff x="380880" y="3043080"/>
              <a:chExt cx="513000" cy="176400"/>
            </a:xfrm>
          </p:grpSpPr>
          <p:sp>
            <p:nvSpPr>
              <p:cNvPr id="2737" name=""/>
              <p:cNvSpPr/>
              <p:nvPr/>
            </p:nvSpPr>
            <p:spPr>
              <a:xfrm>
                <a:off x="380880" y="304308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380880" y="3043080"/>
                <a:ext cx="5130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39" name=""/>
            <p:cNvGrpSpPr/>
            <p:nvPr/>
          </p:nvGrpSpPr>
          <p:grpSpPr>
            <a:xfrm>
              <a:off x="556920" y="3131280"/>
              <a:ext cx="336960" cy="176760"/>
              <a:chOff x="556920" y="3131280"/>
              <a:chExt cx="336960" cy="176760"/>
            </a:xfrm>
          </p:grpSpPr>
          <p:sp>
            <p:nvSpPr>
              <p:cNvPr id="2740" name=""/>
              <p:cNvSpPr/>
              <p:nvPr/>
            </p:nvSpPr>
            <p:spPr>
              <a:xfrm>
                <a:off x="556920" y="313128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556920" y="3131280"/>
                <a:ext cx="33696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42" name=""/>
            <p:cNvSpPr/>
            <p:nvPr/>
          </p:nvSpPr>
          <p:spPr>
            <a:xfrm>
              <a:off x="572760" y="321480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43" name=""/>
            <p:cNvGrpSpPr/>
            <p:nvPr/>
          </p:nvGrpSpPr>
          <p:grpSpPr>
            <a:xfrm>
              <a:off x="745920" y="3152160"/>
              <a:ext cx="131760" cy="89640"/>
              <a:chOff x="745920" y="3152160"/>
              <a:chExt cx="131760" cy="89640"/>
            </a:xfrm>
          </p:grpSpPr>
          <p:grpSp>
            <p:nvGrpSpPr>
              <p:cNvPr id="2744" name=""/>
              <p:cNvGrpSpPr/>
              <p:nvPr/>
            </p:nvGrpSpPr>
            <p:grpSpPr>
              <a:xfrm>
                <a:off x="745920" y="3152160"/>
                <a:ext cx="131760" cy="89640"/>
                <a:chOff x="745920" y="3152160"/>
                <a:chExt cx="131760" cy="89640"/>
              </a:xfrm>
            </p:grpSpPr>
            <p:sp>
              <p:nvSpPr>
                <p:cNvPr id="2745" name=""/>
                <p:cNvSpPr/>
                <p:nvPr/>
              </p:nvSpPr>
              <p:spPr>
                <a:xfrm>
                  <a:off x="745920" y="3152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>
                  <a:off x="745920" y="3152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47" name=""/>
              <p:cNvSpPr/>
              <p:nvPr/>
            </p:nvSpPr>
            <p:spPr>
              <a:xfrm flipH="1">
                <a:off x="745920" y="318312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792360" y="319932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792360" y="317304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0" name=""/>
            <p:cNvGrpSpPr/>
            <p:nvPr/>
          </p:nvGrpSpPr>
          <p:grpSpPr>
            <a:xfrm>
              <a:off x="401400" y="2762280"/>
              <a:ext cx="308880" cy="301680"/>
              <a:chOff x="401400" y="2762280"/>
              <a:chExt cx="308880" cy="301680"/>
            </a:xfrm>
          </p:grpSpPr>
          <p:sp>
            <p:nvSpPr>
              <p:cNvPr id="2751" name=""/>
              <p:cNvSpPr/>
              <p:nvPr/>
            </p:nvSpPr>
            <p:spPr>
              <a:xfrm>
                <a:off x="401400" y="276228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401400" y="2762280"/>
                <a:ext cx="30888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3" name=""/>
            <p:cNvGrpSpPr/>
            <p:nvPr/>
          </p:nvGrpSpPr>
          <p:grpSpPr>
            <a:xfrm>
              <a:off x="457200" y="2841120"/>
              <a:ext cx="100440" cy="331200"/>
              <a:chOff x="457200" y="2841120"/>
              <a:chExt cx="100440" cy="331200"/>
            </a:xfrm>
          </p:grpSpPr>
          <p:sp>
            <p:nvSpPr>
              <p:cNvPr id="2754" name=""/>
              <p:cNvSpPr/>
              <p:nvPr/>
            </p:nvSpPr>
            <p:spPr>
              <a:xfrm>
                <a:off x="457200" y="2841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457200" y="2841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6" name=""/>
            <p:cNvGrpSpPr/>
            <p:nvPr/>
          </p:nvGrpSpPr>
          <p:grpSpPr>
            <a:xfrm>
              <a:off x="457200" y="2773080"/>
              <a:ext cx="417600" cy="122400"/>
              <a:chOff x="457200" y="2773080"/>
              <a:chExt cx="417600" cy="122400"/>
            </a:xfrm>
          </p:grpSpPr>
          <p:sp>
            <p:nvSpPr>
              <p:cNvPr id="2757" name=""/>
              <p:cNvSpPr/>
              <p:nvPr/>
            </p:nvSpPr>
            <p:spPr>
              <a:xfrm>
                <a:off x="457200" y="277308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457200" y="2773080"/>
                <a:ext cx="41760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9" name=""/>
            <p:cNvGrpSpPr/>
            <p:nvPr/>
          </p:nvGrpSpPr>
          <p:grpSpPr>
            <a:xfrm>
              <a:off x="591840" y="3107520"/>
              <a:ext cx="220320" cy="66960"/>
              <a:chOff x="591840" y="3107520"/>
              <a:chExt cx="220320" cy="66960"/>
            </a:xfrm>
          </p:grpSpPr>
          <p:sp>
            <p:nvSpPr>
              <p:cNvPr id="2760" name=""/>
              <p:cNvSpPr/>
              <p:nvPr/>
            </p:nvSpPr>
            <p:spPr>
              <a:xfrm>
                <a:off x="591840" y="3107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591840" y="3107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2" name=""/>
            <p:cNvGrpSpPr/>
            <p:nvPr/>
          </p:nvGrpSpPr>
          <p:grpSpPr>
            <a:xfrm>
              <a:off x="558000" y="2819880"/>
              <a:ext cx="316800" cy="353160"/>
              <a:chOff x="558000" y="2819880"/>
              <a:chExt cx="316800" cy="353160"/>
            </a:xfrm>
          </p:grpSpPr>
          <p:sp>
            <p:nvSpPr>
              <p:cNvPr id="2763" name=""/>
              <p:cNvSpPr/>
              <p:nvPr/>
            </p:nvSpPr>
            <p:spPr>
              <a:xfrm>
                <a:off x="558000" y="281988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558000" y="2819880"/>
                <a:ext cx="31680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5" name=""/>
            <p:cNvGrpSpPr/>
            <p:nvPr/>
          </p:nvGrpSpPr>
          <p:grpSpPr>
            <a:xfrm>
              <a:off x="604080" y="2859840"/>
              <a:ext cx="230760" cy="257400"/>
              <a:chOff x="604080" y="2859840"/>
              <a:chExt cx="230760" cy="257400"/>
            </a:xfrm>
          </p:grpSpPr>
          <p:sp>
            <p:nvSpPr>
              <p:cNvPr id="2766" name=""/>
              <p:cNvSpPr/>
              <p:nvPr/>
            </p:nvSpPr>
            <p:spPr>
              <a:xfrm>
                <a:off x="604080" y="2859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604080" y="2859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68" name=""/>
            <p:cNvSpPr/>
            <p:nvPr/>
          </p:nvSpPr>
          <p:spPr>
            <a:xfrm>
              <a:off x="612720" y="2877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612720" y="2877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636480" y="293436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659160" y="291564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2" name=""/>
          <p:cNvGrpSpPr/>
          <p:nvPr/>
        </p:nvGrpSpPr>
        <p:grpSpPr>
          <a:xfrm>
            <a:off x="906480" y="2408400"/>
            <a:ext cx="511200" cy="545760"/>
            <a:chOff x="906480" y="2408400"/>
            <a:chExt cx="511200" cy="545760"/>
          </a:xfrm>
        </p:grpSpPr>
        <p:grpSp>
          <p:nvGrpSpPr>
            <p:cNvPr id="2773" name=""/>
            <p:cNvGrpSpPr/>
            <p:nvPr/>
          </p:nvGrpSpPr>
          <p:grpSpPr>
            <a:xfrm>
              <a:off x="906480" y="2760480"/>
              <a:ext cx="175320" cy="193320"/>
              <a:chOff x="906480" y="2760480"/>
              <a:chExt cx="175320" cy="193320"/>
            </a:xfrm>
          </p:grpSpPr>
          <p:sp>
            <p:nvSpPr>
              <p:cNvPr id="2774" name=""/>
              <p:cNvSpPr/>
              <p:nvPr/>
            </p:nvSpPr>
            <p:spPr>
              <a:xfrm>
                <a:off x="906480" y="2760480"/>
                <a:ext cx="175320" cy="19332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906480" y="2760480"/>
                <a:ext cx="175320" cy="19332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76" name=""/>
            <p:cNvGrpSpPr/>
            <p:nvPr/>
          </p:nvGrpSpPr>
          <p:grpSpPr>
            <a:xfrm>
              <a:off x="906480" y="2689200"/>
              <a:ext cx="511200" cy="176400"/>
              <a:chOff x="906480" y="2689200"/>
              <a:chExt cx="511200" cy="176400"/>
            </a:xfrm>
          </p:grpSpPr>
          <p:sp>
            <p:nvSpPr>
              <p:cNvPr id="2777" name=""/>
              <p:cNvSpPr/>
              <p:nvPr/>
            </p:nvSpPr>
            <p:spPr>
              <a:xfrm>
                <a:off x="906480" y="2689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906480" y="2689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79" name=""/>
            <p:cNvGrpSpPr/>
            <p:nvPr/>
          </p:nvGrpSpPr>
          <p:grpSpPr>
            <a:xfrm>
              <a:off x="1081800" y="2777400"/>
              <a:ext cx="335520" cy="176760"/>
              <a:chOff x="1081800" y="2777400"/>
              <a:chExt cx="335520" cy="176760"/>
            </a:xfrm>
          </p:grpSpPr>
          <p:sp>
            <p:nvSpPr>
              <p:cNvPr id="2780" name=""/>
              <p:cNvSpPr/>
              <p:nvPr/>
            </p:nvSpPr>
            <p:spPr>
              <a:xfrm>
                <a:off x="1081800" y="2777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1081800" y="2777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82" name=""/>
            <p:cNvSpPr/>
            <p:nvPr/>
          </p:nvSpPr>
          <p:spPr>
            <a:xfrm>
              <a:off x="1097640" y="2860560"/>
              <a:ext cx="6732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83" name=""/>
            <p:cNvGrpSpPr/>
            <p:nvPr/>
          </p:nvGrpSpPr>
          <p:grpSpPr>
            <a:xfrm>
              <a:off x="1269720" y="2797920"/>
              <a:ext cx="131760" cy="89640"/>
              <a:chOff x="1269720" y="2797920"/>
              <a:chExt cx="131760" cy="89640"/>
            </a:xfrm>
          </p:grpSpPr>
          <p:grpSp>
            <p:nvGrpSpPr>
              <p:cNvPr id="2784" name=""/>
              <p:cNvGrpSpPr/>
              <p:nvPr/>
            </p:nvGrpSpPr>
            <p:grpSpPr>
              <a:xfrm>
                <a:off x="1270080" y="2797920"/>
                <a:ext cx="131400" cy="89640"/>
                <a:chOff x="1270080" y="2797920"/>
                <a:chExt cx="131400" cy="89640"/>
              </a:xfrm>
            </p:grpSpPr>
            <p:sp>
              <p:nvSpPr>
                <p:cNvPr id="2785" name=""/>
                <p:cNvSpPr/>
                <p:nvPr/>
              </p:nvSpPr>
              <p:spPr>
                <a:xfrm>
                  <a:off x="1270080" y="279792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>
                  <a:off x="1270080" y="279792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87" name=""/>
              <p:cNvSpPr/>
              <p:nvPr/>
            </p:nvSpPr>
            <p:spPr>
              <a:xfrm flipH="1">
                <a:off x="1269720" y="2828880"/>
                <a:ext cx="1314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1316160" y="2845080"/>
                <a:ext cx="4608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1316160" y="2818800"/>
                <a:ext cx="4608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90" name=""/>
            <p:cNvGrpSpPr/>
            <p:nvPr/>
          </p:nvGrpSpPr>
          <p:grpSpPr>
            <a:xfrm>
              <a:off x="927000" y="2408400"/>
              <a:ext cx="307800" cy="301320"/>
              <a:chOff x="927000" y="2408400"/>
              <a:chExt cx="307800" cy="301320"/>
            </a:xfrm>
          </p:grpSpPr>
          <p:sp>
            <p:nvSpPr>
              <p:cNvPr id="2791" name=""/>
              <p:cNvSpPr/>
              <p:nvPr/>
            </p:nvSpPr>
            <p:spPr>
              <a:xfrm>
                <a:off x="927000" y="2408400"/>
                <a:ext cx="307800" cy="30132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927000" y="2408400"/>
                <a:ext cx="307800" cy="30132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93" name=""/>
            <p:cNvGrpSpPr/>
            <p:nvPr/>
          </p:nvGrpSpPr>
          <p:grpSpPr>
            <a:xfrm>
              <a:off x="982440" y="2487240"/>
              <a:ext cx="100080" cy="330840"/>
              <a:chOff x="982440" y="2487240"/>
              <a:chExt cx="100080" cy="330840"/>
            </a:xfrm>
          </p:grpSpPr>
          <p:sp>
            <p:nvSpPr>
              <p:cNvPr id="2794" name=""/>
              <p:cNvSpPr/>
              <p:nvPr/>
            </p:nvSpPr>
            <p:spPr>
              <a:xfrm>
                <a:off x="982440" y="2487240"/>
                <a:ext cx="100080" cy="33084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982440" y="2487240"/>
                <a:ext cx="100080" cy="33084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96" name=""/>
            <p:cNvGrpSpPr/>
            <p:nvPr/>
          </p:nvGrpSpPr>
          <p:grpSpPr>
            <a:xfrm>
              <a:off x="982440" y="2419200"/>
              <a:ext cx="416160" cy="122400"/>
              <a:chOff x="982440" y="2419200"/>
              <a:chExt cx="416160" cy="122400"/>
            </a:xfrm>
          </p:grpSpPr>
          <p:sp>
            <p:nvSpPr>
              <p:cNvPr id="2797" name=""/>
              <p:cNvSpPr/>
              <p:nvPr/>
            </p:nvSpPr>
            <p:spPr>
              <a:xfrm>
                <a:off x="982440" y="2419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982440" y="2419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99" name=""/>
            <p:cNvGrpSpPr/>
            <p:nvPr/>
          </p:nvGrpSpPr>
          <p:grpSpPr>
            <a:xfrm>
              <a:off x="1116720" y="2753280"/>
              <a:ext cx="219600" cy="66600"/>
              <a:chOff x="1116720" y="2753280"/>
              <a:chExt cx="219600" cy="66600"/>
            </a:xfrm>
          </p:grpSpPr>
          <p:sp>
            <p:nvSpPr>
              <p:cNvPr id="2800" name=""/>
              <p:cNvSpPr/>
              <p:nvPr/>
            </p:nvSpPr>
            <p:spPr>
              <a:xfrm>
                <a:off x="1116720" y="2753280"/>
                <a:ext cx="219600" cy="6660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1116720" y="2753280"/>
                <a:ext cx="219600" cy="6660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02" name=""/>
            <p:cNvGrpSpPr/>
            <p:nvPr/>
          </p:nvGrpSpPr>
          <p:grpSpPr>
            <a:xfrm>
              <a:off x="1082880" y="2466000"/>
              <a:ext cx="315720" cy="352800"/>
              <a:chOff x="1082880" y="2466000"/>
              <a:chExt cx="315720" cy="352800"/>
            </a:xfrm>
          </p:grpSpPr>
          <p:sp>
            <p:nvSpPr>
              <p:cNvPr id="2803" name=""/>
              <p:cNvSpPr/>
              <p:nvPr/>
            </p:nvSpPr>
            <p:spPr>
              <a:xfrm>
                <a:off x="1082880" y="2466000"/>
                <a:ext cx="315720" cy="35280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1082880" y="2466000"/>
                <a:ext cx="315720" cy="35280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05" name=""/>
            <p:cNvGrpSpPr/>
            <p:nvPr/>
          </p:nvGrpSpPr>
          <p:grpSpPr>
            <a:xfrm>
              <a:off x="1128600" y="2505960"/>
              <a:ext cx="230040" cy="257040"/>
              <a:chOff x="1128600" y="2505960"/>
              <a:chExt cx="230040" cy="257040"/>
            </a:xfrm>
          </p:grpSpPr>
          <p:sp>
            <p:nvSpPr>
              <p:cNvPr id="2806" name=""/>
              <p:cNvSpPr/>
              <p:nvPr/>
            </p:nvSpPr>
            <p:spPr>
              <a:xfrm>
                <a:off x="1128600" y="2505960"/>
                <a:ext cx="230040" cy="2570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1128600" y="2505960"/>
                <a:ext cx="230040" cy="2570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08" name=""/>
            <p:cNvSpPr/>
            <p:nvPr/>
          </p:nvSpPr>
          <p:spPr>
            <a:xfrm>
              <a:off x="1137600" y="2523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1137600" y="2523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1161000" y="258048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1183680" y="2561760"/>
              <a:ext cx="1278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12" name=""/>
          <p:cNvSpPr/>
          <p:nvPr/>
        </p:nvSpPr>
        <p:spPr>
          <a:xfrm flipH="1" flipV="1">
            <a:off x="2421000" y="4287960"/>
            <a:ext cx="255600" cy="334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 flipV="1">
            <a:off x="2846520" y="4176360"/>
            <a:ext cx="288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4" name=""/>
          <p:cNvGrpSpPr/>
          <p:nvPr/>
        </p:nvGrpSpPr>
        <p:grpSpPr>
          <a:xfrm>
            <a:off x="1219320" y="3219480"/>
            <a:ext cx="533160" cy="380880"/>
            <a:chOff x="1219320" y="3219480"/>
            <a:chExt cx="533160" cy="380880"/>
          </a:xfrm>
        </p:grpSpPr>
        <p:sp>
          <p:nvSpPr>
            <p:cNvPr id="2815" name=""/>
            <p:cNvSpPr/>
            <p:nvPr/>
          </p:nvSpPr>
          <p:spPr>
            <a:xfrm>
              <a:off x="1219320" y="3219480"/>
              <a:ext cx="533160" cy="380880"/>
            </a:xfrm>
            <a:prstGeom prst="rect">
              <a:avLst/>
            </a:prstGeom>
            <a:gradFill rotWithShape="0">
              <a:gsLst>
                <a:gs pos="0">
                  <a:srgbClr val="2f2f75"/>
                </a:gs>
                <a:gs pos="100000">
                  <a:srgbClr val="66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16" name=""/>
            <p:cNvGrpSpPr/>
            <p:nvPr/>
          </p:nvGrpSpPr>
          <p:grpSpPr>
            <a:xfrm>
              <a:off x="1289520" y="3293280"/>
              <a:ext cx="399240" cy="247680"/>
              <a:chOff x="1289520" y="3293280"/>
              <a:chExt cx="399240" cy="247680"/>
            </a:xfrm>
          </p:grpSpPr>
          <p:sp>
            <p:nvSpPr>
              <p:cNvPr id="2817" name=""/>
              <p:cNvSpPr/>
              <p:nvPr/>
            </p:nvSpPr>
            <p:spPr>
              <a:xfrm>
                <a:off x="1351800" y="3293280"/>
                <a:ext cx="27720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 flipH="1">
                <a:off x="1344240" y="3293280"/>
                <a:ext cx="27648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1613880" y="3297240"/>
                <a:ext cx="6912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1622880" y="3538800"/>
                <a:ext cx="65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1299240" y="3297240"/>
                <a:ext cx="63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1289520" y="3538800"/>
                <a:ext cx="64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23" name=""/>
          <p:cNvSpPr/>
          <p:nvPr/>
        </p:nvSpPr>
        <p:spPr>
          <a:xfrm flipV="1" rot="1331400">
            <a:off x="3021120" y="5072760"/>
            <a:ext cx="1084320" cy="329040"/>
          </a:xfrm>
          <a:custGeom>
            <a:avLst/>
            <a:gdLst/>
            <a:ahLst/>
            <a:rect l="l" t="t" r="r" b="b"/>
            <a:pathLst>
              <a:path w="656" h="197">
                <a:moveTo>
                  <a:pt x="0" y="196"/>
                </a:moveTo>
                <a:lnTo>
                  <a:pt x="401" y="145"/>
                </a:lnTo>
                <a:lnTo>
                  <a:pt x="312" y="71"/>
                </a:lnTo>
                <a:lnTo>
                  <a:pt x="655" y="0"/>
                </a:lnTo>
                <a:lnTo>
                  <a:pt x="254" y="52"/>
                </a:lnTo>
                <a:lnTo>
                  <a:pt x="346" y="129"/>
                </a:lnTo>
                <a:lnTo>
                  <a:pt x="0" y="19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4" name=""/>
          <p:cNvGrpSpPr/>
          <p:nvPr/>
        </p:nvGrpSpPr>
        <p:grpSpPr>
          <a:xfrm>
            <a:off x="3581280" y="4876920"/>
            <a:ext cx="2022120" cy="1428120"/>
            <a:chOff x="3581280" y="4876920"/>
            <a:chExt cx="2022120" cy="1428120"/>
          </a:xfrm>
        </p:grpSpPr>
        <p:grpSp>
          <p:nvGrpSpPr>
            <p:cNvPr id="2825" name=""/>
            <p:cNvGrpSpPr/>
            <p:nvPr/>
          </p:nvGrpSpPr>
          <p:grpSpPr>
            <a:xfrm>
              <a:off x="3581280" y="4876920"/>
              <a:ext cx="2022120" cy="1428120"/>
              <a:chOff x="3581280" y="4876920"/>
              <a:chExt cx="2022120" cy="1428120"/>
            </a:xfrm>
          </p:grpSpPr>
          <p:grpSp>
            <p:nvGrpSpPr>
              <p:cNvPr id="2826" name=""/>
              <p:cNvGrpSpPr/>
              <p:nvPr/>
            </p:nvGrpSpPr>
            <p:grpSpPr>
              <a:xfrm>
                <a:off x="4774680" y="5004720"/>
                <a:ext cx="828720" cy="1228680"/>
                <a:chOff x="4774680" y="5004720"/>
                <a:chExt cx="828720" cy="1228680"/>
              </a:xfrm>
            </p:grpSpPr>
            <p:grpSp>
              <p:nvGrpSpPr>
                <p:cNvPr id="2827" name=""/>
                <p:cNvGrpSpPr/>
                <p:nvPr/>
              </p:nvGrpSpPr>
              <p:grpSpPr>
                <a:xfrm>
                  <a:off x="5099040" y="5004720"/>
                  <a:ext cx="504360" cy="987840"/>
                  <a:chOff x="5099040" y="5004720"/>
                  <a:chExt cx="504360" cy="987840"/>
                </a:xfrm>
              </p:grpSpPr>
              <p:grpSp>
                <p:nvGrpSpPr>
                  <p:cNvPr id="2828" name=""/>
                  <p:cNvGrpSpPr/>
                  <p:nvPr/>
                </p:nvGrpSpPr>
                <p:grpSpPr>
                  <a:xfrm>
                    <a:off x="5236200" y="5142240"/>
                    <a:ext cx="367200" cy="712800"/>
                    <a:chOff x="5236200" y="5142240"/>
                    <a:chExt cx="367200" cy="712800"/>
                  </a:xfrm>
                </p:grpSpPr>
                <p:grpSp>
                  <p:nvGrpSpPr>
                    <p:cNvPr id="2829" name=""/>
                    <p:cNvGrpSpPr/>
                    <p:nvPr/>
                  </p:nvGrpSpPr>
                  <p:grpSpPr>
                    <a:xfrm>
                      <a:off x="5236200" y="5142240"/>
                      <a:ext cx="367200" cy="712800"/>
                      <a:chOff x="5236200" y="5142240"/>
                      <a:chExt cx="367200" cy="712800"/>
                    </a:xfrm>
                  </p:grpSpPr>
                  <p:grpSp>
                    <p:nvGrpSpPr>
                      <p:cNvPr id="2830" name=""/>
                      <p:cNvGrpSpPr/>
                      <p:nvPr/>
                    </p:nvGrpSpPr>
                    <p:grpSpPr>
                      <a:xfrm>
                        <a:off x="5333400" y="5187960"/>
                        <a:ext cx="270000" cy="579600"/>
                        <a:chOff x="5333400" y="5187960"/>
                        <a:chExt cx="270000" cy="579600"/>
                      </a:xfrm>
                    </p:grpSpPr>
                    <p:grpSp>
                      <p:nvGrpSpPr>
                        <p:cNvPr id="2831" name=""/>
                        <p:cNvGrpSpPr/>
                        <p:nvPr/>
                      </p:nvGrpSpPr>
                      <p:grpSpPr>
                        <a:xfrm>
                          <a:off x="5366520" y="5187960"/>
                          <a:ext cx="236880" cy="579600"/>
                          <a:chOff x="5366520" y="5187960"/>
                          <a:chExt cx="236880" cy="579600"/>
                        </a:xfrm>
                      </p:grpSpPr>
                      <p:sp>
                        <p:nvSpPr>
                          <p:cNvPr id="2832" name=""/>
                          <p:cNvSpPr/>
                          <p:nvPr/>
                        </p:nvSpPr>
                        <p:spPr>
                          <a:xfrm>
                            <a:off x="5500080" y="5540040"/>
                            <a:ext cx="103320" cy="13896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33" name=""/>
                          <p:cNvSpPr/>
                          <p:nvPr/>
                        </p:nvSpPr>
                        <p:spPr>
                          <a:xfrm>
                            <a:off x="5396400" y="5584680"/>
                            <a:ext cx="137880" cy="18288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34" name=""/>
                          <p:cNvSpPr/>
                          <p:nvPr/>
                        </p:nvSpPr>
                        <p:spPr>
                          <a:xfrm>
                            <a:off x="5465520" y="5317560"/>
                            <a:ext cx="104760" cy="13896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35" name=""/>
                          <p:cNvSpPr/>
                          <p:nvPr/>
                        </p:nvSpPr>
                        <p:spPr>
                          <a:xfrm>
                            <a:off x="5366520" y="5187960"/>
                            <a:ext cx="137880" cy="182880"/>
                          </a:xfrm>
                          <a:prstGeom prst="ellipse">
                            <a:avLst/>
                          </a:prstGeom>
                          <a:solidFill>
                            <a:srgbClr val="00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836" name=""/>
                          <p:cNvSpPr/>
                          <p:nvPr/>
                        </p:nvSpPr>
                        <p:spPr>
                          <a:xfrm>
                            <a:off x="5465520" y="5317560"/>
                            <a:ext cx="93960" cy="326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0" h="207">
                                <a:moveTo>
                                  <a:pt x="59" y="206"/>
                                </a:moveTo>
                                <a:lnTo>
                                  <a:pt x="34" y="206"/>
                                </a:lnTo>
                                <a:lnTo>
                                  <a:pt x="0" y="0"/>
                                </a:lnTo>
                                <a:lnTo>
                                  <a:pt x="35" y="17"/>
                                </a:lnTo>
                                <a:lnTo>
                                  <a:pt x="36" y="116"/>
                                </a:lnTo>
                                <a:lnTo>
                                  <a:pt x="59" y="206"/>
                                </a:lnTo>
                              </a:path>
                            </a:pathLst>
                          </a:custGeom>
                          <a:solidFill>
                            <a:srgbClr val="00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837" name=""/>
                        <p:cNvSpPr/>
                        <p:nvPr/>
                      </p:nvSpPr>
                      <p:spPr>
                        <a:xfrm>
                          <a:off x="5333400" y="5362920"/>
                          <a:ext cx="201240" cy="273240"/>
                        </a:xfrm>
                        <a:prstGeom prst="ellipse">
                          <a:avLst/>
                        </a:prstGeom>
                        <a:solidFill>
                          <a:srgbClr val="00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38" name=""/>
                        <p:cNvSpPr/>
                        <p:nvPr/>
                      </p:nvSpPr>
                      <p:spPr>
                        <a:xfrm>
                          <a:off x="5333400" y="5540040"/>
                          <a:ext cx="135360" cy="184680"/>
                        </a:xfrm>
                        <a:prstGeom prst="ellipse">
                          <a:avLst/>
                        </a:prstGeom>
                        <a:solidFill>
                          <a:srgbClr val="00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39" name=""/>
                        <p:cNvSpPr/>
                        <p:nvPr/>
                      </p:nvSpPr>
                      <p:spPr>
                        <a:xfrm>
                          <a:off x="5377320" y="5284080"/>
                          <a:ext cx="103680" cy="348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6" h="221">
                              <a:moveTo>
                                <a:pt x="58" y="36"/>
                              </a:moveTo>
                              <a:lnTo>
                                <a:pt x="50" y="83"/>
                              </a:lnTo>
                              <a:lnTo>
                                <a:pt x="65" y="190"/>
                              </a:lnTo>
                              <a:lnTo>
                                <a:pt x="38" y="220"/>
                              </a:lnTo>
                              <a:lnTo>
                                <a:pt x="0" y="93"/>
                              </a:lnTo>
                              <a:lnTo>
                                <a:pt x="31" y="0"/>
                              </a:lnTo>
                              <a:lnTo>
                                <a:pt x="58" y="36"/>
                              </a:lnTo>
                            </a:path>
                          </a:pathLst>
                        </a:custGeom>
                        <a:solidFill>
                          <a:srgbClr val="00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840" name=""/>
                      <p:cNvSpPr/>
                      <p:nvPr/>
                    </p:nvSpPr>
                    <p:spPr>
                      <a:xfrm>
                        <a:off x="5333400" y="5717520"/>
                        <a:ext cx="104040" cy="13752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41" name=""/>
                      <p:cNvSpPr/>
                      <p:nvPr/>
                    </p:nvSpPr>
                    <p:spPr>
                      <a:xfrm>
                        <a:off x="5236200" y="5142240"/>
                        <a:ext cx="135000" cy="183240"/>
                      </a:xfrm>
                      <a:prstGeom prst="ellipse">
                        <a:avLst/>
                      </a:prstGeom>
                      <a:solidFill>
                        <a:srgbClr val="00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42" name=""/>
                      <p:cNvSpPr/>
                      <p:nvPr/>
                    </p:nvSpPr>
                    <p:spPr>
                      <a:xfrm>
                        <a:off x="5367960" y="5681160"/>
                        <a:ext cx="72360" cy="50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32">
                            <a:moveTo>
                              <a:pt x="45" y="18"/>
                            </a:moveTo>
                            <a:lnTo>
                              <a:pt x="32" y="31"/>
                            </a:lnTo>
                            <a:lnTo>
                              <a:pt x="0" y="14"/>
                            </a:lnTo>
                            <a:lnTo>
                              <a:pt x="32" y="0"/>
                            </a:lnTo>
                            <a:lnTo>
                              <a:pt x="45" y="18"/>
                            </a:lnTo>
                          </a:path>
                        </a:pathLst>
                      </a:custGeom>
                      <a:solidFill>
                        <a:srgbClr val="00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" bIns="3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843" name=""/>
                    <p:cNvSpPr/>
                    <p:nvPr/>
                  </p:nvSpPr>
                  <p:spPr>
                    <a:xfrm>
                      <a:off x="5357520" y="5239800"/>
                      <a:ext cx="31320" cy="10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64">
                          <a:moveTo>
                            <a:pt x="9" y="0"/>
                          </a:moveTo>
                          <a:lnTo>
                            <a:pt x="19" y="0"/>
                          </a:lnTo>
                          <a:lnTo>
                            <a:pt x="15" y="63"/>
                          </a:lnTo>
                          <a:lnTo>
                            <a:pt x="0" y="5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44" name=""/>
                  <p:cNvGrpSpPr/>
                  <p:nvPr/>
                </p:nvGrpSpPr>
                <p:grpSpPr>
                  <a:xfrm>
                    <a:off x="5099040" y="5004720"/>
                    <a:ext cx="338400" cy="894600"/>
                    <a:chOff x="5099040" y="5004720"/>
                    <a:chExt cx="338400" cy="894600"/>
                  </a:xfrm>
                </p:grpSpPr>
                <p:sp>
                  <p:nvSpPr>
                    <p:cNvPr id="2845" name=""/>
                    <p:cNvSpPr/>
                    <p:nvPr/>
                  </p:nvSpPr>
                  <p:spPr>
                    <a:xfrm>
                      <a:off x="5130720" y="5540760"/>
                      <a:ext cx="272160" cy="35856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6" name=""/>
                    <p:cNvSpPr/>
                    <p:nvPr/>
                  </p:nvSpPr>
                  <p:spPr>
                    <a:xfrm>
                      <a:off x="5165280" y="5273280"/>
                      <a:ext cx="272160" cy="36324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7" name=""/>
                    <p:cNvSpPr/>
                    <p:nvPr/>
                  </p:nvSpPr>
                  <p:spPr>
                    <a:xfrm>
                      <a:off x="5099040" y="5004720"/>
                      <a:ext cx="204840" cy="27792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8" name=""/>
                    <p:cNvSpPr/>
                    <p:nvPr/>
                  </p:nvSpPr>
                  <p:spPr>
                    <a:xfrm>
                      <a:off x="5235840" y="5187960"/>
                      <a:ext cx="100440" cy="137520"/>
                    </a:xfrm>
                    <a:prstGeom prst="ellipse">
                      <a:avLst/>
                    </a:prstGeom>
                    <a:solidFill>
                      <a:srgbClr val="00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9" name=""/>
                    <p:cNvSpPr/>
                    <p:nvPr/>
                  </p:nvSpPr>
                  <p:spPr>
                    <a:xfrm>
                      <a:off x="5165280" y="5148720"/>
                      <a:ext cx="180720" cy="32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203">
                          <a:moveTo>
                            <a:pt x="80" y="8"/>
                          </a:moveTo>
                          <a:lnTo>
                            <a:pt x="79" y="35"/>
                          </a:lnTo>
                          <a:lnTo>
                            <a:pt x="106" y="78"/>
                          </a:lnTo>
                          <a:lnTo>
                            <a:pt x="114" y="82"/>
                          </a:lnTo>
                          <a:lnTo>
                            <a:pt x="73" y="202"/>
                          </a:lnTo>
                          <a:lnTo>
                            <a:pt x="0" y="0"/>
                          </a:lnTo>
                          <a:lnTo>
                            <a:pt x="80" y="8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0" name=""/>
                    <p:cNvSpPr/>
                    <p:nvPr/>
                  </p:nvSpPr>
                  <p:spPr>
                    <a:xfrm>
                      <a:off x="5258160" y="5615280"/>
                      <a:ext cx="113040" cy="7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46">
                          <a:moveTo>
                            <a:pt x="62" y="6"/>
                          </a:moveTo>
                          <a:lnTo>
                            <a:pt x="71" y="21"/>
                          </a:lnTo>
                          <a:lnTo>
                            <a:pt x="0" y="45"/>
                          </a:lnTo>
                          <a:lnTo>
                            <a:pt x="1" y="0"/>
                          </a:lnTo>
                          <a:lnTo>
                            <a:pt x="62" y="6"/>
                          </a:lnTo>
                        </a:path>
                      </a:pathLst>
                    </a:custGeom>
                    <a:solidFill>
                      <a:srgbClr val="00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51" name=""/>
                  <p:cNvSpPr/>
                  <p:nvPr/>
                </p:nvSpPr>
                <p:spPr>
                  <a:xfrm>
                    <a:off x="5099040" y="5808240"/>
                    <a:ext cx="141480" cy="18432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2" name=""/>
                  <p:cNvSpPr/>
                  <p:nvPr/>
                </p:nvSpPr>
                <p:spPr>
                  <a:xfrm>
                    <a:off x="5199840" y="5784120"/>
                    <a:ext cx="7236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58">
                        <a:moveTo>
                          <a:pt x="17" y="57"/>
                        </a:moveTo>
                        <a:lnTo>
                          <a:pt x="45" y="38"/>
                        </a:lnTo>
                        <a:lnTo>
                          <a:pt x="13" y="0"/>
                        </a:lnTo>
                        <a:lnTo>
                          <a:pt x="0" y="19"/>
                        </a:lnTo>
                        <a:lnTo>
                          <a:pt x="17" y="57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53" name=""/>
                <p:cNvSpPr/>
                <p:nvPr/>
              </p:nvSpPr>
              <p:spPr>
                <a:xfrm>
                  <a:off x="4774680" y="6005880"/>
                  <a:ext cx="169920" cy="2275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>
                  <a:off x="4935240" y="6005880"/>
                  <a:ext cx="136800" cy="18648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>
                  <a:off x="5026680" y="5936400"/>
                  <a:ext cx="136800" cy="18648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>
                  <a:off x="4890960" y="5899680"/>
                  <a:ext cx="303840" cy="265680"/>
                </a:xfrm>
                <a:custGeom>
                  <a:avLst/>
                  <a:gdLst/>
                  <a:ahLst/>
                  <a:rect l="l" t="t" r="r" b="b"/>
                  <a:pathLst>
                    <a:path w="193" h="168">
                      <a:moveTo>
                        <a:pt x="177" y="48"/>
                      </a:moveTo>
                      <a:lnTo>
                        <a:pt x="161" y="59"/>
                      </a:lnTo>
                      <a:lnTo>
                        <a:pt x="109" y="128"/>
                      </a:lnTo>
                      <a:lnTo>
                        <a:pt x="97" y="156"/>
                      </a:lnTo>
                      <a:lnTo>
                        <a:pt x="40" y="156"/>
                      </a:lnTo>
                      <a:lnTo>
                        <a:pt x="28" y="167"/>
                      </a:lnTo>
                      <a:lnTo>
                        <a:pt x="0" y="118"/>
                      </a:lnTo>
                      <a:lnTo>
                        <a:pt x="128" y="0"/>
                      </a:lnTo>
                      <a:lnTo>
                        <a:pt x="192" y="28"/>
                      </a:lnTo>
                      <a:lnTo>
                        <a:pt x="177" y="48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7" name=""/>
              <p:cNvGrpSpPr/>
              <p:nvPr/>
            </p:nvGrpSpPr>
            <p:grpSpPr>
              <a:xfrm>
                <a:off x="3581280" y="5019120"/>
                <a:ext cx="487800" cy="836280"/>
                <a:chOff x="3581280" y="5019120"/>
                <a:chExt cx="487800" cy="836280"/>
              </a:xfrm>
            </p:grpSpPr>
            <p:grpSp>
              <p:nvGrpSpPr>
                <p:cNvPr id="2858" name=""/>
                <p:cNvGrpSpPr/>
                <p:nvPr/>
              </p:nvGrpSpPr>
              <p:grpSpPr>
                <a:xfrm>
                  <a:off x="3581280" y="5142240"/>
                  <a:ext cx="254520" cy="494280"/>
                  <a:chOff x="3581280" y="5142240"/>
                  <a:chExt cx="254520" cy="494280"/>
                </a:xfrm>
              </p:grpSpPr>
              <p:sp>
                <p:nvSpPr>
                  <p:cNvPr id="2859" name=""/>
                  <p:cNvSpPr/>
                  <p:nvPr/>
                </p:nvSpPr>
                <p:spPr>
                  <a:xfrm>
                    <a:off x="3581280" y="5317560"/>
                    <a:ext cx="103680" cy="1389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0" name=""/>
                  <p:cNvSpPr/>
                  <p:nvPr/>
                </p:nvSpPr>
                <p:spPr>
                  <a:xfrm>
                    <a:off x="3600000" y="5455080"/>
                    <a:ext cx="136440" cy="18144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1" name=""/>
                  <p:cNvSpPr/>
                  <p:nvPr/>
                </p:nvSpPr>
                <p:spPr>
                  <a:xfrm>
                    <a:off x="3634560" y="5142240"/>
                    <a:ext cx="201240" cy="27324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2" name=""/>
                  <p:cNvSpPr/>
                  <p:nvPr/>
                </p:nvSpPr>
                <p:spPr>
                  <a:xfrm>
                    <a:off x="3615840" y="5339520"/>
                    <a:ext cx="70560" cy="1422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90">
                        <a:moveTo>
                          <a:pt x="25" y="0"/>
                        </a:moveTo>
                        <a:lnTo>
                          <a:pt x="0" y="18"/>
                        </a:lnTo>
                        <a:lnTo>
                          <a:pt x="1" y="71"/>
                        </a:lnTo>
                        <a:lnTo>
                          <a:pt x="10" y="89"/>
                        </a:lnTo>
                        <a:lnTo>
                          <a:pt x="44" y="71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63" name=""/>
                <p:cNvGrpSpPr/>
                <p:nvPr/>
              </p:nvGrpSpPr>
              <p:grpSpPr>
                <a:xfrm>
                  <a:off x="3666240" y="5019120"/>
                  <a:ext cx="402840" cy="836280"/>
                  <a:chOff x="3666240" y="5019120"/>
                  <a:chExt cx="402840" cy="836280"/>
                </a:xfrm>
              </p:grpSpPr>
              <p:sp>
                <p:nvSpPr>
                  <p:cNvPr id="2864" name=""/>
                  <p:cNvSpPr/>
                  <p:nvPr/>
                </p:nvSpPr>
                <p:spPr>
                  <a:xfrm>
                    <a:off x="3803040" y="5049000"/>
                    <a:ext cx="266040" cy="36684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5" name=""/>
                  <p:cNvSpPr/>
                  <p:nvPr/>
                </p:nvSpPr>
                <p:spPr>
                  <a:xfrm>
                    <a:off x="3666240" y="5317920"/>
                    <a:ext cx="136800" cy="1846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6" name=""/>
                  <p:cNvSpPr/>
                  <p:nvPr/>
                </p:nvSpPr>
                <p:spPr>
                  <a:xfrm>
                    <a:off x="3699360" y="5455440"/>
                    <a:ext cx="207720" cy="2703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7" name=""/>
                  <p:cNvSpPr/>
                  <p:nvPr/>
                </p:nvSpPr>
                <p:spPr>
                  <a:xfrm>
                    <a:off x="3768480" y="5585040"/>
                    <a:ext cx="204480" cy="27036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8" name=""/>
                  <p:cNvSpPr/>
                  <p:nvPr/>
                </p:nvSpPr>
                <p:spPr>
                  <a:xfrm>
                    <a:off x="3785760" y="5235480"/>
                    <a:ext cx="176400" cy="23220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9" name=""/>
                  <p:cNvSpPr/>
                  <p:nvPr/>
                </p:nvSpPr>
                <p:spPr>
                  <a:xfrm>
                    <a:off x="3947760" y="5019120"/>
                    <a:ext cx="108720" cy="134280"/>
                  </a:xfrm>
                  <a:prstGeom prst="ellipse">
                    <a:avLst/>
                  </a:prstGeom>
                  <a:solidFill>
                    <a:srgbClr val="00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0" name=""/>
                  <p:cNvSpPr/>
                  <p:nvPr/>
                </p:nvSpPr>
                <p:spPr>
                  <a:xfrm>
                    <a:off x="3845520" y="5186880"/>
                    <a:ext cx="12420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71">
                        <a:moveTo>
                          <a:pt x="0" y="19"/>
                        </a:moveTo>
                        <a:lnTo>
                          <a:pt x="10" y="53"/>
                        </a:lnTo>
                        <a:lnTo>
                          <a:pt x="78" y="70"/>
                        </a:lnTo>
                        <a:lnTo>
                          <a:pt x="78" y="24"/>
                        </a:lnTo>
                        <a:lnTo>
                          <a:pt x="3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1" name=""/>
                  <p:cNvSpPr/>
                  <p:nvPr/>
                </p:nvSpPr>
                <p:spPr>
                  <a:xfrm>
                    <a:off x="3710160" y="5411160"/>
                    <a:ext cx="147960" cy="2466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56">
                        <a:moveTo>
                          <a:pt x="58" y="0"/>
                        </a:moveTo>
                        <a:lnTo>
                          <a:pt x="0" y="39"/>
                        </a:lnTo>
                        <a:lnTo>
                          <a:pt x="23" y="70"/>
                        </a:lnTo>
                        <a:lnTo>
                          <a:pt x="27" y="146"/>
                        </a:lnTo>
                        <a:lnTo>
                          <a:pt x="42" y="155"/>
                        </a:lnTo>
                        <a:lnTo>
                          <a:pt x="90" y="107"/>
                        </a:lnTo>
                        <a:lnTo>
                          <a:pt x="93" y="16"/>
                        </a:lnTo>
                        <a:lnTo>
                          <a:pt x="58" y="0"/>
                        </a:lnTo>
                      </a:path>
                    </a:pathLst>
                  </a:custGeom>
                  <a:solidFill>
                    <a:srgbClr val="00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72" name=""/>
                <p:cNvSpPr/>
                <p:nvPr/>
              </p:nvSpPr>
              <p:spPr>
                <a:xfrm>
                  <a:off x="3938760" y="5107680"/>
                  <a:ext cx="73800" cy="105480"/>
                </a:xfrm>
                <a:custGeom>
                  <a:avLst/>
                  <a:gdLst/>
                  <a:ahLst/>
                  <a:rect l="l" t="t" r="r" b="b"/>
                  <a:pathLst>
                    <a:path w="47" h="67">
                      <a:moveTo>
                        <a:pt x="0" y="36"/>
                      </a:moveTo>
                      <a:lnTo>
                        <a:pt x="18" y="0"/>
                      </a:lnTo>
                      <a:lnTo>
                        <a:pt x="46" y="36"/>
                      </a:lnTo>
                      <a:lnTo>
                        <a:pt x="24" y="66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3" name=""/>
              <p:cNvGrpSpPr/>
              <p:nvPr/>
            </p:nvGrpSpPr>
            <p:grpSpPr>
              <a:xfrm>
                <a:off x="3831840" y="4876920"/>
                <a:ext cx="1472040" cy="1428120"/>
                <a:chOff x="3831840" y="4876920"/>
                <a:chExt cx="1472040" cy="1428120"/>
              </a:xfrm>
            </p:grpSpPr>
            <p:sp>
              <p:nvSpPr>
                <p:cNvPr id="2874" name=""/>
                <p:cNvSpPr/>
                <p:nvPr/>
              </p:nvSpPr>
              <p:spPr>
                <a:xfrm>
                  <a:off x="4299840" y="4919400"/>
                  <a:ext cx="336960" cy="45216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>
                  <a:off x="4597560" y="4876920"/>
                  <a:ext cx="275760" cy="36216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>
                  <a:off x="4863960" y="5274000"/>
                  <a:ext cx="439920" cy="5821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>
                  <a:off x="4001760" y="5541120"/>
                  <a:ext cx="499680" cy="6739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>
                  <a:off x="4735080" y="5631480"/>
                  <a:ext cx="370080" cy="4932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>
                  <a:off x="3867840" y="5677560"/>
                  <a:ext cx="271080" cy="35712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>
                  <a:off x="3831840" y="5364000"/>
                  <a:ext cx="270720" cy="36216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>
                  <a:off x="3963960" y="5004720"/>
                  <a:ext cx="443160" cy="5886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>
                  <a:off x="4367520" y="5718240"/>
                  <a:ext cx="438120" cy="5868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>
                  <a:off x="4935240" y="5049360"/>
                  <a:ext cx="332280" cy="45360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>
                  <a:off x="4832640" y="4876920"/>
                  <a:ext cx="307080" cy="406440"/>
                </a:xfrm>
                <a:prstGeom prst="ellipse">
                  <a:avLst/>
                </a:prstGeom>
                <a:solidFill>
                  <a:srgbClr val="00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>
                  <a:off x="3949920" y="4987440"/>
                  <a:ext cx="1279440" cy="1132200"/>
                </a:xfrm>
                <a:custGeom>
                  <a:avLst/>
                  <a:gdLst/>
                  <a:ahLst/>
                  <a:rect l="l" t="t" r="r" b="b"/>
                  <a:pathLst>
                    <a:path w="812" h="716">
                      <a:moveTo>
                        <a:pt x="249" y="71"/>
                      </a:moveTo>
                      <a:lnTo>
                        <a:pt x="284" y="20"/>
                      </a:lnTo>
                      <a:lnTo>
                        <a:pt x="435" y="23"/>
                      </a:lnTo>
                      <a:lnTo>
                        <a:pt x="542" y="0"/>
                      </a:lnTo>
                      <a:lnTo>
                        <a:pt x="676" y="85"/>
                      </a:lnTo>
                      <a:lnTo>
                        <a:pt x="746" y="62"/>
                      </a:lnTo>
                      <a:lnTo>
                        <a:pt x="782" y="71"/>
                      </a:lnTo>
                      <a:lnTo>
                        <a:pt x="789" y="283"/>
                      </a:lnTo>
                      <a:lnTo>
                        <a:pt x="811" y="318"/>
                      </a:lnTo>
                      <a:lnTo>
                        <a:pt x="747" y="482"/>
                      </a:lnTo>
                      <a:lnTo>
                        <a:pt x="680" y="369"/>
                      </a:lnTo>
                      <a:lnTo>
                        <a:pt x="661" y="429"/>
                      </a:lnTo>
                      <a:lnTo>
                        <a:pt x="566" y="652"/>
                      </a:lnTo>
                      <a:lnTo>
                        <a:pt x="244" y="715"/>
                      </a:lnTo>
                      <a:lnTo>
                        <a:pt x="79" y="671"/>
                      </a:lnTo>
                      <a:lnTo>
                        <a:pt x="27" y="530"/>
                      </a:lnTo>
                      <a:lnTo>
                        <a:pt x="27" y="387"/>
                      </a:lnTo>
                      <a:lnTo>
                        <a:pt x="0" y="268"/>
                      </a:lnTo>
                      <a:lnTo>
                        <a:pt x="249" y="71"/>
                      </a:lnTo>
                    </a:path>
                  </a:pathLst>
                </a:custGeom>
                <a:solidFill>
                  <a:srgbClr val="00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6" name=""/>
            <p:cNvGrpSpPr/>
            <p:nvPr/>
          </p:nvGrpSpPr>
          <p:grpSpPr>
            <a:xfrm>
              <a:off x="3899520" y="5065200"/>
              <a:ext cx="1265760" cy="864720"/>
              <a:chOff x="3899520" y="5065200"/>
              <a:chExt cx="1265760" cy="864720"/>
            </a:xfrm>
          </p:grpSpPr>
          <p:sp>
            <p:nvSpPr>
              <p:cNvPr id="2887" name=""/>
              <p:cNvSpPr/>
              <p:nvPr/>
            </p:nvSpPr>
            <p:spPr>
              <a:xfrm>
                <a:off x="3899520" y="5065200"/>
                <a:ext cx="1265760" cy="53748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3899520" y="5393880"/>
                <a:ext cx="1233720" cy="53604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9" name=""/>
          <p:cNvGrpSpPr/>
          <p:nvPr/>
        </p:nvGrpSpPr>
        <p:grpSpPr>
          <a:xfrm>
            <a:off x="5029200" y="5105520"/>
            <a:ext cx="511200" cy="330120"/>
            <a:chOff x="5029200" y="5105520"/>
            <a:chExt cx="511200" cy="330120"/>
          </a:xfrm>
        </p:grpSpPr>
        <p:grpSp>
          <p:nvGrpSpPr>
            <p:cNvPr id="2890" name=""/>
            <p:cNvGrpSpPr/>
            <p:nvPr/>
          </p:nvGrpSpPr>
          <p:grpSpPr>
            <a:xfrm>
              <a:off x="5029920" y="5148000"/>
              <a:ext cx="322560" cy="287640"/>
              <a:chOff x="5029920" y="5148000"/>
              <a:chExt cx="322560" cy="287640"/>
            </a:xfrm>
          </p:grpSpPr>
          <p:sp>
            <p:nvSpPr>
              <p:cNvPr id="2891" name=""/>
              <p:cNvSpPr/>
              <p:nvPr/>
            </p:nvSpPr>
            <p:spPr>
              <a:xfrm>
                <a:off x="5029920" y="51480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5029920" y="51480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93" name=""/>
            <p:cNvGrpSpPr/>
            <p:nvPr/>
          </p:nvGrpSpPr>
          <p:grpSpPr>
            <a:xfrm>
              <a:off x="5352480" y="5157720"/>
              <a:ext cx="186120" cy="277920"/>
              <a:chOff x="5352480" y="5157720"/>
              <a:chExt cx="186120" cy="277920"/>
            </a:xfrm>
          </p:grpSpPr>
          <p:sp>
            <p:nvSpPr>
              <p:cNvPr id="2894" name=""/>
              <p:cNvSpPr/>
              <p:nvPr/>
            </p:nvSpPr>
            <p:spPr>
              <a:xfrm>
                <a:off x="5352480" y="51577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5352480" y="51577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96" name=""/>
            <p:cNvGrpSpPr/>
            <p:nvPr/>
          </p:nvGrpSpPr>
          <p:grpSpPr>
            <a:xfrm>
              <a:off x="5029200" y="5105520"/>
              <a:ext cx="511200" cy="115920"/>
              <a:chOff x="5029200" y="5105520"/>
              <a:chExt cx="511200" cy="115920"/>
            </a:xfrm>
          </p:grpSpPr>
          <p:sp>
            <p:nvSpPr>
              <p:cNvPr id="2897" name=""/>
              <p:cNvSpPr/>
              <p:nvPr/>
            </p:nvSpPr>
            <p:spPr>
              <a:xfrm>
                <a:off x="5029200" y="51055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5029200" y="51055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99" name=""/>
            <p:cNvSpPr/>
            <p:nvPr/>
          </p:nvSpPr>
          <p:spPr>
            <a:xfrm>
              <a:off x="5049360" y="517392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5049360" y="523584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5049360" y="517392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02" name=""/>
            <p:cNvGrpSpPr/>
            <p:nvPr/>
          </p:nvGrpSpPr>
          <p:grpSpPr>
            <a:xfrm>
              <a:off x="5068440" y="5196600"/>
              <a:ext cx="132840" cy="56160"/>
              <a:chOff x="5068440" y="5196600"/>
              <a:chExt cx="132840" cy="56160"/>
            </a:xfrm>
          </p:grpSpPr>
          <p:sp>
            <p:nvSpPr>
              <p:cNvPr id="2903" name=""/>
              <p:cNvSpPr/>
              <p:nvPr/>
            </p:nvSpPr>
            <p:spPr>
              <a:xfrm>
                <a:off x="5068440" y="51966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5068440" y="51966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05" name=""/>
            <p:cNvGrpSpPr/>
            <p:nvPr/>
          </p:nvGrpSpPr>
          <p:grpSpPr>
            <a:xfrm>
              <a:off x="5067000" y="5256720"/>
              <a:ext cx="83160" cy="83880"/>
              <a:chOff x="5067000" y="5256720"/>
              <a:chExt cx="83160" cy="83880"/>
            </a:xfrm>
          </p:grpSpPr>
          <p:sp>
            <p:nvSpPr>
              <p:cNvPr id="2906" name=""/>
              <p:cNvSpPr/>
              <p:nvPr/>
            </p:nvSpPr>
            <p:spPr>
              <a:xfrm>
                <a:off x="5067000" y="52567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5067000" y="52567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08" name=""/>
          <p:cNvGrpSpPr/>
          <p:nvPr/>
        </p:nvGrpSpPr>
        <p:grpSpPr>
          <a:xfrm>
            <a:off x="3886200" y="5562720"/>
            <a:ext cx="507960" cy="330120"/>
            <a:chOff x="3886200" y="5562720"/>
            <a:chExt cx="507960" cy="330120"/>
          </a:xfrm>
        </p:grpSpPr>
        <p:grpSp>
          <p:nvGrpSpPr>
            <p:cNvPr id="2909" name=""/>
            <p:cNvGrpSpPr/>
            <p:nvPr/>
          </p:nvGrpSpPr>
          <p:grpSpPr>
            <a:xfrm>
              <a:off x="3886920" y="5605200"/>
              <a:ext cx="320400" cy="287640"/>
              <a:chOff x="3886920" y="5605200"/>
              <a:chExt cx="320400" cy="287640"/>
            </a:xfrm>
          </p:grpSpPr>
          <p:sp>
            <p:nvSpPr>
              <p:cNvPr id="2910" name=""/>
              <p:cNvSpPr/>
              <p:nvPr/>
            </p:nvSpPr>
            <p:spPr>
              <a:xfrm>
                <a:off x="3886920" y="5605200"/>
                <a:ext cx="32040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3886920" y="5605200"/>
                <a:ext cx="32040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2" name=""/>
            <p:cNvGrpSpPr/>
            <p:nvPr/>
          </p:nvGrpSpPr>
          <p:grpSpPr>
            <a:xfrm>
              <a:off x="4207680" y="5614920"/>
              <a:ext cx="184680" cy="277920"/>
              <a:chOff x="4207680" y="5614920"/>
              <a:chExt cx="184680" cy="277920"/>
            </a:xfrm>
          </p:grpSpPr>
          <p:sp>
            <p:nvSpPr>
              <p:cNvPr id="2913" name=""/>
              <p:cNvSpPr/>
              <p:nvPr/>
            </p:nvSpPr>
            <p:spPr>
              <a:xfrm>
                <a:off x="4207680" y="5614920"/>
                <a:ext cx="18468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4207680" y="5614920"/>
                <a:ext cx="18468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15" name=""/>
            <p:cNvGrpSpPr/>
            <p:nvPr/>
          </p:nvGrpSpPr>
          <p:grpSpPr>
            <a:xfrm>
              <a:off x="3886200" y="5562720"/>
              <a:ext cx="507960" cy="115920"/>
              <a:chOff x="3886200" y="5562720"/>
              <a:chExt cx="507960" cy="115920"/>
            </a:xfrm>
          </p:grpSpPr>
          <p:sp>
            <p:nvSpPr>
              <p:cNvPr id="2916" name=""/>
              <p:cNvSpPr/>
              <p:nvPr/>
            </p:nvSpPr>
            <p:spPr>
              <a:xfrm>
                <a:off x="3886200" y="556272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3886200" y="556272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18" name=""/>
            <p:cNvSpPr/>
            <p:nvPr/>
          </p:nvSpPr>
          <p:spPr>
            <a:xfrm>
              <a:off x="3906360" y="5631120"/>
              <a:ext cx="2707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3906360" y="5693040"/>
              <a:ext cx="2707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3906360" y="5631120"/>
              <a:ext cx="2692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21" name=""/>
            <p:cNvGrpSpPr/>
            <p:nvPr/>
          </p:nvGrpSpPr>
          <p:grpSpPr>
            <a:xfrm>
              <a:off x="3925080" y="5653800"/>
              <a:ext cx="132120" cy="56160"/>
              <a:chOff x="3925080" y="5653800"/>
              <a:chExt cx="132120" cy="56160"/>
            </a:xfrm>
          </p:grpSpPr>
          <p:sp>
            <p:nvSpPr>
              <p:cNvPr id="2922" name=""/>
              <p:cNvSpPr/>
              <p:nvPr/>
            </p:nvSpPr>
            <p:spPr>
              <a:xfrm>
                <a:off x="3925080" y="565380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3925080" y="565380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24" name=""/>
            <p:cNvGrpSpPr/>
            <p:nvPr/>
          </p:nvGrpSpPr>
          <p:grpSpPr>
            <a:xfrm>
              <a:off x="3923640" y="5713920"/>
              <a:ext cx="82440" cy="83880"/>
              <a:chOff x="3923640" y="5713920"/>
              <a:chExt cx="82440" cy="83880"/>
            </a:xfrm>
          </p:grpSpPr>
          <p:sp>
            <p:nvSpPr>
              <p:cNvPr id="2925" name=""/>
              <p:cNvSpPr/>
              <p:nvPr/>
            </p:nvSpPr>
            <p:spPr>
              <a:xfrm>
                <a:off x="3923640" y="5713920"/>
                <a:ext cx="8244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3923640" y="5713920"/>
                <a:ext cx="8244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7" name=""/>
          <p:cNvGrpSpPr/>
          <p:nvPr/>
        </p:nvGrpSpPr>
        <p:grpSpPr>
          <a:xfrm>
            <a:off x="4419720" y="5257800"/>
            <a:ext cx="511200" cy="330120"/>
            <a:chOff x="4419720" y="5257800"/>
            <a:chExt cx="511200" cy="330120"/>
          </a:xfrm>
        </p:grpSpPr>
        <p:grpSp>
          <p:nvGrpSpPr>
            <p:cNvPr id="2928" name=""/>
            <p:cNvGrpSpPr/>
            <p:nvPr/>
          </p:nvGrpSpPr>
          <p:grpSpPr>
            <a:xfrm>
              <a:off x="4420440" y="5300280"/>
              <a:ext cx="322560" cy="287640"/>
              <a:chOff x="4420440" y="5300280"/>
              <a:chExt cx="322560" cy="287640"/>
            </a:xfrm>
          </p:grpSpPr>
          <p:sp>
            <p:nvSpPr>
              <p:cNvPr id="2929" name=""/>
              <p:cNvSpPr/>
              <p:nvPr/>
            </p:nvSpPr>
            <p:spPr>
              <a:xfrm>
                <a:off x="4420440" y="53002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4420440" y="53002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31" name=""/>
            <p:cNvGrpSpPr/>
            <p:nvPr/>
          </p:nvGrpSpPr>
          <p:grpSpPr>
            <a:xfrm>
              <a:off x="4743000" y="5310000"/>
              <a:ext cx="186120" cy="277920"/>
              <a:chOff x="4743000" y="5310000"/>
              <a:chExt cx="186120" cy="277920"/>
            </a:xfrm>
          </p:grpSpPr>
          <p:sp>
            <p:nvSpPr>
              <p:cNvPr id="2932" name=""/>
              <p:cNvSpPr/>
              <p:nvPr/>
            </p:nvSpPr>
            <p:spPr>
              <a:xfrm>
                <a:off x="4743000" y="53100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4743000" y="53100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34" name=""/>
            <p:cNvGrpSpPr/>
            <p:nvPr/>
          </p:nvGrpSpPr>
          <p:grpSpPr>
            <a:xfrm>
              <a:off x="4419720" y="5257800"/>
              <a:ext cx="511200" cy="115920"/>
              <a:chOff x="4419720" y="5257800"/>
              <a:chExt cx="511200" cy="115920"/>
            </a:xfrm>
          </p:grpSpPr>
          <p:sp>
            <p:nvSpPr>
              <p:cNvPr id="2935" name=""/>
              <p:cNvSpPr/>
              <p:nvPr/>
            </p:nvSpPr>
            <p:spPr>
              <a:xfrm>
                <a:off x="4419720" y="52578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4419720" y="52578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37" name=""/>
            <p:cNvSpPr/>
            <p:nvPr/>
          </p:nvSpPr>
          <p:spPr>
            <a:xfrm>
              <a:off x="4439880" y="532620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4439880" y="538812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4439880" y="532620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0" name=""/>
            <p:cNvGrpSpPr/>
            <p:nvPr/>
          </p:nvGrpSpPr>
          <p:grpSpPr>
            <a:xfrm>
              <a:off x="4458960" y="5348880"/>
              <a:ext cx="132840" cy="56160"/>
              <a:chOff x="4458960" y="5348880"/>
              <a:chExt cx="132840" cy="56160"/>
            </a:xfrm>
          </p:grpSpPr>
          <p:sp>
            <p:nvSpPr>
              <p:cNvPr id="2941" name=""/>
              <p:cNvSpPr/>
              <p:nvPr/>
            </p:nvSpPr>
            <p:spPr>
              <a:xfrm>
                <a:off x="4458960" y="53488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4458960" y="53488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43" name=""/>
            <p:cNvGrpSpPr/>
            <p:nvPr/>
          </p:nvGrpSpPr>
          <p:grpSpPr>
            <a:xfrm>
              <a:off x="4457520" y="5409000"/>
              <a:ext cx="83160" cy="83880"/>
              <a:chOff x="4457520" y="5409000"/>
              <a:chExt cx="83160" cy="83880"/>
            </a:xfrm>
          </p:grpSpPr>
          <p:sp>
            <p:nvSpPr>
              <p:cNvPr id="2944" name=""/>
              <p:cNvSpPr/>
              <p:nvPr/>
            </p:nvSpPr>
            <p:spPr>
              <a:xfrm>
                <a:off x="4457520" y="54090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4457520" y="54090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6" name=""/>
          <p:cNvGrpSpPr/>
          <p:nvPr/>
        </p:nvGrpSpPr>
        <p:grpSpPr>
          <a:xfrm>
            <a:off x="2438280" y="4492800"/>
            <a:ext cx="990720" cy="631800"/>
            <a:chOff x="2438280" y="4492800"/>
            <a:chExt cx="990720" cy="631800"/>
          </a:xfrm>
        </p:grpSpPr>
        <p:grpSp>
          <p:nvGrpSpPr>
            <p:cNvPr id="2947" name=""/>
            <p:cNvGrpSpPr/>
            <p:nvPr/>
          </p:nvGrpSpPr>
          <p:grpSpPr>
            <a:xfrm>
              <a:off x="2439720" y="4574160"/>
              <a:ext cx="624960" cy="550440"/>
              <a:chOff x="2439720" y="4574160"/>
              <a:chExt cx="624960" cy="550440"/>
            </a:xfrm>
          </p:grpSpPr>
          <p:sp>
            <p:nvSpPr>
              <p:cNvPr id="2948" name=""/>
              <p:cNvSpPr/>
              <p:nvPr/>
            </p:nvSpPr>
            <p:spPr>
              <a:xfrm>
                <a:off x="2439720" y="4574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2439720" y="4574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50" name=""/>
            <p:cNvGrpSpPr/>
            <p:nvPr/>
          </p:nvGrpSpPr>
          <p:grpSpPr>
            <a:xfrm>
              <a:off x="3065040" y="4592880"/>
              <a:ext cx="360360" cy="531720"/>
              <a:chOff x="3065040" y="4592880"/>
              <a:chExt cx="360360" cy="531720"/>
            </a:xfrm>
          </p:grpSpPr>
          <p:sp>
            <p:nvSpPr>
              <p:cNvPr id="2951" name=""/>
              <p:cNvSpPr/>
              <p:nvPr/>
            </p:nvSpPr>
            <p:spPr>
              <a:xfrm>
                <a:off x="3065040" y="4592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3065040" y="4592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53" name=""/>
            <p:cNvGrpSpPr/>
            <p:nvPr/>
          </p:nvGrpSpPr>
          <p:grpSpPr>
            <a:xfrm>
              <a:off x="2438280" y="4492800"/>
              <a:ext cx="990720" cy="221760"/>
              <a:chOff x="2438280" y="4492800"/>
              <a:chExt cx="990720" cy="221760"/>
            </a:xfrm>
          </p:grpSpPr>
          <p:sp>
            <p:nvSpPr>
              <p:cNvPr id="2954" name=""/>
              <p:cNvSpPr/>
              <p:nvPr/>
            </p:nvSpPr>
            <p:spPr>
              <a:xfrm>
                <a:off x="2438280" y="4492800"/>
                <a:ext cx="99072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2438280" y="4492800"/>
                <a:ext cx="99072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56" name=""/>
            <p:cNvSpPr/>
            <p:nvPr/>
          </p:nvSpPr>
          <p:spPr>
            <a:xfrm>
              <a:off x="2477520" y="4623840"/>
              <a:ext cx="527760" cy="4453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2477520" y="4742640"/>
              <a:ext cx="527760" cy="32616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2477520" y="4623840"/>
              <a:ext cx="525240" cy="2908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59" name=""/>
            <p:cNvGrpSpPr/>
            <p:nvPr/>
          </p:nvGrpSpPr>
          <p:grpSpPr>
            <a:xfrm>
              <a:off x="2514240" y="4667040"/>
              <a:ext cx="257760" cy="107640"/>
              <a:chOff x="2514240" y="4667040"/>
              <a:chExt cx="257760" cy="107640"/>
            </a:xfrm>
          </p:grpSpPr>
          <p:sp>
            <p:nvSpPr>
              <p:cNvPr id="2960" name=""/>
              <p:cNvSpPr/>
              <p:nvPr/>
            </p:nvSpPr>
            <p:spPr>
              <a:xfrm>
                <a:off x="2514240" y="4667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2514240" y="4667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62" name=""/>
            <p:cNvGrpSpPr/>
            <p:nvPr/>
          </p:nvGrpSpPr>
          <p:grpSpPr>
            <a:xfrm>
              <a:off x="2511720" y="4781880"/>
              <a:ext cx="161280" cy="160920"/>
              <a:chOff x="2511720" y="4781880"/>
              <a:chExt cx="161280" cy="160920"/>
            </a:xfrm>
          </p:grpSpPr>
          <p:sp>
            <p:nvSpPr>
              <p:cNvPr id="2963" name=""/>
              <p:cNvSpPr/>
              <p:nvPr/>
            </p:nvSpPr>
            <p:spPr>
              <a:xfrm>
                <a:off x="2511720" y="4781880"/>
                <a:ext cx="16128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2511720" y="4781880"/>
                <a:ext cx="16128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65" name=""/>
          <p:cNvGrpSpPr/>
          <p:nvPr/>
        </p:nvGrpSpPr>
        <p:grpSpPr>
          <a:xfrm>
            <a:off x="3657600" y="5029200"/>
            <a:ext cx="511200" cy="330120"/>
            <a:chOff x="3657600" y="5029200"/>
            <a:chExt cx="511200" cy="330120"/>
          </a:xfrm>
        </p:grpSpPr>
        <p:grpSp>
          <p:nvGrpSpPr>
            <p:cNvPr id="2966" name=""/>
            <p:cNvGrpSpPr/>
            <p:nvPr/>
          </p:nvGrpSpPr>
          <p:grpSpPr>
            <a:xfrm>
              <a:off x="3658320" y="5071680"/>
              <a:ext cx="322560" cy="287640"/>
              <a:chOff x="3658320" y="5071680"/>
              <a:chExt cx="322560" cy="287640"/>
            </a:xfrm>
          </p:grpSpPr>
          <p:sp>
            <p:nvSpPr>
              <p:cNvPr id="2967" name=""/>
              <p:cNvSpPr/>
              <p:nvPr/>
            </p:nvSpPr>
            <p:spPr>
              <a:xfrm>
                <a:off x="3658320" y="50716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3658320" y="50716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69" name=""/>
            <p:cNvGrpSpPr/>
            <p:nvPr/>
          </p:nvGrpSpPr>
          <p:grpSpPr>
            <a:xfrm>
              <a:off x="3980880" y="5081400"/>
              <a:ext cx="186120" cy="277920"/>
              <a:chOff x="3980880" y="5081400"/>
              <a:chExt cx="186120" cy="277920"/>
            </a:xfrm>
          </p:grpSpPr>
          <p:sp>
            <p:nvSpPr>
              <p:cNvPr id="2970" name=""/>
              <p:cNvSpPr/>
              <p:nvPr/>
            </p:nvSpPr>
            <p:spPr>
              <a:xfrm>
                <a:off x="3980880" y="50814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3980880" y="50814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2" name=""/>
            <p:cNvGrpSpPr/>
            <p:nvPr/>
          </p:nvGrpSpPr>
          <p:grpSpPr>
            <a:xfrm>
              <a:off x="3657600" y="5029200"/>
              <a:ext cx="511200" cy="115920"/>
              <a:chOff x="3657600" y="5029200"/>
              <a:chExt cx="511200" cy="115920"/>
            </a:xfrm>
          </p:grpSpPr>
          <p:sp>
            <p:nvSpPr>
              <p:cNvPr id="2973" name=""/>
              <p:cNvSpPr/>
              <p:nvPr/>
            </p:nvSpPr>
            <p:spPr>
              <a:xfrm>
                <a:off x="3657600" y="50292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3657600" y="50292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75" name=""/>
            <p:cNvSpPr/>
            <p:nvPr/>
          </p:nvSpPr>
          <p:spPr>
            <a:xfrm>
              <a:off x="3677760" y="509760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3677760" y="515952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3677760" y="509760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78" name=""/>
            <p:cNvGrpSpPr/>
            <p:nvPr/>
          </p:nvGrpSpPr>
          <p:grpSpPr>
            <a:xfrm>
              <a:off x="3696840" y="5120280"/>
              <a:ext cx="132840" cy="56160"/>
              <a:chOff x="3696840" y="5120280"/>
              <a:chExt cx="132840" cy="56160"/>
            </a:xfrm>
          </p:grpSpPr>
          <p:sp>
            <p:nvSpPr>
              <p:cNvPr id="2979" name=""/>
              <p:cNvSpPr/>
              <p:nvPr/>
            </p:nvSpPr>
            <p:spPr>
              <a:xfrm>
                <a:off x="3696840" y="51202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3696840" y="51202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81" name=""/>
            <p:cNvGrpSpPr/>
            <p:nvPr/>
          </p:nvGrpSpPr>
          <p:grpSpPr>
            <a:xfrm>
              <a:off x="3695400" y="5180400"/>
              <a:ext cx="83160" cy="83880"/>
              <a:chOff x="3695400" y="5180400"/>
              <a:chExt cx="83160" cy="83880"/>
            </a:xfrm>
          </p:grpSpPr>
          <p:sp>
            <p:nvSpPr>
              <p:cNvPr id="2982" name=""/>
              <p:cNvSpPr/>
              <p:nvPr/>
            </p:nvSpPr>
            <p:spPr>
              <a:xfrm>
                <a:off x="3695400" y="51804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3695400" y="51804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4" name=""/>
          <p:cNvGrpSpPr/>
          <p:nvPr/>
        </p:nvGrpSpPr>
        <p:grpSpPr>
          <a:xfrm>
            <a:off x="4572000" y="5715000"/>
            <a:ext cx="511200" cy="330120"/>
            <a:chOff x="4572000" y="5715000"/>
            <a:chExt cx="511200" cy="330120"/>
          </a:xfrm>
        </p:grpSpPr>
        <p:grpSp>
          <p:nvGrpSpPr>
            <p:cNvPr id="2985" name=""/>
            <p:cNvGrpSpPr/>
            <p:nvPr/>
          </p:nvGrpSpPr>
          <p:grpSpPr>
            <a:xfrm>
              <a:off x="4572720" y="5757480"/>
              <a:ext cx="322560" cy="287640"/>
              <a:chOff x="4572720" y="5757480"/>
              <a:chExt cx="322560" cy="287640"/>
            </a:xfrm>
          </p:grpSpPr>
          <p:sp>
            <p:nvSpPr>
              <p:cNvPr id="2986" name=""/>
              <p:cNvSpPr/>
              <p:nvPr/>
            </p:nvSpPr>
            <p:spPr>
              <a:xfrm>
                <a:off x="4572720" y="57574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4572720" y="575748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88" name=""/>
            <p:cNvGrpSpPr/>
            <p:nvPr/>
          </p:nvGrpSpPr>
          <p:grpSpPr>
            <a:xfrm>
              <a:off x="4895280" y="5767200"/>
              <a:ext cx="186120" cy="277920"/>
              <a:chOff x="4895280" y="5767200"/>
              <a:chExt cx="186120" cy="277920"/>
            </a:xfrm>
          </p:grpSpPr>
          <p:sp>
            <p:nvSpPr>
              <p:cNvPr id="2989" name=""/>
              <p:cNvSpPr/>
              <p:nvPr/>
            </p:nvSpPr>
            <p:spPr>
              <a:xfrm>
                <a:off x="4895280" y="57672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4895280" y="576720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91" name=""/>
            <p:cNvGrpSpPr/>
            <p:nvPr/>
          </p:nvGrpSpPr>
          <p:grpSpPr>
            <a:xfrm>
              <a:off x="4572000" y="5715000"/>
              <a:ext cx="511200" cy="115920"/>
              <a:chOff x="4572000" y="5715000"/>
              <a:chExt cx="511200" cy="115920"/>
            </a:xfrm>
          </p:grpSpPr>
          <p:sp>
            <p:nvSpPr>
              <p:cNvPr id="2992" name=""/>
              <p:cNvSpPr/>
              <p:nvPr/>
            </p:nvSpPr>
            <p:spPr>
              <a:xfrm>
                <a:off x="4572000" y="57150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4572000" y="571500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94" name=""/>
            <p:cNvSpPr/>
            <p:nvPr/>
          </p:nvSpPr>
          <p:spPr>
            <a:xfrm>
              <a:off x="4592160" y="578340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4592160" y="584532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4592160" y="578340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97" name=""/>
            <p:cNvGrpSpPr/>
            <p:nvPr/>
          </p:nvGrpSpPr>
          <p:grpSpPr>
            <a:xfrm>
              <a:off x="4611240" y="5806080"/>
              <a:ext cx="132840" cy="56160"/>
              <a:chOff x="4611240" y="5806080"/>
              <a:chExt cx="132840" cy="56160"/>
            </a:xfrm>
          </p:grpSpPr>
          <p:sp>
            <p:nvSpPr>
              <p:cNvPr id="2998" name=""/>
              <p:cNvSpPr/>
              <p:nvPr/>
            </p:nvSpPr>
            <p:spPr>
              <a:xfrm>
                <a:off x="4611240" y="58060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4611240" y="580608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00" name=""/>
            <p:cNvGrpSpPr/>
            <p:nvPr/>
          </p:nvGrpSpPr>
          <p:grpSpPr>
            <a:xfrm>
              <a:off x="4609800" y="5866200"/>
              <a:ext cx="83160" cy="83880"/>
              <a:chOff x="4609800" y="5866200"/>
              <a:chExt cx="83160" cy="83880"/>
            </a:xfrm>
          </p:grpSpPr>
          <p:sp>
            <p:nvSpPr>
              <p:cNvPr id="3001" name=""/>
              <p:cNvSpPr/>
              <p:nvPr/>
            </p:nvSpPr>
            <p:spPr>
              <a:xfrm>
                <a:off x="4609800" y="58662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4609800" y="586620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3" name=""/>
          <p:cNvSpPr/>
          <p:nvPr/>
        </p:nvSpPr>
        <p:spPr>
          <a:xfrm flipH="1" flipV="1">
            <a:off x="6019920" y="4250880"/>
            <a:ext cx="218880" cy="352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 flipV="1">
            <a:off x="7837560" y="2684520"/>
            <a:ext cx="274680" cy="511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 flipV="1">
            <a:off x="7966080" y="3115800"/>
            <a:ext cx="415800" cy="187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7940520" y="3425760"/>
            <a:ext cx="490680" cy="214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 flipV="1">
            <a:off x="7238880" y="3580920"/>
            <a:ext cx="255600" cy="335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 flipH="1" flipV="1">
            <a:off x="7043400" y="349704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 flipH="1" flipV="1">
            <a:off x="6721200" y="3582720"/>
            <a:ext cx="127080" cy="368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0" name=""/>
          <p:cNvGrpSpPr/>
          <p:nvPr/>
        </p:nvGrpSpPr>
        <p:grpSpPr>
          <a:xfrm>
            <a:off x="6656400" y="3860640"/>
            <a:ext cx="735120" cy="479520"/>
            <a:chOff x="6656400" y="3860640"/>
            <a:chExt cx="735120" cy="479520"/>
          </a:xfrm>
        </p:grpSpPr>
        <p:grpSp>
          <p:nvGrpSpPr>
            <p:cNvPr id="3011" name=""/>
            <p:cNvGrpSpPr/>
            <p:nvPr/>
          </p:nvGrpSpPr>
          <p:grpSpPr>
            <a:xfrm>
              <a:off x="6926400" y="3922200"/>
              <a:ext cx="464040" cy="417960"/>
              <a:chOff x="6926400" y="3922200"/>
              <a:chExt cx="464040" cy="417960"/>
            </a:xfrm>
          </p:grpSpPr>
          <p:sp>
            <p:nvSpPr>
              <p:cNvPr id="3012" name=""/>
              <p:cNvSpPr/>
              <p:nvPr/>
            </p:nvSpPr>
            <p:spPr>
              <a:xfrm flipH="1">
                <a:off x="6926040" y="3922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H="1">
                <a:off x="6926040" y="3922200"/>
                <a:ext cx="464040" cy="41796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14" name=""/>
            <p:cNvGrpSpPr/>
            <p:nvPr/>
          </p:nvGrpSpPr>
          <p:grpSpPr>
            <a:xfrm>
              <a:off x="6658920" y="3936600"/>
              <a:ext cx="267480" cy="403560"/>
              <a:chOff x="6658920" y="3936600"/>
              <a:chExt cx="267480" cy="403560"/>
            </a:xfrm>
          </p:grpSpPr>
          <p:sp>
            <p:nvSpPr>
              <p:cNvPr id="3015" name=""/>
              <p:cNvSpPr/>
              <p:nvPr/>
            </p:nvSpPr>
            <p:spPr>
              <a:xfrm flipH="1">
                <a:off x="6658560" y="3936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H="1">
                <a:off x="6658560" y="3936600"/>
                <a:ext cx="267480" cy="40356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17" name=""/>
            <p:cNvGrpSpPr/>
            <p:nvPr/>
          </p:nvGrpSpPr>
          <p:grpSpPr>
            <a:xfrm>
              <a:off x="6656400" y="3860640"/>
              <a:ext cx="735120" cy="168120"/>
              <a:chOff x="6656400" y="3860640"/>
              <a:chExt cx="735120" cy="168120"/>
            </a:xfrm>
          </p:grpSpPr>
          <p:sp>
            <p:nvSpPr>
              <p:cNvPr id="3018" name=""/>
              <p:cNvSpPr/>
              <p:nvPr/>
            </p:nvSpPr>
            <p:spPr>
              <a:xfrm flipH="1">
                <a:off x="6656400" y="3860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H="1">
                <a:off x="6656400" y="3860640"/>
                <a:ext cx="735120" cy="1681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20" name=""/>
            <p:cNvSpPr/>
            <p:nvPr/>
          </p:nvSpPr>
          <p:spPr>
            <a:xfrm flipH="1">
              <a:off x="6970680" y="3960000"/>
              <a:ext cx="391680" cy="33804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 flipH="1">
              <a:off x="6970680" y="4050360"/>
              <a:ext cx="391680" cy="24768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 flipH="1">
              <a:off x="6972840" y="3960000"/>
              <a:ext cx="389520" cy="2206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23" name=""/>
            <p:cNvGrpSpPr/>
            <p:nvPr/>
          </p:nvGrpSpPr>
          <p:grpSpPr>
            <a:xfrm>
              <a:off x="7143840" y="3993120"/>
              <a:ext cx="191160" cy="81720"/>
              <a:chOff x="7143840" y="3993120"/>
              <a:chExt cx="191160" cy="81720"/>
            </a:xfrm>
          </p:grpSpPr>
          <p:sp>
            <p:nvSpPr>
              <p:cNvPr id="3024" name=""/>
              <p:cNvSpPr/>
              <p:nvPr/>
            </p:nvSpPr>
            <p:spPr>
              <a:xfrm flipH="1">
                <a:off x="7143480" y="3993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H="1">
                <a:off x="7143480" y="3993120"/>
                <a:ext cx="191160" cy="8172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26" name=""/>
            <p:cNvGrpSpPr/>
            <p:nvPr/>
          </p:nvGrpSpPr>
          <p:grpSpPr>
            <a:xfrm>
              <a:off x="7217640" y="4080240"/>
              <a:ext cx="119520" cy="122040"/>
              <a:chOff x="7217640" y="4080240"/>
              <a:chExt cx="119520" cy="122040"/>
            </a:xfrm>
          </p:grpSpPr>
          <p:sp>
            <p:nvSpPr>
              <p:cNvPr id="3027" name=""/>
              <p:cNvSpPr/>
              <p:nvPr/>
            </p:nvSpPr>
            <p:spPr>
              <a:xfrm flipH="1">
                <a:off x="7217640" y="4080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H="1">
                <a:off x="7217640" y="4080240"/>
                <a:ext cx="119520" cy="1220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29" name=""/>
          <p:cNvGrpSpPr/>
          <p:nvPr/>
        </p:nvGrpSpPr>
        <p:grpSpPr>
          <a:xfrm>
            <a:off x="8272440" y="3409920"/>
            <a:ext cx="512640" cy="546120"/>
            <a:chOff x="8272440" y="3409920"/>
            <a:chExt cx="512640" cy="546120"/>
          </a:xfrm>
        </p:grpSpPr>
        <p:grpSp>
          <p:nvGrpSpPr>
            <p:cNvPr id="3030" name=""/>
            <p:cNvGrpSpPr/>
            <p:nvPr/>
          </p:nvGrpSpPr>
          <p:grpSpPr>
            <a:xfrm>
              <a:off x="8609040" y="3762360"/>
              <a:ext cx="176040" cy="193680"/>
              <a:chOff x="8609040" y="3762360"/>
              <a:chExt cx="176040" cy="193680"/>
            </a:xfrm>
          </p:grpSpPr>
          <p:sp>
            <p:nvSpPr>
              <p:cNvPr id="3031" name=""/>
              <p:cNvSpPr/>
              <p:nvPr/>
            </p:nvSpPr>
            <p:spPr>
              <a:xfrm flipH="1">
                <a:off x="8608680" y="3762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H="1">
                <a:off x="8608680" y="376236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33" name=""/>
            <p:cNvGrpSpPr/>
            <p:nvPr/>
          </p:nvGrpSpPr>
          <p:grpSpPr>
            <a:xfrm>
              <a:off x="8272440" y="3690720"/>
              <a:ext cx="512640" cy="176400"/>
              <a:chOff x="8272440" y="3690720"/>
              <a:chExt cx="512640" cy="176400"/>
            </a:xfrm>
          </p:grpSpPr>
          <p:sp>
            <p:nvSpPr>
              <p:cNvPr id="3034" name=""/>
              <p:cNvSpPr/>
              <p:nvPr/>
            </p:nvSpPr>
            <p:spPr>
              <a:xfrm flipH="1">
                <a:off x="8272440" y="369072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H="1">
                <a:off x="8272440" y="369072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36" name=""/>
            <p:cNvGrpSpPr/>
            <p:nvPr/>
          </p:nvGrpSpPr>
          <p:grpSpPr>
            <a:xfrm>
              <a:off x="8272440" y="3778920"/>
              <a:ext cx="336600" cy="176760"/>
              <a:chOff x="8272440" y="3778920"/>
              <a:chExt cx="336600" cy="176760"/>
            </a:xfrm>
          </p:grpSpPr>
          <p:sp>
            <p:nvSpPr>
              <p:cNvPr id="3037" name=""/>
              <p:cNvSpPr/>
              <p:nvPr/>
            </p:nvSpPr>
            <p:spPr>
              <a:xfrm flipH="1">
                <a:off x="8272080" y="377892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flipH="1">
                <a:off x="8272080" y="377892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39" name=""/>
            <p:cNvSpPr/>
            <p:nvPr/>
          </p:nvSpPr>
          <p:spPr>
            <a:xfrm flipH="1">
              <a:off x="8525520" y="386244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40" name=""/>
            <p:cNvGrpSpPr/>
            <p:nvPr/>
          </p:nvGrpSpPr>
          <p:grpSpPr>
            <a:xfrm>
              <a:off x="8288640" y="3799800"/>
              <a:ext cx="131760" cy="89640"/>
              <a:chOff x="8288640" y="3799800"/>
              <a:chExt cx="131760" cy="89640"/>
            </a:xfrm>
          </p:grpSpPr>
          <p:grpSp>
            <p:nvGrpSpPr>
              <p:cNvPr id="3041" name=""/>
              <p:cNvGrpSpPr/>
              <p:nvPr/>
            </p:nvGrpSpPr>
            <p:grpSpPr>
              <a:xfrm>
                <a:off x="8288640" y="3799800"/>
                <a:ext cx="131760" cy="89640"/>
                <a:chOff x="8288640" y="3799800"/>
                <a:chExt cx="131760" cy="89640"/>
              </a:xfrm>
            </p:grpSpPr>
            <p:sp>
              <p:nvSpPr>
                <p:cNvPr id="3042" name=""/>
                <p:cNvSpPr/>
                <p:nvPr/>
              </p:nvSpPr>
              <p:spPr>
                <a:xfrm flipH="1">
                  <a:off x="8288640" y="3799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 flipH="1">
                  <a:off x="8288640" y="379980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44" name=""/>
              <p:cNvSpPr/>
              <p:nvPr/>
            </p:nvSpPr>
            <p:spPr>
              <a:xfrm>
                <a:off x="8288640" y="383076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H="1">
                <a:off x="8327160" y="384696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H="1">
                <a:off x="8327160" y="382068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47" name=""/>
            <p:cNvGrpSpPr/>
            <p:nvPr/>
          </p:nvGrpSpPr>
          <p:grpSpPr>
            <a:xfrm>
              <a:off x="8456040" y="3409920"/>
              <a:ext cx="308520" cy="301680"/>
              <a:chOff x="8456040" y="3409920"/>
              <a:chExt cx="308520" cy="301680"/>
            </a:xfrm>
          </p:grpSpPr>
          <p:sp>
            <p:nvSpPr>
              <p:cNvPr id="3048" name=""/>
              <p:cNvSpPr/>
              <p:nvPr/>
            </p:nvSpPr>
            <p:spPr>
              <a:xfrm flipH="1">
                <a:off x="8455680" y="340992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 flipH="1">
                <a:off x="8455680" y="340992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50" name=""/>
            <p:cNvGrpSpPr/>
            <p:nvPr/>
          </p:nvGrpSpPr>
          <p:grpSpPr>
            <a:xfrm>
              <a:off x="8608320" y="3488760"/>
              <a:ext cx="100440" cy="331200"/>
              <a:chOff x="8608320" y="3488760"/>
              <a:chExt cx="100440" cy="331200"/>
            </a:xfrm>
          </p:grpSpPr>
          <p:sp>
            <p:nvSpPr>
              <p:cNvPr id="3051" name=""/>
              <p:cNvSpPr/>
              <p:nvPr/>
            </p:nvSpPr>
            <p:spPr>
              <a:xfrm flipH="1">
                <a:off x="8607960" y="3488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H="1">
                <a:off x="8607960" y="348876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53" name=""/>
            <p:cNvGrpSpPr/>
            <p:nvPr/>
          </p:nvGrpSpPr>
          <p:grpSpPr>
            <a:xfrm>
              <a:off x="8291520" y="3420720"/>
              <a:ext cx="417240" cy="122400"/>
              <a:chOff x="8291520" y="3420720"/>
              <a:chExt cx="417240" cy="122400"/>
            </a:xfrm>
          </p:grpSpPr>
          <p:sp>
            <p:nvSpPr>
              <p:cNvPr id="3054" name=""/>
              <p:cNvSpPr/>
              <p:nvPr/>
            </p:nvSpPr>
            <p:spPr>
              <a:xfrm flipH="1">
                <a:off x="8291160" y="342072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H="1">
                <a:off x="8291160" y="342072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56" name=""/>
            <p:cNvGrpSpPr/>
            <p:nvPr/>
          </p:nvGrpSpPr>
          <p:grpSpPr>
            <a:xfrm>
              <a:off x="8353800" y="3755160"/>
              <a:ext cx="220320" cy="66960"/>
              <a:chOff x="8353800" y="3755160"/>
              <a:chExt cx="220320" cy="66960"/>
            </a:xfrm>
          </p:grpSpPr>
          <p:sp>
            <p:nvSpPr>
              <p:cNvPr id="3057" name=""/>
              <p:cNvSpPr/>
              <p:nvPr/>
            </p:nvSpPr>
            <p:spPr>
              <a:xfrm flipH="1">
                <a:off x="8353800" y="3755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 flipH="1">
                <a:off x="8353800" y="375516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59" name=""/>
            <p:cNvGrpSpPr/>
            <p:nvPr/>
          </p:nvGrpSpPr>
          <p:grpSpPr>
            <a:xfrm>
              <a:off x="8291880" y="3467520"/>
              <a:ext cx="316440" cy="353160"/>
              <a:chOff x="8291880" y="3467520"/>
              <a:chExt cx="316440" cy="353160"/>
            </a:xfrm>
          </p:grpSpPr>
          <p:sp>
            <p:nvSpPr>
              <p:cNvPr id="3060" name=""/>
              <p:cNvSpPr/>
              <p:nvPr/>
            </p:nvSpPr>
            <p:spPr>
              <a:xfrm flipH="1">
                <a:off x="8291520" y="346752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H="1">
                <a:off x="8291520" y="346752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62" name=""/>
            <p:cNvGrpSpPr/>
            <p:nvPr/>
          </p:nvGrpSpPr>
          <p:grpSpPr>
            <a:xfrm>
              <a:off x="8331480" y="3507480"/>
              <a:ext cx="230760" cy="257400"/>
              <a:chOff x="8331480" y="3507480"/>
              <a:chExt cx="230760" cy="257400"/>
            </a:xfrm>
          </p:grpSpPr>
          <p:sp>
            <p:nvSpPr>
              <p:cNvPr id="3063" name=""/>
              <p:cNvSpPr/>
              <p:nvPr/>
            </p:nvSpPr>
            <p:spPr>
              <a:xfrm flipH="1">
                <a:off x="8331120" y="3507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 flipH="1">
                <a:off x="8331120" y="350748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65" name=""/>
            <p:cNvSpPr/>
            <p:nvPr/>
          </p:nvSpPr>
          <p:spPr>
            <a:xfrm flipH="1">
              <a:off x="8349480" y="3525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 flipH="1">
              <a:off x="8349480" y="352512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 flipH="1">
              <a:off x="8511120" y="358200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 flipH="1">
              <a:off x="8379000" y="356328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9" name=""/>
          <p:cNvGrpSpPr/>
          <p:nvPr/>
        </p:nvGrpSpPr>
        <p:grpSpPr>
          <a:xfrm>
            <a:off x="8326440" y="2735280"/>
            <a:ext cx="512640" cy="546120"/>
            <a:chOff x="8326440" y="2735280"/>
            <a:chExt cx="512640" cy="546120"/>
          </a:xfrm>
        </p:grpSpPr>
        <p:grpSp>
          <p:nvGrpSpPr>
            <p:cNvPr id="3070" name=""/>
            <p:cNvGrpSpPr/>
            <p:nvPr/>
          </p:nvGrpSpPr>
          <p:grpSpPr>
            <a:xfrm>
              <a:off x="8663040" y="3087720"/>
              <a:ext cx="176040" cy="193680"/>
              <a:chOff x="8663040" y="3087720"/>
              <a:chExt cx="176040" cy="193680"/>
            </a:xfrm>
          </p:grpSpPr>
          <p:sp>
            <p:nvSpPr>
              <p:cNvPr id="3071" name=""/>
              <p:cNvSpPr/>
              <p:nvPr/>
            </p:nvSpPr>
            <p:spPr>
              <a:xfrm flipH="1">
                <a:off x="8662680" y="3087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H="1">
                <a:off x="8662680" y="3087720"/>
                <a:ext cx="17604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73" name=""/>
            <p:cNvGrpSpPr/>
            <p:nvPr/>
          </p:nvGrpSpPr>
          <p:grpSpPr>
            <a:xfrm>
              <a:off x="8326440" y="3016080"/>
              <a:ext cx="512640" cy="176400"/>
              <a:chOff x="8326440" y="3016080"/>
              <a:chExt cx="512640" cy="176400"/>
            </a:xfrm>
          </p:grpSpPr>
          <p:sp>
            <p:nvSpPr>
              <p:cNvPr id="3074" name=""/>
              <p:cNvSpPr/>
              <p:nvPr/>
            </p:nvSpPr>
            <p:spPr>
              <a:xfrm flipH="1">
                <a:off x="8326440" y="301608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H="1">
                <a:off x="8326440" y="3016080"/>
                <a:ext cx="51264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76" name=""/>
            <p:cNvGrpSpPr/>
            <p:nvPr/>
          </p:nvGrpSpPr>
          <p:grpSpPr>
            <a:xfrm>
              <a:off x="8326440" y="3104280"/>
              <a:ext cx="336600" cy="176760"/>
              <a:chOff x="8326440" y="3104280"/>
              <a:chExt cx="336600" cy="176760"/>
            </a:xfrm>
          </p:grpSpPr>
          <p:sp>
            <p:nvSpPr>
              <p:cNvPr id="3077" name=""/>
              <p:cNvSpPr/>
              <p:nvPr/>
            </p:nvSpPr>
            <p:spPr>
              <a:xfrm flipH="1">
                <a:off x="8326080" y="310428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 flipH="1">
                <a:off x="8326080" y="3104280"/>
                <a:ext cx="33660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79" name=""/>
            <p:cNvSpPr/>
            <p:nvPr/>
          </p:nvSpPr>
          <p:spPr>
            <a:xfrm flipH="1">
              <a:off x="8579520" y="3187800"/>
              <a:ext cx="6768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80" name=""/>
            <p:cNvGrpSpPr/>
            <p:nvPr/>
          </p:nvGrpSpPr>
          <p:grpSpPr>
            <a:xfrm>
              <a:off x="8342640" y="3125160"/>
              <a:ext cx="131760" cy="89640"/>
              <a:chOff x="8342640" y="3125160"/>
              <a:chExt cx="131760" cy="89640"/>
            </a:xfrm>
          </p:grpSpPr>
          <p:grpSp>
            <p:nvGrpSpPr>
              <p:cNvPr id="3081" name=""/>
              <p:cNvGrpSpPr/>
              <p:nvPr/>
            </p:nvGrpSpPr>
            <p:grpSpPr>
              <a:xfrm>
                <a:off x="8342640" y="3125160"/>
                <a:ext cx="131760" cy="89640"/>
                <a:chOff x="8342640" y="3125160"/>
                <a:chExt cx="131760" cy="89640"/>
              </a:xfrm>
            </p:grpSpPr>
            <p:sp>
              <p:nvSpPr>
                <p:cNvPr id="3082" name=""/>
                <p:cNvSpPr/>
                <p:nvPr/>
              </p:nvSpPr>
              <p:spPr>
                <a:xfrm flipH="1">
                  <a:off x="8342640" y="3125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 flipH="1">
                  <a:off x="8342640" y="3125160"/>
                  <a:ext cx="13176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4" name=""/>
              <p:cNvSpPr/>
              <p:nvPr/>
            </p:nvSpPr>
            <p:spPr>
              <a:xfrm>
                <a:off x="8342640" y="3156120"/>
                <a:ext cx="13176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 flipH="1">
                <a:off x="8381160" y="3172320"/>
                <a:ext cx="4644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 flipH="1">
                <a:off x="8381160" y="3146040"/>
                <a:ext cx="4644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87" name=""/>
            <p:cNvGrpSpPr/>
            <p:nvPr/>
          </p:nvGrpSpPr>
          <p:grpSpPr>
            <a:xfrm>
              <a:off x="8510040" y="2735280"/>
              <a:ext cx="308520" cy="301680"/>
              <a:chOff x="8510040" y="2735280"/>
              <a:chExt cx="308520" cy="301680"/>
            </a:xfrm>
          </p:grpSpPr>
          <p:sp>
            <p:nvSpPr>
              <p:cNvPr id="3088" name=""/>
              <p:cNvSpPr/>
              <p:nvPr/>
            </p:nvSpPr>
            <p:spPr>
              <a:xfrm flipH="1">
                <a:off x="8509680" y="273528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 flipH="1">
                <a:off x="8509680" y="2735280"/>
                <a:ext cx="30852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90" name=""/>
            <p:cNvGrpSpPr/>
            <p:nvPr/>
          </p:nvGrpSpPr>
          <p:grpSpPr>
            <a:xfrm>
              <a:off x="8662320" y="2814120"/>
              <a:ext cx="100440" cy="331200"/>
              <a:chOff x="8662320" y="2814120"/>
              <a:chExt cx="100440" cy="331200"/>
            </a:xfrm>
          </p:grpSpPr>
          <p:sp>
            <p:nvSpPr>
              <p:cNvPr id="3091" name=""/>
              <p:cNvSpPr/>
              <p:nvPr/>
            </p:nvSpPr>
            <p:spPr>
              <a:xfrm flipH="1">
                <a:off x="8661960" y="2814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 flipH="1">
                <a:off x="8661960" y="2814120"/>
                <a:ext cx="10044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93" name=""/>
            <p:cNvGrpSpPr/>
            <p:nvPr/>
          </p:nvGrpSpPr>
          <p:grpSpPr>
            <a:xfrm>
              <a:off x="8345520" y="2746080"/>
              <a:ext cx="417240" cy="122400"/>
              <a:chOff x="8345520" y="2746080"/>
              <a:chExt cx="417240" cy="122400"/>
            </a:xfrm>
          </p:grpSpPr>
          <p:sp>
            <p:nvSpPr>
              <p:cNvPr id="3094" name=""/>
              <p:cNvSpPr/>
              <p:nvPr/>
            </p:nvSpPr>
            <p:spPr>
              <a:xfrm flipH="1">
                <a:off x="8345160" y="274608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 flipH="1">
                <a:off x="8345160" y="2746080"/>
                <a:ext cx="41724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96" name=""/>
            <p:cNvGrpSpPr/>
            <p:nvPr/>
          </p:nvGrpSpPr>
          <p:grpSpPr>
            <a:xfrm>
              <a:off x="8407800" y="3080520"/>
              <a:ext cx="220320" cy="66960"/>
              <a:chOff x="8407800" y="3080520"/>
              <a:chExt cx="220320" cy="66960"/>
            </a:xfrm>
          </p:grpSpPr>
          <p:sp>
            <p:nvSpPr>
              <p:cNvPr id="3097" name=""/>
              <p:cNvSpPr/>
              <p:nvPr/>
            </p:nvSpPr>
            <p:spPr>
              <a:xfrm flipH="1">
                <a:off x="8407800" y="3080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 flipH="1">
                <a:off x="8407800" y="3080520"/>
                <a:ext cx="22032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99" name=""/>
            <p:cNvGrpSpPr/>
            <p:nvPr/>
          </p:nvGrpSpPr>
          <p:grpSpPr>
            <a:xfrm>
              <a:off x="8345880" y="2792880"/>
              <a:ext cx="316440" cy="353160"/>
              <a:chOff x="8345880" y="2792880"/>
              <a:chExt cx="316440" cy="353160"/>
            </a:xfrm>
          </p:grpSpPr>
          <p:sp>
            <p:nvSpPr>
              <p:cNvPr id="3100" name=""/>
              <p:cNvSpPr/>
              <p:nvPr/>
            </p:nvSpPr>
            <p:spPr>
              <a:xfrm flipH="1">
                <a:off x="8345520" y="279288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 flipH="1">
                <a:off x="8345520" y="2792880"/>
                <a:ext cx="31644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02" name=""/>
            <p:cNvGrpSpPr/>
            <p:nvPr/>
          </p:nvGrpSpPr>
          <p:grpSpPr>
            <a:xfrm>
              <a:off x="8385480" y="2832840"/>
              <a:ext cx="230760" cy="257400"/>
              <a:chOff x="8385480" y="2832840"/>
              <a:chExt cx="230760" cy="257400"/>
            </a:xfrm>
          </p:grpSpPr>
          <p:sp>
            <p:nvSpPr>
              <p:cNvPr id="3103" name=""/>
              <p:cNvSpPr/>
              <p:nvPr/>
            </p:nvSpPr>
            <p:spPr>
              <a:xfrm flipH="1">
                <a:off x="8385120" y="2832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 flipH="1">
                <a:off x="8385120" y="2832840"/>
                <a:ext cx="23076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05" name=""/>
            <p:cNvSpPr/>
            <p:nvPr/>
          </p:nvSpPr>
          <p:spPr>
            <a:xfrm flipH="1">
              <a:off x="8403480" y="2850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 flipH="1">
              <a:off x="8403480" y="2850480"/>
              <a:ext cx="20340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 flipH="1">
              <a:off x="8565120" y="290736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 flipH="1">
              <a:off x="8433000" y="2888640"/>
              <a:ext cx="1281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09" name=""/>
          <p:cNvGrpSpPr/>
          <p:nvPr/>
        </p:nvGrpSpPr>
        <p:grpSpPr>
          <a:xfrm>
            <a:off x="7802640" y="2381400"/>
            <a:ext cx="511200" cy="546120"/>
            <a:chOff x="7802640" y="2381400"/>
            <a:chExt cx="511200" cy="546120"/>
          </a:xfrm>
        </p:grpSpPr>
        <p:grpSp>
          <p:nvGrpSpPr>
            <p:cNvPr id="3110" name=""/>
            <p:cNvGrpSpPr/>
            <p:nvPr/>
          </p:nvGrpSpPr>
          <p:grpSpPr>
            <a:xfrm>
              <a:off x="8138520" y="2733840"/>
              <a:ext cx="175320" cy="193680"/>
              <a:chOff x="8138520" y="2733840"/>
              <a:chExt cx="175320" cy="193680"/>
            </a:xfrm>
          </p:grpSpPr>
          <p:sp>
            <p:nvSpPr>
              <p:cNvPr id="3111" name=""/>
              <p:cNvSpPr/>
              <p:nvPr/>
            </p:nvSpPr>
            <p:spPr>
              <a:xfrm flipH="1">
                <a:off x="8138160" y="2733840"/>
                <a:ext cx="17532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 flipH="1">
                <a:off x="8138160" y="2733840"/>
                <a:ext cx="175320" cy="19368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13" name=""/>
            <p:cNvGrpSpPr/>
            <p:nvPr/>
          </p:nvGrpSpPr>
          <p:grpSpPr>
            <a:xfrm>
              <a:off x="7802640" y="2662200"/>
              <a:ext cx="511200" cy="176400"/>
              <a:chOff x="7802640" y="2662200"/>
              <a:chExt cx="511200" cy="176400"/>
            </a:xfrm>
          </p:grpSpPr>
          <p:sp>
            <p:nvSpPr>
              <p:cNvPr id="3114" name=""/>
              <p:cNvSpPr/>
              <p:nvPr/>
            </p:nvSpPr>
            <p:spPr>
              <a:xfrm flipH="1">
                <a:off x="7802640" y="2662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 flipH="1">
                <a:off x="7802640" y="2662200"/>
                <a:ext cx="511200" cy="17640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16" name=""/>
            <p:cNvGrpSpPr/>
            <p:nvPr/>
          </p:nvGrpSpPr>
          <p:grpSpPr>
            <a:xfrm>
              <a:off x="7803000" y="2750400"/>
              <a:ext cx="335520" cy="176760"/>
              <a:chOff x="7803000" y="2750400"/>
              <a:chExt cx="335520" cy="176760"/>
            </a:xfrm>
          </p:grpSpPr>
          <p:sp>
            <p:nvSpPr>
              <p:cNvPr id="3117" name=""/>
              <p:cNvSpPr/>
              <p:nvPr/>
            </p:nvSpPr>
            <p:spPr>
              <a:xfrm flipH="1">
                <a:off x="7803000" y="2750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 flipH="1">
                <a:off x="7803000" y="2750400"/>
                <a:ext cx="335520" cy="17676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19" name=""/>
            <p:cNvSpPr/>
            <p:nvPr/>
          </p:nvSpPr>
          <p:spPr>
            <a:xfrm flipH="1">
              <a:off x="8055000" y="2833920"/>
              <a:ext cx="67320" cy="4032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20" name=""/>
            <p:cNvGrpSpPr/>
            <p:nvPr/>
          </p:nvGrpSpPr>
          <p:grpSpPr>
            <a:xfrm>
              <a:off x="7818840" y="2771280"/>
              <a:ext cx="131760" cy="89640"/>
              <a:chOff x="7818840" y="2771280"/>
              <a:chExt cx="131760" cy="89640"/>
            </a:xfrm>
          </p:grpSpPr>
          <p:grpSp>
            <p:nvGrpSpPr>
              <p:cNvPr id="3121" name=""/>
              <p:cNvGrpSpPr/>
              <p:nvPr/>
            </p:nvGrpSpPr>
            <p:grpSpPr>
              <a:xfrm>
                <a:off x="7818840" y="2771280"/>
                <a:ext cx="131400" cy="89640"/>
                <a:chOff x="7818840" y="2771280"/>
                <a:chExt cx="131400" cy="89640"/>
              </a:xfrm>
            </p:grpSpPr>
            <p:sp>
              <p:nvSpPr>
                <p:cNvPr id="3122" name=""/>
                <p:cNvSpPr/>
                <p:nvPr/>
              </p:nvSpPr>
              <p:spPr>
                <a:xfrm flipH="1">
                  <a:off x="7818480" y="277128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3" name=""/>
                <p:cNvSpPr/>
                <p:nvPr/>
              </p:nvSpPr>
              <p:spPr>
                <a:xfrm flipH="1">
                  <a:off x="7818480" y="2771280"/>
                  <a:ext cx="131400" cy="8964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24" name=""/>
              <p:cNvSpPr/>
              <p:nvPr/>
            </p:nvSpPr>
            <p:spPr>
              <a:xfrm>
                <a:off x="7819200" y="2802240"/>
                <a:ext cx="131400" cy="29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 flipH="1">
                <a:off x="7858080" y="2818440"/>
                <a:ext cx="46080" cy="2016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 flipH="1">
                <a:off x="7858080" y="2792160"/>
                <a:ext cx="46080" cy="1872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27" name=""/>
            <p:cNvGrpSpPr/>
            <p:nvPr/>
          </p:nvGrpSpPr>
          <p:grpSpPr>
            <a:xfrm>
              <a:off x="7985520" y="2381400"/>
              <a:ext cx="307800" cy="301680"/>
              <a:chOff x="7985520" y="2381400"/>
              <a:chExt cx="307800" cy="301680"/>
            </a:xfrm>
          </p:grpSpPr>
          <p:sp>
            <p:nvSpPr>
              <p:cNvPr id="3128" name=""/>
              <p:cNvSpPr/>
              <p:nvPr/>
            </p:nvSpPr>
            <p:spPr>
              <a:xfrm flipH="1">
                <a:off x="7985160" y="2381400"/>
                <a:ext cx="30780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 flipH="1">
                <a:off x="7985160" y="2381400"/>
                <a:ext cx="307800" cy="30168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30" name=""/>
            <p:cNvGrpSpPr/>
            <p:nvPr/>
          </p:nvGrpSpPr>
          <p:grpSpPr>
            <a:xfrm>
              <a:off x="8137800" y="2460240"/>
              <a:ext cx="100080" cy="331200"/>
              <a:chOff x="8137800" y="2460240"/>
              <a:chExt cx="100080" cy="331200"/>
            </a:xfrm>
          </p:grpSpPr>
          <p:sp>
            <p:nvSpPr>
              <p:cNvPr id="3131" name=""/>
              <p:cNvSpPr/>
              <p:nvPr/>
            </p:nvSpPr>
            <p:spPr>
              <a:xfrm flipH="1">
                <a:off x="8137800" y="2460240"/>
                <a:ext cx="10008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 flipH="1">
                <a:off x="8137800" y="2460240"/>
                <a:ext cx="100080" cy="33120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33" name=""/>
            <p:cNvGrpSpPr/>
            <p:nvPr/>
          </p:nvGrpSpPr>
          <p:grpSpPr>
            <a:xfrm>
              <a:off x="7821720" y="2392200"/>
              <a:ext cx="416160" cy="122400"/>
              <a:chOff x="7821720" y="2392200"/>
              <a:chExt cx="416160" cy="122400"/>
            </a:xfrm>
          </p:grpSpPr>
          <p:sp>
            <p:nvSpPr>
              <p:cNvPr id="3134" name=""/>
              <p:cNvSpPr/>
              <p:nvPr/>
            </p:nvSpPr>
            <p:spPr>
              <a:xfrm flipH="1">
                <a:off x="7821720" y="2392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 flipH="1">
                <a:off x="7821720" y="2392200"/>
                <a:ext cx="416160" cy="12240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36" name=""/>
            <p:cNvGrpSpPr/>
            <p:nvPr/>
          </p:nvGrpSpPr>
          <p:grpSpPr>
            <a:xfrm>
              <a:off x="7884000" y="2726640"/>
              <a:ext cx="219600" cy="66960"/>
              <a:chOff x="7884000" y="2726640"/>
              <a:chExt cx="219600" cy="66960"/>
            </a:xfrm>
          </p:grpSpPr>
          <p:sp>
            <p:nvSpPr>
              <p:cNvPr id="3137" name=""/>
              <p:cNvSpPr/>
              <p:nvPr/>
            </p:nvSpPr>
            <p:spPr>
              <a:xfrm flipH="1">
                <a:off x="7884000" y="2726640"/>
                <a:ext cx="21960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 flipH="1">
                <a:off x="7884000" y="2726640"/>
                <a:ext cx="219600" cy="6696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39" name=""/>
            <p:cNvGrpSpPr/>
            <p:nvPr/>
          </p:nvGrpSpPr>
          <p:grpSpPr>
            <a:xfrm>
              <a:off x="7821720" y="2439000"/>
              <a:ext cx="315720" cy="353160"/>
              <a:chOff x="7821720" y="2439000"/>
              <a:chExt cx="315720" cy="353160"/>
            </a:xfrm>
          </p:grpSpPr>
          <p:sp>
            <p:nvSpPr>
              <p:cNvPr id="3140" name=""/>
              <p:cNvSpPr/>
              <p:nvPr/>
            </p:nvSpPr>
            <p:spPr>
              <a:xfrm flipH="1">
                <a:off x="7821360" y="2439000"/>
                <a:ext cx="31572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 flipH="1">
                <a:off x="7821360" y="2439000"/>
                <a:ext cx="315720" cy="35316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42" name=""/>
            <p:cNvGrpSpPr/>
            <p:nvPr/>
          </p:nvGrpSpPr>
          <p:grpSpPr>
            <a:xfrm>
              <a:off x="7861680" y="2478960"/>
              <a:ext cx="230040" cy="257400"/>
              <a:chOff x="7861680" y="2478960"/>
              <a:chExt cx="230040" cy="257400"/>
            </a:xfrm>
          </p:grpSpPr>
          <p:sp>
            <p:nvSpPr>
              <p:cNvPr id="3143" name=""/>
              <p:cNvSpPr/>
              <p:nvPr/>
            </p:nvSpPr>
            <p:spPr>
              <a:xfrm flipH="1">
                <a:off x="7861320" y="2478960"/>
                <a:ext cx="23004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 flipH="1">
                <a:off x="7861320" y="2478960"/>
                <a:ext cx="230040" cy="25740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45" name=""/>
            <p:cNvSpPr/>
            <p:nvPr/>
          </p:nvSpPr>
          <p:spPr>
            <a:xfrm flipH="1">
              <a:off x="7879680" y="2496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 flipH="1">
              <a:off x="7879680" y="2496600"/>
              <a:ext cx="202680" cy="21780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 flipH="1">
              <a:off x="8040600" y="2553480"/>
              <a:ext cx="18720" cy="6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H="1">
              <a:off x="7908480" y="2534760"/>
              <a:ext cx="1278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49" name=""/>
          <p:cNvSpPr/>
          <p:nvPr/>
        </p:nvSpPr>
        <p:spPr>
          <a:xfrm flipV="1">
            <a:off x="6543720" y="4260960"/>
            <a:ext cx="255600" cy="334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 flipH="1" flipV="1">
            <a:off x="6370200" y="4149360"/>
            <a:ext cx="3240" cy="376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1" name=""/>
          <p:cNvGrpSpPr/>
          <p:nvPr/>
        </p:nvGrpSpPr>
        <p:grpSpPr>
          <a:xfrm>
            <a:off x="7467480" y="3192480"/>
            <a:ext cx="533520" cy="380880"/>
            <a:chOff x="7467480" y="3192480"/>
            <a:chExt cx="533520" cy="380880"/>
          </a:xfrm>
        </p:grpSpPr>
        <p:sp>
          <p:nvSpPr>
            <p:cNvPr id="3152" name=""/>
            <p:cNvSpPr/>
            <p:nvPr/>
          </p:nvSpPr>
          <p:spPr>
            <a:xfrm flipH="1">
              <a:off x="7467480" y="3192480"/>
              <a:ext cx="533520" cy="380880"/>
            </a:xfrm>
            <a:prstGeom prst="rect">
              <a:avLst/>
            </a:prstGeom>
            <a:gradFill rotWithShape="0">
              <a:gsLst>
                <a:gs pos="0">
                  <a:srgbClr val="2f2f75"/>
                </a:gs>
                <a:gs pos="100000">
                  <a:srgbClr val="6666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53" name=""/>
            <p:cNvGrpSpPr/>
            <p:nvPr/>
          </p:nvGrpSpPr>
          <p:grpSpPr>
            <a:xfrm>
              <a:off x="7531200" y="3266280"/>
              <a:ext cx="399240" cy="247680"/>
              <a:chOff x="7531200" y="3266280"/>
              <a:chExt cx="399240" cy="247680"/>
            </a:xfrm>
          </p:grpSpPr>
          <p:sp>
            <p:nvSpPr>
              <p:cNvPr id="3154" name=""/>
              <p:cNvSpPr/>
              <p:nvPr/>
            </p:nvSpPr>
            <p:spPr>
              <a:xfrm flipH="1">
                <a:off x="7590960" y="3266280"/>
                <a:ext cx="27720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7599240" y="3266280"/>
                <a:ext cx="276480" cy="24768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 flipH="1">
                <a:off x="7536960" y="3270240"/>
                <a:ext cx="6912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 flipH="1">
                <a:off x="7531200" y="3511800"/>
                <a:ext cx="6588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 flipH="1">
                <a:off x="7857720" y="3270240"/>
                <a:ext cx="6300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 flipH="1">
                <a:off x="7866000" y="3511800"/>
                <a:ext cx="644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60" name=""/>
          <p:cNvGrpSpPr/>
          <p:nvPr/>
        </p:nvGrpSpPr>
        <p:grpSpPr>
          <a:xfrm>
            <a:off x="5790960" y="4465800"/>
            <a:ext cx="990360" cy="631800"/>
            <a:chOff x="5790960" y="4465800"/>
            <a:chExt cx="990360" cy="631800"/>
          </a:xfrm>
        </p:grpSpPr>
        <p:grpSp>
          <p:nvGrpSpPr>
            <p:cNvPr id="3161" name=""/>
            <p:cNvGrpSpPr/>
            <p:nvPr/>
          </p:nvGrpSpPr>
          <p:grpSpPr>
            <a:xfrm>
              <a:off x="6154920" y="4547160"/>
              <a:ext cx="624960" cy="550440"/>
              <a:chOff x="6154920" y="4547160"/>
              <a:chExt cx="624960" cy="550440"/>
            </a:xfrm>
          </p:grpSpPr>
          <p:sp>
            <p:nvSpPr>
              <p:cNvPr id="3162" name=""/>
              <p:cNvSpPr/>
              <p:nvPr/>
            </p:nvSpPr>
            <p:spPr>
              <a:xfrm flipH="1">
                <a:off x="6154920" y="4547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 flipH="1">
                <a:off x="6154920" y="4547160"/>
                <a:ext cx="624960" cy="5504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64" name=""/>
            <p:cNvGrpSpPr/>
            <p:nvPr/>
          </p:nvGrpSpPr>
          <p:grpSpPr>
            <a:xfrm>
              <a:off x="5794560" y="4565880"/>
              <a:ext cx="360360" cy="531720"/>
              <a:chOff x="5794560" y="4565880"/>
              <a:chExt cx="360360" cy="531720"/>
            </a:xfrm>
          </p:grpSpPr>
          <p:sp>
            <p:nvSpPr>
              <p:cNvPr id="3165" name=""/>
              <p:cNvSpPr/>
              <p:nvPr/>
            </p:nvSpPr>
            <p:spPr>
              <a:xfrm flipH="1">
                <a:off x="5794200" y="4565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 flipH="1">
                <a:off x="5794200" y="4565880"/>
                <a:ext cx="360360" cy="5317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67" name=""/>
            <p:cNvGrpSpPr/>
            <p:nvPr/>
          </p:nvGrpSpPr>
          <p:grpSpPr>
            <a:xfrm>
              <a:off x="5790960" y="4465800"/>
              <a:ext cx="990360" cy="221760"/>
              <a:chOff x="5790960" y="4465800"/>
              <a:chExt cx="990360" cy="221760"/>
            </a:xfrm>
          </p:grpSpPr>
          <p:sp>
            <p:nvSpPr>
              <p:cNvPr id="3168" name=""/>
              <p:cNvSpPr/>
              <p:nvPr/>
            </p:nvSpPr>
            <p:spPr>
              <a:xfrm flipH="1">
                <a:off x="5790600" y="4465800"/>
                <a:ext cx="99036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 flipH="1">
                <a:off x="5790600" y="4465800"/>
                <a:ext cx="990360" cy="22176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70" name=""/>
            <p:cNvSpPr/>
            <p:nvPr/>
          </p:nvSpPr>
          <p:spPr>
            <a:xfrm flipH="1">
              <a:off x="6214320" y="4596840"/>
              <a:ext cx="527760" cy="4453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 flipH="1">
              <a:off x="6214320" y="4715640"/>
              <a:ext cx="527760" cy="32616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 flipH="1">
              <a:off x="6217200" y="4596840"/>
              <a:ext cx="524880" cy="2908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73" name=""/>
            <p:cNvGrpSpPr/>
            <p:nvPr/>
          </p:nvGrpSpPr>
          <p:grpSpPr>
            <a:xfrm>
              <a:off x="6447600" y="4640040"/>
              <a:ext cx="257760" cy="107640"/>
              <a:chOff x="6447600" y="4640040"/>
              <a:chExt cx="257760" cy="107640"/>
            </a:xfrm>
          </p:grpSpPr>
          <p:sp>
            <p:nvSpPr>
              <p:cNvPr id="3174" name=""/>
              <p:cNvSpPr/>
              <p:nvPr/>
            </p:nvSpPr>
            <p:spPr>
              <a:xfrm flipH="1">
                <a:off x="6447600" y="4640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 flipH="1">
                <a:off x="6447600" y="4640040"/>
                <a:ext cx="257760" cy="10764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76" name=""/>
            <p:cNvGrpSpPr/>
            <p:nvPr/>
          </p:nvGrpSpPr>
          <p:grpSpPr>
            <a:xfrm>
              <a:off x="6546960" y="4754880"/>
              <a:ext cx="160920" cy="160920"/>
              <a:chOff x="6546960" y="4754880"/>
              <a:chExt cx="160920" cy="160920"/>
            </a:xfrm>
          </p:grpSpPr>
          <p:sp>
            <p:nvSpPr>
              <p:cNvPr id="3177" name=""/>
              <p:cNvSpPr/>
              <p:nvPr/>
            </p:nvSpPr>
            <p:spPr>
              <a:xfrm flipH="1">
                <a:off x="6546600" y="4754880"/>
                <a:ext cx="16092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 flipH="1">
                <a:off x="6546600" y="4754880"/>
                <a:ext cx="160920" cy="16092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79" name=""/>
          <p:cNvGrpSpPr/>
          <p:nvPr/>
        </p:nvGrpSpPr>
        <p:grpSpPr>
          <a:xfrm>
            <a:off x="1828800" y="2590920"/>
            <a:ext cx="380880" cy="380880"/>
            <a:chOff x="1828800" y="2590920"/>
            <a:chExt cx="380880" cy="380880"/>
          </a:xfrm>
        </p:grpSpPr>
        <p:grpSp>
          <p:nvGrpSpPr>
            <p:cNvPr id="3180" name=""/>
            <p:cNvGrpSpPr/>
            <p:nvPr/>
          </p:nvGrpSpPr>
          <p:grpSpPr>
            <a:xfrm>
              <a:off x="1828800" y="2836800"/>
              <a:ext cx="130680" cy="135000"/>
              <a:chOff x="1828800" y="2836800"/>
              <a:chExt cx="130680" cy="135000"/>
            </a:xfrm>
          </p:grpSpPr>
          <p:sp>
            <p:nvSpPr>
              <p:cNvPr id="3181" name=""/>
              <p:cNvSpPr/>
              <p:nvPr/>
            </p:nvSpPr>
            <p:spPr>
              <a:xfrm>
                <a:off x="1828800" y="2836800"/>
                <a:ext cx="130680" cy="13500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1828800" y="2836800"/>
                <a:ext cx="130680" cy="135000"/>
              </a:xfrm>
              <a:custGeom>
                <a:avLst/>
                <a:gdLst/>
                <a:ahLst/>
                <a:rect l="l" t="t" r="r" b="b"/>
                <a:pathLst>
                  <a:path w="380" h="419">
                    <a:moveTo>
                      <a:pt x="380" y="419"/>
                    </a:moveTo>
                    <a:lnTo>
                      <a:pt x="380" y="227"/>
                    </a:lnTo>
                    <a:lnTo>
                      <a:pt x="0" y="0"/>
                    </a:lnTo>
                    <a:lnTo>
                      <a:pt x="0" y="189"/>
                    </a:lnTo>
                    <a:lnTo>
                      <a:pt x="380" y="41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83" name=""/>
            <p:cNvGrpSpPr/>
            <p:nvPr/>
          </p:nvGrpSpPr>
          <p:grpSpPr>
            <a:xfrm>
              <a:off x="1828800" y="2786760"/>
              <a:ext cx="380880" cy="123120"/>
              <a:chOff x="1828800" y="2786760"/>
              <a:chExt cx="380880" cy="123120"/>
            </a:xfrm>
          </p:grpSpPr>
          <p:sp>
            <p:nvSpPr>
              <p:cNvPr id="3184" name=""/>
              <p:cNvSpPr/>
              <p:nvPr/>
            </p:nvSpPr>
            <p:spPr>
              <a:xfrm>
                <a:off x="1828800" y="2786760"/>
                <a:ext cx="380880" cy="12312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1828800" y="2786760"/>
                <a:ext cx="380880" cy="123120"/>
              </a:xfrm>
              <a:custGeom>
                <a:avLst/>
                <a:gdLst/>
                <a:ahLst/>
                <a:rect l="l" t="t" r="r" b="b"/>
                <a:pathLst>
                  <a:path w="1106" h="382">
                    <a:moveTo>
                      <a:pt x="381" y="382"/>
                    </a:moveTo>
                    <a:lnTo>
                      <a:pt x="1106" y="190"/>
                    </a:lnTo>
                    <a:lnTo>
                      <a:pt x="704" y="0"/>
                    </a:lnTo>
                    <a:lnTo>
                      <a:pt x="0" y="154"/>
                    </a:lnTo>
                    <a:lnTo>
                      <a:pt x="381" y="38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86" name=""/>
            <p:cNvGrpSpPr/>
            <p:nvPr/>
          </p:nvGrpSpPr>
          <p:grpSpPr>
            <a:xfrm>
              <a:off x="1959480" y="2848320"/>
              <a:ext cx="250200" cy="123480"/>
              <a:chOff x="1959480" y="2848320"/>
              <a:chExt cx="250200" cy="123480"/>
            </a:xfrm>
          </p:grpSpPr>
          <p:sp>
            <p:nvSpPr>
              <p:cNvPr id="3187" name=""/>
              <p:cNvSpPr/>
              <p:nvPr/>
            </p:nvSpPr>
            <p:spPr>
              <a:xfrm>
                <a:off x="1959480" y="2848320"/>
                <a:ext cx="250200" cy="12348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1959480" y="2848320"/>
                <a:ext cx="250200" cy="123480"/>
              </a:xfrm>
              <a:custGeom>
                <a:avLst/>
                <a:gdLst/>
                <a:ahLst/>
                <a:rect l="l" t="t" r="r" b="b"/>
                <a:pathLst>
                  <a:path w="726" h="383">
                    <a:moveTo>
                      <a:pt x="726" y="0"/>
                    </a:moveTo>
                    <a:lnTo>
                      <a:pt x="725" y="187"/>
                    </a:lnTo>
                    <a:lnTo>
                      <a:pt x="0" y="383"/>
                    </a:lnTo>
                    <a:lnTo>
                      <a:pt x="0" y="192"/>
                    </a:lnTo>
                    <a:lnTo>
                      <a:pt x="726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89" name=""/>
            <p:cNvSpPr/>
            <p:nvPr/>
          </p:nvSpPr>
          <p:spPr>
            <a:xfrm>
              <a:off x="1971360" y="2906280"/>
              <a:ext cx="50040" cy="28080"/>
            </a:xfrm>
            <a:custGeom>
              <a:avLst/>
              <a:gdLst/>
              <a:ahLst/>
              <a:rect l="l" t="t" r="r" b="b"/>
              <a:pathLst>
                <a:path w="146" h="88">
                  <a:moveTo>
                    <a:pt x="0" y="88"/>
                  </a:moveTo>
                  <a:lnTo>
                    <a:pt x="146" y="50"/>
                  </a:lnTo>
                  <a:lnTo>
                    <a:pt x="146" y="0"/>
                  </a:lnTo>
                  <a:lnTo>
                    <a:pt x="0" y="41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90" name=""/>
            <p:cNvGrpSpPr/>
            <p:nvPr/>
          </p:nvGrpSpPr>
          <p:grpSpPr>
            <a:xfrm>
              <a:off x="2099880" y="2862720"/>
              <a:ext cx="97920" cy="62280"/>
              <a:chOff x="2099880" y="2862720"/>
              <a:chExt cx="97920" cy="62280"/>
            </a:xfrm>
          </p:grpSpPr>
          <p:grpSp>
            <p:nvGrpSpPr>
              <p:cNvPr id="3191" name=""/>
              <p:cNvGrpSpPr/>
              <p:nvPr/>
            </p:nvGrpSpPr>
            <p:grpSpPr>
              <a:xfrm>
                <a:off x="2099880" y="2862720"/>
                <a:ext cx="97920" cy="62280"/>
                <a:chOff x="2099880" y="2862720"/>
                <a:chExt cx="97920" cy="62280"/>
              </a:xfrm>
            </p:grpSpPr>
            <p:sp>
              <p:nvSpPr>
                <p:cNvPr id="3192" name=""/>
                <p:cNvSpPr/>
                <p:nvPr/>
              </p:nvSpPr>
              <p:spPr>
                <a:xfrm>
                  <a:off x="2099880" y="2862720"/>
                  <a:ext cx="97920" cy="6228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3" name=""/>
                <p:cNvSpPr/>
                <p:nvPr/>
              </p:nvSpPr>
              <p:spPr>
                <a:xfrm>
                  <a:off x="2099880" y="2862720"/>
                  <a:ext cx="97920" cy="62280"/>
                </a:xfrm>
                <a:custGeom>
                  <a:avLst/>
                  <a:gdLst/>
                  <a:ahLst/>
                  <a:rect l="l" t="t" r="r" b="b"/>
                  <a:pathLst>
                    <a:path w="284" h="194">
                      <a:moveTo>
                        <a:pt x="284" y="0"/>
                      </a:moveTo>
                      <a:lnTo>
                        <a:pt x="0" y="76"/>
                      </a:lnTo>
                      <a:lnTo>
                        <a:pt x="0" y="194"/>
                      </a:lnTo>
                      <a:lnTo>
                        <a:pt x="284" y="121"/>
                      </a:lnTo>
                      <a:lnTo>
                        <a:pt x="284" y="0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94" name=""/>
              <p:cNvSpPr/>
              <p:nvPr/>
            </p:nvSpPr>
            <p:spPr>
              <a:xfrm flipH="1">
                <a:off x="2099880" y="2884320"/>
                <a:ext cx="97920" cy="2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2134440" y="2895480"/>
                <a:ext cx="34560" cy="14040"/>
              </a:xfrm>
              <a:custGeom>
                <a:avLst/>
                <a:gdLst/>
                <a:ahLst/>
                <a:rect l="l" t="t" r="r" b="b"/>
                <a:pathLst>
                  <a:path w="100" h="44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4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2134440" y="2877120"/>
                <a:ext cx="34560" cy="12960"/>
              </a:xfrm>
              <a:custGeom>
                <a:avLst/>
                <a:gdLst/>
                <a:ahLst/>
                <a:rect l="l" t="t" r="r" b="b"/>
                <a:pathLst>
                  <a:path w="100" h="41">
                    <a:moveTo>
                      <a:pt x="100" y="0"/>
                    </a:moveTo>
                    <a:lnTo>
                      <a:pt x="100" y="15"/>
                    </a:lnTo>
                    <a:lnTo>
                      <a:pt x="0" y="41"/>
                    </a:lnTo>
                    <a:lnTo>
                      <a:pt x="0" y="26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97" name=""/>
            <p:cNvGrpSpPr/>
            <p:nvPr/>
          </p:nvGrpSpPr>
          <p:grpSpPr>
            <a:xfrm>
              <a:off x="1843920" y="2590920"/>
              <a:ext cx="229320" cy="210240"/>
              <a:chOff x="1843920" y="2590920"/>
              <a:chExt cx="229320" cy="210240"/>
            </a:xfrm>
          </p:grpSpPr>
          <p:sp>
            <p:nvSpPr>
              <p:cNvPr id="3198" name=""/>
              <p:cNvSpPr/>
              <p:nvPr/>
            </p:nvSpPr>
            <p:spPr>
              <a:xfrm>
                <a:off x="1843920" y="2590920"/>
                <a:ext cx="229320" cy="21024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  <a:lnTo>
                      <a:pt x="117" y="653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1843920" y="2590920"/>
                <a:ext cx="229320" cy="210240"/>
              </a:xfrm>
              <a:custGeom>
                <a:avLst/>
                <a:gdLst/>
                <a:ahLst/>
                <a:rect l="l" t="t" r="r" b="b"/>
                <a:pathLst>
                  <a:path w="666" h="653">
                    <a:moveTo>
                      <a:pt x="117" y="653"/>
                    </a:moveTo>
                    <a:lnTo>
                      <a:pt x="0" y="509"/>
                    </a:lnTo>
                    <a:lnTo>
                      <a:pt x="0" y="113"/>
                    </a:lnTo>
                    <a:lnTo>
                      <a:pt x="491" y="0"/>
                    </a:lnTo>
                    <a:lnTo>
                      <a:pt x="666" y="5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00" name=""/>
            <p:cNvGrpSpPr/>
            <p:nvPr/>
          </p:nvGrpSpPr>
          <p:grpSpPr>
            <a:xfrm>
              <a:off x="1885320" y="2646000"/>
              <a:ext cx="74520" cy="231120"/>
              <a:chOff x="1885320" y="2646000"/>
              <a:chExt cx="74520" cy="231120"/>
            </a:xfrm>
          </p:grpSpPr>
          <p:sp>
            <p:nvSpPr>
              <p:cNvPr id="3201" name=""/>
              <p:cNvSpPr/>
              <p:nvPr/>
            </p:nvSpPr>
            <p:spPr>
              <a:xfrm>
                <a:off x="1885320" y="2646000"/>
                <a:ext cx="74520" cy="23112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1885320" y="2646000"/>
                <a:ext cx="74520" cy="231120"/>
              </a:xfrm>
              <a:custGeom>
                <a:avLst/>
                <a:gdLst/>
                <a:ahLst/>
                <a:rect l="l" t="t" r="r" b="b"/>
                <a:pathLst>
                  <a:path w="217" h="717">
                    <a:moveTo>
                      <a:pt x="217" y="717"/>
                    </a:moveTo>
                    <a:lnTo>
                      <a:pt x="217" y="116"/>
                    </a:lnTo>
                    <a:lnTo>
                      <a:pt x="0" y="0"/>
                    </a:lnTo>
                    <a:lnTo>
                      <a:pt x="0" y="579"/>
                    </a:lnTo>
                    <a:lnTo>
                      <a:pt x="217" y="71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03" name=""/>
            <p:cNvGrpSpPr/>
            <p:nvPr/>
          </p:nvGrpSpPr>
          <p:grpSpPr>
            <a:xfrm>
              <a:off x="1885320" y="2598480"/>
              <a:ext cx="309960" cy="85320"/>
              <a:chOff x="1885320" y="2598480"/>
              <a:chExt cx="309960" cy="85320"/>
            </a:xfrm>
          </p:grpSpPr>
          <p:sp>
            <p:nvSpPr>
              <p:cNvPr id="3204" name=""/>
              <p:cNvSpPr/>
              <p:nvPr/>
            </p:nvSpPr>
            <p:spPr>
              <a:xfrm>
                <a:off x="1885320" y="2598480"/>
                <a:ext cx="309960" cy="8532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1885320" y="2598480"/>
                <a:ext cx="309960" cy="85320"/>
              </a:xfrm>
              <a:custGeom>
                <a:avLst/>
                <a:gdLst/>
                <a:ahLst/>
                <a:rect l="l" t="t" r="r" b="b"/>
                <a:pathLst>
                  <a:path w="900" h="265">
                    <a:moveTo>
                      <a:pt x="219" y="265"/>
                    </a:moveTo>
                    <a:lnTo>
                      <a:pt x="900" y="103"/>
                    </a:lnTo>
                    <a:lnTo>
                      <a:pt x="648" y="0"/>
                    </a:lnTo>
                    <a:lnTo>
                      <a:pt x="0" y="148"/>
                    </a:lnTo>
                    <a:lnTo>
                      <a:pt x="219" y="265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06" name=""/>
            <p:cNvGrpSpPr/>
            <p:nvPr/>
          </p:nvGrpSpPr>
          <p:grpSpPr>
            <a:xfrm>
              <a:off x="1985400" y="2831760"/>
              <a:ext cx="163440" cy="46440"/>
              <a:chOff x="1985400" y="2831760"/>
              <a:chExt cx="163440" cy="46440"/>
            </a:xfrm>
          </p:grpSpPr>
          <p:sp>
            <p:nvSpPr>
              <p:cNvPr id="3207" name=""/>
              <p:cNvSpPr/>
              <p:nvPr/>
            </p:nvSpPr>
            <p:spPr>
              <a:xfrm>
                <a:off x="1985400" y="2831760"/>
                <a:ext cx="163440" cy="4644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  <a:lnTo>
                      <a:pt x="475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1985400" y="2831760"/>
                <a:ext cx="163440" cy="46440"/>
              </a:xfrm>
              <a:custGeom>
                <a:avLst/>
                <a:gdLst/>
                <a:ahLst/>
                <a:rect l="l" t="t" r="r" b="b"/>
                <a:pathLst>
                  <a:path w="475" h="145">
                    <a:moveTo>
                      <a:pt x="475" y="0"/>
                    </a:moveTo>
                    <a:lnTo>
                      <a:pt x="475" y="27"/>
                    </a:lnTo>
                    <a:lnTo>
                      <a:pt x="38" y="145"/>
                    </a:lnTo>
                    <a:lnTo>
                      <a:pt x="0" y="12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09" name=""/>
            <p:cNvGrpSpPr/>
            <p:nvPr/>
          </p:nvGrpSpPr>
          <p:grpSpPr>
            <a:xfrm>
              <a:off x="1960200" y="2630880"/>
              <a:ext cx="235080" cy="246240"/>
              <a:chOff x="1960200" y="2630880"/>
              <a:chExt cx="235080" cy="246240"/>
            </a:xfrm>
          </p:grpSpPr>
          <p:sp>
            <p:nvSpPr>
              <p:cNvPr id="3210" name=""/>
              <p:cNvSpPr/>
              <p:nvPr/>
            </p:nvSpPr>
            <p:spPr>
              <a:xfrm>
                <a:off x="1960200" y="2630880"/>
                <a:ext cx="235080" cy="24624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1960200" y="2630880"/>
                <a:ext cx="235080" cy="246240"/>
              </a:xfrm>
              <a:custGeom>
                <a:avLst/>
                <a:gdLst/>
                <a:ahLst/>
                <a:rect l="l" t="t" r="r" b="b"/>
                <a:pathLst>
                  <a:path w="683" h="764">
                    <a:moveTo>
                      <a:pt x="0" y="764"/>
                    </a:moveTo>
                    <a:lnTo>
                      <a:pt x="0" y="162"/>
                    </a:lnTo>
                    <a:lnTo>
                      <a:pt x="683" y="0"/>
                    </a:lnTo>
                    <a:lnTo>
                      <a:pt x="683" y="586"/>
                    </a:lnTo>
                    <a:lnTo>
                      <a:pt x="0" y="76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12" name=""/>
            <p:cNvGrpSpPr/>
            <p:nvPr/>
          </p:nvGrpSpPr>
          <p:grpSpPr>
            <a:xfrm>
              <a:off x="1994400" y="2658960"/>
              <a:ext cx="171360" cy="179640"/>
              <a:chOff x="1994400" y="2658960"/>
              <a:chExt cx="171360" cy="179640"/>
            </a:xfrm>
          </p:grpSpPr>
          <p:sp>
            <p:nvSpPr>
              <p:cNvPr id="3213" name=""/>
              <p:cNvSpPr/>
              <p:nvPr/>
            </p:nvSpPr>
            <p:spPr>
              <a:xfrm>
                <a:off x="1994400" y="2658960"/>
                <a:ext cx="171360" cy="1796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1994400" y="2658960"/>
                <a:ext cx="171360" cy="179640"/>
              </a:xfrm>
              <a:custGeom>
                <a:avLst/>
                <a:gdLst/>
                <a:ahLst/>
                <a:rect l="l" t="t" r="r" b="b"/>
                <a:pathLst>
                  <a:path w="498" h="557">
                    <a:moveTo>
                      <a:pt x="0" y="557"/>
                    </a:moveTo>
                    <a:lnTo>
                      <a:pt x="0" y="119"/>
                    </a:lnTo>
                    <a:lnTo>
                      <a:pt x="498" y="0"/>
                    </a:lnTo>
                    <a:lnTo>
                      <a:pt x="498" y="431"/>
                    </a:lnTo>
                    <a:lnTo>
                      <a:pt x="0" y="557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15" name=""/>
            <p:cNvSpPr/>
            <p:nvPr/>
          </p:nvSpPr>
          <p:spPr>
            <a:xfrm>
              <a:off x="2000880" y="2671200"/>
              <a:ext cx="151200" cy="15192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  <a:close/>
                </a:path>
              </a:pathLst>
            </a:cu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000880" y="2671200"/>
              <a:ext cx="151200" cy="151920"/>
            </a:xfrm>
            <a:custGeom>
              <a:avLst/>
              <a:gdLst/>
              <a:ahLst/>
              <a:rect l="l" t="t" r="r" b="b"/>
              <a:pathLst>
                <a:path w="439" h="472">
                  <a:moveTo>
                    <a:pt x="0" y="472"/>
                  </a:moveTo>
                  <a:lnTo>
                    <a:pt x="0" y="101"/>
                  </a:lnTo>
                  <a:lnTo>
                    <a:pt x="439" y="0"/>
                  </a:lnTo>
                  <a:lnTo>
                    <a:pt x="439" y="365"/>
                  </a:lnTo>
                  <a:lnTo>
                    <a:pt x="0" y="472"/>
                  </a:lnTo>
                </a:path>
              </a:pathLst>
            </a:custGeom>
            <a:noFill/>
            <a:ln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018520" y="2710800"/>
              <a:ext cx="14040" cy="4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035440" y="2697840"/>
              <a:ext cx="95400" cy="1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19" name=""/>
          <p:cNvSpPr/>
          <p:nvPr/>
        </p:nvSpPr>
        <p:spPr>
          <a:xfrm>
            <a:off x="1728720" y="22860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B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20" name=""/>
          <p:cNvGrpSpPr/>
          <p:nvPr/>
        </p:nvGrpSpPr>
        <p:grpSpPr>
          <a:xfrm>
            <a:off x="2209680" y="5105520"/>
            <a:ext cx="511200" cy="330120"/>
            <a:chOff x="2209680" y="5105520"/>
            <a:chExt cx="511200" cy="330120"/>
          </a:xfrm>
        </p:grpSpPr>
        <p:grpSp>
          <p:nvGrpSpPr>
            <p:cNvPr id="3221" name=""/>
            <p:cNvGrpSpPr/>
            <p:nvPr/>
          </p:nvGrpSpPr>
          <p:grpSpPr>
            <a:xfrm>
              <a:off x="2210400" y="5148000"/>
              <a:ext cx="322560" cy="287640"/>
              <a:chOff x="2210400" y="5148000"/>
              <a:chExt cx="322560" cy="287640"/>
            </a:xfrm>
          </p:grpSpPr>
          <p:sp>
            <p:nvSpPr>
              <p:cNvPr id="3222" name=""/>
              <p:cNvSpPr/>
              <p:nvPr/>
            </p:nvSpPr>
            <p:spPr>
              <a:xfrm>
                <a:off x="2210400" y="51480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2210400" y="51480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4" name=""/>
            <p:cNvGrpSpPr/>
            <p:nvPr/>
          </p:nvGrpSpPr>
          <p:grpSpPr>
            <a:xfrm>
              <a:off x="2532960" y="5157720"/>
              <a:ext cx="186120" cy="277920"/>
              <a:chOff x="2532960" y="5157720"/>
              <a:chExt cx="186120" cy="277920"/>
            </a:xfrm>
          </p:grpSpPr>
          <p:sp>
            <p:nvSpPr>
              <p:cNvPr id="3225" name=""/>
              <p:cNvSpPr/>
              <p:nvPr/>
            </p:nvSpPr>
            <p:spPr>
              <a:xfrm>
                <a:off x="2532960" y="51577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2532960" y="51577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27" name=""/>
            <p:cNvGrpSpPr/>
            <p:nvPr/>
          </p:nvGrpSpPr>
          <p:grpSpPr>
            <a:xfrm>
              <a:off x="2209680" y="5105520"/>
              <a:ext cx="511200" cy="115920"/>
              <a:chOff x="2209680" y="5105520"/>
              <a:chExt cx="511200" cy="115920"/>
            </a:xfrm>
          </p:grpSpPr>
          <p:sp>
            <p:nvSpPr>
              <p:cNvPr id="3228" name=""/>
              <p:cNvSpPr/>
              <p:nvPr/>
            </p:nvSpPr>
            <p:spPr>
              <a:xfrm>
                <a:off x="2209680" y="51055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2209680" y="51055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30" name=""/>
            <p:cNvSpPr/>
            <p:nvPr/>
          </p:nvSpPr>
          <p:spPr>
            <a:xfrm>
              <a:off x="2229840" y="517392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2229840" y="523584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2229840" y="517392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33" name=""/>
            <p:cNvGrpSpPr/>
            <p:nvPr/>
          </p:nvGrpSpPr>
          <p:grpSpPr>
            <a:xfrm>
              <a:off x="2248920" y="5196600"/>
              <a:ext cx="132840" cy="56160"/>
              <a:chOff x="2248920" y="5196600"/>
              <a:chExt cx="132840" cy="56160"/>
            </a:xfrm>
          </p:grpSpPr>
          <p:sp>
            <p:nvSpPr>
              <p:cNvPr id="3234" name=""/>
              <p:cNvSpPr/>
              <p:nvPr/>
            </p:nvSpPr>
            <p:spPr>
              <a:xfrm>
                <a:off x="2248920" y="51966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2248920" y="51966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36" name=""/>
            <p:cNvGrpSpPr/>
            <p:nvPr/>
          </p:nvGrpSpPr>
          <p:grpSpPr>
            <a:xfrm>
              <a:off x="2247480" y="5256720"/>
              <a:ext cx="83160" cy="83880"/>
              <a:chOff x="2247480" y="5256720"/>
              <a:chExt cx="83160" cy="83880"/>
            </a:xfrm>
          </p:grpSpPr>
          <p:sp>
            <p:nvSpPr>
              <p:cNvPr id="3237" name=""/>
              <p:cNvSpPr/>
              <p:nvPr/>
            </p:nvSpPr>
            <p:spPr>
              <a:xfrm>
                <a:off x="2247480" y="52567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2247480" y="52567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39" name=""/>
          <p:cNvGrpSpPr/>
          <p:nvPr/>
        </p:nvGrpSpPr>
        <p:grpSpPr>
          <a:xfrm>
            <a:off x="1371600" y="4419720"/>
            <a:ext cx="511200" cy="330120"/>
            <a:chOff x="1371600" y="4419720"/>
            <a:chExt cx="511200" cy="330120"/>
          </a:xfrm>
        </p:grpSpPr>
        <p:grpSp>
          <p:nvGrpSpPr>
            <p:cNvPr id="3240" name=""/>
            <p:cNvGrpSpPr/>
            <p:nvPr/>
          </p:nvGrpSpPr>
          <p:grpSpPr>
            <a:xfrm>
              <a:off x="1372320" y="4462200"/>
              <a:ext cx="322560" cy="287640"/>
              <a:chOff x="1372320" y="4462200"/>
              <a:chExt cx="322560" cy="287640"/>
            </a:xfrm>
          </p:grpSpPr>
          <p:sp>
            <p:nvSpPr>
              <p:cNvPr id="3241" name=""/>
              <p:cNvSpPr/>
              <p:nvPr/>
            </p:nvSpPr>
            <p:spPr>
              <a:xfrm>
                <a:off x="1372320" y="44622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1372320" y="4462200"/>
                <a:ext cx="322560" cy="28764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43" name=""/>
            <p:cNvGrpSpPr/>
            <p:nvPr/>
          </p:nvGrpSpPr>
          <p:grpSpPr>
            <a:xfrm>
              <a:off x="1694880" y="4471920"/>
              <a:ext cx="186120" cy="277920"/>
              <a:chOff x="1694880" y="4471920"/>
              <a:chExt cx="186120" cy="277920"/>
            </a:xfrm>
          </p:grpSpPr>
          <p:sp>
            <p:nvSpPr>
              <p:cNvPr id="3244" name=""/>
              <p:cNvSpPr/>
              <p:nvPr/>
            </p:nvSpPr>
            <p:spPr>
              <a:xfrm>
                <a:off x="1694880" y="44719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1694880" y="4471920"/>
                <a:ext cx="186120" cy="27792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46" name=""/>
            <p:cNvGrpSpPr/>
            <p:nvPr/>
          </p:nvGrpSpPr>
          <p:grpSpPr>
            <a:xfrm>
              <a:off x="1371600" y="4419720"/>
              <a:ext cx="511200" cy="115920"/>
              <a:chOff x="1371600" y="4419720"/>
              <a:chExt cx="511200" cy="115920"/>
            </a:xfrm>
          </p:grpSpPr>
          <p:sp>
            <p:nvSpPr>
              <p:cNvPr id="3247" name=""/>
              <p:cNvSpPr/>
              <p:nvPr/>
            </p:nvSpPr>
            <p:spPr>
              <a:xfrm>
                <a:off x="1371600" y="44197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1371600" y="4419720"/>
                <a:ext cx="51120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9" name=""/>
            <p:cNvSpPr/>
            <p:nvPr/>
          </p:nvSpPr>
          <p:spPr>
            <a:xfrm>
              <a:off x="1391760" y="4488120"/>
              <a:ext cx="272520" cy="23256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1391760" y="4550040"/>
              <a:ext cx="2725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1391760" y="4488120"/>
              <a:ext cx="271080" cy="15192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52" name=""/>
            <p:cNvGrpSpPr/>
            <p:nvPr/>
          </p:nvGrpSpPr>
          <p:grpSpPr>
            <a:xfrm>
              <a:off x="1410840" y="4510800"/>
              <a:ext cx="132840" cy="56160"/>
              <a:chOff x="1410840" y="4510800"/>
              <a:chExt cx="132840" cy="56160"/>
            </a:xfrm>
          </p:grpSpPr>
          <p:sp>
            <p:nvSpPr>
              <p:cNvPr id="3253" name=""/>
              <p:cNvSpPr/>
              <p:nvPr/>
            </p:nvSpPr>
            <p:spPr>
              <a:xfrm>
                <a:off x="1410840" y="45108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1410840" y="4510800"/>
                <a:ext cx="13284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55" name=""/>
            <p:cNvGrpSpPr/>
            <p:nvPr/>
          </p:nvGrpSpPr>
          <p:grpSpPr>
            <a:xfrm>
              <a:off x="1409400" y="4570920"/>
              <a:ext cx="83160" cy="83880"/>
              <a:chOff x="1409400" y="4570920"/>
              <a:chExt cx="83160" cy="83880"/>
            </a:xfrm>
          </p:grpSpPr>
          <p:sp>
            <p:nvSpPr>
              <p:cNvPr id="3256" name=""/>
              <p:cNvSpPr/>
              <p:nvPr/>
            </p:nvSpPr>
            <p:spPr>
              <a:xfrm>
                <a:off x="1409400" y="45709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1409400" y="4570920"/>
                <a:ext cx="83160" cy="8388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58" name=""/>
          <p:cNvGrpSpPr/>
          <p:nvPr/>
        </p:nvGrpSpPr>
        <p:grpSpPr>
          <a:xfrm>
            <a:off x="1600200" y="4952880"/>
            <a:ext cx="507960" cy="330480"/>
            <a:chOff x="1600200" y="4952880"/>
            <a:chExt cx="507960" cy="330480"/>
          </a:xfrm>
        </p:grpSpPr>
        <p:grpSp>
          <p:nvGrpSpPr>
            <p:cNvPr id="3259" name=""/>
            <p:cNvGrpSpPr/>
            <p:nvPr/>
          </p:nvGrpSpPr>
          <p:grpSpPr>
            <a:xfrm>
              <a:off x="1600920" y="4995360"/>
              <a:ext cx="320400" cy="288000"/>
              <a:chOff x="1600920" y="4995360"/>
              <a:chExt cx="320400" cy="288000"/>
            </a:xfrm>
          </p:grpSpPr>
          <p:sp>
            <p:nvSpPr>
              <p:cNvPr id="3260" name=""/>
              <p:cNvSpPr/>
              <p:nvPr/>
            </p:nvSpPr>
            <p:spPr>
              <a:xfrm>
                <a:off x="1600920" y="4995360"/>
                <a:ext cx="32040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1600920" y="4995360"/>
                <a:ext cx="320400" cy="288000"/>
              </a:xfrm>
              <a:custGeom>
                <a:avLst/>
                <a:gdLst/>
                <a:ahLst/>
                <a:rect l="l" t="t" r="r" b="b"/>
                <a:pathLst>
                  <a:path w="713" h="643">
                    <a:moveTo>
                      <a:pt x="0" y="0"/>
                    </a:moveTo>
                    <a:lnTo>
                      <a:pt x="0" y="425"/>
                    </a:lnTo>
                    <a:lnTo>
                      <a:pt x="713" y="643"/>
                    </a:lnTo>
                    <a:lnTo>
                      <a:pt x="713" y="16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62" name=""/>
            <p:cNvGrpSpPr/>
            <p:nvPr/>
          </p:nvGrpSpPr>
          <p:grpSpPr>
            <a:xfrm>
              <a:off x="1921680" y="5005080"/>
              <a:ext cx="184680" cy="278280"/>
              <a:chOff x="1921680" y="5005080"/>
              <a:chExt cx="184680" cy="278280"/>
            </a:xfrm>
          </p:grpSpPr>
          <p:sp>
            <p:nvSpPr>
              <p:cNvPr id="3263" name=""/>
              <p:cNvSpPr/>
              <p:nvPr/>
            </p:nvSpPr>
            <p:spPr>
              <a:xfrm>
                <a:off x="1921680" y="5005080"/>
                <a:ext cx="18468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1921680" y="5005080"/>
                <a:ext cx="184680" cy="278280"/>
              </a:xfrm>
              <a:custGeom>
                <a:avLst/>
                <a:gdLst/>
                <a:ahLst/>
                <a:rect l="l" t="t" r="r" b="b"/>
                <a:pathLst>
                  <a:path w="411" h="621">
                    <a:moveTo>
                      <a:pt x="0" y="144"/>
                    </a:moveTo>
                    <a:lnTo>
                      <a:pt x="0" y="621"/>
                    </a:lnTo>
                    <a:lnTo>
                      <a:pt x="411" y="423"/>
                    </a:lnTo>
                    <a:lnTo>
                      <a:pt x="411" y="0"/>
                    </a:lnTo>
                    <a:lnTo>
                      <a:pt x="0" y="14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65" name=""/>
            <p:cNvGrpSpPr/>
            <p:nvPr/>
          </p:nvGrpSpPr>
          <p:grpSpPr>
            <a:xfrm>
              <a:off x="1600200" y="4952880"/>
              <a:ext cx="507960" cy="115920"/>
              <a:chOff x="1600200" y="4952880"/>
              <a:chExt cx="507960" cy="115920"/>
            </a:xfrm>
          </p:grpSpPr>
          <p:sp>
            <p:nvSpPr>
              <p:cNvPr id="3266" name=""/>
              <p:cNvSpPr/>
              <p:nvPr/>
            </p:nvSpPr>
            <p:spPr>
              <a:xfrm>
                <a:off x="1600200" y="495288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1600200" y="4952880"/>
                <a:ext cx="507960" cy="115920"/>
              </a:xfrm>
              <a:custGeom>
                <a:avLst/>
                <a:gdLst/>
                <a:ahLst/>
                <a:rect l="l" t="t" r="r" b="b"/>
                <a:pathLst>
                  <a:path w="1130" h="259">
                    <a:moveTo>
                      <a:pt x="0" y="93"/>
                    </a:moveTo>
                    <a:lnTo>
                      <a:pt x="715" y="259"/>
                    </a:lnTo>
                    <a:lnTo>
                      <a:pt x="1130" y="121"/>
                    </a:lnTo>
                    <a:lnTo>
                      <a:pt x="430" y="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68" name=""/>
            <p:cNvSpPr/>
            <p:nvPr/>
          </p:nvSpPr>
          <p:spPr>
            <a:xfrm>
              <a:off x="1620360" y="5021280"/>
              <a:ext cx="270720" cy="232920"/>
            </a:xfrm>
            <a:custGeom>
              <a:avLst/>
              <a:gdLst/>
              <a:ahLst/>
              <a:rect l="l" t="t" r="r" b="b"/>
              <a:pathLst>
                <a:path w="602" h="520">
                  <a:moveTo>
                    <a:pt x="0" y="0"/>
                  </a:moveTo>
                  <a:lnTo>
                    <a:pt x="0" y="340"/>
                  </a:lnTo>
                  <a:lnTo>
                    <a:pt x="602" y="520"/>
                  </a:lnTo>
                  <a:lnTo>
                    <a:pt x="602" y="1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9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1620360" y="5083560"/>
              <a:ext cx="270720" cy="170640"/>
            </a:xfrm>
            <a:custGeom>
              <a:avLst/>
              <a:gdLst/>
              <a:ahLst/>
              <a:rect l="l" t="t" r="r" b="b"/>
              <a:pathLst>
                <a:path w="602" h="381">
                  <a:moveTo>
                    <a:pt x="602" y="0"/>
                  </a:moveTo>
                  <a:lnTo>
                    <a:pt x="602" y="381"/>
                  </a:lnTo>
                  <a:lnTo>
                    <a:pt x="0" y="203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1620360" y="5021280"/>
              <a:ext cx="269280" cy="152280"/>
            </a:xfrm>
            <a:custGeom>
              <a:avLst/>
              <a:gdLst/>
              <a:ahLst/>
              <a:rect l="l" t="t" r="r" b="b"/>
              <a:pathLst>
                <a:path w="599" h="340">
                  <a:moveTo>
                    <a:pt x="599" y="137"/>
                  </a:moveTo>
                  <a:lnTo>
                    <a:pt x="0" y="0"/>
                  </a:lnTo>
                  <a:lnTo>
                    <a:pt x="0" y="340"/>
                  </a:lnTo>
                </a:path>
              </a:pathLst>
            </a:custGeom>
            <a:noFill/>
            <a:ln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71" name=""/>
            <p:cNvGrpSpPr/>
            <p:nvPr/>
          </p:nvGrpSpPr>
          <p:grpSpPr>
            <a:xfrm>
              <a:off x="1639080" y="5043960"/>
              <a:ext cx="132120" cy="56160"/>
              <a:chOff x="1639080" y="5043960"/>
              <a:chExt cx="132120" cy="56160"/>
            </a:xfrm>
          </p:grpSpPr>
          <p:sp>
            <p:nvSpPr>
              <p:cNvPr id="3272" name=""/>
              <p:cNvSpPr/>
              <p:nvPr/>
            </p:nvSpPr>
            <p:spPr>
              <a:xfrm>
                <a:off x="1639080" y="504396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1639080" y="5043960"/>
                <a:ext cx="132120" cy="56160"/>
              </a:xfrm>
              <a:custGeom>
                <a:avLst/>
                <a:gdLst/>
                <a:ahLst/>
                <a:rect l="l" t="t" r="r" b="b"/>
                <a:pathLst>
                  <a:path w="294" h="126">
                    <a:moveTo>
                      <a:pt x="0" y="0"/>
                    </a:moveTo>
                    <a:lnTo>
                      <a:pt x="0" y="56"/>
                    </a:lnTo>
                    <a:lnTo>
                      <a:pt x="294" y="126"/>
                    </a:lnTo>
                    <a:lnTo>
                      <a:pt x="294" y="68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74" name=""/>
            <p:cNvGrpSpPr/>
            <p:nvPr/>
          </p:nvGrpSpPr>
          <p:grpSpPr>
            <a:xfrm>
              <a:off x="1637640" y="5104080"/>
              <a:ext cx="82440" cy="84240"/>
              <a:chOff x="1637640" y="5104080"/>
              <a:chExt cx="82440" cy="84240"/>
            </a:xfrm>
          </p:grpSpPr>
          <p:sp>
            <p:nvSpPr>
              <p:cNvPr id="3275" name=""/>
              <p:cNvSpPr/>
              <p:nvPr/>
            </p:nvSpPr>
            <p:spPr>
              <a:xfrm>
                <a:off x="1637640" y="5104080"/>
                <a:ext cx="8244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1637640" y="5104080"/>
                <a:ext cx="82440" cy="84240"/>
              </a:xfrm>
              <a:custGeom>
                <a:avLst/>
                <a:gdLst/>
                <a:ahLst/>
                <a:rect l="l" t="t" r="r" b="b"/>
                <a:pathLst>
                  <a:path w="184" h="188">
                    <a:moveTo>
                      <a:pt x="0" y="134"/>
                    </a:moveTo>
                    <a:lnTo>
                      <a:pt x="184" y="188"/>
                    </a:lnTo>
                    <a:lnTo>
                      <a:pt x="184" y="47"/>
                    </a:lnTo>
                    <a:lnTo>
                      <a:pt x="0" y="0"/>
                    </a:lnTo>
                    <a:lnTo>
                      <a:pt x="0" y="13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7" name=""/>
          <p:cNvSpPr/>
          <p:nvPr/>
        </p:nvSpPr>
        <p:spPr>
          <a:xfrm>
            <a:off x="3048120" y="2743200"/>
            <a:ext cx="685800" cy="555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4267080" y="3867120"/>
            <a:ext cx="685800" cy="555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5715000" y="2743200"/>
            <a:ext cx="685800" cy="555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2889000" y="243828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2827800" y="6172200"/>
            <a:ext cx="33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fferentiated Service Network(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230040" y="411480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EEE 802.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83" name=""/>
          <p:cNvGrpSpPr/>
          <p:nvPr/>
        </p:nvGrpSpPr>
        <p:grpSpPr>
          <a:xfrm>
            <a:off x="7248600" y="3124080"/>
            <a:ext cx="1107720" cy="785880"/>
            <a:chOff x="7248600" y="3124080"/>
            <a:chExt cx="1107720" cy="785880"/>
          </a:xfrm>
        </p:grpSpPr>
        <p:sp>
          <p:nvSpPr>
            <p:cNvPr id="3284" name=""/>
            <p:cNvSpPr/>
            <p:nvPr/>
          </p:nvSpPr>
          <p:spPr>
            <a:xfrm flipH="1">
              <a:off x="8003880" y="3124080"/>
              <a:ext cx="352440" cy="1666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 flipH="1">
              <a:off x="7248600" y="3562200"/>
              <a:ext cx="247680" cy="3477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6" name=""/>
          <p:cNvSpPr/>
          <p:nvPr/>
        </p:nvSpPr>
        <p:spPr>
          <a:xfrm flipH="1">
            <a:off x="6629040" y="4267080"/>
            <a:ext cx="152280" cy="228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 flipH="1" flipV="1">
            <a:off x="6060960" y="3303720"/>
            <a:ext cx="185760" cy="118728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 flipH="1">
            <a:off x="5410080" y="4952880"/>
            <a:ext cx="457200" cy="4572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533520" y="654120"/>
            <a:ext cx="8381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3.  RESV message forwarded transparently through Diff-Serv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533520" y="990720"/>
            <a:ext cx="8610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4.  Receiver policy check may be applied at Diff-Serv edge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533520" y="1371600"/>
            <a:ext cx="8381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5.  RESV is forwarded to campus egress rou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533520" y="1752480"/>
            <a:ext cx="8381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6.  Router applies internal resource check and receiver policy check against directo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3" name=""/>
          <p:cNvSpPr/>
          <p:nvPr/>
        </p:nvSpPr>
        <p:spPr>
          <a:xfrm>
            <a:off x="533520" y="2133720"/>
            <a:ext cx="8610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7.  Checks approved, RESV forward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4" name=""/>
          <p:cNvSpPr/>
          <p:nvPr/>
        </p:nvSpPr>
        <p:spPr>
          <a:xfrm flipH="1">
            <a:off x="4038120" y="5238720"/>
            <a:ext cx="121932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5" name=""/>
          <p:cNvSpPr/>
          <p:nvPr/>
        </p:nvSpPr>
        <p:spPr>
          <a:xfrm flipH="1">
            <a:off x="4601880" y="4411800"/>
            <a:ext cx="4680" cy="57456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6" name=""/>
          <p:cNvSpPr/>
          <p:nvPr/>
        </p:nvSpPr>
        <p:spPr>
          <a:xfrm flipH="1" flipV="1">
            <a:off x="3325680" y="5003640"/>
            <a:ext cx="331920" cy="3304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7" name=""/>
          <p:cNvSpPr/>
          <p:nvPr/>
        </p:nvSpPr>
        <p:spPr>
          <a:xfrm flipV="1">
            <a:off x="3276720" y="3276720"/>
            <a:ext cx="152280" cy="129528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8" name=""/>
          <p:cNvSpPr/>
          <p:nvPr/>
        </p:nvSpPr>
        <p:spPr>
          <a:xfrm flipH="1" flipV="1">
            <a:off x="2436840" y="4292640"/>
            <a:ext cx="177840" cy="2556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9" name=""/>
          <p:cNvSpPr/>
          <p:nvPr/>
        </p:nvSpPr>
        <p:spPr>
          <a:xfrm>
            <a:off x="1745640" y="3048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8T00:09:50Z</dcterms:created>
  <dc:creator>aruna,yoramb,timmoore,vponcini</dc:creator>
  <dc:description/>
  <dc:language>en-US</dc:language>
  <cp:lastModifiedBy>Harry R. Worstell</cp:lastModifiedBy>
  <dcterms:modified xsi:type="dcterms:W3CDTF">2000-07-10T19:46:50Z</dcterms:modified>
  <cp:revision>70</cp:revision>
  <dc:subject/>
  <dc:title>MS_QoS_Scenarios</dc:title>
</cp:coreProperties>
</file>