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A9B-61E9-4CDA-8088-DEC70236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9569-B179-421D-93BA-2CDA3B5D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B90-D7C4-4BB3-ABA9-FE8B46960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B56-09B0-44ED-82FE-8F4AA7E78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41CD-EECA-4AEA-97F5-2A7CDE9C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19E3-337A-410F-86AA-DD7BCB5C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EBF2-74B5-4AF5-9159-18D17C14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C776-A29D-4B61-A403-AC919973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6416-873E-41E7-856D-CB35E498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1407-B087-41DB-B273-060DB9BC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6CB0-1759-4483-948E-FD9DEAF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600-39C4-4DF1-8549-4D315B0C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75A7-AD7F-4E89-BB8E-5EE95C27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BFDE-0632-4BB6-9BDF-996FA450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2782-1EDA-4BBC-A8CB-A6494D14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DEAB-0CF3-4BB8-BF9D-416F89A7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A333-7BD6-4BE1-94DA-EFAC4BCAD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332D-2E79-40F3-8318-97005552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310-5092-496A-B15E-4CF0925D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584-77AC-4C3C-A466-8D368032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5C92-13A8-4D51-85EC-BEF2BE48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5849-3C4A-487B-AA6B-D93326EC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E07-1686-4955-A92E-D1E0F696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B8F-AE38-439E-8F5A-786D50DC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AB4941-6210-4633-89B8-4F82C3A9A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440" y="3798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5638680" y="6476760"/>
            <a:ext cx="2895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44193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343111-92D5-49EE-AB6D-EEC8B35457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in the 2.4 GHz B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Boer, Lucen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B585-5F4B-4C4B-BACD-7127D844985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is essentially same as PBCC, but then over multiple 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PBCC is approved then there is no reason not to approve OFD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ulations shows that OFDM can meet jamming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DEC-0574-4BA5-8CE3-929AAAC1FB7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NR needed for 24 Mbit/s OFDM is comparable to 11 Mbit/s C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50ns delayspread, 1000 byte packets and PER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R 24Mbit/s OFDM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1880" indent="-191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R 11Mbit/s CCK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layspread tolerance compar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Mbit/s OFD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0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Mbit/s C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qualizer: 90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equalizer:300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ance of 24Mbit/s OFDM slightly smaller than C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ckoff approx 3dB worse (7dB compared to 4d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 Mbit/s OFDM outperforms 11 Mbit/s C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 Mbit/s in 2.4 ban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79F-146A-4448-84AE-C7A5C93143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count OFDM baseband processing comparable (slightly more) to CCK (or PBCC) equaliz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CK equalizer is replaced with OFDM core then the cost increase is mode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6 or 12 Mbit/s OFDM in stead of 5.5 or 11 CCK, if high delayspread tolerance i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0037-8C44-406E-85C7-A0CC93BE2C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benef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a standard exis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rate standard can be approved f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mooth migration to 5Ghz b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: same baseband processing in 2.4 and 5 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sibility for dual band radio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459-9E53-4D58-8416-979F9B95288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is a good candidate for the higher rate in the 2.4 ban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feasible (interoperates and coexists with 802.11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very high rate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standard ad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gration to 5 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CBAE-8D51-40AB-8444-A2F7E9A131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FDM in 2.4 GH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is developing fas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Mbit/s in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 Mbit/s in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 for &gt;20 Mbit/s in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next; can we go hig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es; OFDM as specified in 802.11a can go up to 54 Mbit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in the 2.4 GHz 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5986-396D-4293-A6F5-0DDD81D9197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802.11a for higher rate in 2.4 GH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y specified for 6, 12, 18, 24, 36, 48, 54 Mbit/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802.11b specif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b channelization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11b slottimes and SIFS (20 resp. 10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/adapt headers for 802.11b interoperability and coexist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876-5A31-41DB-BD93-15FD21DC5C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is part of the higher rate standar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nd 2 Mbit/s Bar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 and 11 Mbit/s CCK (+ optional PBC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and (mandatory?) short pre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rate falls back to 802.11b for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oexistence the original OFDM header is preceded by a Barker based pream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E9B1-B7DA-4814-BF84-C1513654AC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Header adap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long preamble + header (192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) followed by OFDM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trains on preamble and detects content of header; changes to OFDM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existence issues (length field det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back: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4C6-AB30-4F4D-A944-763CA878B1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Header adap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short preamble (9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) followed by OFDM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trains on preamble and interprets content of header; changes to OFDM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existence issues with 802.1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gth field detected only by receivers capable of handling short preamble; all 802.11b receivers must cope with the short preamble by keeping medium busy high during the fr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wback: again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DC6A-D3ED-485F-ABF7-8C8E18AAEB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Header adaptation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-4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Barker preamble followed by OFDM prea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receiver does carrier detect on Barker preamble pa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OFDM preamble to be detected and change to OFDM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existenc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220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802.11b radio's should cope with this signal in the same way as 802.11b radio's that do not support the short pream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al over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A583-5BDE-476E-941E-FF110CCE3AB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channe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2.11b channelization can be main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 important for interope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DDB-03C1-45F5-AEA0-B463DE19AC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DM channe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DM mainlob as wide as C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90720" y="2133720"/>
            <a:ext cx="7581600" cy="4360320"/>
            <a:chOff x="990720" y="2133720"/>
            <a:chExt cx="7581600" cy="4360320"/>
          </a:xfrm>
        </p:grpSpPr>
        <p:grpSp>
          <p:nvGrpSpPr>
            <p:cNvPr id="109" name=""/>
            <p:cNvGrpSpPr/>
            <p:nvPr/>
          </p:nvGrpSpPr>
          <p:grpSpPr>
            <a:xfrm>
              <a:off x="990720" y="2133720"/>
              <a:ext cx="6872040" cy="4360320"/>
              <a:chOff x="990720" y="2133720"/>
              <a:chExt cx="6872040" cy="4360320"/>
            </a:xfrm>
          </p:grpSpPr>
          <p:sp>
            <p:nvSpPr>
              <p:cNvPr id="110" name=""/>
              <p:cNvSpPr/>
              <p:nvPr/>
            </p:nvSpPr>
            <p:spPr>
              <a:xfrm>
                <a:off x="3793680" y="6195600"/>
                <a:ext cx="30207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Frequency [MHz]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17560" y="2264040"/>
                <a:ext cx="3722400" cy="3671640"/>
              </a:xfrm>
              <a:custGeom>
                <a:avLst/>
                <a:gdLst/>
                <a:ahLst/>
                <a:rect l="l" t="t" r="r" b="b"/>
                <a:pathLst>
                  <a:path w="2440" h="2557">
                    <a:moveTo>
                      <a:pt x="0" y="2556"/>
                    </a:moveTo>
                    <a:lnTo>
                      <a:pt x="0" y="0"/>
                    </a:lnTo>
                    <a:lnTo>
                      <a:pt x="2439" y="0"/>
                    </a:lnTo>
                    <a:lnTo>
                      <a:pt x="2439" y="2556"/>
                    </a:lnTo>
                    <a:lnTo>
                      <a:pt x="0" y="255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65360" y="2264040"/>
                <a:ext cx="3722760" cy="3671640"/>
              </a:xfrm>
              <a:custGeom>
                <a:avLst/>
                <a:gdLst/>
                <a:ahLst/>
                <a:rect l="l" t="t" r="r" b="b"/>
                <a:pathLst>
                  <a:path w="2440" h="2557">
                    <a:moveTo>
                      <a:pt x="0" y="2556"/>
                    </a:moveTo>
                    <a:lnTo>
                      <a:pt x="0" y="0"/>
                    </a:lnTo>
                    <a:lnTo>
                      <a:pt x="2439" y="0"/>
                    </a:lnTo>
                    <a:lnTo>
                      <a:pt x="2439" y="2556"/>
                    </a:lnTo>
                    <a:lnTo>
                      <a:pt x="0" y="255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93436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331308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368208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V="1">
                <a:off x="405144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442980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480060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516960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553932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565360" y="593460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65360" y="552528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65360" y="511596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565360" y="470664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65360" y="429876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65360" y="389988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565360" y="349200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565360" y="308268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565360" y="267336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565360" y="226404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65360" y="593460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65360" y="226404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65360" y="593460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293436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436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50760" y="59328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2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331308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1308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28760" y="59328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1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368208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8208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98120" y="59328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405144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05144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02400" y="5932800"/>
                <a:ext cx="3099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V="1">
                <a:off x="442980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2980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14240" y="5932800"/>
                <a:ext cx="2628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480060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80060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5760" y="5932800"/>
                <a:ext cx="2628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16960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16960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019120" y="5932800"/>
                <a:ext cx="340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553932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53932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90640" y="5932800"/>
                <a:ext cx="340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766840" y="5932800"/>
                <a:ext cx="340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565360" y="593460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565360" y="2264040"/>
                <a:ext cx="3720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381040" y="59328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2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82160" y="2675160"/>
                <a:ext cx="4899240" cy="2819520"/>
              </a:xfrm>
              <a:custGeom>
                <a:avLst/>
                <a:gdLst/>
                <a:ahLst/>
                <a:rect l="l" t="t" r="r" b="b"/>
                <a:pathLst>
                  <a:path w="2339" h="1964">
                    <a:moveTo>
                      <a:pt x="0" y="1963"/>
                    </a:moveTo>
                    <a:lnTo>
                      <a:pt x="6" y="1941"/>
                    </a:lnTo>
                    <a:lnTo>
                      <a:pt x="17" y="1933"/>
                    </a:lnTo>
                    <a:lnTo>
                      <a:pt x="29" y="1918"/>
                    </a:lnTo>
                    <a:lnTo>
                      <a:pt x="34" y="1903"/>
                    </a:lnTo>
                    <a:lnTo>
                      <a:pt x="45" y="1888"/>
                    </a:lnTo>
                    <a:lnTo>
                      <a:pt x="51" y="1881"/>
                    </a:lnTo>
                    <a:lnTo>
                      <a:pt x="62" y="1866"/>
                    </a:lnTo>
                    <a:lnTo>
                      <a:pt x="74" y="1851"/>
                    </a:lnTo>
                    <a:lnTo>
                      <a:pt x="79" y="1836"/>
                    </a:lnTo>
                    <a:lnTo>
                      <a:pt x="91" y="1828"/>
                    </a:lnTo>
                    <a:lnTo>
                      <a:pt x="102" y="1821"/>
                    </a:lnTo>
                    <a:lnTo>
                      <a:pt x="107" y="1806"/>
                    </a:lnTo>
                    <a:lnTo>
                      <a:pt x="119" y="1798"/>
                    </a:lnTo>
                    <a:lnTo>
                      <a:pt x="124" y="1791"/>
                    </a:lnTo>
                    <a:lnTo>
                      <a:pt x="136" y="1768"/>
                    </a:lnTo>
                    <a:lnTo>
                      <a:pt x="147" y="1761"/>
                    </a:lnTo>
                    <a:lnTo>
                      <a:pt x="152" y="1746"/>
                    </a:lnTo>
                    <a:lnTo>
                      <a:pt x="164" y="1738"/>
                    </a:lnTo>
                    <a:lnTo>
                      <a:pt x="175" y="1731"/>
                    </a:lnTo>
                    <a:lnTo>
                      <a:pt x="181" y="1716"/>
                    </a:lnTo>
                    <a:lnTo>
                      <a:pt x="192" y="1701"/>
                    </a:lnTo>
                    <a:lnTo>
                      <a:pt x="198" y="1693"/>
                    </a:lnTo>
                    <a:lnTo>
                      <a:pt x="209" y="1686"/>
                    </a:lnTo>
                    <a:lnTo>
                      <a:pt x="220" y="1678"/>
                    </a:lnTo>
                    <a:lnTo>
                      <a:pt x="226" y="1671"/>
                    </a:lnTo>
                    <a:lnTo>
                      <a:pt x="237" y="1663"/>
                    </a:lnTo>
                    <a:lnTo>
                      <a:pt x="248" y="1648"/>
                    </a:lnTo>
                    <a:lnTo>
                      <a:pt x="254" y="1633"/>
                    </a:lnTo>
                    <a:lnTo>
                      <a:pt x="265" y="1626"/>
                    </a:lnTo>
                    <a:lnTo>
                      <a:pt x="271" y="1618"/>
                    </a:lnTo>
                    <a:lnTo>
                      <a:pt x="282" y="1603"/>
                    </a:lnTo>
                    <a:lnTo>
                      <a:pt x="293" y="1596"/>
                    </a:lnTo>
                    <a:lnTo>
                      <a:pt x="299" y="1588"/>
                    </a:lnTo>
                    <a:lnTo>
                      <a:pt x="310" y="1558"/>
                    </a:lnTo>
                    <a:lnTo>
                      <a:pt x="316" y="1513"/>
                    </a:lnTo>
                    <a:lnTo>
                      <a:pt x="327" y="1461"/>
                    </a:lnTo>
                    <a:lnTo>
                      <a:pt x="338" y="1423"/>
                    </a:lnTo>
                    <a:lnTo>
                      <a:pt x="344" y="1378"/>
                    </a:lnTo>
                    <a:lnTo>
                      <a:pt x="355" y="1349"/>
                    </a:lnTo>
                    <a:lnTo>
                      <a:pt x="367" y="1319"/>
                    </a:lnTo>
                    <a:lnTo>
                      <a:pt x="372" y="1289"/>
                    </a:lnTo>
                    <a:lnTo>
                      <a:pt x="383" y="1266"/>
                    </a:lnTo>
                    <a:lnTo>
                      <a:pt x="389" y="1251"/>
                    </a:lnTo>
                    <a:lnTo>
                      <a:pt x="400" y="1229"/>
                    </a:lnTo>
                    <a:lnTo>
                      <a:pt x="412" y="1214"/>
                    </a:lnTo>
                    <a:lnTo>
                      <a:pt x="417" y="1191"/>
                    </a:lnTo>
                    <a:lnTo>
                      <a:pt x="429" y="1176"/>
                    </a:lnTo>
                    <a:lnTo>
                      <a:pt x="440" y="1154"/>
                    </a:lnTo>
                    <a:lnTo>
                      <a:pt x="445" y="1139"/>
                    </a:lnTo>
                    <a:lnTo>
                      <a:pt x="457" y="1124"/>
                    </a:lnTo>
                    <a:lnTo>
                      <a:pt x="462" y="1116"/>
                    </a:lnTo>
                    <a:lnTo>
                      <a:pt x="474" y="1101"/>
                    </a:lnTo>
                    <a:lnTo>
                      <a:pt x="485" y="1094"/>
                    </a:lnTo>
                    <a:lnTo>
                      <a:pt x="491" y="1071"/>
                    </a:lnTo>
                    <a:lnTo>
                      <a:pt x="502" y="1056"/>
                    </a:lnTo>
                    <a:lnTo>
                      <a:pt x="513" y="1049"/>
                    </a:lnTo>
                    <a:lnTo>
                      <a:pt x="519" y="1041"/>
                    </a:lnTo>
                    <a:lnTo>
                      <a:pt x="530" y="1034"/>
                    </a:lnTo>
                    <a:lnTo>
                      <a:pt x="536" y="1026"/>
                    </a:lnTo>
                    <a:lnTo>
                      <a:pt x="547" y="1011"/>
                    </a:lnTo>
                    <a:lnTo>
                      <a:pt x="558" y="996"/>
                    </a:lnTo>
                    <a:lnTo>
                      <a:pt x="564" y="981"/>
                    </a:lnTo>
                    <a:lnTo>
                      <a:pt x="575" y="981"/>
                    </a:lnTo>
                    <a:lnTo>
                      <a:pt x="586" y="981"/>
                    </a:lnTo>
                    <a:lnTo>
                      <a:pt x="592" y="974"/>
                    </a:lnTo>
                    <a:lnTo>
                      <a:pt x="603" y="959"/>
                    </a:lnTo>
                    <a:lnTo>
                      <a:pt x="609" y="944"/>
                    </a:lnTo>
                    <a:lnTo>
                      <a:pt x="620" y="944"/>
                    </a:lnTo>
                    <a:lnTo>
                      <a:pt x="631" y="944"/>
                    </a:lnTo>
                    <a:lnTo>
                      <a:pt x="637" y="929"/>
                    </a:lnTo>
                    <a:lnTo>
                      <a:pt x="648" y="921"/>
                    </a:lnTo>
                    <a:lnTo>
                      <a:pt x="660" y="914"/>
                    </a:lnTo>
                    <a:lnTo>
                      <a:pt x="665" y="914"/>
                    </a:lnTo>
                    <a:lnTo>
                      <a:pt x="676" y="899"/>
                    </a:lnTo>
                    <a:lnTo>
                      <a:pt x="682" y="891"/>
                    </a:lnTo>
                    <a:lnTo>
                      <a:pt x="693" y="891"/>
                    </a:lnTo>
                    <a:lnTo>
                      <a:pt x="705" y="891"/>
                    </a:lnTo>
                    <a:lnTo>
                      <a:pt x="710" y="876"/>
                    </a:lnTo>
                    <a:lnTo>
                      <a:pt x="722" y="869"/>
                    </a:lnTo>
                    <a:lnTo>
                      <a:pt x="733" y="861"/>
                    </a:lnTo>
                    <a:lnTo>
                      <a:pt x="738" y="839"/>
                    </a:lnTo>
                    <a:lnTo>
                      <a:pt x="750" y="831"/>
                    </a:lnTo>
                    <a:lnTo>
                      <a:pt x="755" y="816"/>
                    </a:lnTo>
                    <a:lnTo>
                      <a:pt x="767" y="794"/>
                    </a:lnTo>
                    <a:lnTo>
                      <a:pt x="778" y="779"/>
                    </a:lnTo>
                    <a:lnTo>
                      <a:pt x="783" y="756"/>
                    </a:lnTo>
                    <a:lnTo>
                      <a:pt x="795" y="734"/>
                    </a:lnTo>
                    <a:lnTo>
                      <a:pt x="806" y="712"/>
                    </a:lnTo>
                    <a:lnTo>
                      <a:pt x="812" y="682"/>
                    </a:lnTo>
                    <a:lnTo>
                      <a:pt x="823" y="659"/>
                    </a:lnTo>
                    <a:lnTo>
                      <a:pt x="829" y="622"/>
                    </a:lnTo>
                    <a:lnTo>
                      <a:pt x="840" y="584"/>
                    </a:lnTo>
                    <a:lnTo>
                      <a:pt x="851" y="532"/>
                    </a:lnTo>
                    <a:lnTo>
                      <a:pt x="857" y="479"/>
                    </a:lnTo>
                    <a:lnTo>
                      <a:pt x="868" y="382"/>
                    </a:lnTo>
                    <a:lnTo>
                      <a:pt x="879" y="172"/>
                    </a:lnTo>
                    <a:lnTo>
                      <a:pt x="885" y="37"/>
                    </a:lnTo>
                    <a:lnTo>
                      <a:pt x="896" y="7"/>
                    </a:lnTo>
                    <a:lnTo>
                      <a:pt x="902" y="7"/>
                    </a:lnTo>
                    <a:lnTo>
                      <a:pt x="913" y="0"/>
                    </a:lnTo>
                    <a:lnTo>
                      <a:pt x="924" y="0"/>
                    </a:lnTo>
                    <a:lnTo>
                      <a:pt x="930" y="0"/>
                    </a:lnTo>
                    <a:lnTo>
                      <a:pt x="941" y="7"/>
                    </a:lnTo>
                    <a:lnTo>
                      <a:pt x="953" y="0"/>
                    </a:lnTo>
                    <a:lnTo>
                      <a:pt x="958" y="7"/>
                    </a:lnTo>
                    <a:lnTo>
                      <a:pt x="969" y="7"/>
                    </a:lnTo>
                    <a:lnTo>
                      <a:pt x="975" y="7"/>
                    </a:lnTo>
                    <a:lnTo>
                      <a:pt x="986" y="7"/>
                    </a:lnTo>
                    <a:lnTo>
                      <a:pt x="998" y="0"/>
                    </a:lnTo>
                    <a:lnTo>
                      <a:pt x="1003" y="0"/>
                    </a:lnTo>
                    <a:lnTo>
                      <a:pt x="1014" y="7"/>
                    </a:lnTo>
                    <a:lnTo>
                      <a:pt x="1026" y="7"/>
                    </a:lnTo>
                    <a:lnTo>
                      <a:pt x="1031" y="7"/>
                    </a:lnTo>
                    <a:lnTo>
                      <a:pt x="1043" y="0"/>
                    </a:lnTo>
                    <a:lnTo>
                      <a:pt x="1048" y="0"/>
                    </a:lnTo>
                    <a:lnTo>
                      <a:pt x="1060" y="7"/>
                    </a:lnTo>
                    <a:lnTo>
                      <a:pt x="1071" y="7"/>
                    </a:lnTo>
                    <a:lnTo>
                      <a:pt x="1076" y="7"/>
                    </a:lnTo>
                    <a:lnTo>
                      <a:pt x="1088" y="7"/>
                    </a:lnTo>
                    <a:lnTo>
                      <a:pt x="1099" y="0"/>
                    </a:lnTo>
                    <a:lnTo>
                      <a:pt x="1105" y="7"/>
                    </a:lnTo>
                    <a:lnTo>
                      <a:pt x="1116" y="7"/>
                    </a:lnTo>
                    <a:lnTo>
                      <a:pt x="1122" y="0"/>
                    </a:lnTo>
                    <a:lnTo>
                      <a:pt x="1133" y="7"/>
                    </a:lnTo>
                    <a:lnTo>
                      <a:pt x="1144" y="7"/>
                    </a:lnTo>
                    <a:lnTo>
                      <a:pt x="1150" y="0"/>
                    </a:lnTo>
                    <a:lnTo>
                      <a:pt x="1161" y="0"/>
                    </a:lnTo>
                    <a:lnTo>
                      <a:pt x="1172" y="7"/>
                    </a:lnTo>
                    <a:lnTo>
                      <a:pt x="1178" y="7"/>
                    </a:lnTo>
                    <a:lnTo>
                      <a:pt x="1189" y="7"/>
                    </a:lnTo>
                    <a:lnTo>
                      <a:pt x="1195" y="7"/>
                    </a:lnTo>
                    <a:lnTo>
                      <a:pt x="1206" y="7"/>
                    </a:lnTo>
                    <a:lnTo>
                      <a:pt x="1217" y="0"/>
                    </a:lnTo>
                    <a:lnTo>
                      <a:pt x="1223" y="0"/>
                    </a:lnTo>
                    <a:lnTo>
                      <a:pt x="1234" y="7"/>
                    </a:lnTo>
                    <a:lnTo>
                      <a:pt x="1240" y="0"/>
                    </a:lnTo>
                    <a:lnTo>
                      <a:pt x="1251" y="7"/>
                    </a:lnTo>
                    <a:lnTo>
                      <a:pt x="1262" y="7"/>
                    </a:lnTo>
                    <a:lnTo>
                      <a:pt x="1268" y="7"/>
                    </a:lnTo>
                    <a:lnTo>
                      <a:pt x="1279" y="0"/>
                    </a:lnTo>
                    <a:lnTo>
                      <a:pt x="1291" y="7"/>
                    </a:lnTo>
                    <a:lnTo>
                      <a:pt x="1296" y="7"/>
                    </a:lnTo>
                    <a:lnTo>
                      <a:pt x="1307" y="0"/>
                    </a:lnTo>
                    <a:lnTo>
                      <a:pt x="1313" y="0"/>
                    </a:lnTo>
                    <a:lnTo>
                      <a:pt x="1324" y="7"/>
                    </a:lnTo>
                    <a:lnTo>
                      <a:pt x="1336" y="0"/>
                    </a:lnTo>
                    <a:lnTo>
                      <a:pt x="1341" y="0"/>
                    </a:lnTo>
                    <a:lnTo>
                      <a:pt x="1353" y="0"/>
                    </a:lnTo>
                    <a:lnTo>
                      <a:pt x="1364" y="0"/>
                    </a:lnTo>
                    <a:lnTo>
                      <a:pt x="1369" y="7"/>
                    </a:lnTo>
                    <a:lnTo>
                      <a:pt x="1381" y="7"/>
                    </a:lnTo>
                    <a:lnTo>
                      <a:pt x="1386" y="7"/>
                    </a:lnTo>
                    <a:lnTo>
                      <a:pt x="1398" y="15"/>
                    </a:lnTo>
                    <a:lnTo>
                      <a:pt x="1409" y="7"/>
                    </a:lnTo>
                    <a:lnTo>
                      <a:pt x="1415" y="7"/>
                    </a:lnTo>
                    <a:lnTo>
                      <a:pt x="1426" y="0"/>
                    </a:lnTo>
                    <a:lnTo>
                      <a:pt x="1437" y="0"/>
                    </a:lnTo>
                    <a:lnTo>
                      <a:pt x="1443" y="7"/>
                    </a:lnTo>
                    <a:lnTo>
                      <a:pt x="1454" y="7"/>
                    </a:lnTo>
                    <a:lnTo>
                      <a:pt x="1460" y="37"/>
                    </a:lnTo>
                    <a:lnTo>
                      <a:pt x="1471" y="172"/>
                    </a:lnTo>
                    <a:lnTo>
                      <a:pt x="1482" y="367"/>
                    </a:lnTo>
                    <a:lnTo>
                      <a:pt x="1488" y="464"/>
                    </a:lnTo>
                    <a:lnTo>
                      <a:pt x="1499" y="524"/>
                    </a:lnTo>
                    <a:lnTo>
                      <a:pt x="1510" y="569"/>
                    </a:lnTo>
                    <a:lnTo>
                      <a:pt x="1516" y="607"/>
                    </a:lnTo>
                    <a:lnTo>
                      <a:pt x="1527" y="644"/>
                    </a:lnTo>
                    <a:lnTo>
                      <a:pt x="1533" y="674"/>
                    </a:lnTo>
                    <a:lnTo>
                      <a:pt x="1544" y="697"/>
                    </a:lnTo>
                    <a:lnTo>
                      <a:pt x="1555" y="727"/>
                    </a:lnTo>
                    <a:lnTo>
                      <a:pt x="1561" y="749"/>
                    </a:lnTo>
                    <a:lnTo>
                      <a:pt x="1572" y="764"/>
                    </a:lnTo>
                    <a:lnTo>
                      <a:pt x="1584" y="801"/>
                    </a:lnTo>
                    <a:lnTo>
                      <a:pt x="1589" y="816"/>
                    </a:lnTo>
                    <a:lnTo>
                      <a:pt x="1600" y="824"/>
                    </a:lnTo>
                    <a:lnTo>
                      <a:pt x="1606" y="846"/>
                    </a:lnTo>
                    <a:lnTo>
                      <a:pt x="1617" y="854"/>
                    </a:lnTo>
                    <a:lnTo>
                      <a:pt x="1629" y="869"/>
                    </a:lnTo>
                    <a:lnTo>
                      <a:pt x="1634" y="876"/>
                    </a:lnTo>
                    <a:lnTo>
                      <a:pt x="1646" y="884"/>
                    </a:lnTo>
                    <a:lnTo>
                      <a:pt x="1657" y="891"/>
                    </a:lnTo>
                    <a:lnTo>
                      <a:pt x="1662" y="891"/>
                    </a:lnTo>
                    <a:lnTo>
                      <a:pt x="1674" y="899"/>
                    </a:lnTo>
                    <a:lnTo>
                      <a:pt x="1679" y="914"/>
                    </a:lnTo>
                    <a:lnTo>
                      <a:pt x="1691" y="929"/>
                    </a:lnTo>
                    <a:lnTo>
                      <a:pt x="1702" y="936"/>
                    </a:lnTo>
                    <a:lnTo>
                      <a:pt x="1707" y="936"/>
                    </a:lnTo>
                    <a:lnTo>
                      <a:pt x="1719" y="944"/>
                    </a:lnTo>
                    <a:lnTo>
                      <a:pt x="1730" y="951"/>
                    </a:lnTo>
                    <a:lnTo>
                      <a:pt x="1736" y="959"/>
                    </a:lnTo>
                    <a:lnTo>
                      <a:pt x="1747" y="966"/>
                    </a:lnTo>
                    <a:lnTo>
                      <a:pt x="1753" y="966"/>
                    </a:lnTo>
                    <a:lnTo>
                      <a:pt x="1764" y="974"/>
                    </a:lnTo>
                    <a:lnTo>
                      <a:pt x="1775" y="989"/>
                    </a:lnTo>
                    <a:lnTo>
                      <a:pt x="1781" y="1004"/>
                    </a:lnTo>
                    <a:lnTo>
                      <a:pt x="1792" y="1011"/>
                    </a:lnTo>
                    <a:lnTo>
                      <a:pt x="1803" y="1019"/>
                    </a:lnTo>
                    <a:lnTo>
                      <a:pt x="1809" y="1034"/>
                    </a:lnTo>
                    <a:lnTo>
                      <a:pt x="1820" y="1034"/>
                    </a:lnTo>
                    <a:lnTo>
                      <a:pt x="1826" y="1034"/>
                    </a:lnTo>
                    <a:lnTo>
                      <a:pt x="1837" y="1049"/>
                    </a:lnTo>
                    <a:lnTo>
                      <a:pt x="1848" y="1056"/>
                    </a:lnTo>
                    <a:lnTo>
                      <a:pt x="1854" y="1064"/>
                    </a:lnTo>
                    <a:lnTo>
                      <a:pt x="1865" y="1079"/>
                    </a:lnTo>
                    <a:lnTo>
                      <a:pt x="1877" y="1101"/>
                    </a:lnTo>
                    <a:lnTo>
                      <a:pt x="1882" y="1116"/>
                    </a:lnTo>
                    <a:lnTo>
                      <a:pt x="1893" y="1124"/>
                    </a:lnTo>
                    <a:lnTo>
                      <a:pt x="1899" y="1139"/>
                    </a:lnTo>
                    <a:lnTo>
                      <a:pt x="1910" y="1146"/>
                    </a:lnTo>
                    <a:lnTo>
                      <a:pt x="1922" y="1169"/>
                    </a:lnTo>
                    <a:lnTo>
                      <a:pt x="1927" y="1184"/>
                    </a:lnTo>
                    <a:lnTo>
                      <a:pt x="1938" y="1206"/>
                    </a:lnTo>
                    <a:lnTo>
                      <a:pt x="1950" y="1229"/>
                    </a:lnTo>
                    <a:lnTo>
                      <a:pt x="1955" y="1244"/>
                    </a:lnTo>
                    <a:lnTo>
                      <a:pt x="1967" y="1266"/>
                    </a:lnTo>
                    <a:lnTo>
                      <a:pt x="1972" y="1296"/>
                    </a:lnTo>
                    <a:lnTo>
                      <a:pt x="1984" y="1319"/>
                    </a:lnTo>
                    <a:lnTo>
                      <a:pt x="1995" y="1356"/>
                    </a:lnTo>
                    <a:lnTo>
                      <a:pt x="2000" y="1393"/>
                    </a:lnTo>
                    <a:lnTo>
                      <a:pt x="2012" y="1423"/>
                    </a:lnTo>
                    <a:lnTo>
                      <a:pt x="2023" y="1461"/>
                    </a:lnTo>
                    <a:lnTo>
                      <a:pt x="2029" y="1513"/>
                    </a:lnTo>
                    <a:lnTo>
                      <a:pt x="2040" y="1558"/>
                    </a:lnTo>
                    <a:lnTo>
                      <a:pt x="2046" y="1588"/>
                    </a:lnTo>
                    <a:lnTo>
                      <a:pt x="2057" y="1603"/>
                    </a:lnTo>
                    <a:lnTo>
                      <a:pt x="2068" y="1611"/>
                    </a:lnTo>
                    <a:lnTo>
                      <a:pt x="2074" y="1626"/>
                    </a:lnTo>
                    <a:lnTo>
                      <a:pt x="2085" y="1633"/>
                    </a:lnTo>
                    <a:lnTo>
                      <a:pt x="2091" y="1633"/>
                    </a:lnTo>
                    <a:lnTo>
                      <a:pt x="2102" y="1641"/>
                    </a:lnTo>
                    <a:lnTo>
                      <a:pt x="2113" y="1656"/>
                    </a:lnTo>
                    <a:lnTo>
                      <a:pt x="2119" y="1671"/>
                    </a:lnTo>
                    <a:lnTo>
                      <a:pt x="2130" y="1678"/>
                    </a:lnTo>
                    <a:lnTo>
                      <a:pt x="2141" y="1686"/>
                    </a:lnTo>
                    <a:lnTo>
                      <a:pt x="2147" y="1701"/>
                    </a:lnTo>
                    <a:lnTo>
                      <a:pt x="2158" y="1708"/>
                    </a:lnTo>
                    <a:lnTo>
                      <a:pt x="2164" y="1716"/>
                    </a:lnTo>
                    <a:lnTo>
                      <a:pt x="2175" y="1731"/>
                    </a:lnTo>
                    <a:lnTo>
                      <a:pt x="2186" y="1738"/>
                    </a:lnTo>
                    <a:lnTo>
                      <a:pt x="2192" y="1746"/>
                    </a:lnTo>
                    <a:lnTo>
                      <a:pt x="2203" y="1761"/>
                    </a:lnTo>
                    <a:lnTo>
                      <a:pt x="2215" y="1776"/>
                    </a:lnTo>
                    <a:lnTo>
                      <a:pt x="2220" y="1783"/>
                    </a:lnTo>
                    <a:lnTo>
                      <a:pt x="2231" y="1783"/>
                    </a:lnTo>
                    <a:lnTo>
                      <a:pt x="2237" y="1806"/>
                    </a:lnTo>
                    <a:lnTo>
                      <a:pt x="2248" y="1813"/>
                    </a:lnTo>
                    <a:lnTo>
                      <a:pt x="2260" y="1828"/>
                    </a:lnTo>
                    <a:lnTo>
                      <a:pt x="2265" y="1843"/>
                    </a:lnTo>
                    <a:lnTo>
                      <a:pt x="2277" y="1851"/>
                    </a:lnTo>
                    <a:lnTo>
                      <a:pt x="2288" y="1866"/>
                    </a:lnTo>
                    <a:lnTo>
                      <a:pt x="2293" y="1873"/>
                    </a:lnTo>
                    <a:lnTo>
                      <a:pt x="2305" y="1888"/>
                    </a:lnTo>
                    <a:lnTo>
                      <a:pt x="2310" y="1903"/>
                    </a:lnTo>
                    <a:lnTo>
                      <a:pt x="2322" y="1911"/>
                    </a:lnTo>
                    <a:lnTo>
                      <a:pt x="2333" y="1926"/>
                    </a:lnTo>
                    <a:lnTo>
                      <a:pt x="2338" y="1941"/>
                    </a:lnTo>
                  </a:path>
                </a:pathLst>
              </a:custGeom>
              <a:noFill/>
              <a:ln cap="rnd"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198080" y="2658960"/>
                <a:ext cx="6420240" cy="2267280"/>
              </a:xfrm>
              <a:custGeom>
                <a:avLst/>
                <a:gdLst/>
                <a:ahLst/>
                <a:rect l="l" t="t" r="r" b="b"/>
                <a:pathLst>
                  <a:path w="1777" h="1579">
                    <a:moveTo>
                      <a:pt x="0" y="1579"/>
                    </a:moveTo>
                    <a:lnTo>
                      <a:pt x="10" y="1363"/>
                    </a:lnTo>
                    <a:lnTo>
                      <a:pt x="15" y="1175"/>
                    </a:lnTo>
                    <a:lnTo>
                      <a:pt x="24" y="1054"/>
                    </a:lnTo>
                    <a:lnTo>
                      <a:pt x="29" y="968"/>
                    </a:lnTo>
                    <a:lnTo>
                      <a:pt x="39" y="905"/>
                    </a:lnTo>
                    <a:lnTo>
                      <a:pt x="44" y="847"/>
                    </a:lnTo>
                    <a:lnTo>
                      <a:pt x="53" y="804"/>
                    </a:lnTo>
                    <a:lnTo>
                      <a:pt x="58" y="775"/>
                    </a:lnTo>
                    <a:lnTo>
                      <a:pt x="63" y="746"/>
                    </a:lnTo>
                    <a:lnTo>
                      <a:pt x="73" y="722"/>
                    </a:lnTo>
                    <a:lnTo>
                      <a:pt x="78" y="708"/>
                    </a:lnTo>
                    <a:lnTo>
                      <a:pt x="87" y="688"/>
                    </a:lnTo>
                    <a:lnTo>
                      <a:pt x="92" y="674"/>
                    </a:lnTo>
                    <a:lnTo>
                      <a:pt x="102" y="669"/>
                    </a:lnTo>
                    <a:lnTo>
                      <a:pt x="107" y="664"/>
                    </a:lnTo>
                    <a:lnTo>
                      <a:pt x="116" y="659"/>
                    </a:lnTo>
                    <a:lnTo>
                      <a:pt x="121" y="659"/>
                    </a:lnTo>
                    <a:lnTo>
                      <a:pt x="126" y="664"/>
                    </a:lnTo>
                    <a:lnTo>
                      <a:pt x="136" y="669"/>
                    </a:lnTo>
                    <a:lnTo>
                      <a:pt x="140" y="674"/>
                    </a:lnTo>
                    <a:lnTo>
                      <a:pt x="150" y="693"/>
                    </a:lnTo>
                    <a:lnTo>
                      <a:pt x="155" y="712"/>
                    </a:lnTo>
                    <a:lnTo>
                      <a:pt x="164" y="737"/>
                    </a:lnTo>
                    <a:lnTo>
                      <a:pt x="169" y="761"/>
                    </a:lnTo>
                    <a:lnTo>
                      <a:pt x="179" y="794"/>
                    </a:lnTo>
                    <a:lnTo>
                      <a:pt x="184" y="838"/>
                    </a:lnTo>
                    <a:lnTo>
                      <a:pt x="189" y="886"/>
                    </a:lnTo>
                    <a:lnTo>
                      <a:pt x="198" y="944"/>
                    </a:lnTo>
                    <a:lnTo>
                      <a:pt x="203" y="1030"/>
                    </a:lnTo>
                    <a:lnTo>
                      <a:pt x="213" y="1141"/>
                    </a:lnTo>
                    <a:lnTo>
                      <a:pt x="218" y="1329"/>
                    </a:lnTo>
                    <a:lnTo>
                      <a:pt x="227" y="1555"/>
                    </a:lnTo>
                    <a:lnTo>
                      <a:pt x="232" y="1339"/>
                    </a:lnTo>
                    <a:lnTo>
                      <a:pt x="242" y="1146"/>
                    </a:lnTo>
                    <a:lnTo>
                      <a:pt x="247" y="1021"/>
                    </a:lnTo>
                    <a:lnTo>
                      <a:pt x="251" y="934"/>
                    </a:lnTo>
                    <a:lnTo>
                      <a:pt x="261" y="871"/>
                    </a:lnTo>
                    <a:lnTo>
                      <a:pt x="266" y="814"/>
                    </a:lnTo>
                    <a:lnTo>
                      <a:pt x="276" y="770"/>
                    </a:lnTo>
                    <a:lnTo>
                      <a:pt x="280" y="737"/>
                    </a:lnTo>
                    <a:lnTo>
                      <a:pt x="290" y="703"/>
                    </a:lnTo>
                    <a:lnTo>
                      <a:pt x="295" y="679"/>
                    </a:lnTo>
                    <a:lnTo>
                      <a:pt x="305" y="664"/>
                    </a:lnTo>
                    <a:lnTo>
                      <a:pt x="309" y="645"/>
                    </a:lnTo>
                    <a:lnTo>
                      <a:pt x="314" y="626"/>
                    </a:lnTo>
                    <a:lnTo>
                      <a:pt x="324" y="621"/>
                    </a:lnTo>
                    <a:lnTo>
                      <a:pt x="329" y="611"/>
                    </a:lnTo>
                    <a:lnTo>
                      <a:pt x="338" y="606"/>
                    </a:lnTo>
                    <a:lnTo>
                      <a:pt x="343" y="606"/>
                    </a:lnTo>
                    <a:lnTo>
                      <a:pt x="353" y="606"/>
                    </a:lnTo>
                    <a:lnTo>
                      <a:pt x="358" y="611"/>
                    </a:lnTo>
                    <a:lnTo>
                      <a:pt x="362" y="616"/>
                    </a:lnTo>
                    <a:lnTo>
                      <a:pt x="372" y="635"/>
                    </a:lnTo>
                    <a:lnTo>
                      <a:pt x="377" y="650"/>
                    </a:lnTo>
                    <a:lnTo>
                      <a:pt x="387" y="669"/>
                    </a:lnTo>
                    <a:lnTo>
                      <a:pt x="391" y="693"/>
                    </a:lnTo>
                    <a:lnTo>
                      <a:pt x="401" y="722"/>
                    </a:lnTo>
                    <a:lnTo>
                      <a:pt x="406" y="765"/>
                    </a:lnTo>
                    <a:lnTo>
                      <a:pt x="416" y="809"/>
                    </a:lnTo>
                    <a:lnTo>
                      <a:pt x="420" y="867"/>
                    </a:lnTo>
                    <a:lnTo>
                      <a:pt x="425" y="953"/>
                    </a:lnTo>
                    <a:lnTo>
                      <a:pt x="435" y="1064"/>
                    </a:lnTo>
                    <a:lnTo>
                      <a:pt x="440" y="1247"/>
                    </a:lnTo>
                    <a:lnTo>
                      <a:pt x="449" y="1469"/>
                    </a:lnTo>
                    <a:lnTo>
                      <a:pt x="454" y="1247"/>
                    </a:lnTo>
                    <a:lnTo>
                      <a:pt x="464" y="1054"/>
                    </a:lnTo>
                    <a:lnTo>
                      <a:pt x="469" y="929"/>
                    </a:lnTo>
                    <a:lnTo>
                      <a:pt x="478" y="838"/>
                    </a:lnTo>
                    <a:lnTo>
                      <a:pt x="483" y="775"/>
                    </a:lnTo>
                    <a:lnTo>
                      <a:pt x="488" y="712"/>
                    </a:lnTo>
                    <a:lnTo>
                      <a:pt x="498" y="669"/>
                    </a:lnTo>
                    <a:lnTo>
                      <a:pt x="502" y="631"/>
                    </a:lnTo>
                    <a:lnTo>
                      <a:pt x="512" y="597"/>
                    </a:lnTo>
                    <a:lnTo>
                      <a:pt x="517" y="568"/>
                    </a:lnTo>
                    <a:lnTo>
                      <a:pt x="527" y="549"/>
                    </a:lnTo>
                    <a:lnTo>
                      <a:pt x="531" y="529"/>
                    </a:lnTo>
                    <a:lnTo>
                      <a:pt x="541" y="510"/>
                    </a:lnTo>
                    <a:lnTo>
                      <a:pt x="546" y="501"/>
                    </a:lnTo>
                    <a:lnTo>
                      <a:pt x="551" y="486"/>
                    </a:lnTo>
                    <a:lnTo>
                      <a:pt x="560" y="476"/>
                    </a:lnTo>
                    <a:lnTo>
                      <a:pt x="565" y="476"/>
                    </a:lnTo>
                    <a:lnTo>
                      <a:pt x="575" y="472"/>
                    </a:lnTo>
                    <a:lnTo>
                      <a:pt x="580" y="472"/>
                    </a:lnTo>
                    <a:lnTo>
                      <a:pt x="589" y="472"/>
                    </a:lnTo>
                    <a:lnTo>
                      <a:pt x="594" y="491"/>
                    </a:lnTo>
                    <a:lnTo>
                      <a:pt x="604" y="501"/>
                    </a:lnTo>
                    <a:lnTo>
                      <a:pt x="609" y="515"/>
                    </a:lnTo>
                    <a:lnTo>
                      <a:pt x="614" y="534"/>
                    </a:lnTo>
                    <a:lnTo>
                      <a:pt x="623" y="563"/>
                    </a:lnTo>
                    <a:lnTo>
                      <a:pt x="628" y="602"/>
                    </a:lnTo>
                    <a:lnTo>
                      <a:pt x="638" y="640"/>
                    </a:lnTo>
                    <a:lnTo>
                      <a:pt x="643" y="693"/>
                    </a:lnTo>
                    <a:lnTo>
                      <a:pt x="652" y="775"/>
                    </a:lnTo>
                    <a:lnTo>
                      <a:pt x="657" y="881"/>
                    </a:lnTo>
                    <a:lnTo>
                      <a:pt x="667" y="1064"/>
                    </a:lnTo>
                    <a:lnTo>
                      <a:pt x="671" y="1276"/>
                    </a:lnTo>
                    <a:lnTo>
                      <a:pt x="676" y="1045"/>
                    </a:lnTo>
                    <a:lnTo>
                      <a:pt x="686" y="847"/>
                    </a:lnTo>
                    <a:lnTo>
                      <a:pt x="691" y="717"/>
                    </a:lnTo>
                    <a:lnTo>
                      <a:pt x="700" y="621"/>
                    </a:lnTo>
                    <a:lnTo>
                      <a:pt x="705" y="549"/>
                    </a:lnTo>
                    <a:lnTo>
                      <a:pt x="715" y="481"/>
                    </a:lnTo>
                    <a:lnTo>
                      <a:pt x="720" y="428"/>
                    </a:lnTo>
                    <a:lnTo>
                      <a:pt x="729" y="385"/>
                    </a:lnTo>
                    <a:lnTo>
                      <a:pt x="734" y="342"/>
                    </a:lnTo>
                    <a:lnTo>
                      <a:pt x="739" y="303"/>
                    </a:lnTo>
                    <a:lnTo>
                      <a:pt x="749" y="274"/>
                    </a:lnTo>
                    <a:lnTo>
                      <a:pt x="754" y="245"/>
                    </a:lnTo>
                    <a:lnTo>
                      <a:pt x="763" y="212"/>
                    </a:lnTo>
                    <a:lnTo>
                      <a:pt x="768" y="192"/>
                    </a:lnTo>
                    <a:lnTo>
                      <a:pt x="778" y="168"/>
                    </a:lnTo>
                    <a:lnTo>
                      <a:pt x="783" y="144"/>
                    </a:lnTo>
                    <a:lnTo>
                      <a:pt x="792" y="130"/>
                    </a:lnTo>
                    <a:lnTo>
                      <a:pt x="797" y="110"/>
                    </a:lnTo>
                    <a:lnTo>
                      <a:pt x="802" y="91"/>
                    </a:lnTo>
                    <a:lnTo>
                      <a:pt x="812" y="77"/>
                    </a:lnTo>
                    <a:lnTo>
                      <a:pt x="816" y="72"/>
                    </a:lnTo>
                    <a:lnTo>
                      <a:pt x="826" y="57"/>
                    </a:lnTo>
                    <a:lnTo>
                      <a:pt x="831" y="48"/>
                    </a:lnTo>
                    <a:lnTo>
                      <a:pt x="840" y="38"/>
                    </a:lnTo>
                    <a:lnTo>
                      <a:pt x="845" y="28"/>
                    </a:lnTo>
                    <a:lnTo>
                      <a:pt x="855" y="28"/>
                    </a:lnTo>
                    <a:lnTo>
                      <a:pt x="860" y="19"/>
                    </a:lnTo>
                    <a:lnTo>
                      <a:pt x="865" y="9"/>
                    </a:lnTo>
                    <a:lnTo>
                      <a:pt x="874" y="9"/>
                    </a:lnTo>
                    <a:lnTo>
                      <a:pt x="879" y="0"/>
                    </a:lnTo>
                    <a:lnTo>
                      <a:pt x="889" y="4"/>
                    </a:lnTo>
                    <a:lnTo>
                      <a:pt x="894" y="4"/>
                    </a:lnTo>
                    <a:lnTo>
                      <a:pt x="903" y="14"/>
                    </a:lnTo>
                    <a:lnTo>
                      <a:pt x="908" y="14"/>
                    </a:lnTo>
                    <a:lnTo>
                      <a:pt x="918" y="9"/>
                    </a:lnTo>
                    <a:lnTo>
                      <a:pt x="923" y="14"/>
                    </a:lnTo>
                    <a:lnTo>
                      <a:pt x="927" y="24"/>
                    </a:lnTo>
                    <a:lnTo>
                      <a:pt x="937" y="24"/>
                    </a:lnTo>
                    <a:lnTo>
                      <a:pt x="942" y="28"/>
                    </a:lnTo>
                    <a:lnTo>
                      <a:pt x="952" y="43"/>
                    </a:lnTo>
                    <a:lnTo>
                      <a:pt x="956" y="48"/>
                    </a:lnTo>
                    <a:lnTo>
                      <a:pt x="966" y="57"/>
                    </a:lnTo>
                    <a:lnTo>
                      <a:pt x="971" y="72"/>
                    </a:lnTo>
                    <a:lnTo>
                      <a:pt x="981" y="86"/>
                    </a:lnTo>
                    <a:lnTo>
                      <a:pt x="985" y="96"/>
                    </a:lnTo>
                    <a:lnTo>
                      <a:pt x="990" y="110"/>
                    </a:lnTo>
                    <a:lnTo>
                      <a:pt x="1000" y="130"/>
                    </a:lnTo>
                    <a:lnTo>
                      <a:pt x="1005" y="144"/>
                    </a:lnTo>
                    <a:lnTo>
                      <a:pt x="1014" y="168"/>
                    </a:lnTo>
                    <a:lnTo>
                      <a:pt x="1019" y="187"/>
                    </a:lnTo>
                    <a:lnTo>
                      <a:pt x="1029" y="212"/>
                    </a:lnTo>
                    <a:lnTo>
                      <a:pt x="1034" y="236"/>
                    </a:lnTo>
                    <a:lnTo>
                      <a:pt x="1043" y="269"/>
                    </a:lnTo>
                    <a:lnTo>
                      <a:pt x="1048" y="303"/>
                    </a:lnTo>
                    <a:lnTo>
                      <a:pt x="1053" y="342"/>
                    </a:lnTo>
                    <a:lnTo>
                      <a:pt x="1063" y="380"/>
                    </a:lnTo>
                    <a:lnTo>
                      <a:pt x="1067" y="428"/>
                    </a:lnTo>
                    <a:lnTo>
                      <a:pt x="1077" y="486"/>
                    </a:lnTo>
                    <a:lnTo>
                      <a:pt x="1082" y="544"/>
                    </a:lnTo>
                    <a:lnTo>
                      <a:pt x="1092" y="616"/>
                    </a:lnTo>
                    <a:lnTo>
                      <a:pt x="1096" y="712"/>
                    </a:lnTo>
                    <a:lnTo>
                      <a:pt x="1101" y="838"/>
                    </a:lnTo>
                    <a:lnTo>
                      <a:pt x="1111" y="1035"/>
                    </a:lnTo>
                    <a:lnTo>
                      <a:pt x="1116" y="1276"/>
                    </a:lnTo>
                    <a:lnTo>
                      <a:pt x="1125" y="1074"/>
                    </a:lnTo>
                    <a:lnTo>
                      <a:pt x="1130" y="891"/>
                    </a:lnTo>
                    <a:lnTo>
                      <a:pt x="1140" y="775"/>
                    </a:lnTo>
                    <a:lnTo>
                      <a:pt x="1145" y="698"/>
                    </a:lnTo>
                    <a:lnTo>
                      <a:pt x="1154" y="645"/>
                    </a:lnTo>
                    <a:lnTo>
                      <a:pt x="1159" y="597"/>
                    </a:lnTo>
                    <a:lnTo>
                      <a:pt x="1164" y="563"/>
                    </a:lnTo>
                    <a:lnTo>
                      <a:pt x="1174" y="539"/>
                    </a:lnTo>
                    <a:lnTo>
                      <a:pt x="1178" y="515"/>
                    </a:lnTo>
                    <a:lnTo>
                      <a:pt x="1188" y="501"/>
                    </a:lnTo>
                    <a:lnTo>
                      <a:pt x="1193" y="491"/>
                    </a:lnTo>
                    <a:lnTo>
                      <a:pt x="1203" y="481"/>
                    </a:lnTo>
                    <a:lnTo>
                      <a:pt x="1207" y="472"/>
                    </a:lnTo>
                    <a:lnTo>
                      <a:pt x="1217" y="476"/>
                    </a:lnTo>
                    <a:lnTo>
                      <a:pt x="1222" y="476"/>
                    </a:lnTo>
                    <a:lnTo>
                      <a:pt x="1227" y="476"/>
                    </a:lnTo>
                    <a:lnTo>
                      <a:pt x="1236" y="486"/>
                    </a:lnTo>
                    <a:lnTo>
                      <a:pt x="1241" y="496"/>
                    </a:lnTo>
                    <a:lnTo>
                      <a:pt x="1251" y="505"/>
                    </a:lnTo>
                    <a:lnTo>
                      <a:pt x="1256" y="520"/>
                    </a:lnTo>
                    <a:lnTo>
                      <a:pt x="1265" y="549"/>
                    </a:lnTo>
                    <a:lnTo>
                      <a:pt x="1270" y="573"/>
                    </a:lnTo>
                    <a:lnTo>
                      <a:pt x="1280" y="597"/>
                    </a:lnTo>
                    <a:lnTo>
                      <a:pt x="1285" y="626"/>
                    </a:lnTo>
                    <a:lnTo>
                      <a:pt x="1290" y="669"/>
                    </a:lnTo>
                    <a:lnTo>
                      <a:pt x="1299" y="717"/>
                    </a:lnTo>
                    <a:lnTo>
                      <a:pt x="1304" y="770"/>
                    </a:lnTo>
                    <a:lnTo>
                      <a:pt x="1314" y="838"/>
                    </a:lnTo>
                    <a:lnTo>
                      <a:pt x="1319" y="929"/>
                    </a:lnTo>
                    <a:lnTo>
                      <a:pt x="1328" y="1045"/>
                    </a:lnTo>
                    <a:lnTo>
                      <a:pt x="1333" y="1237"/>
                    </a:lnTo>
                    <a:lnTo>
                      <a:pt x="1343" y="1469"/>
                    </a:lnTo>
                    <a:lnTo>
                      <a:pt x="1347" y="1262"/>
                    </a:lnTo>
                    <a:lnTo>
                      <a:pt x="1352" y="1074"/>
                    </a:lnTo>
                    <a:lnTo>
                      <a:pt x="1362" y="953"/>
                    </a:lnTo>
                    <a:lnTo>
                      <a:pt x="1367" y="871"/>
                    </a:lnTo>
                    <a:lnTo>
                      <a:pt x="1376" y="814"/>
                    </a:lnTo>
                    <a:lnTo>
                      <a:pt x="1381" y="761"/>
                    </a:lnTo>
                    <a:lnTo>
                      <a:pt x="1391" y="722"/>
                    </a:lnTo>
                    <a:lnTo>
                      <a:pt x="1396" y="698"/>
                    </a:lnTo>
                    <a:lnTo>
                      <a:pt x="1405" y="669"/>
                    </a:lnTo>
                    <a:lnTo>
                      <a:pt x="1410" y="650"/>
                    </a:lnTo>
                    <a:lnTo>
                      <a:pt x="1415" y="640"/>
                    </a:lnTo>
                    <a:lnTo>
                      <a:pt x="1425" y="621"/>
                    </a:lnTo>
                    <a:lnTo>
                      <a:pt x="1430" y="611"/>
                    </a:lnTo>
                    <a:lnTo>
                      <a:pt x="1439" y="611"/>
                    </a:lnTo>
                    <a:lnTo>
                      <a:pt x="1444" y="606"/>
                    </a:lnTo>
                    <a:lnTo>
                      <a:pt x="1454" y="606"/>
                    </a:lnTo>
                    <a:lnTo>
                      <a:pt x="1459" y="611"/>
                    </a:lnTo>
                    <a:lnTo>
                      <a:pt x="1468" y="616"/>
                    </a:lnTo>
                    <a:lnTo>
                      <a:pt x="1473" y="626"/>
                    </a:lnTo>
                    <a:lnTo>
                      <a:pt x="1478" y="635"/>
                    </a:lnTo>
                    <a:lnTo>
                      <a:pt x="1488" y="659"/>
                    </a:lnTo>
                    <a:lnTo>
                      <a:pt x="1492" y="679"/>
                    </a:lnTo>
                    <a:lnTo>
                      <a:pt x="1502" y="703"/>
                    </a:lnTo>
                    <a:lnTo>
                      <a:pt x="1507" y="732"/>
                    </a:lnTo>
                    <a:lnTo>
                      <a:pt x="1516" y="770"/>
                    </a:lnTo>
                    <a:lnTo>
                      <a:pt x="1521" y="818"/>
                    </a:lnTo>
                    <a:lnTo>
                      <a:pt x="1531" y="867"/>
                    </a:lnTo>
                    <a:lnTo>
                      <a:pt x="1536" y="929"/>
                    </a:lnTo>
                    <a:lnTo>
                      <a:pt x="1541" y="1021"/>
                    </a:lnTo>
                    <a:lnTo>
                      <a:pt x="1550" y="1136"/>
                    </a:lnTo>
                    <a:lnTo>
                      <a:pt x="1555" y="1324"/>
                    </a:lnTo>
                    <a:lnTo>
                      <a:pt x="1565" y="1555"/>
                    </a:lnTo>
                    <a:lnTo>
                      <a:pt x="1570" y="1343"/>
                    </a:lnTo>
                    <a:lnTo>
                      <a:pt x="1579" y="1151"/>
                    </a:lnTo>
                    <a:lnTo>
                      <a:pt x="1584" y="1030"/>
                    </a:lnTo>
                    <a:lnTo>
                      <a:pt x="1594" y="948"/>
                    </a:lnTo>
                    <a:lnTo>
                      <a:pt x="1599" y="886"/>
                    </a:lnTo>
                    <a:lnTo>
                      <a:pt x="1603" y="833"/>
                    </a:lnTo>
                    <a:lnTo>
                      <a:pt x="1613" y="790"/>
                    </a:lnTo>
                    <a:lnTo>
                      <a:pt x="1618" y="765"/>
                    </a:lnTo>
                    <a:lnTo>
                      <a:pt x="1628" y="732"/>
                    </a:lnTo>
                    <a:lnTo>
                      <a:pt x="1632" y="712"/>
                    </a:lnTo>
                    <a:lnTo>
                      <a:pt x="1642" y="698"/>
                    </a:lnTo>
                    <a:lnTo>
                      <a:pt x="1647" y="684"/>
                    </a:lnTo>
                    <a:lnTo>
                      <a:pt x="1657" y="669"/>
                    </a:lnTo>
                    <a:lnTo>
                      <a:pt x="1661" y="664"/>
                    </a:lnTo>
                    <a:lnTo>
                      <a:pt x="1666" y="659"/>
                    </a:lnTo>
                    <a:lnTo>
                      <a:pt x="1676" y="659"/>
                    </a:lnTo>
                    <a:lnTo>
                      <a:pt x="1681" y="664"/>
                    </a:lnTo>
                    <a:lnTo>
                      <a:pt x="1690" y="664"/>
                    </a:lnTo>
                    <a:lnTo>
                      <a:pt x="1695" y="674"/>
                    </a:lnTo>
                    <a:lnTo>
                      <a:pt x="1705" y="679"/>
                    </a:lnTo>
                    <a:lnTo>
                      <a:pt x="1710" y="703"/>
                    </a:lnTo>
                    <a:lnTo>
                      <a:pt x="1719" y="722"/>
                    </a:lnTo>
                    <a:lnTo>
                      <a:pt x="1724" y="746"/>
                    </a:lnTo>
                    <a:lnTo>
                      <a:pt x="1729" y="770"/>
                    </a:lnTo>
                    <a:lnTo>
                      <a:pt x="1739" y="809"/>
                    </a:lnTo>
                    <a:lnTo>
                      <a:pt x="1743" y="852"/>
                    </a:lnTo>
                    <a:lnTo>
                      <a:pt x="1753" y="900"/>
                    </a:lnTo>
                    <a:lnTo>
                      <a:pt x="1758" y="963"/>
                    </a:lnTo>
                    <a:lnTo>
                      <a:pt x="1768" y="1050"/>
                    </a:lnTo>
                    <a:lnTo>
                      <a:pt x="1772" y="1165"/>
                    </a:lnTo>
                    <a:lnTo>
                      <a:pt x="1777" y="1353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90720" y="2261520"/>
                <a:ext cx="1574640" cy="3709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16200000">
                <a:off x="843840" y="3726720"/>
                <a:ext cx="25113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9840" rIns="69840" tIns="34920" bIns="34920" anchor="t">
                <a:spAutoFit/>
              </a:bodyPr>
              <a:p>
                <a:pPr>
                  <a:spcBef>
                    <a:spcPts val="938"/>
                  </a:spcBef>
                  <a:tabLst>
                    <a:tab algn="l" pos="0"/>
                    <a:tab algn="l" pos="514440"/>
                    <a:tab algn="l" pos="1028880"/>
                    <a:tab algn="l" pos="1542960"/>
                    <a:tab algn="l" pos="2057400"/>
                    <a:tab algn="l" pos="2571840"/>
                    <a:tab algn="l" pos="3086280"/>
                    <a:tab algn="l" pos="3600360"/>
                    <a:tab algn="l" pos="4114800"/>
                    <a:tab algn="l" pos="4629240"/>
                    <a:tab algn="l" pos="5143680"/>
                    <a:tab algn="l" pos="5657760"/>
                    <a:tab algn="l" pos="6172200"/>
                    <a:tab algn="l" pos="6686640"/>
                    <a:tab algn="l" pos="7201080"/>
                    <a:tab algn="l" pos="7715160"/>
                    <a:tab algn="l" pos="8229600"/>
                    <a:tab algn="l" pos="8744040"/>
                    <a:tab algn="l" pos="9258480"/>
                    <a:tab algn="l" pos="9772560"/>
                    <a:tab algn="l" pos="102870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</a:rPr>
                  <a:t>Power Spectral Density [dB]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56536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56536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256536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56536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6536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65360" y="59346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286720" y="580356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8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565360" y="55252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286720" y="53946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7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65360" y="51159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286720" y="498528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6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65360" y="470664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6720" y="457596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5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65360" y="42987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86720" y="416844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4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65360" y="38998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86720" y="37692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3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565360" y="3492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86720" y="336096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2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565360" y="30826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286720" y="2952000"/>
                <a:ext cx="38772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565360" y="26733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381760" y="2542680"/>
                <a:ext cx="26280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565360" y="226404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20920" y="2133720"/>
                <a:ext cx="340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256536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288120" y="2249640"/>
                <a:ext cx="1574640" cy="371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591732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628668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628668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591732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1732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6286680" y="5891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86680" y="2264040"/>
                <a:ext cx="0" cy="4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138360" y="5932800"/>
                <a:ext cx="3405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252480" y="59346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6252480" y="55252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6252480" y="51159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6252480" y="470664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6252480" y="42987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252480" y="38998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6252480" y="349200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6252480" y="308268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6252480" y="267336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6252480" y="2264040"/>
                <a:ext cx="33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286680" y="2263680"/>
                <a:ext cx="0" cy="3670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 flipV="1">
              <a:off x="5092200" y="2684880"/>
              <a:ext cx="1977120" cy="206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751360" y="3305160"/>
              <a:ext cx="1244880" cy="1375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56720" y="2580120"/>
              <a:ext cx="151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FDM (6dB backoff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55280" y="3200400"/>
              <a:ext cx="49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n Boer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0E14-9FFD-43A0-B9D8-9505DD7A4BC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Jan Boer</dc:creator>
  <dc:description/>
  <dc:language>en-US</dc:language>
  <cp:lastModifiedBy>Jan Boer</cp:lastModifiedBy>
  <cp:lastPrinted>1998-02-10T13:28:06Z</cp:lastPrinted>
  <dcterms:modified xsi:type="dcterms:W3CDTF">2000-07-10T23:31:56Z</dcterms:modified>
  <cp:revision>27</cp:revision>
  <dc:subject/>
  <dc:title>No Slide Title</dc:title>
</cp:coreProperties>
</file>